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23.png" ContentType="image/png"/>
  <Override PartName="/ppt/media/image6.png" ContentType="image/png"/>
  <Override PartName="/ppt/media/image22.png" ContentType="image/png"/>
  <Override PartName="/ppt/media/image21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2464B-452C-43FE-9394-8C87B7B49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</a:rPr>
              <a:t>How Far is F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33A5C-740C-43E0-AB5C-F4ED41923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ekton Pro"/>
              </a:rPr>
              <a:t>Our Nearest Neighb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B6150-8D03-49EC-9A7D-07575F8F2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ekton Pro"/>
              </a:rPr>
              <a:t>The Solar Neighborh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5D024-6AC7-4CEC-8A55-6FC18EA5B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ekton Pro"/>
              </a:rPr>
              <a:t>The Size of Galax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22FFC-7891-43FD-9CAE-8FAE01D34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ekton Pro"/>
              </a:rPr>
              <a:t>The Galactic Neighborh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3E199-14C0-49AD-B2C9-E73D4F213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ekton Pro"/>
              </a:rPr>
              <a:t>Hubble Deep Field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BAC5A-D3C7-4DE5-8887-465625AAA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ekton Pro"/>
              </a:rPr>
              <a:t>Earth to Moon D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95EC8-D032-4F46-93F4-8599C81FB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ekton Pro"/>
              </a:rPr>
              <a:t>Sun to Earth D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BE4FE-E881-4360-B22B-5AEDDD9EB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ekton Pro"/>
              </a:rPr>
              <a:t>Solar System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3DFE4-9906-47DA-87FF-C15F01525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ekton Pro"/>
              </a:rPr>
              <a:t>Parall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2F6C5-5232-4982-8BF7-3F6FE9204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ekton Pro"/>
              </a:rPr>
              <a:t>The Light-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7FC94-0FC1-46CD-9593-B8856605B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galaxy zoo"/>
          <p:cNvPicPr/>
          <p:nvPr/>
        </p:nvPicPr>
        <p:blipFill>
          <a:blip r:embed="rId1"/>
          <a:srcRect l="0" t="4370" r="0" b="582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3"/>
          <p:cNvSpPr/>
          <p:nvPr/>
        </p:nvSpPr>
        <p:spPr>
          <a:xfrm>
            <a:off x="0" y="256716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Verdana"/>
              </a:rPr>
              <a:t>How Far is Far?</a:t>
            </a:r>
            <a:endParaRPr b="0" lang="en-US" sz="6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25"/>
          <p:cNvGrpSpPr/>
          <p:nvPr/>
        </p:nvGrpSpPr>
        <p:grpSpPr>
          <a:xfrm>
            <a:off x="1868400" y="1363680"/>
            <a:ext cx="6375600" cy="5145120"/>
            <a:chOff x="1868400" y="1363680"/>
            <a:chExt cx="6375600" cy="5145120"/>
          </a:xfrm>
        </p:grpSpPr>
        <p:grpSp>
          <p:nvGrpSpPr>
            <p:cNvPr id="124" name="Group 23"/>
            <p:cNvGrpSpPr/>
            <p:nvPr/>
          </p:nvGrpSpPr>
          <p:grpSpPr>
            <a:xfrm>
              <a:off x="1868400" y="1363680"/>
              <a:ext cx="6375600" cy="5145120"/>
              <a:chOff x="1868400" y="1363680"/>
              <a:chExt cx="6375600" cy="5145120"/>
            </a:xfrm>
          </p:grpSpPr>
          <p:grpSp>
            <p:nvGrpSpPr>
              <p:cNvPr id="125" name="Group 22"/>
              <p:cNvGrpSpPr/>
              <p:nvPr/>
            </p:nvGrpSpPr>
            <p:grpSpPr>
              <a:xfrm>
                <a:off x="1868400" y="1363680"/>
                <a:ext cx="5405400" cy="5145120"/>
                <a:chOff x="1868400" y="1363680"/>
                <a:chExt cx="5405400" cy="5145120"/>
              </a:xfrm>
            </p:grpSpPr>
            <p:grpSp>
              <p:nvGrpSpPr>
                <p:cNvPr id="126" name="Group 10"/>
                <p:cNvGrpSpPr/>
                <p:nvPr/>
              </p:nvGrpSpPr>
              <p:grpSpPr>
                <a:xfrm>
                  <a:off x="1868400" y="1363680"/>
                  <a:ext cx="5405400" cy="5145120"/>
                  <a:chOff x="1868400" y="1363680"/>
                  <a:chExt cx="5405400" cy="5145120"/>
                </a:xfrm>
              </p:grpSpPr>
              <p:pic>
                <p:nvPicPr>
                  <p:cNvPr id="127" name="Picture 6" descr="Alpha and Proxima Centauri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868400" y="1363680"/>
                    <a:ext cx="5405400" cy="514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8" name="Rectangle 8"/>
                  <p:cNvSpPr/>
                  <p:nvPr/>
                </p:nvSpPr>
                <p:spPr>
                  <a:xfrm rot="19074000">
                    <a:off x="2627280" y="3760560"/>
                    <a:ext cx="3149640" cy="282600"/>
                  </a:xfrm>
                  <a:prstGeom prst="rect">
                    <a:avLst/>
                  </a:prstGeom>
                  <a:solidFill>
                    <a:srgbClr val="000000"/>
                  </a:solidFill>
                  <a:ln cap="rnd" w="144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Lucida Sans"/>
                    </a:endParaRPr>
                  </a:p>
                </p:txBody>
              </p:sp>
              <p:sp>
                <p:nvSpPr>
                  <p:cNvPr id="129" name="Rectangle 9"/>
                  <p:cNvSpPr/>
                  <p:nvPr/>
                </p:nvSpPr>
                <p:spPr>
                  <a:xfrm rot="19366800">
                    <a:off x="3305160" y="4483080"/>
                    <a:ext cx="3149640" cy="282600"/>
                  </a:xfrm>
                  <a:prstGeom prst="rect">
                    <a:avLst/>
                  </a:prstGeom>
                  <a:solidFill>
                    <a:srgbClr val="000000"/>
                  </a:solidFill>
                  <a:ln cap="rnd" w="144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Lucida Sans"/>
                    </a:endParaRPr>
                  </a:p>
                </p:txBody>
              </p:sp>
            </p:grpSp>
            <p:sp>
              <p:nvSpPr>
                <p:cNvPr id="130" name="Oval 21"/>
                <p:cNvSpPr/>
                <p:nvPr/>
              </p:nvSpPr>
              <p:spPr>
                <a:xfrm>
                  <a:off x="6000840" y="2457360"/>
                  <a:ext cx="538200" cy="495360"/>
                </a:xfrm>
                <a:prstGeom prst="ellipse">
                  <a:avLst/>
                </a:prstGeom>
                <a:solidFill>
                  <a:srgbClr val="000000"/>
                </a:solidFill>
                <a:ln cap="rnd" w="144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</p:grpSp>
          <p:sp>
            <p:nvSpPr>
              <p:cNvPr id="131" name="Text Box 18"/>
              <p:cNvSpPr/>
              <p:nvPr/>
            </p:nvSpPr>
            <p:spPr>
              <a:xfrm>
                <a:off x="6261120" y="2513160"/>
                <a:ext cx="1982880" cy="703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dddddd"/>
                    </a:solidFill>
                    <a:latin typeface="Tekton Pro"/>
                  </a:rPr>
                  <a:t>Proxima Centauri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32" name="Text Box 19"/>
              <p:cNvSpPr/>
              <p:nvPr/>
            </p:nvSpPr>
            <p:spPr>
              <a:xfrm>
                <a:off x="3498840" y="1405080"/>
                <a:ext cx="2655720" cy="703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dddddd"/>
                    </a:solidFill>
                    <a:latin typeface="Tekton Pro"/>
                  </a:rPr>
                  <a:t>Alpha Centauri A &amp; B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133" name="Oval 24"/>
            <p:cNvSpPr/>
            <p:nvPr/>
          </p:nvSpPr>
          <p:spPr>
            <a:xfrm>
              <a:off x="6718320" y="2413080"/>
              <a:ext cx="190440" cy="156960"/>
            </a:xfrm>
            <a:prstGeom prst="ellipse">
              <a:avLst/>
            </a:prstGeom>
            <a:solidFill>
              <a:srgbClr val="000000"/>
            </a:solidFill>
            <a:ln cap="rnd" w="1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34" name="Text Box 7"/>
          <p:cNvSpPr/>
          <p:nvPr/>
        </p:nvSpPr>
        <p:spPr>
          <a:xfrm>
            <a:off x="0" y="522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ekton Pro"/>
              </a:rPr>
              <a:t>Our Nearest Neighbors</a:t>
            </a:r>
            <a:endParaRPr b="0" lang="en-US" sz="4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5" name="Text Box 11"/>
          <p:cNvSpPr/>
          <p:nvPr/>
        </p:nvSpPr>
        <p:spPr>
          <a:xfrm rot="19388400">
            <a:off x="3951360" y="4209840"/>
            <a:ext cx="1771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ekton Pro"/>
              </a:rPr>
              <a:t>4.2 Light-Year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6" name="Text Box 13"/>
          <p:cNvSpPr/>
          <p:nvPr/>
        </p:nvSpPr>
        <p:spPr>
          <a:xfrm rot="19168200">
            <a:off x="3525120" y="3886920"/>
            <a:ext cx="15796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ekton Pro"/>
              </a:rPr>
              <a:t>5 Light-Year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7" name="Rectangle 14"/>
          <p:cNvSpPr/>
          <p:nvPr/>
        </p:nvSpPr>
        <p:spPr>
          <a:xfrm rot="19079400">
            <a:off x="1562040" y="3808080"/>
            <a:ext cx="5791320" cy="245880"/>
          </a:xfrm>
          <a:prstGeom prst="rect">
            <a:avLst/>
          </a:prstGeom>
          <a:solidFill>
            <a:srgbClr val="000000"/>
          </a:solidFill>
          <a:ln cap="rnd" w="1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8" name="Rectangle 15"/>
          <p:cNvSpPr/>
          <p:nvPr/>
        </p:nvSpPr>
        <p:spPr>
          <a:xfrm rot="19383600">
            <a:off x="2075040" y="4487760"/>
            <a:ext cx="4976640" cy="282600"/>
          </a:xfrm>
          <a:prstGeom prst="rect">
            <a:avLst/>
          </a:prstGeom>
          <a:solidFill>
            <a:srgbClr val="000000"/>
          </a:solidFill>
          <a:ln cap="rnd" w="1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 spd="slow">
    <p:fade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2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8"/>
          <p:cNvSpPr/>
          <p:nvPr/>
        </p:nvSpPr>
        <p:spPr>
          <a:xfrm>
            <a:off x="0" y="522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ekton Pro"/>
              </a:rPr>
              <a:t>The Solar Neighborhood</a:t>
            </a:r>
            <a:endParaRPr b="0" lang="en-US" sz="4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40" name="Group 23"/>
          <p:cNvGrpSpPr/>
          <p:nvPr/>
        </p:nvGrpSpPr>
        <p:grpSpPr>
          <a:xfrm>
            <a:off x="493560" y="1306440"/>
            <a:ext cx="8221680" cy="5300640"/>
            <a:chOff x="493560" y="1306440"/>
            <a:chExt cx="8221680" cy="5300640"/>
          </a:xfrm>
        </p:grpSpPr>
        <p:pic>
          <p:nvPicPr>
            <p:cNvPr id="141" name="Picture 17" descr="a007"/>
            <p:cNvPicPr/>
            <p:nvPr/>
          </p:nvPicPr>
          <p:blipFill>
            <a:blip r:embed="rId1"/>
            <a:srcRect l="0" t="12000" r="0" b="2000"/>
            <a:stretch/>
          </p:blipFill>
          <p:spPr>
            <a:xfrm>
              <a:off x="493560" y="1306440"/>
              <a:ext cx="8221680" cy="530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Rectangle 19"/>
            <p:cNvSpPr/>
            <p:nvPr/>
          </p:nvSpPr>
          <p:spPr>
            <a:xfrm>
              <a:off x="7489800" y="4664160"/>
              <a:ext cx="1146240" cy="271440"/>
            </a:xfrm>
            <a:prstGeom prst="rect">
              <a:avLst/>
            </a:prstGeom>
            <a:solidFill>
              <a:srgbClr val="000000"/>
            </a:solidFill>
            <a:ln cap="rnd" w="1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43" name="Text Box 20"/>
          <p:cNvSpPr/>
          <p:nvPr/>
        </p:nvSpPr>
        <p:spPr>
          <a:xfrm>
            <a:off x="6914160" y="4930920"/>
            <a:ext cx="187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ekton Pro"/>
              </a:rPr>
              <a:t>~ 40,000 Light-Years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4" name="Rectangle 22"/>
          <p:cNvSpPr/>
          <p:nvPr/>
        </p:nvSpPr>
        <p:spPr>
          <a:xfrm>
            <a:off x="7462800" y="4379760"/>
            <a:ext cx="1146240" cy="509760"/>
          </a:xfrm>
          <a:prstGeom prst="rect">
            <a:avLst/>
          </a:prstGeom>
          <a:solidFill>
            <a:srgbClr val="000000"/>
          </a:solidFill>
          <a:ln cap="rnd" w="1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5" name="Text Box 24"/>
          <p:cNvSpPr/>
          <p:nvPr/>
        </p:nvSpPr>
        <p:spPr>
          <a:xfrm>
            <a:off x="7149960" y="4692600"/>
            <a:ext cx="15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ekton Pro"/>
              </a:rPr>
              <a:t>Galactic Center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 spd="slow"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33" descr="Outline of US"/>
          <p:cNvPicPr/>
          <p:nvPr/>
        </p:nvPicPr>
        <p:blipFill>
          <a:blip r:embed="rId1"/>
          <a:stretch/>
        </p:blipFill>
        <p:spPr>
          <a:xfrm>
            <a:off x="1557360" y="1878120"/>
            <a:ext cx="5487840" cy="36669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0" descr="m31-4"/>
          <p:cNvPicPr/>
          <p:nvPr/>
        </p:nvPicPr>
        <p:blipFill>
          <a:blip r:embed="rId2"/>
          <a:srcRect l="0" t="4708" r="0" b="0"/>
          <a:stretch/>
        </p:blipFill>
        <p:spPr>
          <a:xfrm>
            <a:off x="905040" y="1263600"/>
            <a:ext cx="7559640" cy="5049720"/>
          </a:xfrm>
          <a:prstGeom prst="rect">
            <a:avLst/>
          </a:prstGeom>
          <a:ln w="0">
            <a:noFill/>
          </a:ln>
        </p:spPr>
      </p:pic>
      <p:grpSp>
        <p:nvGrpSpPr>
          <p:cNvPr id="148" name="Group 36"/>
          <p:cNvGrpSpPr/>
          <p:nvPr/>
        </p:nvGrpSpPr>
        <p:grpSpPr>
          <a:xfrm>
            <a:off x="2205000" y="3033720"/>
            <a:ext cx="4137120" cy="1682640"/>
            <a:chOff x="2205000" y="3033720"/>
            <a:chExt cx="4137120" cy="1682640"/>
          </a:xfrm>
        </p:grpSpPr>
        <p:sp>
          <p:nvSpPr>
            <p:cNvPr id="149" name="Line 34"/>
            <p:cNvSpPr/>
            <p:nvPr/>
          </p:nvSpPr>
          <p:spPr>
            <a:xfrm>
              <a:off x="2205000" y="3033720"/>
              <a:ext cx="4137120" cy="16826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0" name="Text Box 35"/>
            <p:cNvSpPr/>
            <p:nvPr/>
          </p:nvSpPr>
          <p:spPr>
            <a:xfrm rot="1272600">
              <a:off x="3091680" y="3689280"/>
              <a:ext cx="229608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ekton Pro"/>
                </a:rPr>
                <a:t>100,000 Light-Years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51" name="Text Box 37"/>
          <p:cNvSpPr/>
          <p:nvPr/>
        </p:nvSpPr>
        <p:spPr>
          <a:xfrm>
            <a:off x="0" y="4827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ekton Pro"/>
              </a:rPr>
              <a:t>The Size of Galaxi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 spd="slow">
    <p:fade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2" descr="Local Group 1"/>
          <p:cNvPicPr/>
          <p:nvPr/>
        </p:nvPicPr>
        <p:blipFill>
          <a:blip r:embed="rId1"/>
          <a:srcRect l="900" t="13479" r="900" b="5055"/>
          <a:stretch/>
        </p:blipFill>
        <p:spPr>
          <a:xfrm>
            <a:off x="590400" y="1270080"/>
            <a:ext cx="7961400" cy="52894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3"/>
          <p:cNvSpPr/>
          <p:nvPr/>
        </p:nvSpPr>
        <p:spPr>
          <a:xfrm>
            <a:off x="0" y="522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ekton Pro"/>
              </a:rPr>
              <a:t>The Galactic Neighborhood</a:t>
            </a:r>
            <a:endParaRPr b="0" lang="en-US" sz="4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54" name="Group 16"/>
          <p:cNvGrpSpPr/>
          <p:nvPr/>
        </p:nvGrpSpPr>
        <p:grpSpPr>
          <a:xfrm>
            <a:off x="2870280" y="2844720"/>
            <a:ext cx="3936960" cy="1613160"/>
            <a:chOff x="2870280" y="2844720"/>
            <a:chExt cx="3936960" cy="1613160"/>
          </a:xfrm>
        </p:grpSpPr>
        <p:sp>
          <p:nvSpPr>
            <p:cNvPr id="155" name="Line 13"/>
            <p:cNvSpPr/>
            <p:nvPr/>
          </p:nvSpPr>
          <p:spPr>
            <a:xfrm>
              <a:off x="2870280" y="2844720"/>
              <a:ext cx="3936960" cy="161316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6" name="Text Box 14"/>
            <p:cNvSpPr/>
            <p:nvPr/>
          </p:nvSpPr>
          <p:spPr>
            <a:xfrm rot="1333200">
              <a:off x="3430800" y="3301560"/>
              <a:ext cx="2003400" cy="307080"/>
            </a:xfrm>
            <a:prstGeom prst="rect">
              <a:avLst/>
            </a:prstGeom>
            <a:solidFill>
              <a:srgbClr val="0808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ekton Pro"/>
                </a:rPr>
                <a:t>2 Million Light-Year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p:transition spd="slow">
    <p:fad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4"/>
          <p:cNvSpPr/>
          <p:nvPr/>
        </p:nvSpPr>
        <p:spPr>
          <a:xfrm>
            <a:off x="0" y="579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ekton Pro"/>
              </a:rPr>
              <a:t>Hubble Deep Field Imag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58" name="Picture 5" descr="HDF_south2"/>
          <p:cNvPicPr/>
          <p:nvPr/>
        </p:nvPicPr>
        <p:blipFill>
          <a:blip r:embed="rId1"/>
          <a:srcRect l="2500" t="12176" r="2500" b="26788"/>
          <a:stretch/>
        </p:blipFill>
        <p:spPr>
          <a:xfrm>
            <a:off x="361800" y="1303200"/>
            <a:ext cx="8418600" cy="5554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60" name="Picture 3" descr="Sky Dome 1"/>
            <p:cNvPicPr/>
            <p:nvPr/>
          </p:nvPicPr>
          <p:blipFill>
            <a:blip r:embed="rId1"/>
            <a:srcRect l="11736" t="6401" r="11736" b="6401"/>
            <a:stretch/>
          </p:blipFill>
          <p:spPr>
            <a:xfrm>
              <a:off x="69840" y="0"/>
              <a:ext cx="90741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AutoShape 4"/>
            <p:cNvSpPr/>
            <p:nvPr/>
          </p:nvSpPr>
          <p:spPr>
            <a:xfrm>
              <a:off x="0" y="5586480"/>
              <a:ext cx="1855800" cy="1271520"/>
            </a:xfrm>
            <a:prstGeom prst="rtTriangl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2" name="AutoShape 5"/>
            <p:cNvSpPr/>
            <p:nvPr/>
          </p:nvSpPr>
          <p:spPr>
            <a:xfrm flipH="1" flipV="1">
              <a:off x="7403400" y="0"/>
              <a:ext cx="1739880" cy="1123920"/>
            </a:xfrm>
            <a:prstGeom prst="rtTriangl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3" name="AutoShape 6"/>
            <p:cNvSpPr/>
            <p:nvPr/>
          </p:nvSpPr>
          <p:spPr>
            <a:xfrm flipH="1">
              <a:off x="7301880" y="5210280"/>
              <a:ext cx="1841400" cy="1647720"/>
            </a:xfrm>
            <a:prstGeom prst="rtTriangl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4" name="AutoShape 7"/>
            <p:cNvSpPr/>
            <p:nvPr/>
          </p:nvSpPr>
          <p:spPr>
            <a:xfrm flipV="1">
              <a:off x="0" y="0"/>
              <a:ext cx="1827360" cy="993600"/>
            </a:xfrm>
            <a:prstGeom prst="rtTriangl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65" name="Text Box 8"/>
          <p:cNvSpPr/>
          <p:nvPr/>
        </p:nvSpPr>
        <p:spPr>
          <a:xfrm>
            <a:off x="0" y="27813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Tekton Pro"/>
              </a:rPr>
              <a:t>Questions?</a:t>
            </a:r>
            <a:endParaRPr b="0" lang="en-US" sz="8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globe_browse"/>
          <p:cNvPicPr/>
          <p:nvPr/>
        </p:nvPicPr>
        <p:blipFill>
          <a:blip r:embed="rId1"/>
          <a:stretch/>
        </p:blipFill>
        <p:spPr>
          <a:xfrm>
            <a:off x="1689120" y="749160"/>
            <a:ext cx="5702400" cy="5702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jct70"/>
          <p:cNvPicPr/>
          <p:nvPr/>
        </p:nvPicPr>
        <p:blipFill>
          <a:blip r:embed="rId2"/>
          <a:stretch/>
        </p:blipFill>
        <p:spPr>
          <a:xfrm>
            <a:off x="1054080" y="4419720"/>
            <a:ext cx="2622600" cy="1285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distance-sign_small"/>
          <p:cNvPicPr/>
          <p:nvPr/>
        </p:nvPicPr>
        <p:blipFill>
          <a:blip r:embed="rId3"/>
          <a:srcRect l="12799" t="29424" r="12799" b="18390"/>
          <a:stretch/>
        </p:blipFill>
        <p:spPr>
          <a:xfrm>
            <a:off x="5450040" y="4216320"/>
            <a:ext cx="2643120" cy="1614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tape%20measure"/>
          <p:cNvPicPr/>
          <p:nvPr/>
        </p:nvPicPr>
        <p:blipFill>
          <a:blip r:embed="rId4"/>
          <a:stretch/>
        </p:blipFill>
        <p:spPr>
          <a:xfrm>
            <a:off x="901800" y="996840"/>
            <a:ext cx="3027240" cy="20192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Ruler"/>
          <p:cNvPicPr/>
          <p:nvPr/>
        </p:nvPicPr>
        <p:blipFill>
          <a:blip r:embed="rId5"/>
          <a:stretch/>
        </p:blipFill>
        <p:spPr>
          <a:xfrm rot="1290600">
            <a:off x="5013000" y="2012760"/>
            <a:ext cx="3430440" cy="539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55" dur="5000" fill="hold"/>
                                        <p:tgtEl>
                                          <p:spTgt spid="46"/>
                                        </p:tgtEl>
                                      </p:cBhvr>
                                      <p:to x="5000" y="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" dur="5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0"/>
          <p:cNvGrpSpPr/>
          <p:nvPr/>
        </p:nvGrpSpPr>
        <p:grpSpPr>
          <a:xfrm>
            <a:off x="0" y="201600"/>
            <a:ext cx="9144000" cy="6137280"/>
            <a:chOff x="0" y="201600"/>
            <a:chExt cx="9144000" cy="6137280"/>
          </a:xfrm>
        </p:grpSpPr>
        <p:pic>
          <p:nvPicPr>
            <p:cNvPr id="52" name="Picture 4" descr="earth_and_moon"/>
            <p:cNvPicPr/>
            <p:nvPr/>
          </p:nvPicPr>
          <p:blipFill>
            <a:blip r:embed="rId1"/>
            <a:srcRect l="0" t="8446" r="0" b="0"/>
            <a:stretch/>
          </p:blipFill>
          <p:spPr>
            <a:xfrm>
              <a:off x="0" y="201600"/>
              <a:ext cx="9144000" cy="613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8" descr="globe_browse"/>
            <p:cNvPicPr/>
            <p:nvPr/>
          </p:nvPicPr>
          <p:blipFill>
            <a:blip r:embed="rId2"/>
            <a:stretch/>
          </p:blipFill>
          <p:spPr>
            <a:xfrm>
              <a:off x="254160" y="3263760"/>
              <a:ext cx="330120" cy="33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Line 5"/>
          <p:cNvSpPr/>
          <p:nvPr/>
        </p:nvSpPr>
        <p:spPr>
          <a:xfrm flipV="1">
            <a:off x="619200" y="2698920"/>
            <a:ext cx="7905600" cy="73008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3184560" y="2881440"/>
            <a:ext cx="27748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verage of 238,000 Mile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0" y="255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ekton Pro"/>
              </a:rPr>
              <a:t>Earth to Moon Distance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 spd="slow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sun290906_468x460"/>
          <p:cNvPicPr/>
          <p:nvPr/>
        </p:nvPicPr>
        <p:blipFill>
          <a:blip r:embed="rId1"/>
          <a:srcRect l="0" t="22956" r="75902" b="0"/>
          <a:stretch/>
        </p:blipFill>
        <p:spPr>
          <a:xfrm>
            <a:off x="7219800" y="0"/>
            <a:ext cx="19242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globe_browse"/>
          <p:cNvPicPr/>
          <p:nvPr/>
        </p:nvPicPr>
        <p:blipFill>
          <a:blip r:embed="rId2"/>
          <a:stretch/>
        </p:blipFill>
        <p:spPr>
          <a:xfrm>
            <a:off x="317520" y="3259080"/>
            <a:ext cx="42840" cy="42840"/>
          </a:xfrm>
          <a:prstGeom prst="rect">
            <a:avLst/>
          </a:prstGeom>
          <a:ln w="0">
            <a:noFill/>
          </a:ln>
        </p:spPr>
      </p:pic>
      <p:sp>
        <p:nvSpPr>
          <p:cNvPr id="59" name="Line 4"/>
          <p:cNvSpPr/>
          <p:nvPr/>
        </p:nvSpPr>
        <p:spPr>
          <a:xfrm flipH="1">
            <a:off x="393840" y="2768760"/>
            <a:ext cx="7035840" cy="49500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027960" y="2820960"/>
            <a:ext cx="20246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ekton Pro"/>
              </a:rPr>
              <a:t>93,000,000 Mile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2507760" y="2814480"/>
            <a:ext cx="2998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ekton Pro"/>
              </a:rPr>
              <a:t>1 Astronomical Unit (AU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0" y="255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ekton Pro"/>
              </a:rPr>
              <a:t>Sun to Earth Distance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 spd="slow"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4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orreryapril09"/>
          <p:cNvPicPr/>
          <p:nvPr/>
        </p:nvPicPr>
        <p:blipFill>
          <a:blip r:embed="rId1"/>
          <a:srcRect l="0" t="3392" r="0" b="0"/>
          <a:stretch/>
        </p:blipFill>
        <p:spPr>
          <a:xfrm>
            <a:off x="1500120" y="255600"/>
            <a:ext cx="6141960" cy="63453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92160" y="3633840"/>
            <a:ext cx="2606760" cy="283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dddddd"/>
                </a:solidFill>
                <a:uFillTx/>
                <a:latin typeface="Tekton Pro"/>
              </a:rPr>
              <a:t>Body</a:t>
            </a:r>
            <a:r>
              <a:rPr b="1" lang="en-US" sz="1800" spc="-1" strike="noStrike" u="sng">
                <a:solidFill>
                  <a:srgbClr val="dddddd"/>
                </a:solidFill>
                <a:uFillTx/>
                <a:latin typeface="Tekton Pro"/>
              </a:rPr>
              <a:t>	</a:t>
            </a:r>
            <a:r>
              <a:rPr b="1" lang="en-US" sz="1800" spc="-1" strike="noStrike" u="sng">
                <a:solidFill>
                  <a:srgbClr val="dddddd"/>
                </a:solidFill>
                <a:uFillTx/>
                <a:latin typeface="Tekton Pro"/>
              </a:rPr>
              <a:t>	</a:t>
            </a:r>
            <a:r>
              <a:rPr b="1" lang="en-US" sz="1800" spc="-1" strike="noStrike" u="sng">
                <a:solidFill>
                  <a:srgbClr val="dddddd"/>
                </a:solidFill>
                <a:uFillTx/>
                <a:latin typeface="Tekton Pro"/>
              </a:rPr>
              <a:t>AU</a:t>
            </a:r>
            <a:r>
              <a:rPr b="0" lang="en-US" sz="1800" spc="-1" strike="noStrike" u="sng">
                <a:solidFill>
                  <a:srgbClr val="dddddd"/>
                </a:solidFill>
                <a:uFillTx/>
                <a:latin typeface="Tekton Pr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Mercury</a:t>
            </a: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	</a:t>
            </a: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                    .39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Venus</a:t>
            </a: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	</a:t>
            </a: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                    .7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Earth</a:t>
            </a: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	</a:t>
            </a: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                 1.0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Mars</a:t>
            </a: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	</a:t>
            </a: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                 1.5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Jupiter</a:t>
            </a: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	</a:t>
            </a: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                 5.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Saturn</a:t>
            </a: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	</a:t>
            </a: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                 9.5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Uranus</a:t>
            </a: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	</a:t>
            </a: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              19.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Neptune                 30.1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Pluto</a:t>
            </a: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	</a:t>
            </a: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              39.5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 spd="slow"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5" descr="View from Kuiper Belt"/>
          <p:cNvPicPr/>
          <p:nvPr/>
        </p:nvPicPr>
        <p:blipFill>
          <a:blip r:embed="rId1"/>
          <a:srcRect l="0" t="20114" r="0" b="0"/>
          <a:stretch/>
        </p:blipFill>
        <p:spPr>
          <a:xfrm>
            <a:off x="0" y="-1260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4"/>
          <p:cNvSpPr/>
          <p:nvPr/>
        </p:nvSpPr>
        <p:spPr>
          <a:xfrm>
            <a:off x="0" y="5191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ekton Pro"/>
              </a:rPr>
              <a:t>Solar System Model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67" name="Group 19"/>
          <p:cNvGrpSpPr/>
          <p:nvPr/>
        </p:nvGrpSpPr>
        <p:grpSpPr>
          <a:xfrm>
            <a:off x="833400" y="1865160"/>
            <a:ext cx="7477200" cy="6537240"/>
            <a:chOff x="833400" y="1865160"/>
            <a:chExt cx="7477200" cy="6537240"/>
          </a:xfrm>
        </p:grpSpPr>
        <p:sp>
          <p:nvSpPr>
            <p:cNvPr id="68" name="Text Box 5"/>
            <p:cNvSpPr/>
            <p:nvPr/>
          </p:nvSpPr>
          <p:spPr>
            <a:xfrm>
              <a:off x="833400" y="1865160"/>
              <a:ext cx="7477200" cy="653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1800" spc="-1" strike="noStrike">
                  <a:solidFill>
                    <a:srgbClr val="ffffff"/>
                  </a:solidFill>
                  <a:latin typeface="Tekton Pro"/>
                </a:rPr>
                <a:t>Diameter           Orbital Radius      Model Diameter     Scaled Radius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ekton Pro"/>
                </a:rPr>
                <a:t>Body</a:t>
              </a:r>
              <a:r>
                <a:rPr b="1" lang="en-US" sz="1800" spc="-1" strike="noStrike">
                  <a:solidFill>
                    <a:srgbClr val="ffffff"/>
                  </a:solidFill>
                  <a:latin typeface="Tekton Pro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Tekton Pro"/>
                </a:rPr>
                <a:t>        in Miles</a:t>
              </a:r>
              <a:r>
                <a:rPr b="1" lang="en-US" sz="1800" spc="-1" strike="noStrike">
                  <a:solidFill>
                    <a:srgbClr val="ffffff"/>
                  </a:solidFill>
                  <a:latin typeface="Tekton Pro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Tekton Pro"/>
                </a:rPr>
                <a:t> in Miles                        in Inches                    in Feet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Tekton Pro"/>
                </a:rPr>
                <a:t>            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Sun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     865,000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    9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Mercury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           3,032            36,000,000                 .0314                          31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Venus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           7,521            67,000,000                 .0782                          58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Earth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           7,926            93,000,000                 . 0823                         81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Mars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           4,228         141,000,000                . 0437                      123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Jupiter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        88,846         483,000,000                .9021                       419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Saturn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        74,898         886,000,000                .7528                        769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Uranus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        31,763     1,782,000,000                .3035                    1,546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Neptune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        30,775     2,794,000,000                .2937                    2,425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Pluto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           1,423      3,666,000,000               .0 140                   3,186 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9" name="Line 9"/>
            <p:cNvSpPr/>
            <p:nvPr/>
          </p:nvSpPr>
          <p:spPr>
            <a:xfrm>
              <a:off x="908280" y="2476440"/>
              <a:ext cx="7156440" cy="12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293760" y="5475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ekton Pro"/>
              </a:rPr>
              <a:t>Calculating Distance</a:t>
            </a:r>
            <a:endParaRPr b="0" lang="en-US" sz="4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71" name="Group 8"/>
          <p:cNvGrpSpPr/>
          <p:nvPr/>
        </p:nvGrpSpPr>
        <p:grpSpPr>
          <a:xfrm>
            <a:off x="7496280" y="1687680"/>
            <a:ext cx="852480" cy="2947320"/>
            <a:chOff x="7496280" y="1687680"/>
            <a:chExt cx="852480" cy="2947320"/>
          </a:xfrm>
        </p:grpSpPr>
        <p:sp>
          <p:nvSpPr>
            <p:cNvPr id="72" name="Rectangle 5"/>
            <p:cNvSpPr/>
            <p:nvPr/>
          </p:nvSpPr>
          <p:spPr>
            <a:xfrm>
              <a:off x="7496280" y="1687680"/>
              <a:ext cx="843120" cy="869400"/>
            </a:xfrm>
            <a:prstGeom prst="rect">
              <a:avLst/>
            </a:prstGeom>
            <a:solidFill>
              <a:srgbClr val="ff0000"/>
            </a:solidFill>
            <a:ln cap="rnd" w="1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3" name="Rectangle 6"/>
            <p:cNvSpPr/>
            <p:nvPr/>
          </p:nvSpPr>
          <p:spPr>
            <a:xfrm>
              <a:off x="7505640" y="2736720"/>
              <a:ext cx="843120" cy="869400"/>
            </a:xfrm>
            <a:prstGeom prst="rect">
              <a:avLst/>
            </a:prstGeom>
            <a:solidFill>
              <a:srgbClr val="ffffff"/>
            </a:solidFill>
            <a:ln cap="rnd" w="1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4" name="Rectangle 7"/>
            <p:cNvSpPr/>
            <p:nvPr/>
          </p:nvSpPr>
          <p:spPr>
            <a:xfrm>
              <a:off x="7497720" y="3765240"/>
              <a:ext cx="843120" cy="869760"/>
            </a:xfrm>
            <a:prstGeom prst="rect">
              <a:avLst/>
            </a:prstGeom>
            <a:solidFill>
              <a:srgbClr val="3366ff"/>
            </a:solidFill>
            <a:ln cap="rnd" w="1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75" name="AutoShape 9"/>
          <p:cNvSpPr/>
          <p:nvPr/>
        </p:nvSpPr>
        <p:spPr>
          <a:xfrm>
            <a:off x="4167360" y="2674800"/>
            <a:ext cx="826920" cy="908280"/>
          </a:xfrm>
          <a:custGeom>
            <a:avLst/>
            <a:gdLst>
              <a:gd name="textAreaLeft" fmla="*/ 340560 w 826920"/>
              <a:gd name="textAreaRight" fmla="*/ 486360 w 826920"/>
              <a:gd name="textAreaTop" fmla="*/ 374040 h 908280"/>
              <a:gd name="textAreaBottom" fmla="*/ 534240 h 908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cap="rnd" w="1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76" name="Group 14"/>
          <p:cNvGrpSpPr/>
          <p:nvPr/>
        </p:nvGrpSpPr>
        <p:grpSpPr>
          <a:xfrm>
            <a:off x="954000" y="1587600"/>
            <a:ext cx="852480" cy="852480"/>
            <a:chOff x="954000" y="1587600"/>
            <a:chExt cx="852480" cy="852480"/>
          </a:xfrm>
        </p:grpSpPr>
        <p:pic>
          <p:nvPicPr>
            <p:cNvPr id="77" name="Picture 12" descr="head"/>
            <p:cNvPicPr/>
            <p:nvPr/>
          </p:nvPicPr>
          <p:blipFill>
            <a:blip r:embed="rId1"/>
            <a:stretch/>
          </p:blipFill>
          <p:spPr>
            <a:xfrm flipH="1">
              <a:off x="954000" y="1587600"/>
              <a:ext cx="85248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Oval 13"/>
            <p:cNvSpPr/>
            <p:nvPr/>
          </p:nvSpPr>
          <p:spPr>
            <a:xfrm>
              <a:off x="1239480" y="1838520"/>
              <a:ext cx="319680" cy="376560"/>
            </a:xfrm>
            <a:prstGeom prst="ellipse">
              <a:avLst/>
            </a:prstGeom>
            <a:solidFill>
              <a:srgbClr val="ffffff"/>
            </a:solidFill>
            <a:ln cap="rnd" w="14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79" name="Group 15"/>
          <p:cNvGrpSpPr/>
          <p:nvPr/>
        </p:nvGrpSpPr>
        <p:grpSpPr>
          <a:xfrm>
            <a:off x="996840" y="3708360"/>
            <a:ext cx="852480" cy="852480"/>
            <a:chOff x="996840" y="3708360"/>
            <a:chExt cx="852480" cy="852480"/>
          </a:xfrm>
        </p:grpSpPr>
        <p:pic>
          <p:nvPicPr>
            <p:cNvPr id="80" name="Picture 16" descr="head"/>
            <p:cNvPicPr/>
            <p:nvPr/>
          </p:nvPicPr>
          <p:blipFill>
            <a:blip r:embed="rId2"/>
            <a:stretch/>
          </p:blipFill>
          <p:spPr>
            <a:xfrm flipH="1">
              <a:off x="996840" y="3708360"/>
              <a:ext cx="85248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Oval 17"/>
            <p:cNvSpPr/>
            <p:nvPr/>
          </p:nvSpPr>
          <p:spPr>
            <a:xfrm>
              <a:off x="1282320" y="3959280"/>
              <a:ext cx="319680" cy="376560"/>
            </a:xfrm>
            <a:prstGeom prst="ellipse">
              <a:avLst/>
            </a:prstGeom>
            <a:solidFill>
              <a:srgbClr val="ffffff"/>
            </a:solidFill>
            <a:ln cap="rnd" w="14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82" name="Line 18"/>
          <p:cNvSpPr/>
          <p:nvPr/>
        </p:nvSpPr>
        <p:spPr>
          <a:xfrm flipV="1">
            <a:off x="1665360" y="2145960"/>
            <a:ext cx="5829120" cy="1981080"/>
          </a:xfrm>
          <a:prstGeom prst="line">
            <a:avLst/>
          </a:prstGeom>
          <a:ln w="1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3" name="Line 19"/>
          <p:cNvSpPr/>
          <p:nvPr/>
        </p:nvSpPr>
        <p:spPr>
          <a:xfrm>
            <a:off x="1631880" y="1998720"/>
            <a:ext cx="5880240" cy="2273400"/>
          </a:xfrm>
          <a:prstGeom prst="line">
            <a:avLst/>
          </a:prstGeom>
          <a:ln w="1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Text Box 28"/>
          <p:cNvSpPr/>
          <p:nvPr/>
        </p:nvSpPr>
        <p:spPr>
          <a:xfrm>
            <a:off x="723600" y="4587840"/>
            <a:ext cx="14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kton Pro"/>
              </a:rPr>
              <a:t>Viewpoint B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" name="Text Box 29"/>
          <p:cNvSpPr/>
          <p:nvPr/>
        </p:nvSpPr>
        <p:spPr>
          <a:xfrm>
            <a:off x="666720" y="2459160"/>
            <a:ext cx="145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kton Pro"/>
              </a:rPr>
              <a:t>Viewpoint A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86" name="Group 34"/>
          <p:cNvGrpSpPr/>
          <p:nvPr/>
        </p:nvGrpSpPr>
        <p:grpSpPr>
          <a:xfrm>
            <a:off x="1461960" y="5321160"/>
            <a:ext cx="2604600" cy="1204920"/>
            <a:chOff x="1461960" y="5321160"/>
            <a:chExt cx="2604600" cy="1204920"/>
          </a:xfrm>
        </p:grpSpPr>
        <p:grpSp>
          <p:nvGrpSpPr>
            <p:cNvPr id="87" name="Group 20"/>
            <p:cNvGrpSpPr/>
            <p:nvPr/>
          </p:nvGrpSpPr>
          <p:grpSpPr>
            <a:xfrm>
              <a:off x="1461960" y="5772600"/>
              <a:ext cx="2604600" cy="753480"/>
              <a:chOff x="1461960" y="5772600"/>
              <a:chExt cx="2604600" cy="753480"/>
            </a:xfrm>
          </p:grpSpPr>
          <p:sp>
            <p:nvSpPr>
              <p:cNvPr id="88" name="Rectangle 21"/>
              <p:cNvSpPr/>
              <p:nvPr/>
            </p:nvSpPr>
            <p:spPr>
              <a:xfrm rot="16200000">
                <a:off x="1473120" y="5769000"/>
                <a:ext cx="745560" cy="768240"/>
              </a:xfrm>
              <a:prstGeom prst="rect">
                <a:avLst/>
              </a:prstGeom>
              <a:solidFill>
                <a:srgbClr val="ff0000"/>
              </a:solidFill>
              <a:ln cap="rnd" w="14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89" name="Rectangle 22"/>
              <p:cNvSpPr/>
              <p:nvPr/>
            </p:nvSpPr>
            <p:spPr>
              <a:xfrm rot="16200000">
                <a:off x="2400120" y="5761080"/>
                <a:ext cx="745560" cy="768240"/>
              </a:xfrm>
              <a:prstGeom prst="rect">
                <a:avLst/>
              </a:prstGeom>
              <a:solidFill>
                <a:srgbClr val="ffffff"/>
              </a:solidFill>
              <a:ln cap="rnd" w="14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90" name="Rectangle 23"/>
              <p:cNvSpPr/>
              <p:nvPr/>
            </p:nvSpPr>
            <p:spPr>
              <a:xfrm rot="16200000">
                <a:off x="3309480" y="5767920"/>
                <a:ext cx="745560" cy="768600"/>
              </a:xfrm>
              <a:prstGeom prst="rect">
                <a:avLst/>
              </a:prstGeom>
              <a:solidFill>
                <a:srgbClr val="3366ff"/>
              </a:solidFill>
              <a:ln cap="rnd" w="14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91" name="Text Box 30"/>
            <p:cNvSpPr/>
            <p:nvPr/>
          </p:nvSpPr>
          <p:spPr>
            <a:xfrm>
              <a:off x="2068200" y="5321160"/>
              <a:ext cx="145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Viewpoint A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2" name="AutoShape 32"/>
            <p:cNvSpPr/>
            <p:nvPr/>
          </p:nvSpPr>
          <p:spPr>
            <a:xfrm>
              <a:off x="3357360" y="5802480"/>
              <a:ext cx="619200" cy="679320"/>
            </a:xfrm>
            <a:custGeom>
              <a:avLst/>
              <a:gdLst>
                <a:gd name="textAreaLeft" fmla="*/ 255240 w 619200"/>
                <a:gd name="textAreaRight" fmla="*/ 363960 w 619200"/>
                <a:gd name="textAreaTop" fmla="*/ 279720 h 679320"/>
                <a:gd name="textAreaBottom" fmla="*/ 399600 h 67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cap="rnd" w="1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93" name="Group 35"/>
          <p:cNvGrpSpPr/>
          <p:nvPr/>
        </p:nvGrpSpPr>
        <p:grpSpPr>
          <a:xfrm>
            <a:off x="5175360" y="5342040"/>
            <a:ext cx="2604600" cy="1163520"/>
            <a:chOff x="5175360" y="5342040"/>
            <a:chExt cx="2604600" cy="1163520"/>
          </a:xfrm>
        </p:grpSpPr>
        <p:grpSp>
          <p:nvGrpSpPr>
            <p:cNvPr id="94" name="Group 24"/>
            <p:cNvGrpSpPr/>
            <p:nvPr/>
          </p:nvGrpSpPr>
          <p:grpSpPr>
            <a:xfrm>
              <a:off x="5175360" y="5752080"/>
              <a:ext cx="2604600" cy="753480"/>
              <a:chOff x="5175360" y="5752080"/>
              <a:chExt cx="2604600" cy="753480"/>
            </a:xfrm>
          </p:grpSpPr>
          <p:sp>
            <p:nvSpPr>
              <p:cNvPr id="95" name="Rectangle 25"/>
              <p:cNvSpPr/>
              <p:nvPr/>
            </p:nvSpPr>
            <p:spPr>
              <a:xfrm rot="16200000">
                <a:off x="5186520" y="5748480"/>
                <a:ext cx="745560" cy="768240"/>
              </a:xfrm>
              <a:prstGeom prst="rect">
                <a:avLst/>
              </a:prstGeom>
              <a:solidFill>
                <a:srgbClr val="ff0000"/>
              </a:solidFill>
              <a:ln cap="rnd" w="14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96" name="Rectangle 26"/>
              <p:cNvSpPr/>
              <p:nvPr/>
            </p:nvSpPr>
            <p:spPr>
              <a:xfrm rot="16200000">
                <a:off x="6113520" y="5740560"/>
                <a:ext cx="745560" cy="768240"/>
              </a:xfrm>
              <a:prstGeom prst="rect">
                <a:avLst/>
              </a:prstGeom>
              <a:solidFill>
                <a:srgbClr val="ffffff"/>
              </a:solidFill>
              <a:ln cap="rnd" w="14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97" name="Rectangle 27"/>
              <p:cNvSpPr/>
              <p:nvPr/>
            </p:nvSpPr>
            <p:spPr>
              <a:xfrm rot="16200000">
                <a:off x="7022880" y="5747400"/>
                <a:ext cx="745560" cy="768600"/>
              </a:xfrm>
              <a:prstGeom prst="rect">
                <a:avLst/>
              </a:prstGeom>
              <a:solidFill>
                <a:srgbClr val="3366ff"/>
              </a:solidFill>
              <a:ln cap="rnd" w="14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98" name="Text Box 31"/>
            <p:cNvSpPr/>
            <p:nvPr/>
          </p:nvSpPr>
          <p:spPr>
            <a:xfrm>
              <a:off x="5693760" y="5342040"/>
              <a:ext cx="14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Viewpoint B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9" name="AutoShape 33"/>
            <p:cNvSpPr/>
            <p:nvPr/>
          </p:nvSpPr>
          <p:spPr>
            <a:xfrm>
              <a:off x="5241960" y="5794560"/>
              <a:ext cx="618480" cy="679320"/>
            </a:xfrm>
            <a:custGeom>
              <a:avLst/>
              <a:gdLst>
                <a:gd name="textAreaLeft" fmla="*/ 254880 w 618480"/>
                <a:gd name="textAreaRight" fmla="*/ 363600 w 618480"/>
                <a:gd name="textAreaTop" fmla="*/ 279720 h 679320"/>
                <a:gd name="textAreaBottom" fmla="*/ 399600 h 67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cap="rnd" w="1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00" name="Line 36"/>
          <p:cNvSpPr/>
          <p:nvPr/>
        </p:nvSpPr>
        <p:spPr>
          <a:xfrm>
            <a:off x="1398600" y="2438280"/>
            <a:ext cx="0" cy="1473480"/>
          </a:xfrm>
          <a:prstGeom prst="line">
            <a:avLst/>
          </a:prstGeom>
          <a:ln w="1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" name="Line 37"/>
          <p:cNvSpPr/>
          <p:nvPr/>
        </p:nvSpPr>
        <p:spPr>
          <a:xfrm>
            <a:off x="1398600" y="3137040"/>
            <a:ext cx="3187800" cy="0"/>
          </a:xfrm>
          <a:prstGeom prst="line">
            <a:avLst/>
          </a:prstGeom>
          <a:ln w="14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" name="Text Box 38"/>
          <p:cNvSpPr/>
          <p:nvPr/>
        </p:nvSpPr>
        <p:spPr>
          <a:xfrm>
            <a:off x="0" y="527040"/>
            <a:ext cx="9144000" cy="825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ekton Pro"/>
              </a:rPr>
              <a:t>Parallax</a:t>
            </a:r>
            <a:endParaRPr b="0" lang="en-US" sz="4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 spd="slow">
    <p:fad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34"/>
          <p:cNvSpPr/>
          <p:nvPr/>
        </p:nvSpPr>
        <p:spPr>
          <a:xfrm>
            <a:off x="0" y="527040"/>
            <a:ext cx="9144000" cy="825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ekton Pro"/>
              </a:rPr>
              <a:t>Parallax</a:t>
            </a:r>
            <a:endParaRPr b="0" lang="en-US" sz="4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04" name="Group 57"/>
          <p:cNvGrpSpPr/>
          <p:nvPr/>
        </p:nvGrpSpPr>
        <p:grpSpPr>
          <a:xfrm>
            <a:off x="1568520" y="1265400"/>
            <a:ext cx="6514920" cy="5211720"/>
            <a:chOff x="1568520" y="1265400"/>
            <a:chExt cx="6514920" cy="5211720"/>
          </a:xfrm>
        </p:grpSpPr>
        <p:grpSp>
          <p:nvGrpSpPr>
            <p:cNvPr id="105" name="Group 55"/>
            <p:cNvGrpSpPr/>
            <p:nvPr/>
          </p:nvGrpSpPr>
          <p:grpSpPr>
            <a:xfrm>
              <a:off x="1568520" y="1265400"/>
              <a:ext cx="6514920" cy="5211720"/>
              <a:chOff x="1568520" y="1265400"/>
              <a:chExt cx="6514920" cy="5211720"/>
            </a:xfrm>
          </p:grpSpPr>
          <p:pic>
            <p:nvPicPr>
              <p:cNvPr id="106" name="Picture 53" descr="parallax"/>
              <p:cNvPicPr/>
              <p:nvPr/>
            </p:nvPicPr>
            <p:blipFill>
              <a:blip r:embed="rId1"/>
              <a:stretch/>
            </p:blipFill>
            <p:spPr>
              <a:xfrm>
                <a:off x="1568520" y="1265400"/>
                <a:ext cx="6514920" cy="521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Rectangle 54"/>
              <p:cNvSpPr/>
              <p:nvPr/>
            </p:nvSpPr>
            <p:spPr>
              <a:xfrm>
                <a:off x="3720960" y="3009960"/>
                <a:ext cx="279000" cy="240840"/>
              </a:xfrm>
              <a:prstGeom prst="rect">
                <a:avLst/>
              </a:prstGeom>
              <a:solidFill>
                <a:srgbClr val="000000"/>
              </a:solidFill>
              <a:ln cap="rnd" w="14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108" name="Oval 56"/>
            <p:cNvSpPr/>
            <p:nvPr/>
          </p:nvSpPr>
          <p:spPr>
            <a:xfrm>
              <a:off x="4698720" y="3162240"/>
              <a:ext cx="279360" cy="291960"/>
            </a:xfrm>
            <a:prstGeom prst="ellipse">
              <a:avLst/>
            </a:prstGeom>
            <a:solidFill>
              <a:srgbClr val="000000"/>
            </a:solidFill>
            <a:ln cap="rnd" w="1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09" name="Text Box 16"/>
          <p:cNvSpPr/>
          <p:nvPr/>
        </p:nvSpPr>
        <p:spPr>
          <a:xfrm>
            <a:off x="4968720" y="6021360"/>
            <a:ext cx="14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kton Pro"/>
              </a:rPr>
              <a:t>Viewpoint B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Text Box 17"/>
          <p:cNvSpPr/>
          <p:nvPr/>
        </p:nvSpPr>
        <p:spPr>
          <a:xfrm>
            <a:off x="669600" y="3360600"/>
            <a:ext cx="145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kton Pro"/>
              </a:rPr>
              <a:t>Viewpoint A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" name="AutoShape 58"/>
          <p:cNvSpPr/>
          <p:nvPr/>
        </p:nvSpPr>
        <p:spPr>
          <a:xfrm>
            <a:off x="6205680" y="1743120"/>
            <a:ext cx="290520" cy="266760"/>
          </a:xfrm>
          <a:custGeom>
            <a:avLst/>
            <a:gdLst/>
            <a:ahLst/>
            <a:rect l="l" t="t" r="r" b="b"/>
            <a:pathLst>
              <a:path w="290512" h="266700">
                <a:moveTo>
                  <a:pt x="0" y="101870"/>
                </a:moveTo>
                <a:lnTo>
                  <a:pt x="110966" y="101871"/>
                </a:lnTo>
                <a:lnTo>
                  <a:pt x="145256" y="0"/>
                </a:lnTo>
                <a:lnTo>
                  <a:pt x="179546" y="101871"/>
                </a:lnTo>
                <a:lnTo>
                  <a:pt x="290512" y="101870"/>
                </a:lnTo>
                <a:lnTo>
                  <a:pt x="200738" y="164829"/>
                </a:lnTo>
                <a:lnTo>
                  <a:pt x="235029" y="266699"/>
                </a:lnTo>
                <a:lnTo>
                  <a:pt x="145256" y="203739"/>
                </a:lnTo>
                <a:lnTo>
                  <a:pt x="55483" y="266699"/>
                </a:lnTo>
                <a:lnTo>
                  <a:pt x="89774" y="164829"/>
                </a:lnTo>
                <a:lnTo>
                  <a:pt x="0" y="101870"/>
                </a:lnTo>
                <a:close/>
              </a:path>
            </a:pathLst>
          </a:cu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2" name="AutoShape 60"/>
          <p:cNvSpPr/>
          <p:nvPr/>
        </p:nvSpPr>
        <p:spPr>
          <a:xfrm>
            <a:off x="6802560" y="2220840"/>
            <a:ext cx="290520" cy="266760"/>
          </a:xfrm>
          <a:custGeom>
            <a:avLst/>
            <a:gdLst/>
            <a:ahLst/>
            <a:rect l="l" t="t" r="r" b="b"/>
            <a:pathLst>
              <a:path w="290512" h="266700">
                <a:moveTo>
                  <a:pt x="0" y="101870"/>
                </a:moveTo>
                <a:lnTo>
                  <a:pt x="110966" y="101871"/>
                </a:lnTo>
                <a:lnTo>
                  <a:pt x="145256" y="0"/>
                </a:lnTo>
                <a:lnTo>
                  <a:pt x="179546" y="101871"/>
                </a:lnTo>
                <a:lnTo>
                  <a:pt x="290512" y="101870"/>
                </a:lnTo>
                <a:lnTo>
                  <a:pt x="200738" y="164829"/>
                </a:lnTo>
                <a:lnTo>
                  <a:pt x="235029" y="266699"/>
                </a:lnTo>
                <a:lnTo>
                  <a:pt x="145256" y="203739"/>
                </a:lnTo>
                <a:lnTo>
                  <a:pt x="55483" y="266699"/>
                </a:lnTo>
                <a:lnTo>
                  <a:pt x="89774" y="164829"/>
                </a:lnTo>
                <a:lnTo>
                  <a:pt x="0" y="101870"/>
                </a:lnTo>
                <a:close/>
              </a:path>
            </a:pathLst>
          </a:custGeom>
          <a:solidFill>
            <a:srgbClr val="333399"/>
          </a:solidFill>
          <a:ln w="3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4" descr="HST view of earliest galaxies"/>
          <p:cNvPicPr/>
          <p:nvPr/>
        </p:nvPicPr>
        <p:blipFill>
          <a:blip r:embed="rId1"/>
          <a:srcRect l="0" t="25503" r="0" b="0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HST view of earliest galaxies"/>
          <p:cNvPicPr/>
          <p:nvPr/>
        </p:nvPicPr>
        <p:blipFill>
          <a:blip r:embed="rId2"/>
          <a:srcRect l="0" t="25503" r="0" b="0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6"/>
          <p:cNvSpPr/>
          <p:nvPr/>
        </p:nvSpPr>
        <p:spPr>
          <a:xfrm>
            <a:off x="2571840" y="1956600"/>
            <a:ext cx="49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ekton Pro"/>
              </a:rPr>
              <a:t>186,000 miles/second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0" y="522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ekton Pro"/>
              </a:rPr>
              <a:t>The Light-Year</a:t>
            </a:r>
            <a:endParaRPr b="0" lang="en-US" sz="4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2571840" y="3021840"/>
            <a:ext cx="49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ekton Pro"/>
              </a:rPr>
              <a:t>X 60 minutes/hour 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2571840" y="3558240"/>
            <a:ext cx="49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ekton Pro"/>
              </a:rPr>
              <a:t>X 24 hours/day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2571840" y="4099680"/>
            <a:ext cx="49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ekton Pro"/>
              </a:rPr>
              <a:t>X 365 days/year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2571840" y="2464560"/>
            <a:ext cx="49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ekton Pro"/>
              </a:rPr>
              <a:t>X 60 seconds/minute 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" name="Rectangle 12"/>
          <p:cNvSpPr/>
          <p:nvPr/>
        </p:nvSpPr>
        <p:spPr>
          <a:xfrm>
            <a:off x="1971720" y="4836240"/>
            <a:ext cx="52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ekton Pro"/>
              </a:rPr>
              <a:t>5,865,696,000,000 miles/year</a:t>
            </a:r>
            <a:r>
              <a:rPr b="0" lang="en-US" sz="2800" spc="-1" strike="noStrike">
                <a:solidFill>
                  <a:srgbClr val="ffff00"/>
                </a:solidFill>
                <a:latin typeface="Tekton Pr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2" name="Line 13"/>
          <p:cNvSpPr/>
          <p:nvPr/>
        </p:nvSpPr>
        <p:spPr>
          <a:xfrm>
            <a:off x="2100240" y="4716360"/>
            <a:ext cx="4870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 spd="slow"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155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8" dur="1155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0" dur="1155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2" dur="1155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84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94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99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0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07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1T22:19:04Z</dcterms:created>
  <dc:creator>Hechtp</dc:creator>
  <dc:description/>
  <dc:language>en-US</dc:language>
  <cp:lastModifiedBy>RomaK</cp:lastModifiedBy>
  <dcterms:modified xsi:type="dcterms:W3CDTF">2015-07-31T22:42:06Z</dcterms:modified>
  <cp:revision>76</cp:revision>
  <dc:subject/>
  <dc:title>Slide 1</dc:title>
</cp:coreProperties>
</file>