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jpeg" ContentType="image/jpeg"/>
  <Override PartName="/ppt/media/image3.png" ContentType="image/png"/>
  <Override PartName="/ppt/media/whoosh.wav" ContentType="audio/x-wav"/>
  <Override PartName="/ppt/media/image4.jpeg" ContentType="image/jpeg"/>
  <Override PartName="/ppt/media/ricochet.wav" ContentType="audio/x-wav"/>
  <Override PartName="/ppt/media/image5.jpeg" ContentType="image/jpeg"/>
  <Override PartName="/ppt/media/image6.jpeg" ContentType="image/jpe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1ECA-F92C-4ED2-9E1D-8F55BE223A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91B-63AA-4D0D-B6EE-729CE58D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9E7-8BE8-46ED-A0C7-002132DF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339-9C09-4B34-B623-ED7251E1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9AB-1469-4A3A-AA0F-4678818C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C9C-CFAB-4E80-A4C0-FA7524CA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455-3A9F-46A1-89A1-7E32FC77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7C7-D89C-49E2-8E16-261F6A5F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9F8-AF5D-431A-9849-D7E83363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399-8E23-41D8-8EFA-7947811A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EF6-B259-4D0A-8AC4-6F1F4EF9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F30-AA95-4624-957F-CD84E069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59F-107C-45A9-8219-1C66469B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0E81-9895-4E87-BA61-A40B657E6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fags"/>
          <p:cNvPicPr/>
          <p:nvPr/>
        </p:nvPicPr>
        <p:blipFill>
          <a:blip r:embed="rId1"/>
          <a:stretch/>
        </p:blipFill>
        <p:spPr>
          <a:xfrm>
            <a:off x="3200400" y="2286000"/>
            <a:ext cx="2362320" cy="198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Tobacco sm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Smoking kill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2 times the number of people killed in road 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 contain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nicotin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which i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addi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Ta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black sticky substance that forms in the moist lu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 contains 17 chemicals (</a:t>
            </a: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that are known to cause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rbon monoxid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poisonou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as that stops red blood cells from carrying oxygen around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ers have more chance of a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heart attac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when the heart stops 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heart disease and smoking"/>
          <p:cNvPicPr/>
          <p:nvPr/>
        </p:nvPicPr>
        <p:blipFill>
          <a:blip r:embed="rId1"/>
          <a:stretch/>
        </p:blipFill>
        <p:spPr>
          <a:xfrm>
            <a:off x="4038480" y="1930320"/>
            <a:ext cx="4419720" cy="37036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lthy, clean lu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lean_lung_hr"/>
          <p:cNvPicPr/>
          <p:nvPr/>
        </p:nvPicPr>
        <p:blipFill>
          <a:blip r:embed="rId1"/>
          <a:stretch/>
        </p:blipFill>
        <p:spPr>
          <a:xfrm>
            <a:off x="4792680" y="1447920"/>
            <a:ext cx="315756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obacco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Lung cancer"/>
          <p:cNvPicPr/>
          <p:nvPr/>
        </p:nvPicPr>
        <p:blipFill>
          <a:blip r:embed="rId1"/>
          <a:stretch/>
        </p:blipFill>
        <p:spPr>
          <a:xfrm>
            <a:off x="762120" y="1752480"/>
            <a:ext cx="3519360" cy="4648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Emphys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emphysema lung"/>
          <p:cNvPicPr/>
          <p:nvPr/>
        </p:nvPicPr>
        <p:blipFill>
          <a:blip r:embed="rId1"/>
          <a:stretch/>
        </p:blipFill>
        <p:spPr>
          <a:xfrm>
            <a:off x="5010120" y="1447920"/>
            <a:ext cx="3295800" cy="46479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Times New Roman"/>
              </a:rPr>
              <a:t>Bronchit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air passages (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</a:rPr>
              <a:t>bronchi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lung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irritated by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se air passage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wolle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are tiny hair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keep these air passage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ing damages thes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tops them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lungs fill up with mucu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the smoker now has to try and physically cough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Times New Roman"/>
              </a:rPr>
              <a:t>Other problems caused by smok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20:12:00Z</dcterms:created>
  <dc:creator>LEGION2</dc:creator>
  <dc:description/>
  <dc:language>en-US</dc:language>
  <cp:lastModifiedBy>LEGION2</cp:lastModifiedBy>
  <dcterms:modified xsi:type="dcterms:W3CDTF">2016-01-14T12:46:34Z</dcterms:modified>
  <cp:revision>5</cp:revision>
  <dc:subject/>
  <dc:title>Tobacco and diseases</dc:title>
</cp:coreProperties>
</file>