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glass.wav" ContentType="audio/x-wav"/>
  <Override PartName="/ppt/media/image2.jpeg" ContentType="image/jpeg"/>
  <Override PartName="/ppt/media/image3.png" ContentType="image/png"/>
  <Override PartName="/ppt/media/whoosh.wav" ContentType="audio/x-wav"/>
  <Override PartName="/ppt/media/image4.jpeg" ContentType="image/jpeg"/>
  <Override PartName="/ppt/media/ricochet.wav" ContentType="audio/x-wav"/>
  <Override PartName="/ppt/media/image5.jpeg" ContentType="image/jpeg"/>
  <Override PartName="/ppt/media/image6.jpeg" ContentType="image/jpeg"/>
  <Override PartName="/ppt/media/explod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2354-6935-4A60-9061-2618304AB4A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its dan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ts dan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bacco smo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bacco smoke contains about 1000 chemicals, many of them being harm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oking kills 12 times the number of people killed in road accid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ntains nicotine which is addi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 is a black sticky substance that forms in the moist lu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 contains 17 chemicals (carcinogens) that are known to cause can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monoxide is a poisonous gas that stops red blood cells from carrying oxygen around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 smo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 smoke contains about 1000 chemicals, many of them being harm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ing kills 12 times the number of people killed in road acci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ntains nicotine which is addi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 is a black sticky substance that forms in the moist lu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 contains 17 chemicals (carcinogens) that are known to cause can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monoxide is a poisonous gas that stops red blood cells from carrying oxygen around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 disease is 3 times more common among smo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okers have more chance of a heart attack (when the heart stops work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disease is 3 times more common among smo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rs have more chance of a heart attack (when the heart stops work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, clean lu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ealthy lung looks like a pink spo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ir sacs give the lungs a large surface area for gas exchange to take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nsures that enough oxygen gets into the blood and around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y, clean lu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althy lung looks like a pink spo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sacs give the lungs a large surface area for gas exchange to take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sures that enough oxygen gets into the blood and around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g can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cers of the lungs, mouth, gullet (oesophagus), and the bladder are caused by chemicals called carcinogens in tobacco smo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out of 10 people who die from lung cancer are smo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ng can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cers of the lungs, mouth, gullet (oesophagus), and the bladder are caused by chemicals called carcinogens in tobacco smo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 out of 10 people who die from lung cancer are smo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hys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hysema is a lung disease caused by t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g tissue is destroyed and large holes develop which blow up like ballo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thing becomes very difficu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ys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ysema is a lung disease caused by ta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ng tissue is destroyed and large holes develop which blow up like ballo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thing becomes very diffic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ch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ung disease is usually found in smo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ir passages (bronchi) to the lungs become irritated by smo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ir passages become swollen and s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iny hairs called cilia which keep these air passages cl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oking damages these cilia and stops them wor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ungs fill up with mucus which the smoker now has to try and physically cough u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nchit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ung disease is usually found in smo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passages (bronchi) to the lungs become irritated by smo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ir passages become swollen and s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iny hairs called cilia which keep these air passages 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ing damages these cilia and stops them wor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fill up with mucus which the smoker now has to try and physically cough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roblems caused by smok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bacco smoke is often very unpleasant for other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kes your breath, hair, clothes and house sm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irritate those who suffer with hayfever or asth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sive smokers can also develop lung da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gnant mothers who smoke can have smaller babies than non-smokers. The babies also have an increased risk of getting asth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ought that smoking in a house may contribute to causing cot de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blems caused by smok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 smoke is often very unpleasant for other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kes your breath, hair, clothes and house sm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irritate those who suffer with hayfever or asth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ive smokers can also develop lung da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gnant mothers who smoke can have smaller babies than non-smokers. The babies also have an increased risk of getting asth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hought that smoking in a house may contribute to causing cot de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F730-FFFA-4056-A514-365CDA26E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242C-A0D8-4D89-B6DC-4FC5000D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6078-2946-4AA3-800D-9160030FE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92F4-38A2-429E-BCB0-79C2A4B7C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1FF9-E07B-48F3-9C91-4C272790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2474-A2CC-45EF-BB9E-2F22CF8F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A12B-E014-4F95-91F1-FBC11648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9E60-CC2B-4141-8544-C9F550E5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2DD9-630B-488D-8830-4E643DC5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F748-67F2-4F60-BEE9-1D920398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BE93-794C-485B-B788-2C34B963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33C4-AA3B-404E-8B67-D34D3511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A3BA-1457-4FC8-970A-72A8D6418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hoosh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obac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nd its dang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fags"/>
          <p:cNvPicPr/>
          <p:nvPr/>
        </p:nvPicPr>
        <p:blipFill>
          <a:blip r:embed="rId1"/>
          <a:stretch/>
        </p:blipFill>
        <p:spPr>
          <a:xfrm>
            <a:off x="3200400" y="2286000"/>
            <a:ext cx="2362320" cy="19828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Times New Roman"/>
              </a:rPr>
              <a:t>Tobacco smo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80769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obacco smoke contains about 1000 chemicals, many of them being harm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99"/>
                </a:solidFill>
                <a:latin typeface="Times New Roman"/>
              </a:rPr>
              <a:t>Smoking kill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12 times the number of people killed in road acci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 contains </a:t>
            </a: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nicotin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which is </a:t>
            </a: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addi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Tar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a black sticky substance that forms in the moist lu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ar contains 17 chemicals (</a:t>
            </a:r>
            <a:r>
              <a:rPr b="1" lang="en-GB" sz="3200" spc="-1" strike="noStrike">
                <a:solidFill>
                  <a:srgbClr val="cc0099"/>
                </a:solidFill>
                <a:latin typeface="Times New Roman"/>
              </a:rPr>
              <a:t>carcinoge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that are known to cause </a:t>
            </a: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can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Carbon monoxid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3200" spc="-1" strike="noStrike">
                <a:solidFill>
                  <a:srgbClr val="00ff00"/>
                </a:solidFill>
                <a:latin typeface="Times New Roman"/>
              </a:rPr>
              <a:t>poisonou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gas that stops red blood cells from carrying oxygen around the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99"/>
                </a:solidFill>
                <a:latin typeface="Times New Roman"/>
              </a:rPr>
              <a:t>Heart dis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eart disease is 3 times more common among smo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mokers have more chance of a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heart attac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(when the heart stops work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heart disease and smoking"/>
          <p:cNvPicPr/>
          <p:nvPr/>
        </p:nvPicPr>
        <p:blipFill>
          <a:blip r:embed="rId1"/>
          <a:stretch/>
        </p:blipFill>
        <p:spPr>
          <a:xfrm>
            <a:off x="4038480" y="1930320"/>
            <a:ext cx="4419720" cy="370368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99"/>
                </a:solidFill>
                <a:latin typeface="Times New Roman"/>
              </a:rPr>
              <a:t>Healthy, clean lu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 healthy lung looks like a pink spo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air sacs give the lungs a large surface area for gas exchange to take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is ensures that enough oxygen gets into the blood and around the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clean_lung_hr"/>
          <p:cNvPicPr/>
          <p:nvPr/>
        </p:nvPicPr>
        <p:blipFill>
          <a:blip r:embed="rId1"/>
          <a:stretch/>
        </p:blipFill>
        <p:spPr>
          <a:xfrm>
            <a:off x="4792680" y="1447920"/>
            <a:ext cx="3157560" cy="464796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99"/>
                </a:solidFill>
                <a:latin typeface="Times New Roman"/>
              </a:rPr>
              <a:t>Lung canc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ancers of the lungs, mouth, gullet (oesophagus), and the bladder are caused by chemicals called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carcinoge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in tobacco smo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9 out of 10 people who die from lung cancer are smo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Lung cancer"/>
          <p:cNvPicPr/>
          <p:nvPr/>
        </p:nvPicPr>
        <p:blipFill>
          <a:blip r:embed="rId1"/>
          <a:stretch/>
        </p:blipFill>
        <p:spPr>
          <a:xfrm>
            <a:off x="762120" y="1752480"/>
            <a:ext cx="3519360" cy="46483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99"/>
                </a:solidFill>
                <a:latin typeface="Times New Roman"/>
              </a:rPr>
              <a:t>Emphys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mphysema is a lung disease caused by t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ung tissue is destroyed and large holes develop which blow up like ballo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reathing becomes very diffic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emphysema lung"/>
          <p:cNvPicPr/>
          <p:nvPr/>
        </p:nvPicPr>
        <p:blipFill>
          <a:blip r:embed="rId1"/>
          <a:stretch/>
        </p:blipFill>
        <p:spPr>
          <a:xfrm>
            <a:off x="5010120" y="1447920"/>
            <a:ext cx="3295800" cy="464796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660066"/>
                </a:solidFill>
                <a:latin typeface="Times New Roman"/>
              </a:rPr>
              <a:t>Bronchit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is lung disease is usually found in smo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air passages (</a:t>
            </a:r>
            <a:r>
              <a:rPr b="1" lang="en-GB" sz="2800" spc="-1" strike="noStrike" u="sng">
                <a:solidFill>
                  <a:srgbClr val="cc0099"/>
                </a:solidFill>
                <a:uFillTx/>
                <a:latin typeface="Times New Roman"/>
              </a:rPr>
              <a:t>bronchi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to the lungs become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irritated by smo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se air passages become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swollen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s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re are tiny hairs called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cili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keep these air passages 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moking damages these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cili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d stops them 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lungs fill up with mucu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the smoker now has to try and physically cough up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99"/>
                </a:solidFill>
                <a:latin typeface="Times New Roman"/>
              </a:rPr>
              <a:t>Other problems caused by smoking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bacco smoke is often very unpleasant for other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makes your breath, hair, clothes and house sm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can irritate those who suffer with hayfever or asth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ssive smokers can also develop lung da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egnant mothers who smoke can have smaller babies than non-smokers. The babies also have an increased risk of getting asth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thought that smoking in a house may contribute to causing cot de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20:12:00Z</dcterms:created>
  <dc:creator>LEGION2</dc:creator>
  <dc:description/>
  <dc:language>en-US</dc:language>
  <cp:lastModifiedBy>LEGION2</cp:lastModifiedBy>
  <dcterms:modified xsi:type="dcterms:W3CDTF">2016-01-14T12:46:34Z</dcterms:modified>
  <cp:revision>5</cp:revision>
  <dc:subject/>
  <dc:title>Tobacco and diseases</dc:title>
</cp:coreProperties>
</file>