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BC87-C660-49BF-84EF-7374955396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E09-340C-4F0C-AABB-3193698D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D97-08E8-40A9-8366-D53006EA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BD7-FB26-4C8A-AAE3-0ECA3906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4CF-918C-47EF-9770-A3CEC0BE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F86-0ED3-4047-AF14-F9267697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E8D-1ED3-4EE8-AB92-3F44942C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484-6ABD-435A-8FE6-6529CE44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66E-1E5A-4D15-8CC3-43EFDD89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4E1-2AD7-4A68-A93E-1D131471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D8E-EF5D-4E33-9290-347703B7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2CB-45F9-4B62-800A-59E777CF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7C9-8191-4DDC-B9C4-293BEA7A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41A6-17D1-4ACF-A300-B97D3E0B91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2</cp:lastModifiedBy>
  <dcterms:modified xsi:type="dcterms:W3CDTF">2016-01-14T13:08:27Z</dcterms:modified>
  <cp:revision>5</cp:revision>
  <dc:subject/>
  <dc:title>Transport of Materials</dc:title>
</cp:coreProperties>
</file>