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282B-B653-40E3-A61E-3B2FF3A083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ranspor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need sugars and water to stay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ranspor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need sugars and water to stay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low dead t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nd minerals transported in an upwards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g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trong so help support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low dead t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nd minerals transported in an upwards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g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trong so help support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s sugar around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on cells provide the energy for the tube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walls of the tube cells have pores through which food is transported from cell to cell in the form of dissolved sug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s sugar around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on cells provide the energy for the tube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walls of the tube cells have pores through which food is transported from cell to cell in the form of dissolved sug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pores found on the surfaces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take in carbon dioxide from the air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ur passes out from the leaf to the atmosphere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pores found on the surfaces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take in carbon dioxide from the air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ur passes out from the leaf to the atmosphere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46E6-1B7C-469B-A7EE-37F08242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5E9C-0A8E-4DAD-B306-DE7BCD31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8C3D-9D22-4625-874E-89215F2FE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9D9E-5244-4E68-A4C4-1DF5CB6D6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378C-390A-4B62-AA2A-160ED5F1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9573-508B-4AF7-B223-A590D209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5BF1-A653-493F-AB16-6BDA8BBF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F6FD-FE9B-4D5F-B7CC-D85F4E5E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0431-A0CD-41F2-85E5-44FDD66C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1CC8-668F-4F52-93D3-189E285B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204D-1E39-4679-AD0A-DD3DC9D9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2FD6-26FF-474F-A7FC-BAF8DE92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7CC9-606A-47DE-85A8-1EB1144623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ransport of Mate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orld of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ed for transport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ts nee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ugar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wat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stay a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NA01441_"/>
          <p:cNvPicPr/>
          <p:nvPr/>
        </p:nvPicPr>
        <p:blipFill>
          <a:blip r:embed="rId1"/>
          <a:stretch/>
        </p:blipFill>
        <p:spPr>
          <a:xfrm>
            <a:off x="3024360" y="2819520"/>
            <a:ext cx="3375000" cy="380988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 flipV="1">
            <a:off x="2819520" y="3200400"/>
            <a:ext cx="0" cy="31240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85800" y="32767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7"/>
          <p:cNvSpPr/>
          <p:nvPr/>
        </p:nvSpPr>
        <p:spPr>
          <a:xfrm>
            <a:off x="6781680" y="3276720"/>
            <a:ext cx="0" cy="304776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7086600" y="3276720"/>
            <a:ext cx="182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Xy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llow dead tu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ater and minerals transported in an upwards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of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ign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ry strong so help support the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4013280" cy="6019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419720" y="609480"/>
            <a:ext cx="4419360" cy="5562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hlo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ansports sugar around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of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iv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mpanion cells provide the energy for the tube cel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nd walls of the tube cells have pores through which food is transported from cell to cell in the form of dissolved suga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962520" cy="5943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4324320" cy="352116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om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iny pores found on the surfaces of a l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tomata take in carbon dioxid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from the air through s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ater vapour passes ou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from the leaf to the atmosphere through s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rcRect l="0" t="0" r="0" b="11114"/>
          <a:stretch/>
        </p:blipFill>
        <p:spPr>
          <a:xfrm>
            <a:off x="1523880" y="380880"/>
            <a:ext cx="6324840" cy="60962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1:37:55Z</dcterms:created>
  <dc:creator>hhashmi</dc:creator>
  <dc:description/>
  <dc:language>en-US</dc:language>
  <cp:lastModifiedBy>LEGION2</cp:lastModifiedBy>
  <dcterms:modified xsi:type="dcterms:W3CDTF">2016-01-14T13:08:27Z</dcterms:modified>
  <cp:revision>5</cp:revision>
  <dc:subject/>
  <dc:title>Transport of Materials</dc:title>
</cp:coreProperties>
</file>