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17FA-24CF-4940-A978-5F40696B7D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EA4-559F-4F28-87EB-FAABE68A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663-2E70-499C-A231-7F9242F1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DF4-6FD6-42B8-9DE8-820AE73B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15B-BDA7-4A24-B051-C697D280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920-EAF8-4DF2-93A3-D6569EF8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B60-092F-45F6-80CA-0FE99A15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C9D-08AE-48EE-9442-A78CD49B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73B-843E-4D10-97FC-87A2C681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974-46D1-4C03-A5E2-F342BCFF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E02-1904-43A0-8AB1-B60A99FA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AFE8-3A31-4E8E-B92F-B38BB2D5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1C9-8A91-4D32-975B-928954DD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5BC9-7068-4D01-B5F8-9FAD8E6F0A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2</cp:lastModifiedBy>
  <dcterms:modified xsi:type="dcterms:W3CDTF">2016-01-14T13:08:27Z</dcterms:modified>
  <cp:revision>5</cp:revision>
  <dc:subject/>
  <dc:title>Transport of Materials</dc:title>
</cp:coreProperties>
</file>