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image2.png" ContentType="image/png"/>
  <Override PartName="/ppt/media/image1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2CA25-62B8-43A2-8E87-3E0161551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Structure and Method of Inva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er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e para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 to type of cells they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oliomylelitis virus attacks 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hepatitis virus attacks liv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ir only true characteristic of be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smaller than bacteria (20-300n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al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a cel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or RNA (retrovir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rounded by protective protein coat (caps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tic material carries information for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jacks biochemical machinery of host cell to carry these processes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of a cell by a 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 can lie dormant for many years until it comes into contact with a suitable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ds with molecules on surface of host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hole virus enter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oph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DNA injected via hollow t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eration of Cell Instr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takes control of cell machin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s on host f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A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supply of free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irus suppresses cell’s normal nucleic acid replication and 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ufactures many identical copies of viral nucleic acid and protein co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viral particles become assembled and become relea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iral nucleic acid used to synthesise lysis enzy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ursting of host cell to release viral p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s contaning virus are form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trovir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tains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DNA to transcribe into m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erse transcriptase injected into cell by virus with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enzyme reverses normal transcri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Produces viral DNA from R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Virus uses DNA to replic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38E-E176-4DC9-8F9B-4B5F1FD82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0E51-1D45-433E-9BC9-6BF555B7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AF83-8DC9-413F-A2FD-1D1796F4C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AC8F-C2D3-4D94-8916-C4E37C7BC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4A5F-4358-4B16-8275-7F8F5E8E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AF7D-298D-4B63-B629-8B4A6B786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256-336A-481A-BF67-255BC919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AA33-B295-4F23-96A5-B782D561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C403-D262-4CFD-817F-8F296C95C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13BB-C6D8-478F-8939-66394A73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B19C-92B4-4369-BA28-1D8F7B612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23F-4134-4B59-B511-2425B1A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81FE0-151B-4C73-9736-709980461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us Structure and Method of Inva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gher 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video cl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teriophage entering a c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IV re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troduction to vir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bligate parasi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cific to type of cells they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poliomylel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erv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patiti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virus attacks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iver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production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is their only true characteristic of being al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uch smaller than bacteria (20-300n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Vir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t a cell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NA or RNA (retrovir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rrounded by protective protein coat (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ps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enetic material carries information for 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jacks biochemical machinery of host cell to carry these processes 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int6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365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1"/>
          <p:cNvSpPr/>
          <p:nvPr/>
        </p:nvSpPr>
        <p:spPr>
          <a:xfrm>
            <a:off x="324000" y="3213000"/>
            <a:ext cx="28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C"/>
              </a:rPr>
              <a:t>Bacterioph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HIV-Structure"/>
          <p:cNvPicPr/>
          <p:nvPr/>
        </p:nvPicPr>
        <p:blipFill>
          <a:blip r:embed="rId2"/>
          <a:stretch/>
        </p:blipFill>
        <p:spPr>
          <a:xfrm>
            <a:off x="2340000" y="3743280"/>
            <a:ext cx="3851280" cy="3114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structure%20of%20bacteriophage"/>
          <p:cNvPicPr/>
          <p:nvPr/>
        </p:nvPicPr>
        <p:blipFill>
          <a:blip r:embed="rId3"/>
          <a:stretch/>
        </p:blipFill>
        <p:spPr>
          <a:xfrm>
            <a:off x="0" y="0"/>
            <a:ext cx="3087720" cy="31417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Invasion of a cell by a 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irus can lie dormant for many years until it comes into contact with a suitable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inds with molecules on surface of host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r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whole virus enters c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cterioph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-viral DNA injected via hollow t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lteration of Cell Instr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takes control of cell machin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pends on host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A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supply of free nucleot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Virus suppresses cell’s normal nucleic acid replication and protein 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nufactures many identical copies of viral nucleic acid and protein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ew viral particles become assembled and become releas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al nucleic acid used to synthesise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lysis enzy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bursting of host cell to release viral parti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uds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ontaning virus are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7"/>
          <p:cNvGrpSpPr/>
          <p:nvPr/>
        </p:nvGrpSpPr>
        <p:grpSpPr>
          <a:xfrm>
            <a:off x="1276200" y="-922320"/>
            <a:ext cx="5537160" cy="8702640"/>
            <a:chOff x="1276200" y="-922320"/>
            <a:chExt cx="5537160" cy="8702640"/>
          </a:xfrm>
        </p:grpSpPr>
        <p:sp>
          <p:nvSpPr>
            <p:cNvPr id="71" name="Rectangle 4"/>
            <p:cNvSpPr/>
            <p:nvPr/>
          </p:nvSpPr>
          <p:spPr>
            <a:xfrm>
              <a:off x="1276200" y="-922320"/>
              <a:ext cx="55371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5"/>
            <p:cNvSpPr/>
            <p:nvPr/>
          </p:nvSpPr>
          <p:spPr>
            <a:xfrm>
              <a:off x="1276200" y="-922320"/>
              <a:ext cx="5537160" cy="870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529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                                                            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6" descr="examples_of_viral"/>
          <p:cNvPicPr/>
          <p:nvPr/>
        </p:nvPicPr>
        <p:blipFill>
          <a:blip r:embed="rId1"/>
          <a:srcRect l="0" t="0" r="0" b="38890"/>
          <a:stretch/>
        </p:blipFill>
        <p:spPr>
          <a:xfrm>
            <a:off x="533520" y="0"/>
            <a:ext cx="807696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trovi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ontains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o DNA to transcribe into m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verse transcriptase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jected into cell by virus with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enzyme reverses normal tran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Produces viral DNA from 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-Virus uses DNA to repl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2T09:29:22Z</dcterms:created>
  <dc:creator>hhashmi</dc:creator>
  <dc:description/>
  <dc:language>en-US</dc:language>
  <cp:lastModifiedBy>LEGION2</cp:lastModifiedBy>
  <dcterms:modified xsi:type="dcterms:W3CDTF">2016-01-14T13:20:17Z</dcterms:modified>
  <cp:revision>9</cp:revision>
  <dc:subject/>
  <dc:title>Virus Structure and Method of Invasion</dc:title>
</cp:coreProperties>
</file>