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6DDD-F938-4915-8C26-109D4D372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325-125E-49EF-AE9D-3E708ACF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1B3-E513-4C81-9EFC-EF5B9114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9A3-F8EB-4C19-9325-7B82FDF8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561-79D2-4FDD-9066-D2B7AEF6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893-6AEE-4CC9-B51D-B1ACABD6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E52-6001-403D-AFD4-3FB53416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AC9-A3B0-433E-9127-4A01E34D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D12-C14F-4AEE-A417-E9A0A532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550-A5DD-4275-9592-605BF2E9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A83-EB10-448B-9B98-E5A2C53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E23-5A38-4CE9-A1FA-AEF51BD5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AB4-14C3-463F-8E98-CC430F14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0A5F-FD81-461D-9359-6243A6B9649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952880" y="32004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By SG Bhuvan Kumar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olic Acid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present in liver, meat, eggs, milk, fruits, cereals, and leafy vegetables over cooking of food destroys the folic ac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lic acid is required for the synthesis of nucleic acids (DNA and RNA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required for the development of blood cells in the bone marr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Symptom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s deficiency causes anemia, diarrhoea and decrease in the number of leucocyt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ll division in tissues such as intestinal mucosa is affected in folic acid deficienc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yano cobalamin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known as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i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12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lays an important role in the metabolism of nucleic acid of protein synthes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teria present in the intestine synthesize this vitamin and supply to our body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ver is the main site of storage of vitam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s 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iciency of this vitamin ca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rnicious anemi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at is different from other types of anaemi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" name="Picture 3" descr="image075.jpg"/>
          <p:cNvPicPr/>
          <p:nvPr/>
        </p:nvPicPr>
        <p:blipFill>
          <a:blip r:embed="rId1"/>
          <a:stretch/>
        </p:blipFill>
        <p:spPr>
          <a:xfrm>
            <a:off x="5638680" y="5181480"/>
            <a:ext cx="2171880" cy="14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676520" y="502920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is one of the ‘B’ complex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the metabolism of carbohydrates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roteins and fa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sources of pantothenic acid are fresh vegetables, liver, kidney, yeast, eg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yolk, meat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round nuts etc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ficiency lead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rning sensation in f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one among the ‘B’ complex vitamin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protein metabo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present in pulses, nuts, vegetables, liver and kidne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ciency disor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ciency leads to muscle pains, fatigue, disorders in the nervous sy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mental de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C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–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It is also called  as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Ascorbic  Aci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ource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is present in fresh fruits, green leafy vegetables, tomatoes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nd germinating puls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itrus fruit and Indian gooseberry are the richest source of this vitami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ava is another cheap and rich source of Vitamin C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amin C plays an important role in tissue oxidation reac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 is required for the formation of collagen which is required for the formation of blood vessels, connective tissue, cartilage and dentine of teeth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also helps in the absorption and storage of ir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is Vitamin is also required for normal growth, tissue repair, healing of wounds and fracture of bon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9" name="Picture 3" descr="images55.jpg"/>
          <p:cNvPicPr/>
          <p:nvPr/>
        </p:nvPicPr>
        <p:blipFill>
          <a:blip r:embed="rId1"/>
          <a:stretch/>
        </p:blipFill>
        <p:spPr>
          <a:xfrm>
            <a:off x="5029200" y="4419720"/>
            <a:ext cx="29718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eas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the nutritional disorder caused due to the deficiency of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Vitamin ‘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ymptom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is disease are swelling of gums, bleeding from gums and from the joints and under the sk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disease is preventable by providing the diet that is rich with Vitamin-‘C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" name="Title 2" descr=""/>
          <p:cNvPicPr/>
          <p:nvPr/>
        </p:nvPicPr>
        <p:blipFill>
          <a:blip r:embed="rId1"/>
          <a:stretch/>
        </p:blipFill>
        <p:spPr>
          <a:xfrm>
            <a:off x="341280" y="128520"/>
            <a:ext cx="8345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-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A i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etino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called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ntixeropthalmic Vitam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readily available in foods of Liver, eggs, butter, whole milk, fish, meat, oils extracted from fishes such as cod liver oil and shark liver oil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of vitamin A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Deficiency leads to a variety of disorders of the eyes and this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ffect the vision, some of the disorders  are –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ight blindnes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The person cannot see the objects in dim light and in night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Xeropthalmia (or) Dry eye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The lacrima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lands in the eyes do to produce tear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conjunctiva (or) the outer most layer of the eye becomes d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)The cornea becomes soft and burst open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This leads to the loss of vision and permanent blindness -  the major cause of blindness in childre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)Skin become scaly, roug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and is covered with papillae (Small eruptions).  The skin looks like that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f a toad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)Reproductive function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may also be effected in vitamin ‘A’ deficiency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" name="Picture 2" descr="images88.jpg"/>
          <p:cNvPicPr/>
          <p:nvPr/>
        </p:nvPicPr>
        <p:blipFill>
          <a:blip r:embed="rId1"/>
          <a:stretch/>
        </p:blipFill>
        <p:spPr>
          <a:xfrm>
            <a:off x="6400800" y="1143000"/>
            <a:ext cx="2066760" cy="138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images3433.jpg"/>
          <p:cNvPicPr/>
          <p:nvPr/>
        </p:nvPicPr>
        <p:blipFill>
          <a:blip r:embed="rId2"/>
          <a:stretch/>
        </p:blipFill>
        <p:spPr>
          <a:xfrm>
            <a:off x="3809880" y="2971800"/>
            <a:ext cx="213372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6781680" y="3048120"/>
            <a:ext cx="1282680" cy="113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1676520" y="3048120"/>
            <a:ext cx="18288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‘D’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‘D’ is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alcifer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- It helps in the absorption of Ca &amp; P by the intestine and its deposition on the bon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rich source of Vitamin ‘D’ is sun light and sun light has the capacity to convert cholesterol in our body into Vitamin ‘D’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vitamin ‘D’ leads to bone deformities such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ickets. (bent bones   and knock kne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0" name="Picture 2" descr="rickets.jpg"/>
          <p:cNvPicPr/>
          <p:nvPr/>
        </p:nvPicPr>
        <p:blipFill>
          <a:blip r:embed="rId1"/>
          <a:stretch/>
        </p:blipFill>
        <p:spPr>
          <a:xfrm>
            <a:off x="4800600" y="3200400"/>
            <a:ext cx="177948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igure1.jpg"/>
          <p:cNvPicPr/>
          <p:nvPr/>
        </p:nvPicPr>
        <p:blipFill>
          <a:blip r:embed="rId2"/>
          <a:stretch/>
        </p:blipFill>
        <p:spPr>
          <a:xfrm>
            <a:off x="1600200" y="3352680"/>
            <a:ext cx="184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1"/>
          <a:stretch/>
        </p:blipFill>
        <p:spPr>
          <a:xfrm>
            <a:off x="536400" y="0"/>
            <a:ext cx="80949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810240" cy="33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295280" y="434340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ources -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itamin ‘D’ present in foods of animal origin such as liver, egg  yolk, butter, oils extracted from the livers of fishes such as cod or shark.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formed in the skin from a cholesterol derivative by the action of Ultra Violet rays of sunl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-E is also called as Tocoferol or Anti sterility Vitami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vitamin is required for the normal functioning of sex org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present in fruits, vegetables, germinating seeds, meat, egg yolk, sunflower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il, cotton seed oil etc.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ciency leads to sterility in males and abortions in females an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so reduces the life span or R.B.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itamin K is also known as Anti coagulation Vitam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required for blood clotting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present in green leafy vegetables and in cow milk, in man this vitamin is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synthesized by the bacteria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sent in the intestin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order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iciency results in long time for the blood to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ot and loss of more blood from inju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s are very sensitive to heat. Over cooking leads to destruction of its chemical nature and some times leads tox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 intake of antibiotics, destroy useful bacteria in our intestine, further leads to vitamin B 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ing highly polished rice, leads to vitamin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s are micronutrients, which are very much essential for growth and for metabolism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tamins are classified  into two typ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– based  on their solubility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y are -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ater soluble vitamins &amp; Fat soluble vitamin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ter soluble Vitamin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‘B’ complex and Vitamin ‘C’    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t soluble vitamins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A, Vitamin D, Vitamin E an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 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ater soluble vitami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Vitamin B Complex  is group of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t contains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) Thiamine – B1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) Cyanocobalamin – B1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) Riboflavin – B2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f) Fol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) Niacin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 B3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) Pantothen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) Pyridoxine – B6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) Biot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28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–B1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 Thiamin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lso known a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Vitamin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needed for the activity of some of th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zymes of carbohydrate metabolism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ri-Beri.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is disease, the calf muscles become tender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miting, tremors, convulsions, loss of appetite are seen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Cereals like wheat, oil seeds like groundnut, milk, meat, fis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209680" cy="273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209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RIBOFLAVIN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otherwise known as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Vitamin-B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essential for oxidation reduction reactions in the cell and in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ellular respira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t is present in milk, eggs, liver, kidney and green leafy vegetabl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Deficiency of riboflavin result i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Glossitis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outh cracks at corners.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hotophobia, scaly skin and watering of eyes are some of th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ymptom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" name="Picture 3" descr="images.jpg"/>
          <p:cNvPicPr/>
          <p:nvPr/>
        </p:nvPicPr>
        <p:blipFill>
          <a:blip r:embed="rId1"/>
          <a:stretch/>
        </p:blipFill>
        <p:spPr>
          <a:xfrm>
            <a:off x="6477120" y="3886200"/>
            <a:ext cx="1828800" cy="281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INDUS\Desktop\b 2 deficiecy.BMP"/>
          <p:cNvPicPr/>
          <p:nvPr/>
        </p:nvPicPr>
        <p:blipFill>
          <a:blip r:embed="rId2"/>
          <a:stretch/>
        </p:blipFill>
        <p:spPr>
          <a:xfrm>
            <a:off x="1447920" y="4191120"/>
            <a:ext cx="3533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NIACI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one of the ‘B’ Complex Vitamins. It is also known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essential for the metabolism of carbohydrates, proteins and fa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present in kidney, liver, meat, poultry fish, legumes and groundnu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Deficiency of niacin in diet result a diseas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llagra.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ymptoms of pellagra are diarrhea, dementia (loss of memory) patches on the body when exposed to sunlight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59056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imagese.jpg"/>
          <p:cNvPicPr/>
          <p:nvPr/>
        </p:nvPicPr>
        <p:blipFill>
          <a:blip r:embed="rId2"/>
          <a:stretch/>
        </p:blipFill>
        <p:spPr>
          <a:xfrm>
            <a:off x="1905120" y="4343400"/>
            <a:ext cx="2819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YRIDOXIN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is otherwise called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B</a:t>
            </a:r>
            <a:r>
              <a:rPr b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6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plays an important role in the metabolism of amino aci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present in milk, liver, meat, egg yolk, fish, cereals, legumes an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get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ciency lead to hyper irritability, anaemia, nausea and in children  it leads to convul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09:28Z</dcterms:created>
  <dc:creator>Masum</dc:creator>
  <dc:description/>
  <dc:language>en-US</dc:language>
  <cp:lastModifiedBy>RomaK</cp:lastModifiedBy>
  <dcterms:modified xsi:type="dcterms:W3CDTF">2015-09-04T12:16:38Z</dcterms:modified>
  <cp:revision>67</cp:revision>
  <dc:subject/>
  <dc:title>Slide 1</dc:title>
</cp:coreProperties>
</file>