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0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41CF-BDFA-4562-80DF-71D604893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S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By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S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By SG Bhuvan Kumar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liver, meat, eggs, milk, fruits, cereals, and leafy vegetables over cooking of food destroys the fol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is required for the synthesis of nucleic acids (DNA and RN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required for the development of blood cells in the bone ma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Symptoms: Its deficiency causes anemia, diarrhoea and decrease in the number of leucocy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ivision in tissues such as intestinal mucosa is affected in folic acid deficienc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liver, meat, eggs, milk, fruits, cereals, and leafy vegetables over cooking of food destroys the folic acid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is required for the synthesis of nucleic acids (DNA and RNA)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required for the development of blood cells in the bone marrow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Symptoms: Its deficiency causes anemia, diarrhoea and decrease in the number of leucocyt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ivision in tissues such as intestinal mucosa is affected in folic acid deficienc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ano cobalamin:  It is also known as vitamin B1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lays an important role in the metabolism of nucleic acid of protein synthes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present in the intestine synthesize this vitamin and supply to our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is the main site of storage of vitamin B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this vitamin causes pernicious anemia that is different from other types of anaem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ano cobalamin:  It is also known as vitamin B12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lays an important role in the metabolism of nucleic acid of protein synthesi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present in the intestine synthesize this vitamin and supply to our bod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is the main site of storage of vitamin B12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s 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this vitamin causes pernicious anemia that is different from other types of anaemia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TOTHEN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e of the ‘B’ complex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the metabolism of carbohydrate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nd 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The sources of pantothenic acid are fresh vegetables, liver, kidney, yeast, eg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lk, mea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nu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leads to burning sensation in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TOTHEN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e of the ‘B’ complex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the metabolism of carbohydrate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nd fa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The sources of pantothenic acid are fresh vegetables, liver, kidney, yeast, eg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lk, mea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nuts et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leads to burning sensation in fee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 is one among the ‘B’ complex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protein metabol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Biotin is present in pulses, nuts, vegetables, liver and kid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muscle pains, fatigue, disorders in the nervous system and mental 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 is one among the ‘B’ complex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protein metabolism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Biotin is present in pulses, nuts, vegetables, liver and kidne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muscle pains, fatigue, disorders in the nervous system and mental depressio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C –  It is also called  as   Ascorbic 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Vitamin C is present in fresh fruits, green leafy vegetables, tomato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erminating pul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rus fruit and Indian gooseberry are the richest source of this vit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va is another cheap and rich source of Vitamin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plays an important role in tissue oxidation reac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collagen which is required for the formation of blood vessels, connective tissue, cartilage and dentine of tee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also helps in the absorption and storage of ir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Vitamin is also required for normal growth, tissue repair, healing of wounds and fracture of b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C –  It is also called  as   Ascorbic  Acid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Vitamin C is present in fresh fruits, green leafy vegetables, tomato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erminating puls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rus fruit and Indian gooseberry are the richest source of this vitami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va is another cheap and rich source of Vitamin C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plays an important role in tissue oxidation reactio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collagen which is required for the formation of blood vessels, connective tissue, cartilage and dentine of teeth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also helps in the absorption and storage of iro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Vitamin is also required for normal growth, tissue repair, healing of wounds and fracture of bone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-  SCURVY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urvy is the nutritional disorder caused due to the deficiency of Vitamin ‘C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ptoms of this disease are swelling of gums, bleeding from gums and from the joints and under the 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sease is preventable by providing the diet that is rich with Vitamin-‘C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-  SCURVY: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urvy is the nutritional disorder caused due to the deficiency of Vitamin ‘C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ptoms of this disease are swelling of gums, bleeding from gums and from the joints and under the sk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sease is preventable by providing the diet that is rich with Vitamin-‘C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Fat soluble vitamins are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Fat soluble vitamins are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-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A is Retin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called as Antixeropthalmic Vita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It is readily available in foods of Liver, eggs, butter, whole milk, fish, meat, oils extracted from fishes such as cod liver oil and shark liver oi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-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A is Retinol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called as Antixeropthalmic Vitam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It is readily available in foods of Liver, eggs, butter, whole milk, fish, meat, oils extracted from fishes such as cod liver oil and shark liver oil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A:  Deficiency leads to a variety of disorders of the eyes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 the vision, some of the disorders  ar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Night blindness:  The person cannot see the objects in dim light and in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Xeropthalmia (or) Dry eyes: The lacrim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nds in the eyes do to produce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junctiva (or) the outer most layer of the eye becomes 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cornea becomes soft and burst open. This leads to the loss of vision and permanent blindness -  the major cause of blindness in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Skin become scaly, rough and is covered with papillae (Small eruptions).  The skin looks like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to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Reproductive functions may also be effected in vitamin ‘A’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A:  Deficiency leads to a variety of disorders of the eyes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 the vision, some of the disorders  are –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Night blindness:  The person cannot see the objects in dim light and in nigh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Xeropthalmia (or) Dry eyes: The lacrimal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nds in the eyes do to produce tear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junctiva (or) the outer most layer of the eye becomes dry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cornea becomes soft and burst open. This leads to the loss of vision and permanent blindness -  the major cause of blindness in childre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Skin become scaly, rough and is covered with papillae (Small eruptions).  The skin looks like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toad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Reproductive functions may also be effected in vitamin ‘A’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‘D’ is Calcif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- It helps in the absorption of Ca &amp; P by the intestine and its deposition on the b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ch source of Vitamin ‘D’ is sun light and sun light has the capacity to convert cholesterol in our body into Vitamin ‘D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‘D’ leads to bone deformities such as Rickets. (bent bones   and knock kn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-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‘D’ is Calcifero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- It helps in the absorption of Ca &amp; P by the intestine and its deposition on the bon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ch source of Vitamin ‘D’ is sun light and sun light has the capacity to convert cholesterol in our body into Vitamin ‘D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‘D’ leads to bone deformities such as Rickets. (bent bones   and knock knees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 - deficiency dise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vitami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ory of vitamin dates back to 18th centu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ilors of this period knew that eating of liver cures a disease called night blind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of lemons cures another disease called scurv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od liver oil cures a disease called rick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12, Sir H.G. Hopkins first identified Vitamins in MILK and named it as   Accesso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k named the accessory factors as Vitamins (Vital ami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 - deficiency disease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vitamin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ory of vitamin dates back to 18th centur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ilors of this period knew that eating of liver cures a disease called night blind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of lemons cures another disease called scurvy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od liver oil cures a disease called ricket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12, Sir H.G. Hopkins first identified Vitamins in MILK and named it as   Accessory factor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k named the accessory factors as Vitamins (Vital amines)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 present in foods of animal origin such as liver, egg  yolk, butter, oils extracted from the livers of fishes such as cod or shark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formed in the skin from a cholesterol derivative by the action of Ultra Violet rays of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 present in foods of animal origin such as liver, egg  yolk, butter, oils extracted from the livers of fishes such as cod or shark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formed in the skin from a cholesterol derivative by the action of Ultra Violet rays of sunligh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 is also called as Tocoferol or Anti sterility Vita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This vitamin is required for the normal functioning of sex org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fruits, vegetables, germinating seeds, meat, egg yolk, sunflow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, cotton seed oil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sterility in males and abortions in femal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reduces the life span or R.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 is also called as Tocoferol or Anti sterility Vitam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This vitamin is required for the normal functioning of sex orga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fruits, vegetables, germinating seeds, meat, egg yolk, sunflow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, cotton seed oil etc.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sterility in males and abortions in femal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reduces the life span or R.B.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is also known as Anti coagulation Vita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blood clot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green leafy vegetables and in cow milk, in man this vitamin is  synthesized by the bacteria present in the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results in long time for the bloo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 and loss of more blood from inju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is also known as Anti coagulation Vitam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blood clotting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green leafy vegetables and in cow milk, in man this vitamin is  synthesized by the bacteria present in the intestin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results in long time for the bloo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 and loss of more blood from injuri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very sensitive to heat. Over cooking leads to destruction of its chemical nature and some times leads tox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intake of antibiotics, destroy useful bacteria in our intestine, further leads to vitamin B 12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ing highly polished rice, leads to vitamin B1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S OF 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very sensitive to heat. Over cooking leads to destruction of its chemical nature and some times leads toxi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intake of antibiotics, destroy useful bacteria in our intestine, further leads to vitamin B 12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ing highly polished rice, leads to vitamin B1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S OF VITAMI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micronutrients, which are very much essential for growth and for metabolis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micronutrients, which are very much essential for growth and for metabolism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classified  into two types – based  on their solubili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&amp; Fat soluble vita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- Vitamin ‘B’ complex and Vitamin ‘C’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soluble vitamins. - Vitamin A, Vitamin D, Vitamin E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classified  into two types – based  on their solubility 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-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&amp; Fat soluble vitami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- Vitamin ‘B’ complex and Vitamin ‘C’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soluble vitamins. - Vitamin A, Vitamin D, Vitamin E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 Complex  is group of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amine – 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Cyanocobalamin – B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Riboflavin – B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 Fol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Niac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B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 Pantothen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Pyridoxine – B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) Bio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 Complex  is group of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–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amine – 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Cyanocobalamin – B12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Riboflavin – B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 Fol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Niac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B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 Pantothen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Pyridoxine – B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) Biot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–B1  - Thiamine is also known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eded for the activity of som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zymes of carbohydrate metabolis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 - Beri-Ber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disease, the calf muscles become tende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miting, tremors, convulsions, loss of appetite are seen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 Cereals like wheat, oil seeds like groundnut, milk, meat, f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–B1  - Thiamine is also known a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1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eded for the activity of some of th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zymes of carbohydrate metabolism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 - Beri-Beri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disease, the calf muscles become tender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miting, tremors, convulsions, loss of appetite are seen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 Cereals like wheat, oil seeds like groundnut, milk, meat, fish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 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is otherwise known as Vitamin-B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Riboflavin is essential for oxidation reduction reactions in the cell an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eggs, liver, kidney and green leafy vege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of riboflavin result in Glossit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 cracks at corne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phobia, scaly skin and watering of eyes are som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  -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is otherwise known as Vitamin-B2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Riboflavin is essential for oxidation reduction reactions in the cell an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respiratio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eggs, liver, kidney and green leafy vegetabl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of riboflavin result in Glossitis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 cracks at corners.   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phobia, scaly skin and watering of eyes are some of th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 is one of the ‘B’ Complex Vitamins. It is also known as Vitamin B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Niacin is essential for the metabolism of carbohydrates, proteins and 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kidney, liver, meat, poultry fish, legumes and groundn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  Deficiency of niacin in diet result a disease called Pellagra.  The symptoms of pellagra are diarrhea, dementia (loss of memory) patches on the body when exposed to sun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 is one of the ‘B’ Complex Vitamins. It is also known as Vitamin B3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Niacin is essential for the metabolism of carbohydrates, proteins and fa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kidney, liver, meat, poultry fish, legumes and groundnu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  Deficiency of niacin in diet result a disease called Pellagra.  The symptoms of pellagra are diarrhea, dementia (loss of memory) patches on the body when exposed to sunlight 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 is otherwise called Vitamin-B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Pyridoxine plays an important role in the metabolism of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liver, meat, egg yolk, fish, cereals, legum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 to hyper irritability, anaemia, nausea and in children  it leads to convul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 is otherwise called Vitamin-B6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Pyridoxine plays an important role in the metabolism of amino acid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liver, meat, egg yolk, fish, cereals, legum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 to hyper irritability, anaemia, nausea and in children  it leads to convulsio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053-C380-4F2D-9618-6C9FAEA5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0EA-20A6-4842-AA33-87B5A8FE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6FF-585A-4526-AA7B-449419E6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999-813C-46AD-8366-6E6C511C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C58-6817-44CF-99D3-F64B6079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670-909F-424C-9281-33BC16CE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D9A-4193-4354-B838-28A5100A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A81-10FA-41A2-ACD9-56188566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9C3-6031-4181-B1E0-89C39714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5BA-CF7E-48B2-B07A-9F4C4C6A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EAB-3482-4F3C-85C9-6DDE2EF5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1B0-A98C-47BC-BA8C-5D72B935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5FEF-659D-4663-8829-EBD1418125A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4952880" y="32004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By SG Bhuvan Kumar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olic Acid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t is present in liver, meat, eggs, milk, fruits, cereals, and leafy vegetables over cooking of food destroys the folic ac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lic acid is required for the synthesis of nucleic acids (DNA and RNA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required for the development of blood cells in the bone marro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ficiency Symptom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s deficiency causes anemia, diarrhoea and decrease in the number of leucocyt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ll division in tissues such as intestinal mucosa is affected in folic acid deficienc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yano cobalamin: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known as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B</a:t>
            </a:r>
            <a:r>
              <a:rPr b="1" i="1" lang="en-US" sz="27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12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plays an important role in the metabolism of nucleic acid of protein synthes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cteria present in the intestine synthesize this vitamin and supply to our body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ver is the main site of storage of vitamin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eases 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iciency of this vitamin caus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ernicious anemia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at is different from other types of anaemi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" name="Picture 3" descr="image075.jpg"/>
          <p:cNvPicPr/>
          <p:nvPr/>
        </p:nvPicPr>
        <p:blipFill>
          <a:blip r:embed="rId1"/>
          <a:stretch/>
        </p:blipFill>
        <p:spPr>
          <a:xfrm>
            <a:off x="5638680" y="5181480"/>
            <a:ext cx="2171880" cy="143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1676520" y="502920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t is one of the ‘B’ complex vitamin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nctions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It is required for the metabolism of carbohydrates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roteins and fat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ources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 sources of pantothenic acid are fresh vegetables, liver, kidney, yeast, egg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yolk, meat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round nuts etc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eficiency lead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rning sensation in fee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tin is one among the ‘B’ complex vitamin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t is required for protein metabolis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urc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tin is present in pulses, nuts, vegetables, liver and kidne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ciency disord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ciency leads to muscle pains, fatigue, disorders in the nervous syste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mental de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28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 C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–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It is also called  as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Ascorbic  Acid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Source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itamin C is present in fresh fruits, green leafy vegetables, tomatoes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nd germinating puls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itrus fruit and Indian gooseberry are the richest source of this vitami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uava is another cheap and rich source of Vitamin C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Function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amin C plays an important role in tissue oxidation react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 is required for the formation of collagen which is required for the formation of blood vessels, connective tissue, cartilage and dentine of teeth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itamin C also helps in the absorption and storage of iro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is Vitamin is also required for normal growth, tissue repair, healing of wounds and fracture of bon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9" name="Picture 3" descr="images55.jpg"/>
          <p:cNvPicPr/>
          <p:nvPr/>
        </p:nvPicPr>
        <p:blipFill>
          <a:blip r:embed="rId1"/>
          <a:stretch/>
        </p:blipFill>
        <p:spPr>
          <a:xfrm>
            <a:off x="5029200" y="4419720"/>
            <a:ext cx="29718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diseas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URVY: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urv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s the nutritional disorder caused due to the deficiency of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Vitamin ‘C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ymptom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this disease are swelling of gums, bleeding from gums and from the joints and under the sk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s disease is preventable by providing the diet that is rich with Vitamin-‘C’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- 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– 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– 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- 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2" name="Title 2" descr=""/>
          <p:cNvPicPr/>
          <p:nvPr/>
        </p:nvPicPr>
        <p:blipFill>
          <a:blip r:embed="rId1"/>
          <a:stretch/>
        </p:blipFill>
        <p:spPr>
          <a:xfrm>
            <a:off x="341280" y="128520"/>
            <a:ext cx="8345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 -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emical name of Vitamin A i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Retino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called a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Antixeropthalmic Vitam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 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t is readily available in foods of Liver, eggs, butter, whole milk, fish, meat, oils extracted from fishes such as cod liver oil and shark liver oil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of vitamin A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Deficiency leads to a variety of disorders of the eyes and this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ffect the vision, some of the disorders  are –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ight blindnes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The person cannot see the objects in dim light and in night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Xeropthalmia (or) Dry eye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The lacrima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lands in the eyes do to produce tear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conjunctiva (or) the outer most layer of the eye becomes d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)The cornea becomes soft and burst open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. This leads to the loss of vision and permanent blindness -  the major cause of blindness in children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4)Skin become scaly, roug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and is covered with papillae (Small eruptions).  The skin looks like that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f a toad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)Reproductive functions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may also be effected in vitamin ‘A’ deficiency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" name="Picture 2" descr="images88.jpg"/>
          <p:cNvPicPr/>
          <p:nvPr/>
        </p:nvPicPr>
        <p:blipFill>
          <a:blip r:embed="rId1"/>
          <a:stretch/>
        </p:blipFill>
        <p:spPr>
          <a:xfrm>
            <a:off x="6400800" y="1143000"/>
            <a:ext cx="2066760" cy="138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images3433.jpg"/>
          <p:cNvPicPr/>
          <p:nvPr/>
        </p:nvPicPr>
        <p:blipFill>
          <a:blip r:embed="rId2"/>
          <a:stretch/>
        </p:blipFill>
        <p:spPr>
          <a:xfrm>
            <a:off x="3809880" y="2971800"/>
            <a:ext cx="213372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6781680" y="3048120"/>
            <a:ext cx="1282680" cy="1130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1676520" y="3048120"/>
            <a:ext cx="18288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‘D’-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emical name of vitamin ‘D’ is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alcifer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- It helps in the absorption of Ca &amp; P by the intestine and its deposition on the bon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rich source of Vitamin ‘D’ is sun light and sun light has the capacity to convert cholesterol in our body into Vitamin ‘D’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vitamin ‘D’ leads to bone deformities such a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Rickets. (bent bones   and knock kne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0" name="Picture 2" descr="rickets.jpg"/>
          <p:cNvPicPr/>
          <p:nvPr/>
        </p:nvPicPr>
        <p:blipFill>
          <a:blip r:embed="rId1"/>
          <a:stretch/>
        </p:blipFill>
        <p:spPr>
          <a:xfrm>
            <a:off x="4800600" y="3200400"/>
            <a:ext cx="177948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igure1.jpg"/>
          <p:cNvPicPr/>
          <p:nvPr/>
        </p:nvPicPr>
        <p:blipFill>
          <a:blip r:embed="rId2"/>
          <a:stretch/>
        </p:blipFill>
        <p:spPr>
          <a:xfrm>
            <a:off x="1600200" y="3352680"/>
            <a:ext cx="1844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1"/>
          <a:stretch/>
        </p:blipFill>
        <p:spPr>
          <a:xfrm>
            <a:off x="536400" y="0"/>
            <a:ext cx="80949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810240" cy="335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50532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1295280" y="4343400"/>
            <a:ext cx="769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ources -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Vitamin ‘D’ present in foods of animal origin such as liver, egg  yolk, butter, oils extracted from the livers of fishes such as cod or shark.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formed in the skin from a cholesterol derivative by the action of Ultra Violet rays of sunligh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itamin-E is also called as Tocoferol or Anti sterility Vitami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vitamin is required for the normal functioning of sex org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present in fruits, vegetables, germinating seeds, meat, egg yolk, sunflower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il, cotton seed oil etc.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eficiency disorder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ficiency leads to sterility in males and abortions in females and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lso reduces the life span or R.B.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808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itamin K is also known as Anti coagulation Vitam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required for blood clotting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present in green leafy vegetables and in cow milk, in man this vitamin is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synthesized by the bacteria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sent in the intestin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disorder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iciency results in long time for the blood to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ot and loss of more blood from inju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s are very sensitive to heat. Over cooking leads to destruction of its chemical nature and some times leads tox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ss intake of antibiotics, destroy useful bacteria in our intestine, further leads to vitamin B 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fici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ing highly polished rice, leads to vitamin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fici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tamins are micronutrients, which are very much essential for growth and for metabolism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685440"/>
            <a:ext cx="82296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tamins are classified  into two typ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– based  on their solubility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y are -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Water soluble vitamins &amp; Fat soluble vitamin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ter soluble Vitamin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Vitamin ‘B’ complex and Vitamin ‘C’    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t soluble vitamins.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Vitamin A, Vitamin D, Vitamin E an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tamin 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Water soluble vitami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Vitamin B Complex  is group of Vitamin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t contains –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) Thiamine – B1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e) Cyanocobalamin – B12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) Riboflavin – B2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f) Folic ac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) Niacin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- B3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) Pantothenic ac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) Pyridoxine – B6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) Bioti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28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–B1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- Thiamin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also known a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Vitamin 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needed for the activity of some of th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zymes of carbohydrate metabolism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ease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ri-Beri.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this disease, the calf muscles become tender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miting, tremors, convulsions, loss of appetite are seen.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urce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Cereals like wheat, oil seeds like groundnut, milk, meat, fish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209680" cy="273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2209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RIBOFLAVIN 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iboflavin is otherwise known as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Vitamin-B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iboflavin is essential for oxidation reduction reactions in the cell and in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ellular respiration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t is present in milk, eggs, liver, kidney and green leafy vegetabl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Deficiency disorders: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Deficiency of riboflavin result in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Glossitis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outh cracks at corners.   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Photophobia, scaly skin and watering of eyes are some of the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ymptom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" name="Picture 3" descr="images.jpg"/>
          <p:cNvPicPr/>
          <p:nvPr/>
        </p:nvPicPr>
        <p:blipFill>
          <a:blip r:embed="rId1"/>
          <a:stretch/>
        </p:blipFill>
        <p:spPr>
          <a:xfrm>
            <a:off x="6477120" y="3886200"/>
            <a:ext cx="1828800" cy="281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Documents and Settings\INDUS\Desktop\b 2 deficiecy.BMP"/>
          <p:cNvPicPr/>
          <p:nvPr/>
        </p:nvPicPr>
        <p:blipFill>
          <a:blip r:embed="rId2"/>
          <a:stretch/>
        </p:blipFill>
        <p:spPr>
          <a:xfrm>
            <a:off x="1447920" y="4191120"/>
            <a:ext cx="3533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04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NIACIN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acin is one of the ‘B’ Complex Vitamins. It is also known a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B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acin is essential for the metabolism of carbohydrates, proteins and fa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present in kidney, liver, meat, poultry fish, legumes and groundnu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order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Deficiency of niacin in diet result a diseas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ellagra.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ymptoms of pellagra are diarrhea, dementia (loss of memory) patches on the body when exposed to sunlight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590560" cy="220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imagese.jpg"/>
          <p:cNvPicPr/>
          <p:nvPr/>
        </p:nvPicPr>
        <p:blipFill>
          <a:blip r:embed="rId2"/>
          <a:stretch/>
        </p:blipFill>
        <p:spPr>
          <a:xfrm>
            <a:off x="1905120" y="4343400"/>
            <a:ext cx="28191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YRIDOXINE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yridoxine is otherwise called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B</a:t>
            </a:r>
            <a:r>
              <a:rPr b="1" lang="en-US" sz="27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6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yridoxine plays an important role in the metabolism of amino aci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present in milk, liver, meat, egg yolk, fish, cereals, legumes and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getab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ficiency disorder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ciency lead to hyper irritability, anaemia, nausea and in children  it leads to convuls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09:28Z</dcterms:created>
  <dc:creator>Masum</dc:creator>
  <dc:description/>
  <dc:language>en-US</dc:language>
  <cp:lastModifiedBy>RomaK</cp:lastModifiedBy>
  <dcterms:modified xsi:type="dcterms:W3CDTF">2015-09-04T12:16:38Z</dcterms:modified>
  <cp:revision>67</cp:revision>
  <dc:subject/>
  <dc:title>Slide 1</dc:title>
</cp:coreProperties>
</file>