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11.jpeg" ContentType="image/jpeg"/>
  <Override PartName="/ppt/media/image9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6.png" ContentType="image/png"/>
  <Override PartName="/ppt/media/image8.jpeg" ContentType="image/jpeg"/>
  <Override PartName="/ppt/media/image5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4.png" ContentType="image/png"/>
  <Override PartName="/ppt/media/image23.jpeg" ContentType="image/jpeg"/>
  <Override PartName="/ppt/media/image18.jpeg" ContentType="image/jpeg"/>
  <Override PartName="/ppt/media/image21.png" ContentType="image/png"/>
  <Override PartName="/ppt/media/image20.png" ContentType="image/png"/>
  <Override PartName="/ppt/media/image19.jpeg" ContentType="image/jpeg"/>
  <Override PartName="/ppt/media/image10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25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10209-F8B4-4A6B-A819-35ABEC93A2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alibri"/>
              </a:rPr>
              <a:t>VITAMINS 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alibri"/>
              </a:rPr>
              <a:t>By SG Bhuvan Kum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alibri"/>
              </a:rPr>
              <a:t>VITAMINS 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alibri"/>
              </a:rPr>
              <a:t>By SG Bhuvan Kumar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lic Acid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rces: It is present in liver, meat, eggs, milk, fruits, cereals, and leafy vegetables over cooking of food destroys the folic aci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nctions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lic acid is required for the synthesis of nucleic acids (DNA and RNA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also required for the development of blood cells in the bone marrow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iciency Symptoms: Its deficiency causes anemia, diarrhoea and decrease in the number of leucocyt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ell division in tissues such as intestinal mucosa is affected in folic acid deficiency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lic Acid :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rces: It is present in liver, meat, eggs, milk, fruits, cereals, and leafy vegetables over cooking of food destroys the folic acid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nctions :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lic acid is required for the synthesis of nucleic acids (DNA and RNA).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also required for the development of blood cells in the bone marrow.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iciency Symptoms: Its deficiency causes anemia, diarrhoea and decrease in the number of leucocytes.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ell division in tissues such as intestinal mucosa is affected in folic acid deficiency.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yano cobalamin:  It is also known as vitamin B12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nctions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plays an important role in the metabolism of nucleic acid of protein synthesi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rces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cteria present in the intestine synthesize this vitamin and supply to our body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ver is the main site of storage of vitamin B1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iciency diseases 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iciency of this vitamin causes pernicious anemia that is different from other types of anaemia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yano cobalamin:  It is also known as vitamin B12.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nctions: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plays an important role in the metabolism of nucleic acid of protein synthesis.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rces :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cteria present in the intestine synthesize this vitamin and supply to our body.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ver is the main site of storage of vitamin B12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iciency diseases :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iciency of this vitamin causes pernicious anemia that is different from other types of anaemia.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NTOTHENIC ACI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one of the ‘B’ complex vitamin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nctions: It is required for the metabolism of carbohydrates,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teins and fa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rces: The sources of pantothenic acid are fresh vegetables, liver, kidney, yeast, egg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lk, meat,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ound nuts et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iciency leads to burning sensation in fe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NTOTHENIC ACID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one of the ‘B’ complex vitamins.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nctions: It is required for the metabolism of carbohydrates,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teins and fats.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rces: The sources of pantothenic acid are fresh vegetables, liver, kidney, yeast, egg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lk, meat,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ound nuts etc.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iciency leads to burning sensation in feet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otin is one among the ‘B’ complex vitamin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nctions: It is required for protein metabolis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rces: Biotin is present in pulses, nuts, vegetables, liver and kidne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iciency disorders: Deficiency leads to muscle pains, fatigue, disorders in the nervous system and mental depress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OT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otin is one among the ‘B’ complex vitamins.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nctions: It is required for protein metabolism.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rces: Biotin is present in pulses, nuts, vegetables, liver and kidney.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iciency disorders: Deficiency leads to muscle pains, fatigue, disorders in the nervous system and mental depression.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OTIN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tamin  C –  It is also called  as   Ascorbic  Aci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rces: Vitamin C is present in fresh fruits, green leafy vegetables, tomatoes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germinating puls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itrus fruit and Indian gooseberry are the richest source of this vitami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uava is another cheap and rich source of Vitamin C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nction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tamin C plays an important role in tissue oxidation reaction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required for the formation of collagen which is required for the formation of blood vessels, connective tissue, cartilage and dentine of teeth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tamin C also helps in the absorption and storage of iro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Vitamin is also required for normal growth, tissue repair, healing of wounds and fracture of bon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tamin  C –  It is also called  as   Ascorbic  Acid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rces: Vitamin C is present in fresh fruits, green leafy vegetables, tomatoes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germinating pulses.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itrus fruit and Indian gooseberry are the richest source of this vitamin.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uava is another cheap and rich source of Vitamin C.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nctions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tamin C plays an important role in tissue oxidation reactions.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required for the formation of collagen which is required for the formation of blood vessels, connective tissue, cartilage and dentine of teeth.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tamin C also helps in the absorption and storage of iron.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Vitamin is also required for normal growth, tissue repair, healing of wounds and fracture of bone.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iciency disease -  SCURVY: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curvy is the nutritional disorder caused due to the deficiency of Vitamin ‘C’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ymptoms of this disease are swelling of gums, bleeding from gums and from the joints and under the ski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disease is preventable by providing the diet that is rich with Vitamin-‘C’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iciency disease -  SCURVY: 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curvy is the nutritional disorder caused due to the deficiency of Vitamin ‘C’.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ymptoms of this disease are swelling of gums, bleeding from gums and from the joints and under the skin.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disease is preventable by providing the diet that is rich with Vitamin-‘C’.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alibri"/>
              </a:rPr>
              <a:t>vitamin -  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alibri"/>
              </a:rPr>
              <a:t>Vitamin – 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alibri"/>
              </a:rPr>
              <a:t>Vitamin – 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alibri"/>
              </a:rPr>
              <a:t>Vitamin - 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alibri"/>
              </a:rPr>
              <a:t>Fat soluble vitamins are -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alibri"/>
              </a:rPr>
              <a:t>vitamin -  A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alibri"/>
              </a:rPr>
              <a:t>Vitamin – D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alibri"/>
              </a:rPr>
              <a:t>Vitamin – E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alibri"/>
              </a:rPr>
              <a:t>Vitamin - K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alibri"/>
              </a:rPr>
              <a:t>Fat soluble vitamins are -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tamin  - 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hemical name of Vitamin A is Retinol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also called as Antixeropthalmic Vitam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rces - It is readily available in foods of Liver, eggs, butter, whole milk, fish, meat, oils extracted from fishes such as cod liver oil and shark liver oil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plants vitamin ‘A’ is present in the form of a carotene.  In green leafy vegetable (Spinach amaranth etc.,) other vegetable like carrots, tomato, pumpkin, fruits like papaya and mango and its converted into vitamin ‘A’ in our bod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tamin  - A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hemical name of Vitamin A is Retinol.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also called as Antixeropthalmic Vitamin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rces - It is readily available in foods of Liver, eggs, butter, whole milk, fish, meat, oils extracted from fishes such as cod liver oil and shark liver oil. 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plants vitamin ‘A’ is present in the form of a carotene.  In green leafy vegetable (Spinach amaranth etc.,) other vegetable like carrots, tomato, pumpkin, fruits like papaya and mango and its converted into vitamin ‘A’ in our body.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iciency of vitamin A:  Deficiency leads to a variety of disorders of the eyes and this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ffect the vision, some of the disorders  are 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)Night blindness:  The person cannot see the objects in dim light and in nigh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)Xeropthalmia (or) Dry eyes: The lacrima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lands in the eyes do to produce tear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onjunctiva (or) the outer most layer of the eye becomes d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)The cornea becomes soft and burst open. This leads to the loss of vision and permanent blindness -  the major cause of blindness in childr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)Skin become scaly, rough and is covered with papillae (Small eruptions).  The skin looks like that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 a toa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)Reproductive functions may also be effected in vitamin ‘A’ deficienc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tional Institute of Nutrition, Hyderabad has evolved a method giving a large dose (5 – 6 drops) of Vitamin-A once in six months to prevent blindness in childr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iciency of vitamin A:  Deficiency leads to a variety of disorders of the eyes and this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ffect the vision, some of the disorders  are –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)Night blindness:  The person cannot see the objects in dim light and in nights.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)Xeropthalmia (or) Dry eyes: The lacrimal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lands in the eyes do to produce tears.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onjunctiva (or) the outer most layer of the eye becomes dry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)The cornea becomes soft and burst open. This leads to the loss of vision and permanent blindness -  the major cause of blindness in children.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)Skin become scaly, rough and is covered with papillae (Small eruptions).  The skin looks like that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 a toad.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)Reproductive functions may also be effected in vitamin ‘A’ deficiency.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tional Institute of Nutrition, Hyderabad has evolved a method giving a large dose (5 – 6 drops) of Vitamin-A once in six months to prevent blindness in children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tamin ‘D’-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hemical name of vitamin ‘D’ is Calcifero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nction - It helps in the absorption of Ca &amp; P by the intestine and its deposition on the bon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ich source of Vitamin ‘D’ is sun light and sun light has the capacity to convert cholesterol in our body into Vitamin ‘D’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iciency of vitamin ‘D’ leads to bone deformities such as Rickets. (bent bones   and knock knee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tamin ‘D’-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hemical name of vitamin ‘D’ is Calciferol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nction - It helps in the absorption of Ca &amp; P by the intestine and its deposition on the bones.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ich source of Vitamin ‘D’ is sun light and sun light has the capacity to convert cholesterol in our body into Vitamin ‘D’.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iciency of vitamin ‘D’ leads to bone deformities such as Rickets. (bent bones   and knock knees)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TAMINS  - deficiency diseas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story of vitamins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tory of vitamin dates back to 18th century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ilors of this period knew that eating of liver cures a disease called night blindness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ting of lemons cures another disease called scurvy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so cod liver oil cures a disease called ricket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1912, Sir H.G. Hopkins first identified Vitamins in MILK and named it as   Accessory facto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nk named the accessory factors as Vitamins (Vital amines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TAMINS  - deficiency diseases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story of vitamins :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tory of vitamin dates back to 18th century.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ilors of this period knew that eating of liver cures a disease called night blindness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ting of lemons cures another disease called scurvy. 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so cod liver oil cures a disease called rickets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1912, Sir H.G. Hopkins first identified Vitamins in MILK and named it as   Accessory factors.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nk named the accessory factors as Vitamins (Vital amines).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rces -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tamin ‘D’ present in foods of animal origin such as liver, egg  yolk, butter, oils extracted from the livers of fishes such as cod or shark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formed in the skin from a cholesterol derivative by the action of Ultra Violet rays of sunl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rces - 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tamin ‘D’ present in foods of animal origin such as liver, egg  yolk, butter, oils extracted from the livers of fishes such as cod or shark. 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formed in the skin from a cholesterol derivative by the action of Ultra Violet rays of sunlight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TAMIN-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tamin-E is also called as Tocoferol or Anti sterility Vitami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nctions: This vitamin is required for the normal functioning of sex orga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rces: It is present in fruits, vegetables, germinating seeds, meat, egg yolk, sunflower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il, cotton seed oil etc.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iciency disorders: Deficiency leads to sterility in males and abortions in females and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so reduces the life span or R.B.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TAMIN-E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tamin-E is also called as Tocoferol or Anti sterility Vitamin.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nctions: This vitamin is required for the normal functioning of sex organs.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rces: It is present in fruits, vegetables, germinating seeds, meat, egg yolk, sunflower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il, cotton seed oil etc.,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iciency disorders: Deficiency leads to sterility in males and abortions in females and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so reduces the life span or R.B.C.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TAMIN-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tamin K is also known as Anti coagulation Vitami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nctions: It is required for blood clotting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rces: It is present in green leafy vegetables and in cow milk, in man this vitamin is  synthesized by the bacteria present in the intestin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iciency disorders: deficiency results in long time for the blood to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ot and loss of more blood from inju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TAMIN-K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tamin K is also known as Anti coagulation Vitamin.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nctions: It is required for blood clotting.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rces: It is present in green leafy vegetables and in cow milk, in man this vitamin is  synthesized by the bacteria present in the intestines.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iciency disorders: deficiency results in long time for the blood to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ot and loss of more blood from injuries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tamins are very sensitive to heat. Over cooking leads to destruction of its chemical nature and some times leads toxi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cess intake of antibiotics, destroy useful bacteria in our intestine, further leads to vitamin B 12 deficienc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suming highly polished rice, leads to vitamin B1 deficienc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S OF VITAM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tamins are very sensitive to heat. Over cooking leads to destruction of its chemical nature and some times leads toxic.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cess intake of antibiotics, destroy useful bacteria in our intestine, further leads to vitamin B 12 deficiency.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suming highly polished rice, leads to vitamin B1 deficiency.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S OF VITAMINS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tamins are micronutrients, which are very much essential for growth and for metabolism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antibiotics are indiscriminately taken, the bacteria present in the intestines which synthesize the Vitamins will be killed and it leads to Vitamin deficiency disord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tamins are micronutrients, which are very much essential for growth and for metabolism.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antibiotics are indiscriminately taken, the bacteria present in the intestines which synthesize the Vitamins will be killed and it leads to Vitamin deficiency disorders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tamins are classified  into two types – based  on their solubility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are -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ter soluble vitamins &amp; Fat soluble vitami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ter soluble Vitamins - Vitamin ‘B’ complex and Vitamin ‘C’    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t soluble vitamins. - Vitamin A, Vitamin D, Vitamin E and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tamin K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tamins are classified  into two types – based  on their solubility .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are - 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ter soluble vitamins &amp; Fat soluble vitamins.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ter soluble Vitamins - Vitamin ‘B’ complex and Vitamin ‘C’    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t soluble vitamins. - Vitamin A, Vitamin D, Vitamin E and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tamin K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ter soluble vitam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tamin B Complex  is group of Vitamin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contains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) Thiamine – B1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) Cyanocobalamin – B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) Riboflavin – B2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) Folic aci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) Niacin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- B3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) Pantothenic aci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) Pyridoxine – B6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) Biot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ter soluble vitamins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tamin B Complex  is group of Vitamins.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contains –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) Thiamine – B1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) Cyanocobalamin – B12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) Riboflavin – B2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) Folic acid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) Niacin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- B3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) Pantothenic acid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) Pyridoxine – B6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) Biotin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tamin –B1  - Thiamine is also known a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tamin B1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needed for the activity of some of th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zymes of carbohydrate metabolism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iciency disease  - Beri-Beri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this disease, the calf muscles become tender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omiting, tremors, convulsions, loss of appetite are seen.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rces:  Cereals like wheat, oil seeds like groundnut, milk, meat, fis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tamin –B1  - Thiamine is also known as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tamin B1.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needed for the activity of some of the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zymes of carbohydrate metabolism.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iciency disease  - Beri-Beri.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this disease, the calf muscles become tender,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omiting, tremors, convulsions, loss of appetite are seen.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rces:  Cereals like wheat, oil seeds like groundnut, milk, meat, fish.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BOFLAVIN   -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boflavin is otherwise known as Vitamin-B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nctions: Riboflavin is essential for oxidation reduction reactions in the cell and in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ellular respira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rces: It is present in milk, eggs, liver, kidney and green leafy vegetabl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iciency disorders: Deficiency of riboflavin result in Glossitis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uth cracks at corners.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otophobia, scaly skin and watering of eyes are some of th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ymptom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BOFLAVIN   -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boflavin is otherwise known as Vitamin-B2.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nctions: Riboflavin is essential for oxidation reduction reactions in the cell and in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ellular respiration.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rces: It is present in milk, eggs, liver, kidney and green leafy vegetables.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iciency disorders: Deficiency of riboflavin result in Glossitis 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uth cracks at corners.    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otophobia, scaly skin and watering of eyes are some of the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ymptoms.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IACIN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iacin is one of the ‘B’ Complex Vitamins. It is also known as Vitamin B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nctions: Niacin is essential for the metabolism of carbohydrates, proteins and fa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rces: It is present in kidney, liver, meat, poultry fish, legumes and groundnu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iciency disorders:   Deficiency of niacin in diet result a disease called Pellagra.  The symptoms of pellagra are diarrhea, dementia (loss of memory) patches on the body when exposed to sunlight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IACIN: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iacin is one of the ‘B’ Complex Vitamins. It is also known as Vitamin B3.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nctions: Niacin is essential for the metabolism of carbohydrates, proteins and fats.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rces: It is present in kidney, liver, meat, poultry fish, legumes and groundnuts.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iciency disorders:   Deficiency of niacin in diet result a disease called Pellagra.  The symptoms of pellagra are diarrhea, dementia (loss of memory) patches on the body when exposed to sunlight .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YRIDOXINE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yridoxine is otherwise called Vitamin-B6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nctions: Pyridoxine plays an important role in the metabolism of amino acid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rces: It is present in milk, liver, meat, egg yolk, fish, cereals, legumes and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getabl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iciency disorders: Deficiency lead to hyper irritability, anaemia, nausea and in children  it leads to convuls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YRIDOXINE: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yridoxine is otherwise called Vitamin-B6.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nctions: Pyridoxine plays an important role in the metabolism of amino acids.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rces: It is present in milk, liver, meat, egg yolk, fish, cereals, legumes and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getables.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iciency disorders: Deficiency lead to hyper irritability, anaemia, nausea and in children  it leads to convulsions.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78C0D-A506-497C-A056-328600FEB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7C246-67A1-4F6C-A91C-4DE98A558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1CC79-DFC6-4026-97BB-074BF500E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F9394-F06F-4BA9-AA5E-D76252775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A8D87-4749-4B0C-A924-2217A63AB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70F03-58E1-4AC8-828C-4D6C5BC9C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D8377-5A7B-4078-A187-BEE35F3B4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B527E-E54B-4BC4-83E8-263355ECA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90A5C-BA68-4A89-8C89-0C0916D44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8C6D4-0733-4F77-AEF4-674397893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9DB8D-DE3B-4B52-B4EC-3C6485310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EFBC6-80F5-4697-8407-9B004B3EA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1B45D-9E05-4F80-B113-78C461F41DD9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Rectangle 2" descr=""/>
          <p:cNvPicPr/>
          <p:nvPr/>
        </p:nvPicPr>
        <p:blipFill>
          <a:blip r:embed="rId1"/>
          <a:stretch/>
        </p:blipFill>
        <p:spPr>
          <a:xfrm>
            <a:off x="457200" y="15238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55" name="Text Box 3"/>
          <p:cNvSpPr/>
          <p:nvPr/>
        </p:nvSpPr>
        <p:spPr>
          <a:xfrm>
            <a:off x="4952880" y="3200400"/>
            <a:ext cx="3429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man Old Style"/>
                <a:ea typeface="Arial"/>
              </a:rPr>
              <a:t>By SG Bhuvan Kumar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Folic Acid 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Sources: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It is present in liver, meat, eggs, milk, fruits, cereals, and leafy vegetables over cooking of food destroys the folic acid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Functions 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lic acid is required for the synthesis of nucleic acids (DNA and RNA)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t is also required for the development of blood cells in the bone marrow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Deficiency Symptoms: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ts deficiency causes anemia, diarrhoea and decrease in the number of leucocytes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ell division in tissues such as intestinal mucosa is affected in folic acid deficiency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0" y="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4264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Cyano cobalamin: 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t is also known as </a:t>
            </a:r>
            <a:r>
              <a:rPr b="1" i="1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vitamin B</a:t>
            </a:r>
            <a:r>
              <a:rPr b="1" i="1" lang="en-US" sz="2700" spc="-1" strike="noStrike" u="sng" baseline="-25000">
                <a:solidFill>
                  <a:srgbClr val="000000"/>
                </a:solidFill>
                <a:uFillTx/>
                <a:latin typeface="Lucida Sans Unicode"/>
              </a:rPr>
              <a:t>12</a:t>
            </a:r>
            <a:r>
              <a:rPr b="1" i="1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Functions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: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t plays an important role in the metabolism of nucleic acid of protein synthesis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Sources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Bacteria present in the intestine synthesize this vitamin and supply to our body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Liver is the main site of storage of vitamin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Lucida Sans Unicode"/>
              </a:rPr>
              <a:t>12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Deficiency diseases :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Deficiency of this vitamin cause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pernicious anemia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that is different from other types of anaemia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72" name="Picture 3" descr="image075.jpg"/>
          <p:cNvPicPr/>
          <p:nvPr/>
        </p:nvPicPr>
        <p:blipFill>
          <a:blip r:embed="rId1"/>
          <a:stretch/>
        </p:blipFill>
        <p:spPr>
          <a:xfrm>
            <a:off x="5638680" y="5181480"/>
            <a:ext cx="2171880" cy="14385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" descr=""/>
          <p:cNvPicPr/>
          <p:nvPr/>
        </p:nvPicPr>
        <p:blipFill>
          <a:blip r:embed="rId2"/>
          <a:stretch/>
        </p:blipFill>
        <p:spPr>
          <a:xfrm>
            <a:off x="1676520" y="5029200"/>
            <a:ext cx="26668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Tit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4308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 txBox="1"/>
          <p:nvPr/>
        </p:nvSpPr>
        <p:spPr>
          <a:xfrm>
            <a:off x="0" y="160020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It is one of the ‘B’ complex vitamins. 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Functions: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 It is required for the metabolism of carbohydrates,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proteins and fats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Sources: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The sources of pantothenic acid are fresh vegetables, liver, kidney, yeast, egg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yolk, meat,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ground nuts etc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Deficiency leads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 to </a:t>
            </a:r>
            <a:r>
              <a:rPr b="0" lang="en-US" sz="25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burning sensation in feet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iotin is one among the ‘B’ complex vitamins.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unction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t is required for protein metabolism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ources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iotin is present in pulses, nuts, vegetables, liver and kidney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ficiency disorder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Deficiency leads to muscle pains, fatigue, disorders in the nervous system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nd mental depress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77" name="Tit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457200" y="2282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Lucida Sans Unicode"/>
              </a:rPr>
              <a:t>Vitamin  C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Lucida Sans Unicode"/>
              </a:rPr>
              <a:t>–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Lucida Sans Unicode"/>
              </a:rPr>
              <a:t>It is also called  as  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Lucida Sans Unicode"/>
              </a:rPr>
              <a:t>Ascorbic  Acid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Lucida Sans Unicode"/>
              </a:rPr>
              <a:t>Sources: 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Vitamin C is present in fresh fruits, green leafy vegetables, tomatoes 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and germinating pulses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Citrus fruit and Indian gooseberry are the richest source of this vitamin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Guava is another cheap and rich source of Vitamin C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Lucida Sans Unicode"/>
              </a:rPr>
              <a:t>Functions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 Unicode"/>
              </a:rPr>
              <a:t>V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itamin C plays an important role in tissue oxidation reactions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It is required for the formation of collagen which is required for the formation of blood vessels, connective tissue, cartilage and dentine of teeth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Vitamin C also helps in the absorption and storage of iron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This Vitamin is also required for normal growth, tissue repair, healing of wounds and fracture of bone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79" name="Picture 3" descr="images55.jpg"/>
          <p:cNvPicPr/>
          <p:nvPr/>
        </p:nvPicPr>
        <p:blipFill>
          <a:blip r:embed="rId1"/>
          <a:stretch/>
        </p:blipFill>
        <p:spPr>
          <a:xfrm>
            <a:off x="5029200" y="4419720"/>
            <a:ext cx="2971800" cy="21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Lucida Sans Unicode"/>
              </a:rPr>
              <a:t>Deficiency disease 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-  </a:t>
            </a: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SCURVY: 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Scurvy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 is the nutritional disorder caused due to the deficiency of </a:t>
            </a: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Vitamin ‘C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’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The </a:t>
            </a: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symptoms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 of this disease are swelling of gums, bleeding from gums and from the joints and under the skin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This disease is preventable by providing the diet that is rich with Vitamin-‘C’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vitamin -  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Vitamin – D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Vitamin – 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Vitamin - K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82" name="Title 2" descr=""/>
          <p:cNvPicPr/>
          <p:nvPr/>
        </p:nvPicPr>
        <p:blipFill>
          <a:blip r:embed="rId1"/>
          <a:stretch/>
        </p:blipFill>
        <p:spPr>
          <a:xfrm>
            <a:off x="341280" y="128520"/>
            <a:ext cx="8345520" cy="12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457200" y="228600"/>
            <a:ext cx="82296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Vitamin  - 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chemical name of Vitamin A is </a:t>
            </a:r>
            <a:r>
              <a:rPr b="1" i="1" lang="en-US" sz="2700" spc="-1" strike="noStrike">
                <a:solidFill>
                  <a:srgbClr val="000000"/>
                </a:solidFill>
                <a:latin typeface="Lucida Sans Unicode"/>
              </a:rPr>
              <a:t>Retinol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t is also called as </a:t>
            </a:r>
            <a:r>
              <a:rPr b="1" i="1" lang="en-US" sz="2700" spc="-1" strike="noStrike">
                <a:solidFill>
                  <a:srgbClr val="000000"/>
                </a:solidFill>
                <a:latin typeface="Lucida Sans Unicode"/>
              </a:rPr>
              <a:t>Antixeropthalmic Vitami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Sources -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It is readily available in foods of Liver, eggs, butter, whole milk, fish, meat, oils extracted from fishes such as cod liver oil and shark liver oil.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n plants vitamin ‘A’ is present in the form of a carotene.  In green leafy vegetable (Spinach amaranth etc.,) other vegetable like carrots, tomato, pumpkin, fruits like papaya and mango and its converted into vitamin ‘A’ in our body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457200" y="152280"/>
            <a:ext cx="82296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Deficiency of vitamin A</a:t>
            </a:r>
            <a:r>
              <a:rPr b="1" lang="en-US" sz="1600" spc="-1" strike="noStrike">
                <a:solidFill>
                  <a:srgbClr val="000000"/>
                </a:solidFill>
                <a:latin typeface="Lucida Sans Unicode"/>
              </a:rPr>
              <a:t>: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  Deficiency leads to a variety of disorders of the eyes and this 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affect the vision, some of the disorders  are –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1)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Night blindness: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  The person cannot see the objects in dim light and in nights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2)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Xeropthalmia (or) Dry eyes: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 The lacrimal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glands in the eyes do to produce tears.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The conjunctiva (or) the outer most layer of the eye becomes dry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 Unicode"/>
              </a:rPr>
              <a:t>3)The cornea becomes soft and burst open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. This leads to the loss of vision and permanent blindness -  the major cause of blindness in children.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 Unicode"/>
              </a:rPr>
              <a:t>4)Skin become scaly, rough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 and is covered with papillae (Small eruptions).  The skin looks like that 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of a toad.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 Unicode"/>
              </a:rPr>
              <a:t>5)Reproductive functions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 may also be effected in vitamin ‘A’ deficiency.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National Institute of Nutrition, Hyderabad has evolved a method giving a large dose (5 – 6 drops) of Vitamin-A once in six months to prevent blindness in children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85" name="Picture 2" descr="images88.jpg"/>
          <p:cNvPicPr/>
          <p:nvPr/>
        </p:nvPicPr>
        <p:blipFill>
          <a:blip r:embed="rId1"/>
          <a:stretch/>
        </p:blipFill>
        <p:spPr>
          <a:xfrm>
            <a:off x="6400800" y="1143000"/>
            <a:ext cx="2066760" cy="13809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3" descr="images3433.jpg"/>
          <p:cNvPicPr/>
          <p:nvPr/>
        </p:nvPicPr>
        <p:blipFill>
          <a:blip r:embed="rId2"/>
          <a:stretch/>
        </p:blipFill>
        <p:spPr>
          <a:xfrm>
            <a:off x="3809880" y="2971800"/>
            <a:ext cx="2133720" cy="12063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4" descr=""/>
          <p:cNvPicPr/>
          <p:nvPr/>
        </p:nvPicPr>
        <p:blipFill>
          <a:blip r:embed="rId3"/>
          <a:stretch/>
        </p:blipFill>
        <p:spPr>
          <a:xfrm>
            <a:off x="6781680" y="3048120"/>
            <a:ext cx="1282680" cy="11300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"/>
          <p:cNvPicPr/>
          <p:nvPr/>
        </p:nvPicPr>
        <p:blipFill>
          <a:blip r:embed="rId4"/>
          <a:stretch/>
        </p:blipFill>
        <p:spPr>
          <a:xfrm>
            <a:off x="1676520" y="3048120"/>
            <a:ext cx="1828800" cy="111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Vitamin ‘D’-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chemical name of vitamin ‘D’ is</a:t>
            </a:r>
            <a:r>
              <a:rPr b="0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 </a:t>
            </a:r>
            <a:r>
              <a:rPr b="0" i="1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Calcifero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Lucida Sans Unicode"/>
              </a:rPr>
              <a:t>Function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 - It helps in the absorption of Ca &amp; P by the intestine and its deposition on the bones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The rich source of Vitamin ‘D’ is sun light and sun light has the capacity to convert cholesterol in our body into Vitamin ‘D’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Deficiency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of vitamin ‘D’ leads to bone deformities such as </a:t>
            </a:r>
            <a:r>
              <a:rPr b="1" i="1" lang="en-US" sz="2700" spc="-1" strike="noStrike">
                <a:solidFill>
                  <a:srgbClr val="000000"/>
                </a:solidFill>
                <a:latin typeface="Lucida Sans Unicode"/>
              </a:rPr>
              <a:t>Rickets. (bent bones   and knock knees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90" name="Picture 2" descr="rickets.jpg"/>
          <p:cNvPicPr/>
          <p:nvPr/>
        </p:nvPicPr>
        <p:blipFill>
          <a:blip r:embed="rId1"/>
          <a:stretch/>
        </p:blipFill>
        <p:spPr>
          <a:xfrm>
            <a:off x="4800600" y="3200400"/>
            <a:ext cx="1779480" cy="34290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3" descr="figure1.jpg"/>
          <p:cNvPicPr/>
          <p:nvPr/>
        </p:nvPicPr>
        <p:blipFill>
          <a:blip r:embed="rId2"/>
          <a:stretch/>
        </p:blipFill>
        <p:spPr>
          <a:xfrm>
            <a:off x="1600200" y="3352680"/>
            <a:ext cx="184464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Content Placeholder 2" descr=""/>
          <p:cNvPicPr/>
          <p:nvPr/>
        </p:nvPicPr>
        <p:blipFill>
          <a:blip r:embed="rId1"/>
          <a:stretch/>
        </p:blipFill>
        <p:spPr>
          <a:xfrm>
            <a:off x="536400" y="0"/>
            <a:ext cx="8094960" cy="62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Content Placeholder 3" descr=""/>
          <p:cNvPicPr/>
          <p:nvPr/>
        </p:nvPicPr>
        <p:blipFill>
          <a:blip r:embed="rId1"/>
          <a:stretch/>
        </p:blipFill>
        <p:spPr>
          <a:xfrm>
            <a:off x="609480" y="228600"/>
            <a:ext cx="3810240" cy="33526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4" descr=""/>
          <p:cNvPicPr/>
          <p:nvPr/>
        </p:nvPicPr>
        <p:blipFill>
          <a:blip r:embed="rId2"/>
          <a:stretch/>
        </p:blipFill>
        <p:spPr>
          <a:xfrm>
            <a:off x="4952880" y="457200"/>
            <a:ext cx="3505320" cy="3048120"/>
          </a:xfrm>
          <a:prstGeom prst="rect">
            <a:avLst/>
          </a:prstGeom>
          <a:ln w="0">
            <a:noFill/>
          </a:ln>
        </p:spPr>
      </p:pic>
      <p:sp>
        <p:nvSpPr>
          <p:cNvPr id="94" name="TextBox 5"/>
          <p:cNvSpPr/>
          <p:nvPr/>
        </p:nvSpPr>
        <p:spPr>
          <a:xfrm>
            <a:off x="1295280" y="4343400"/>
            <a:ext cx="76964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Lucida Sans Unicode"/>
                <a:ea typeface="Arial"/>
              </a:rPr>
              <a:t>Sources - 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  <a:ea typeface="Arial"/>
              </a:rPr>
              <a:t>Vitamin ‘D’ present in foods of animal origin such as liver, egg  yolk, butter, oils extracted from the livers of fishes such as cod or shark. 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  <a:ea typeface="Arial"/>
              </a:rPr>
              <a:t>It is formed in the skin from a cholesterol derivative by the action of Ultra Violet rays of sunlight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 u="sng">
                <a:solidFill>
                  <a:srgbClr val="000000"/>
                </a:solidFill>
                <a:uFillTx/>
                <a:latin typeface="Lucida Sans Unicode"/>
              </a:rPr>
              <a:t>VITAMIN-E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Vitamin-E is also called as Tocoferol or Anti sterility Vitamin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Lucida Sans Unicode"/>
              </a:rPr>
              <a:t>Functions: 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This vitamin is required for the normal functioning of sex organs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Lucida Sans Unicode"/>
              </a:rPr>
              <a:t>Sources: 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It is present in fruits, vegetables, germinating seeds, meat, egg yolk, sunflower 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oil, cotton seed oil etc.,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Lucida Sans Unicode"/>
              </a:rPr>
              <a:t>Deficiency disorders: 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Deficiency leads to sterility in males and abortions in females and 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also reduces the life span or R.B.C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457200" y="380880"/>
            <a:ext cx="822960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Lucida Sans Unicode"/>
              </a:rPr>
              <a:t>VITAMIN-K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Vitamin K is also known as Anti coagulation Vitamin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Functions: 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It is required for blood clotting.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Sources: 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It is present in green leafy vegetables and in cow milk, in man this vitamin is 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Lucida Sans Unicode"/>
              </a:rPr>
              <a:t>synthesized by the bacteria 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present in the intestines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Lucida Sans Unicode"/>
              </a:rPr>
              <a:t>Deficiency disorders</a:t>
            </a: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deficiency results in long time for the blood to 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clot and loss of more blood from injurie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Vitamins are very sensitive to heat. Over cooking leads to destruction of its chemical nature and some times leads toxic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Excess intake of antibiotics, destroy useful bacteria in our intestine, further leads to vitamin B 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Lucida Sans Unicode"/>
              </a:rPr>
              <a:t>12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deficiency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onsuming highly polished rice, leads to vitamin B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Lucida Sans Unicode"/>
              </a:rPr>
              <a:t>1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deficiency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98" name="Tit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Vitamins are micronutrients, which are very much essential for growth and for metabolism.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f antibiotics are indiscriminately taken, the bacteria present in the intestines which synthesize the Vitamins will be killed and it leads to Vitamin deficiency disorder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457200" y="685440"/>
            <a:ext cx="822960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Vitamins are classified  into two types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 – based  on their solubility 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They are -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Water soluble vitamins &amp; Fat soluble vitamin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700"/>
            </a:br>
            <a:r>
              <a:rPr b="0" lang="en-US" sz="27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Water soluble Vitamins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- Vitamin ‘B’ complex and Vitamin ‘C’     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Fat soluble vitamins.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- Vitamin A, Vitamin D, Vitamin E and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Vitamin K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man Old Style"/>
              </a:rPr>
              <a:t>Water soluble vitamins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Vitamin B Complex  is group of Vitamins. 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It contains – 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a) Thiamine – B1</a:t>
            </a: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e) Cyanocobalamin – B12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b) Riboflavin – B2 </a:t>
            </a: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f) Folic acid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c) Niacin</a:t>
            </a: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 - B3 </a:t>
            </a: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g) Pantothenic acid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d) Pyridoxine – B6 </a:t>
            </a: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h) Biotin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457200" y="228240"/>
            <a:ext cx="82296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Vitamin –B1  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- Thiamine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is also known as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Lucida Sans Unicode"/>
              </a:rPr>
              <a:t>Vitamin B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Lucida Sans Unicode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It is needed for the activity of some of the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enzymes of carbohydrate metabolism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Deficiency disease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-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Beri-Beri.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In this disease, the calf muscles become tender,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vomiting, tremors, convulsions, loss of appetite are seen. 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Sources: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 Cereals like wheat, oil seeds like groundnut, milk, meat, fish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61" name="Picture 4" descr=""/>
          <p:cNvPicPr/>
          <p:nvPr/>
        </p:nvPicPr>
        <p:blipFill>
          <a:blip r:embed="rId1"/>
          <a:stretch/>
        </p:blipFill>
        <p:spPr>
          <a:xfrm>
            <a:off x="1600200" y="3581280"/>
            <a:ext cx="2209680" cy="27306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5" descr=""/>
          <p:cNvPicPr/>
          <p:nvPr/>
        </p:nvPicPr>
        <p:blipFill>
          <a:blip r:embed="rId2"/>
          <a:stretch/>
        </p:blipFill>
        <p:spPr>
          <a:xfrm>
            <a:off x="5105520" y="3733920"/>
            <a:ext cx="220968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 u="sng">
                <a:solidFill>
                  <a:srgbClr val="000000"/>
                </a:solidFill>
                <a:uFillTx/>
                <a:latin typeface="Lucida Sans Unicode"/>
              </a:rPr>
              <a:t>RIBOFLAVIN  </a:t>
            </a:r>
            <a:r>
              <a:rPr b="1" lang="en-US" sz="1900" spc="-1" strike="noStrike">
                <a:solidFill>
                  <a:srgbClr val="000000"/>
                </a:solidFill>
                <a:latin typeface="Lucida Sans Unicode"/>
              </a:rPr>
              <a:t> - 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Lucida Sans Unicode"/>
              </a:rPr>
              <a:t>Riboflavin is otherwise known as </a:t>
            </a:r>
            <a:r>
              <a:rPr b="1" lang="en-US" sz="1900" spc="-1" strike="noStrike">
                <a:solidFill>
                  <a:srgbClr val="000000"/>
                </a:solidFill>
                <a:latin typeface="Lucida Sans Unicode"/>
              </a:rPr>
              <a:t>Vitamin-B</a:t>
            </a:r>
            <a:r>
              <a:rPr b="1" lang="en-US" sz="1900" spc="-1" strike="noStrike" baseline="-25000">
                <a:solidFill>
                  <a:srgbClr val="000000"/>
                </a:solidFill>
                <a:latin typeface="Lucida Sans Unicode"/>
              </a:rPr>
              <a:t>2</a:t>
            </a:r>
            <a:r>
              <a:rPr b="0" lang="en-US" sz="19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Lucida Sans Unicode"/>
              </a:rPr>
              <a:t>Functions: </a:t>
            </a:r>
            <a:r>
              <a:rPr b="0" lang="en-US" sz="1900" spc="-1" strike="noStrike">
                <a:solidFill>
                  <a:srgbClr val="000000"/>
                </a:solidFill>
                <a:latin typeface="Lucida Sans Unicode"/>
              </a:rPr>
              <a:t>Riboflavin is essential for oxidation reduction reactions in the cell and in </a:t>
            </a:r>
            <a:r>
              <a:rPr b="0" lang="en-US" sz="19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Lucida Sans Unicode"/>
              </a:rPr>
              <a:t>cellular respiration.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Lucida Sans Unicode"/>
              </a:rPr>
              <a:t>Sources: </a:t>
            </a:r>
            <a:r>
              <a:rPr b="0" lang="en-US" sz="1900" spc="-1" strike="noStrike">
                <a:solidFill>
                  <a:srgbClr val="000000"/>
                </a:solidFill>
                <a:latin typeface="Lucida Sans Unicode"/>
              </a:rPr>
              <a:t>It is present in milk, eggs, liver, kidney and green leafy vegetables.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Lucida Sans Unicode"/>
              </a:rPr>
              <a:t>Deficiency disorders:</a:t>
            </a:r>
            <a:r>
              <a:rPr b="0" lang="en-US" sz="1900" spc="-1" strike="noStrike">
                <a:solidFill>
                  <a:srgbClr val="000000"/>
                </a:solidFill>
                <a:latin typeface="Lucida Sans Unicode"/>
              </a:rPr>
              <a:t> Deficiency of riboflavin result in </a:t>
            </a:r>
            <a:r>
              <a:rPr b="0" lang="en-US" sz="1900" spc="-1" strike="noStrike" u="sng">
                <a:solidFill>
                  <a:srgbClr val="000000"/>
                </a:solidFill>
                <a:uFillTx/>
                <a:latin typeface="Lucida Sans Unicode"/>
              </a:rPr>
              <a:t>Glossitis</a:t>
            </a:r>
            <a:r>
              <a:rPr b="0" lang="en-US" sz="19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Lucida Sans Unicode"/>
              </a:rPr>
              <a:t>Mouth cracks at corners.     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Lucida Sans Unicode"/>
              </a:rPr>
              <a:t>Photophobia, scaly skin and watering of eyes are some of the 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Lucida Sans Unicode"/>
              </a:rPr>
              <a:t>symptoms.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64" name="Picture 3" descr="images.jpg"/>
          <p:cNvPicPr/>
          <p:nvPr/>
        </p:nvPicPr>
        <p:blipFill>
          <a:blip r:embed="rId1"/>
          <a:stretch/>
        </p:blipFill>
        <p:spPr>
          <a:xfrm>
            <a:off x="6477120" y="3886200"/>
            <a:ext cx="1828800" cy="28130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" descr="C:\Documents and Settings\INDUS\Desktop\b 2 deficiecy.BMP"/>
          <p:cNvPicPr/>
          <p:nvPr/>
        </p:nvPicPr>
        <p:blipFill>
          <a:blip r:embed="rId2"/>
          <a:stretch/>
        </p:blipFill>
        <p:spPr>
          <a:xfrm>
            <a:off x="1447920" y="4191120"/>
            <a:ext cx="3533760" cy="23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457200" y="30456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Lucida Sans Unicode"/>
              </a:rPr>
              <a:t>NIACIN</a:t>
            </a: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Niacin is one of the ‘B’ Complex Vitamins. It is also known as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Vitamin B</a:t>
            </a:r>
            <a:r>
              <a:rPr b="1" lang="en-US" sz="2400" spc="-1" strike="noStrike" u="sng" baseline="-25000">
                <a:solidFill>
                  <a:srgbClr val="000000"/>
                </a:solidFill>
                <a:uFillTx/>
                <a:latin typeface="Lucida Sans Unicode"/>
              </a:rPr>
              <a:t>3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Functions: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Niacin is essential for the metabolism of carbohydrates, proteins and fats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Sources: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It is present in kidney, liver, meat, poultry fish, legumes and groundnuts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Deficiency disorders: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  Deficiency of niacin in diet result a disease calle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Pellagra. 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The symptoms of pellagra are diarrhea, dementia (loss of memory) patches on the body when exposed to sunlight 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67" name="Picture 3" descr=""/>
          <p:cNvPicPr/>
          <p:nvPr/>
        </p:nvPicPr>
        <p:blipFill>
          <a:blip r:embed="rId1"/>
          <a:stretch/>
        </p:blipFill>
        <p:spPr>
          <a:xfrm>
            <a:off x="5791320" y="4114800"/>
            <a:ext cx="2590560" cy="22035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4" descr="imagese.jpg"/>
          <p:cNvPicPr/>
          <p:nvPr/>
        </p:nvPicPr>
        <p:blipFill>
          <a:blip r:embed="rId2"/>
          <a:stretch/>
        </p:blipFill>
        <p:spPr>
          <a:xfrm>
            <a:off x="1905120" y="4343400"/>
            <a:ext cx="2819160" cy="197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457200" y="9140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PYRIDOXINE: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yridoxine is otherwise called </a:t>
            </a:r>
            <a:r>
              <a:rPr b="1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Vitamin-B</a:t>
            </a:r>
            <a:r>
              <a:rPr b="1" lang="en-US" sz="2700" spc="-1" strike="noStrike" u="sng" baseline="-25000">
                <a:solidFill>
                  <a:srgbClr val="000000"/>
                </a:solidFill>
                <a:uFillTx/>
                <a:latin typeface="Lucida Sans Unicode"/>
              </a:rPr>
              <a:t>6</a:t>
            </a:r>
            <a:r>
              <a:rPr b="1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Functions: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yridoxine plays an important role in the metabolism of amino acid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Sources: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t is present in milk, liver, meat, egg yolk, fish, cereals, legumes and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vegetable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Deficiency disorders: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eficiency lead to hyper irritability, anaemia, nausea and in children  it leads to convulsion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9T06:09:28Z</dcterms:created>
  <dc:creator>Masum</dc:creator>
  <dc:description/>
  <dc:language>en-US</dc:language>
  <cp:lastModifiedBy>RomaK</cp:lastModifiedBy>
  <dcterms:modified xsi:type="dcterms:W3CDTF">2015-09-04T12:16:38Z</dcterms:modified>
  <cp:revision>67</cp:revision>
  <dc:subject/>
  <dc:title>Slide 1</dc:title>
</cp:coreProperties>
</file>