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6228-F45C-4B11-B471-0F12887170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blood vessel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ood vessels are a network of tubes that carry blood throughout the entire bod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3 types of Blood Vessel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 Arte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 V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 Capilla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blood vesse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vessels are a network of tubes that carry blood throughout the entir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Blood Vesse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Art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e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vessels that carry the blood away from the heart are called arteries. They carry oxygenated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ssels that carry the blood away from the heart are called arteries. They carry 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ins carry blood toward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carry blood that 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-oxygena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have valves t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op the backflow of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rry blood tha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-oxyge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valves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pillaries connect the arteries and v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carry both oxygenated and deoxygenated bloo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in close contact with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connect the arteries and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rry both oxygenated and deoxygenated bl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in close contact with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9C49-9570-4612-B1CC-2A271CD60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26B3-F0EB-4742-92F9-CACAAA34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7959-B151-4E52-B90A-E2FB60F66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4D16-59D3-4F91-88B6-E08F32319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1A60-0B27-4B0D-997D-B8141A4C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E07A-6705-4C12-AFB2-E90937C8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9D38-8F7A-4CDE-8309-2F90218A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5E36-BD7D-45A3-8DCE-CEE38F6E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0EBF-8724-4AF1-9A28-6DFD6FD3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B8B6-4003-47A0-A9F8-D7D6D1C3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F24A-A844-403C-BE13-4A1F1824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6CCF-3BBB-43F2-AB06-8490E2BA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CEAF-6361-4C2E-9C08-857927BD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1E51-3823-49C1-B70E-C3E50587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501F-5EBE-44A5-9845-A4586BEF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350D-A36E-4A11-B4F7-C50A532C9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1866-5755-4ADB-A819-598620D6B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CAAA-C826-40CC-B306-7F5B8A37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7D83-0F26-4730-9AA0-96F98DE4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C750-D7A2-4296-8FF2-4037C43F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E354-4BA4-45E6-846D-9B7A7240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50C7-347E-41E0-8457-E341FA58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23C9-6C55-4A4A-B8F0-5056FDE2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3FCC-C42B-4FE3-85AF-0983FA21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A175-8DBA-4D22-BB4A-50B4F57989C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C382-0F53-4190-93AB-E343880689F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What are blood vessel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lood vessels are a network of tubes that carry blood throughout the entire bo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 are 3 types of Blood Vesse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  Art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.  Ve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.  Capill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bloodves"/>
          <p:cNvPicPr/>
          <p:nvPr/>
        </p:nvPicPr>
        <p:blipFill>
          <a:blip r:embed="rId1"/>
          <a:stretch/>
        </p:blipFill>
        <p:spPr>
          <a:xfrm>
            <a:off x="5580000" y="1413000"/>
            <a:ext cx="1762200" cy="518472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Arter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vessels that carry the blood away from the heart are called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rterie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 They carry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xygenate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5" descr="22248823"/>
          <p:cNvPicPr/>
          <p:nvPr/>
        </p:nvPicPr>
        <p:blipFill>
          <a:blip r:embed="rId1"/>
          <a:stretch/>
        </p:blipFill>
        <p:spPr>
          <a:xfrm>
            <a:off x="2411280" y="3206880"/>
            <a:ext cx="4608720" cy="346212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Ve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eins carry blood towar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carry blood that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-oxygen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have valve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op the backflow of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Veincrosssection"/>
          <p:cNvPicPr/>
          <p:nvPr/>
        </p:nvPicPr>
        <p:blipFill>
          <a:blip r:embed="rId1"/>
          <a:stretch/>
        </p:blipFill>
        <p:spPr>
          <a:xfrm>
            <a:off x="5796000" y="1484280"/>
            <a:ext cx="2000160" cy="47340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Capillar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pillaries connect the arteries and v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carry both oxygenated and deoxygenated bloo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are in close contact with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image?id=92806&amp;rendTypeId=34"/>
          <p:cNvPicPr/>
          <p:nvPr/>
        </p:nvPicPr>
        <p:blipFill>
          <a:blip r:embed="rId1"/>
          <a:stretch/>
        </p:blipFill>
        <p:spPr>
          <a:xfrm>
            <a:off x="2771640" y="3789360"/>
            <a:ext cx="3048120" cy="285768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12:47:28Z</dcterms:created>
  <dc:creator>CEC</dc:creator>
  <dc:description/>
  <dc:language>en-US</dc:language>
  <cp:lastModifiedBy>LEGION2</cp:lastModifiedBy>
  <dcterms:modified xsi:type="dcterms:W3CDTF">2016-01-14T14:09:19Z</dcterms:modified>
  <cp:revision>7</cp:revision>
  <dc:subject/>
  <dc:title>What are blood vessels?</dc:title>
</cp:coreProperties>
</file>