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8FE1-2F66-4B32-8B6E-506F22F9D3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blood vessel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ood vessels are a network of tubes that carry blood throughout the entire bod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3 types of Blood Vessel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 Arte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 V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 Capilla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blood vesse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vessels are a network of tubes that carry blood throughout the entir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Blood Vesse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Art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e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vessels that carry the blood away from the heart are called arteries. They carry oxygenated 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ssels that carry the blood away from the heart are called arteries. They carry 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ins carry blood toward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carry blood that 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-oxygena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have valves th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op the backflow of 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rry blood tha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-oxyge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valves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pillaries connect the arteries and v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carry both oxygenated and deoxygenated bloo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in close contact with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connect the arteries and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rry both oxygenated and deoxygenated bl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in close contact with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369F-8478-4944-B22B-768536298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A856-A26D-48D6-9D23-84B311DF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9D62-F2CD-48F1-B381-D49ECB156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1A5F-9CDC-45B0-94C0-EF82D6F10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B916-89E4-4D34-8197-AA7AB151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D169-CCB0-404D-ADCC-71414237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24E3-4028-49B1-9E33-60A11C31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467D-558F-4F16-9DD6-25C5DBB8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8CD3-D8AD-44E5-AC08-562EF769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7F4B-3852-430C-91AE-F9324C2C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86B7-7AC0-4434-A0CC-490D5626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76E2-2DA0-41AC-A6C3-AF0C3B88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9870-408D-4CA9-853C-D6E61D16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ED9D-C6D0-404C-A14C-15B0C1E1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DE21-7044-4B1D-BD43-FBD3F4EB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D824-E23F-45AA-83EA-85B65A609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1CF7-BD26-4C6E-AB79-CDD7B018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8E4F-DE86-473B-ABC2-85FCB22E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3977-EE03-4014-A695-4D27FDD0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4BE2-26E8-4CA0-B4F0-3732FCBC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508B-1F66-4A43-89B5-1487E30F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BF44-13FA-4023-A6FD-138C6229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B490-7188-4646-839A-C5A38A31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08B2-9DFF-470B-A7C6-DF2AC3EF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2323-C67E-4438-B096-F527EC9126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54F7-3B17-4B2E-B68D-3FA1128936F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What are blood vessel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lood vessels are a network of tubes that carry blood throughout the entire bo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 are 3 types of Blood Vesse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.  Art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.  Ve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.  Capill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bloodves"/>
          <p:cNvPicPr/>
          <p:nvPr/>
        </p:nvPicPr>
        <p:blipFill>
          <a:blip r:embed="rId1"/>
          <a:stretch/>
        </p:blipFill>
        <p:spPr>
          <a:xfrm>
            <a:off x="5580000" y="1413000"/>
            <a:ext cx="1762200" cy="518472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Arter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vessels that carry the blood away from the heart are called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rterie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 They carry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xygenate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5" descr="22248823"/>
          <p:cNvPicPr/>
          <p:nvPr/>
        </p:nvPicPr>
        <p:blipFill>
          <a:blip r:embed="rId1"/>
          <a:stretch/>
        </p:blipFill>
        <p:spPr>
          <a:xfrm>
            <a:off x="2411280" y="3206880"/>
            <a:ext cx="4608720" cy="346212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Ve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eins carry blood towar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carry blood that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-oxygen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have valve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op the backflow of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Veincrosssection"/>
          <p:cNvPicPr/>
          <p:nvPr/>
        </p:nvPicPr>
        <p:blipFill>
          <a:blip r:embed="rId1"/>
          <a:stretch/>
        </p:blipFill>
        <p:spPr>
          <a:xfrm>
            <a:off x="5796000" y="1484280"/>
            <a:ext cx="2000160" cy="47340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Capillar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pillaries connect the arteries and ve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carry both oxygenated and deoxygenated bloo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are in close contact with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image?id=92806&amp;rendTypeId=34"/>
          <p:cNvPicPr/>
          <p:nvPr/>
        </p:nvPicPr>
        <p:blipFill>
          <a:blip r:embed="rId1"/>
          <a:stretch/>
        </p:blipFill>
        <p:spPr>
          <a:xfrm>
            <a:off x="2771640" y="3789360"/>
            <a:ext cx="3048120" cy="285768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12:47:28Z</dcterms:created>
  <dc:creator>CEC</dc:creator>
  <dc:description/>
  <dc:language>en-US</dc:language>
  <cp:lastModifiedBy>LEGION2</cp:lastModifiedBy>
  <dcterms:modified xsi:type="dcterms:W3CDTF">2016-01-14T14:09:19Z</dcterms:modified>
  <cp:revision>7</cp:revision>
  <dc:subject/>
  <dc:title>What are blood vessels?</dc:title>
</cp:coreProperties>
</file>