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413-CD89-4913-8B25-61F96C154B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measurements of leaves + see if xerophytes have a different pattern of mass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adaptations xerophyt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what type of question they can ask about xerophytes (and be able to answer 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Section Through Leaf of Xerophytic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am grass possesses: rolled leaves, leaf hairs and sunken stomata. These adaptations make it resistant to dry conditions and of course sand-dunes which drain very quickly retain very littl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une 2001 Question 8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daptations to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in different habitats possess different adap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habitat with adequat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dr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phyt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dapted to a salty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s: plants adapted to a freshwater 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B3 Jan 2002 Question 6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phy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undersurface of the tree fern. Extremely high number of stomata per unit in a species living in tropic cloud forests where is is very moi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sunken in pits creates local humidity/decreases exposure to air curren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hairs creates local humidity next to leaf/decreases exposure to air currents by reducing flow around stomat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axy cuticle makes more waterproof impermeable to wat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s possess some or all of these adaptations to prevent excessive water lo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stomata decreases transpiration as this is where water is lo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ophyte adaptation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cti are xe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nd right Epidermis of the cactus Rhipsalis dissimil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View of the epidermis surface. The crater-shaped depressions with a guard cell each at their base can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X-section through the epidermis &amp; underlying tissues. The guard cells are countersunk, the cuticle is thickened. These are classic xerophyte adap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0E9-ECF4-4A4C-8B29-0BB32159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DA3-768D-4F32-A444-F3F7709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291-01C5-4780-B795-A78D4BBA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1D2-2358-4BCD-81F5-600C2D9A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123-A02D-4C20-99BF-2AA163C0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8FD-959B-45A2-B4E1-7CC48F30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9F2-E08F-4D11-ADBD-4806907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74F-833C-4E5B-8D05-6E82BC5A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9ED-0580-490E-B707-A63FB756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E8E-D300-477F-B36B-E9381FD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7AE-8AE8-42DE-B806-B5001E2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740-0E49-4D35-9C77-96EB9C79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14F4-9B62-4863-AA27-E250A04CC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ackpoolsixth.net.uk/Biology/resource/micro/source/38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ims of the se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measurements of leaves + see if xerophytes have a different pattern of mas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about the adaptations xerophyte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 what type of question they can ask about xerophytes (and be able to answer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ile0009"/>
          <p:cNvPicPr/>
          <p:nvPr/>
        </p:nvPicPr>
        <p:blipFill>
          <a:blip r:embed="rId1">
            <a:lum contrast="18000"/>
          </a:blip>
          <a:srcRect l="1666" t="3605" r="833" b="5707"/>
          <a:stretch/>
        </p:blipFill>
        <p:spPr>
          <a:xfrm>
            <a:off x="152280" y="328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2040" y="1764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ransverse Section Through Leaf of Xerophytic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159200" y="1219320"/>
            <a:ext cx="690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XEROPHY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SPECIES STUDY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MARRAM GRA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marram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77240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24382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arram grass possesses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oll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lea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ir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tomat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. These adaptations make it resistant to dry conditions and of course sand-dunes which drain very quickly retain very little water.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dunes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rram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urma125"/>
          <p:cNvPicPr/>
          <p:nvPr/>
        </p:nvPicPr>
        <p:blipFill>
          <a:blip r:embed="rId1"/>
          <a:stretch/>
        </p:blipFill>
        <p:spPr>
          <a:xfrm>
            <a:off x="685800" y="-14400"/>
            <a:ext cx="7772400" cy="68868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eurma200"/>
          <p:cNvPicPr/>
          <p:nvPr/>
        </p:nvPicPr>
        <p:blipFill>
          <a:blip r:embed="rId1"/>
          <a:stretch/>
        </p:blipFill>
        <p:spPr>
          <a:xfrm>
            <a:off x="685800" y="-46080"/>
            <a:ext cx="7696080" cy="68835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Marra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3906" t="11458" r="7032" b="12502"/>
          <a:stretch/>
        </p:blipFill>
        <p:spPr>
          <a:xfrm>
            <a:off x="152280" y="1295280"/>
            <a:ext cx="8686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65200" y="404640"/>
            <a:ext cx="60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65200" y="22860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une 2001 Question 8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6250" t="22917" r="6250" b="12502"/>
          <a:stretch/>
        </p:blipFill>
        <p:spPr>
          <a:xfrm>
            <a:off x="0" y="121932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0" y="533520"/>
            <a:ext cx="9144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 adaptations to habita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in different habitats possess different adap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Mes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habitat with adequate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Xer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dr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alophyte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nts adapted to a salty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ydrophyt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lants adapted to a freshwater habi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3127" t="38544" r="7811" b="16666"/>
          <a:stretch/>
        </p:blipFill>
        <p:spPr>
          <a:xfrm>
            <a:off x="152280" y="1676520"/>
            <a:ext cx="8686800" cy="327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79320" y="40464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1562" t="26042" r="14065" b="62504"/>
          <a:stretch/>
        </p:blipFill>
        <p:spPr>
          <a:xfrm>
            <a:off x="380880" y="2743200"/>
            <a:ext cx="82296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79320" y="404640"/>
            <a:ext cx="577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YB3 Jan 2002 Question 6 par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152280"/>
            <a:ext cx="8763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ahoma"/>
              </a:rPr>
              <a:t>Hydrophy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af undersurface of the tree fern. Extremely high number of stomata per unit in a species living in tropic cloud forests where is is very mo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a"/>
          <p:cNvPicPr/>
          <p:nvPr/>
        </p:nvPicPr>
        <p:blipFill>
          <a:blip r:embed="rId1"/>
          <a:stretch/>
        </p:blipFill>
        <p:spPr>
          <a:xfrm>
            <a:off x="2212920" y="2644920"/>
            <a:ext cx="3882960" cy="3589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8840" y="2346480"/>
            <a:ext cx="66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Tahoma"/>
              </a:rPr>
              <a:t>XEROPHY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-228600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3048120"/>
            <a:ext cx="8686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sunken in pits creates local humidity/decreases exposure to air curren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Presence of hairs creates local humidity next to leaf/decreases exposure to air currents by reducing flow around stomat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Thick waxy cuticle makes more waterproof impermeable to wate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-76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s possess some or all of these adaptations to prevent excessive water los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895480"/>
            <a:ext cx="868680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tomata on inside of rolled leaf creates local humidity/decreases exposure to air currents because water vapour evaporates into air space rather than atmosphere e.g. British Marram gr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Fewer stomata decreases transpiration as this is where water is lo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6"/>
          <p:cNvGrpSpPr/>
          <p:nvPr/>
        </p:nvGrpSpPr>
        <p:grpSpPr>
          <a:xfrm>
            <a:off x="152280" y="990720"/>
            <a:ext cx="8762760" cy="5715000"/>
            <a:chOff x="152280" y="990720"/>
            <a:chExt cx="8762760" cy="5715000"/>
          </a:xfrm>
        </p:grpSpPr>
        <p:grpSp>
          <p:nvGrpSpPr>
            <p:cNvPr id="67" name="Group 74"/>
            <p:cNvGrpSpPr/>
            <p:nvPr/>
          </p:nvGrpSpPr>
          <p:grpSpPr>
            <a:xfrm>
              <a:off x="158400" y="994680"/>
              <a:ext cx="8749800" cy="5706000"/>
              <a:chOff x="158400" y="994680"/>
              <a:chExt cx="8749800" cy="5706000"/>
            </a:xfrm>
          </p:grpSpPr>
          <p:grpSp>
            <p:nvGrpSpPr>
              <p:cNvPr id="68" name="Group 27"/>
              <p:cNvGrpSpPr/>
              <p:nvPr/>
            </p:nvGrpSpPr>
            <p:grpSpPr>
              <a:xfrm>
                <a:off x="158400" y="994680"/>
                <a:ext cx="2593080" cy="587160"/>
                <a:chOff x="158400" y="994680"/>
                <a:chExt cx="2593080" cy="587160"/>
              </a:xfrm>
            </p:grpSpPr>
            <p:sp>
              <p:nvSpPr>
                <p:cNvPr id="69" name="Rectangle 2"/>
                <p:cNvSpPr/>
                <p:nvPr/>
              </p:nvSpPr>
              <p:spPr>
                <a:xfrm>
                  <a:off x="248040" y="99468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dapt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158400" y="99468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29"/>
              <p:cNvGrpSpPr/>
              <p:nvPr/>
            </p:nvGrpSpPr>
            <p:grpSpPr>
              <a:xfrm>
                <a:off x="2751840" y="994680"/>
                <a:ext cx="3328920" cy="587160"/>
                <a:chOff x="2751840" y="994680"/>
                <a:chExt cx="3328920" cy="587160"/>
              </a:xfrm>
            </p:grpSpPr>
            <p:sp>
              <p:nvSpPr>
                <p:cNvPr id="72" name="Rectangle 3"/>
                <p:cNvSpPr/>
                <p:nvPr/>
              </p:nvSpPr>
              <p:spPr>
                <a:xfrm>
                  <a:off x="2841480" y="99468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How it work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28"/>
                <p:cNvSpPr/>
                <p:nvPr/>
              </p:nvSpPr>
              <p:spPr>
                <a:xfrm>
                  <a:off x="2751840" y="99468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31"/>
              <p:cNvGrpSpPr/>
              <p:nvPr/>
            </p:nvGrpSpPr>
            <p:grpSpPr>
              <a:xfrm>
                <a:off x="6081480" y="994680"/>
                <a:ext cx="2826720" cy="587160"/>
                <a:chOff x="6081480" y="994680"/>
                <a:chExt cx="2826720" cy="587160"/>
              </a:xfrm>
            </p:grpSpPr>
            <p:sp>
              <p:nvSpPr>
                <p:cNvPr id="75" name="Rectangle 4"/>
                <p:cNvSpPr/>
                <p:nvPr/>
              </p:nvSpPr>
              <p:spPr>
                <a:xfrm>
                  <a:off x="6170760" y="99468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a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081480" y="99468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33"/>
              <p:cNvGrpSpPr/>
              <p:nvPr/>
            </p:nvGrpSpPr>
            <p:grpSpPr>
              <a:xfrm>
                <a:off x="158400" y="1581840"/>
                <a:ext cx="2593080" cy="754920"/>
                <a:chOff x="158400" y="1581840"/>
                <a:chExt cx="2593080" cy="754920"/>
              </a:xfrm>
            </p:grpSpPr>
            <p:sp>
              <p:nvSpPr>
                <p:cNvPr id="78" name="Rectangle 5"/>
                <p:cNvSpPr/>
                <p:nvPr/>
              </p:nvSpPr>
              <p:spPr>
                <a:xfrm>
                  <a:off x="248040" y="158184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 u="sng">
                      <a:solidFill>
                        <a:srgbClr val="000000"/>
                      </a:solidFill>
                      <a:uFillTx/>
                      <a:latin typeface="Tahoma"/>
                      <a:ea typeface="Tahoma"/>
                    </a:rPr>
                    <a:t>thick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cuti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32"/>
                <p:cNvSpPr/>
                <p:nvPr/>
              </p:nvSpPr>
              <p:spPr>
                <a:xfrm>
                  <a:off x="158400" y="158184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35"/>
              <p:cNvGrpSpPr/>
              <p:nvPr/>
            </p:nvGrpSpPr>
            <p:grpSpPr>
              <a:xfrm>
                <a:off x="2751840" y="1581840"/>
                <a:ext cx="3328920" cy="754920"/>
                <a:chOff x="2751840" y="1581840"/>
                <a:chExt cx="3328920" cy="754920"/>
              </a:xfrm>
            </p:grpSpPr>
            <p:sp>
              <p:nvSpPr>
                <p:cNvPr id="81" name="Rectangle 6"/>
                <p:cNvSpPr/>
                <p:nvPr/>
              </p:nvSpPr>
              <p:spPr>
                <a:xfrm>
                  <a:off x="2841480" y="158184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ps uncontrolled evaporation through leaf cell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34"/>
                <p:cNvSpPr/>
                <p:nvPr/>
              </p:nvSpPr>
              <p:spPr>
                <a:xfrm>
                  <a:off x="2751840" y="158184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37"/>
              <p:cNvGrpSpPr/>
              <p:nvPr/>
            </p:nvGrpSpPr>
            <p:grpSpPr>
              <a:xfrm>
                <a:off x="6081480" y="1581840"/>
                <a:ext cx="2826720" cy="754920"/>
                <a:chOff x="6081480" y="1581840"/>
                <a:chExt cx="2826720" cy="75492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6170760" y="158184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36"/>
                <p:cNvSpPr/>
                <p:nvPr/>
              </p:nvSpPr>
              <p:spPr>
                <a:xfrm>
                  <a:off x="6081480" y="158184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39"/>
              <p:cNvGrpSpPr/>
              <p:nvPr/>
            </p:nvGrpSpPr>
            <p:grpSpPr>
              <a:xfrm>
                <a:off x="158400" y="2337120"/>
                <a:ext cx="2593080" cy="755280"/>
                <a:chOff x="158400" y="2337120"/>
                <a:chExt cx="2593080" cy="755280"/>
              </a:xfrm>
            </p:grpSpPr>
            <p:sp>
              <p:nvSpPr>
                <p:cNvPr id="87" name="Rectangle 8"/>
                <p:cNvSpPr/>
                <p:nvPr/>
              </p:nvSpPr>
              <p:spPr>
                <a:xfrm>
                  <a:off x="248040" y="233712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 leaf surface are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8"/>
                <p:cNvSpPr/>
                <p:nvPr/>
              </p:nvSpPr>
              <p:spPr>
                <a:xfrm>
                  <a:off x="158400" y="233712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41"/>
              <p:cNvGrpSpPr/>
              <p:nvPr/>
            </p:nvGrpSpPr>
            <p:grpSpPr>
              <a:xfrm>
                <a:off x="2751840" y="2337120"/>
                <a:ext cx="3328920" cy="755280"/>
                <a:chOff x="2751840" y="2337120"/>
                <a:chExt cx="3328920" cy="755280"/>
              </a:xfrm>
            </p:grpSpPr>
            <p:sp>
              <p:nvSpPr>
                <p:cNvPr id="90" name="Rectangle 9"/>
                <p:cNvSpPr/>
                <p:nvPr/>
              </p:nvSpPr>
              <p:spPr>
                <a:xfrm>
                  <a:off x="2841480" y="233712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ess surface area for evapo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40"/>
                <p:cNvSpPr/>
                <p:nvPr/>
              </p:nvSpPr>
              <p:spPr>
                <a:xfrm>
                  <a:off x="2751840" y="233712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43"/>
              <p:cNvGrpSpPr/>
              <p:nvPr/>
            </p:nvGrpSpPr>
            <p:grpSpPr>
              <a:xfrm>
                <a:off x="6081480" y="2337120"/>
                <a:ext cx="2826720" cy="755280"/>
                <a:chOff x="6081480" y="2337120"/>
                <a:chExt cx="2826720" cy="755280"/>
              </a:xfrm>
            </p:grpSpPr>
            <p:sp>
              <p:nvSpPr>
                <p:cNvPr id="93" name="Rectangle 10"/>
                <p:cNvSpPr/>
                <p:nvPr/>
              </p:nvSpPr>
              <p:spPr>
                <a:xfrm>
                  <a:off x="6170760" y="233712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onifer needles, cactus sp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42"/>
                <p:cNvSpPr/>
                <p:nvPr/>
              </p:nvSpPr>
              <p:spPr>
                <a:xfrm>
                  <a:off x="6081480" y="233712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158400" y="3092400"/>
                <a:ext cx="2593080" cy="754920"/>
                <a:chOff x="158400" y="3092400"/>
                <a:chExt cx="2593080" cy="754920"/>
              </a:xfrm>
            </p:grpSpPr>
            <p:sp>
              <p:nvSpPr>
                <p:cNvPr id="96" name="Rectangle 11"/>
                <p:cNvSpPr/>
                <p:nvPr/>
              </p:nvSpPr>
              <p:spPr>
                <a:xfrm>
                  <a:off x="248040" y="309240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w stomata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44"/>
                <p:cNvSpPr/>
                <p:nvPr/>
              </p:nvSpPr>
              <p:spPr>
                <a:xfrm>
                  <a:off x="158400" y="309240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47"/>
              <p:cNvGrpSpPr/>
              <p:nvPr/>
            </p:nvGrpSpPr>
            <p:grpSpPr>
              <a:xfrm>
                <a:off x="2751840" y="3092400"/>
                <a:ext cx="3328920" cy="754920"/>
                <a:chOff x="2751840" y="3092400"/>
                <a:chExt cx="3328920" cy="754920"/>
              </a:xfrm>
            </p:grpSpPr>
            <p:sp>
              <p:nvSpPr>
                <p:cNvPr id="99" name="Rectangle 12"/>
                <p:cNvSpPr/>
                <p:nvPr/>
              </p:nvSpPr>
              <p:spPr>
                <a:xfrm>
                  <a:off x="2841480" y="309240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maller surface area for diffu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6"/>
                <p:cNvSpPr/>
                <p:nvPr/>
              </p:nvSpPr>
              <p:spPr>
                <a:xfrm>
                  <a:off x="2751840" y="309240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49"/>
              <p:cNvGrpSpPr/>
              <p:nvPr/>
            </p:nvGrpSpPr>
            <p:grpSpPr>
              <a:xfrm>
                <a:off x="6081480" y="3092400"/>
                <a:ext cx="2826720" cy="754920"/>
                <a:chOff x="6081480" y="3092400"/>
                <a:chExt cx="2826720" cy="754920"/>
              </a:xfrm>
            </p:grpSpPr>
            <p:sp>
              <p:nvSpPr>
                <p:cNvPr id="102" name="Rectangle 13"/>
                <p:cNvSpPr/>
                <p:nvPr/>
              </p:nvSpPr>
              <p:spPr>
                <a:xfrm>
                  <a:off x="6170760" y="309240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48"/>
                <p:cNvSpPr/>
                <p:nvPr/>
              </p:nvSpPr>
              <p:spPr>
                <a:xfrm>
                  <a:off x="6081480" y="309240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51"/>
              <p:cNvGrpSpPr/>
              <p:nvPr/>
            </p:nvGrpSpPr>
            <p:grpSpPr>
              <a:xfrm>
                <a:off x="158400" y="3847680"/>
                <a:ext cx="2593080" cy="754920"/>
                <a:chOff x="158400" y="3847680"/>
                <a:chExt cx="2593080" cy="754920"/>
              </a:xfrm>
            </p:grpSpPr>
            <p:sp>
              <p:nvSpPr>
                <p:cNvPr id="105" name="Rectangle 14"/>
                <p:cNvSpPr/>
                <p:nvPr/>
              </p:nvSpPr>
              <p:spPr>
                <a:xfrm>
                  <a:off x="248040" y="384768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unken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0"/>
                <p:cNvSpPr/>
                <p:nvPr/>
              </p:nvSpPr>
              <p:spPr>
                <a:xfrm>
                  <a:off x="158400" y="384768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53"/>
              <p:cNvGrpSpPr/>
              <p:nvPr/>
            </p:nvGrpSpPr>
            <p:grpSpPr>
              <a:xfrm>
                <a:off x="2751840" y="3847680"/>
                <a:ext cx="3328920" cy="754920"/>
                <a:chOff x="2751840" y="3847680"/>
                <a:chExt cx="3328920" cy="75492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2841480" y="384768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2"/>
                <p:cNvSpPr/>
                <p:nvPr/>
              </p:nvSpPr>
              <p:spPr>
                <a:xfrm>
                  <a:off x="2751840" y="384768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55"/>
              <p:cNvGrpSpPr/>
              <p:nvPr/>
            </p:nvGrpSpPr>
            <p:grpSpPr>
              <a:xfrm>
                <a:off x="6081480" y="3847680"/>
                <a:ext cx="2826720" cy="754920"/>
                <a:chOff x="6081480" y="3847680"/>
                <a:chExt cx="2826720" cy="75492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6170760" y="384768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4"/>
                <p:cNvSpPr/>
                <p:nvPr/>
              </p:nvSpPr>
              <p:spPr>
                <a:xfrm>
                  <a:off x="6081480" y="384768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57"/>
              <p:cNvGrpSpPr/>
              <p:nvPr/>
            </p:nvGrpSpPr>
            <p:grpSpPr>
              <a:xfrm>
                <a:off x="158400" y="4602960"/>
                <a:ext cx="2593080" cy="754920"/>
                <a:chOff x="158400" y="4602960"/>
                <a:chExt cx="2593080" cy="754920"/>
              </a:xfrm>
            </p:grpSpPr>
            <p:sp>
              <p:nvSpPr>
                <p:cNvPr id="114" name="Rectangle 17"/>
                <p:cNvSpPr/>
                <p:nvPr/>
              </p:nvSpPr>
              <p:spPr>
                <a:xfrm>
                  <a:off x="248040" y="4602960"/>
                  <a:ext cx="2413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tomatal hairs (trichore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56"/>
                <p:cNvSpPr/>
                <p:nvPr/>
              </p:nvSpPr>
              <p:spPr>
                <a:xfrm>
                  <a:off x="158400" y="4602960"/>
                  <a:ext cx="259308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59"/>
              <p:cNvGrpSpPr/>
              <p:nvPr/>
            </p:nvGrpSpPr>
            <p:grpSpPr>
              <a:xfrm>
                <a:off x="2751840" y="4602960"/>
                <a:ext cx="3328920" cy="754920"/>
                <a:chOff x="2751840" y="4602960"/>
                <a:chExt cx="3328920" cy="7549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2841480" y="4602960"/>
                  <a:ext cx="314964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58"/>
                <p:cNvSpPr/>
                <p:nvPr/>
              </p:nvSpPr>
              <p:spPr>
                <a:xfrm>
                  <a:off x="2751840" y="4602960"/>
                  <a:ext cx="33289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61"/>
              <p:cNvGrpSpPr/>
              <p:nvPr/>
            </p:nvGrpSpPr>
            <p:grpSpPr>
              <a:xfrm>
                <a:off x="6081480" y="4602960"/>
                <a:ext cx="2826720" cy="754920"/>
                <a:chOff x="6081480" y="4602960"/>
                <a:chExt cx="2826720" cy="75492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6170760" y="4602960"/>
                  <a:ext cx="2647800" cy="75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couch gr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0"/>
                <p:cNvSpPr/>
                <p:nvPr/>
              </p:nvSpPr>
              <p:spPr>
                <a:xfrm>
                  <a:off x="6081480" y="4602960"/>
                  <a:ext cx="2826720" cy="75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63"/>
              <p:cNvGrpSpPr/>
              <p:nvPr/>
            </p:nvGrpSpPr>
            <p:grpSpPr>
              <a:xfrm>
                <a:off x="158400" y="5357880"/>
                <a:ext cx="2593080" cy="755280"/>
                <a:chOff x="158400" y="5357880"/>
                <a:chExt cx="2593080" cy="755280"/>
              </a:xfrm>
            </p:grpSpPr>
            <p:sp>
              <p:nvSpPr>
                <p:cNvPr id="123" name="Rectangle 20"/>
                <p:cNvSpPr/>
                <p:nvPr/>
              </p:nvSpPr>
              <p:spPr>
                <a:xfrm>
                  <a:off x="248040" y="5357880"/>
                  <a:ext cx="2413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lled leav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62"/>
                <p:cNvSpPr/>
                <p:nvPr/>
              </p:nvSpPr>
              <p:spPr>
                <a:xfrm>
                  <a:off x="158400" y="5357880"/>
                  <a:ext cx="259308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5"/>
              <p:cNvGrpSpPr/>
              <p:nvPr/>
            </p:nvGrpSpPr>
            <p:grpSpPr>
              <a:xfrm>
                <a:off x="2751840" y="5357880"/>
                <a:ext cx="3328920" cy="755280"/>
                <a:chOff x="2751840" y="5357880"/>
                <a:chExt cx="3328920" cy="755280"/>
              </a:xfrm>
            </p:grpSpPr>
            <p:sp>
              <p:nvSpPr>
                <p:cNvPr id="126" name="Rectangle 21"/>
                <p:cNvSpPr/>
                <p:nvPr/>
              </p:nvSpPr>
              <p:spPr>
                <a:xfrm>
                  <a:off x="2841480" y="5357880"/>
                  <a:ext cx="314964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intains humid air around stom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4"/>
                <p:cNvSpPr/>
                <p:nvPr/>
              </p:nvSpPr>
              <p:spPr>
                <a:xfrm>
                  <a:off x="2751840" y="5357880"/>
                  <a:ext cx="33289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67"/>
              <p:cNvGrpSpPr/>
              <p:nvPr/>
            </p:nvGrpSpPr>
            <p:grpSpPr>
              <a:xfrm>
                <a:off x="6081480" y="5357880"/>
                <a:ext cx="2826720" cy="755280"/>
                <a:chOff x="6081480" y="5357880"/>
                <a:chExt cx="2826720" cy="755280"/>
              </a:xfrm>
            </p:grpSpPr>
            <p:sp>
              <p:nvSpPr>
                <p:cNvPr id="129" name="Rectangle 22"/>
                <p:cNvSpPr/>
                <p:nvPr/>
              </p:nvSpPr>
              <p:spPr>
                <a:xfrm>
                  <a:off x="6170760" y="5357880"/>
                  <a:ext cx="264780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rram gras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66"/>
                <p:cNvSpPr/>
                <p:nvPr/>
              </p:nvSpPr>
              <p:spPr>
                <a:xfrm>
                  <a:off x="6081480" y="5357880"/>
                  <a:ext cx="2826720" cy="75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69"/>
              <p:cNvGrpSpPr/>
              <p:nvPr/>
            </p:nvGrpSpPr>
            <p:grpSpPr>
              <a:xfrm>
                <a:off x="158400" y="6113520"/>
                <a:ext cx="2593080" cy="587160"/>
                <a:chOff x="158400" y="6113520"/>
                <a:chExt cx="2593080" cy="587160"/>
              </a:xfrm>
            </p:grpSpPr>
            <p:sp>
              <p:nvSpPr>
                <p:cNvPr id="132" name="Rectangle 23"/>
                <p:cNvSpPr/>
                <p:nvPr/>
              </p:nvSpPr>
              <p:spPr>
                <a:xfrm>
                  <a:off x="248040" y="6113520"/>
                  <a:ext cx="2413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xtensive roo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68"/>
                <p:cNvSpPr/>
                <p:nvPr/>
              </p:nvSpPr>
              <p:spPr>
                <a:xfrm>
                  <a:off x="158400" y="6113520"/>
                  <a:ext cx="259308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71"/>
              <p:cNvGrpSpPr/>
              <p:nvPr/>
            </p:nvGrpSpPr>
            <p:grpSpPr>
              <a:xfrm>
                <a:off x="2751840" y="6113520"/>
                <a:ext cx="3328920" cy="587160"/>
                <a:chOff x="2751840" y="6113520"/>
                <a:chExt cx="3328920" cy="587160"/>
              </a:xfrm>
            </p:grpSpPr>
            <p:sp>
              <p:nvSpPr>
                <p:cNvPr id="135" name="Rectangle 24"/>
                <p:cNvSpPr/>
                <p:nvPr/>
              </p:nvSpPr>
              <p:spPr>
                <a:xfrm>
                  <a:off x="2841480" y="6113520"/>
                  <a:ext cx="314964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aximise water uptak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0"/>
                <p:cNvSpPr/>
                <p:nvPr/>
              </p:nvSpPr>
              <p:spPr>
                <a:xfrm>
                  <a:off x="2751840" y="6113520"/>
                  <a:ext cx="33289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73"/>
              <p:cNvGrpSpPr/>
              <p:nvPr/>
            </p:nvGrpSpPr>
            <p:grpSpPr>
              <a:xfrm>
                <a:off x="6081480" y="6113520"/>
                <a:ext cx="2826720" cy="587160"/>
                <a:chOff x="6081480" y="6113520"/>
                <a:chExt cx="2826720" cy="587160"/>
              </a:xfrm>
            </p:grpSpPr>
            <p:sp>
              <p:nvSpPr>
                <p:cNvPr id="138" name="Rectangle 25"/>
                <p:cNvSpPr/>
                <p:nvPr/>
              </p:nvSpPr>
              <p:spPr>
                <a:xfrm>
                  <a:off x="6170760" y="6113520"/>
                  <a:ext cx="2647800" cy="58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ac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72"/>
                <p:cNvSpPr/>
                <p:nvPr/>
              </p:nvSpPr>
              <p:spPr>
                <a:xfrm>
                  <a:off x="6081480" y="6113520"/>
                  <a:ext cx="2826720" cy="58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Rectangle 75"/>
            <p:cNvSpPr/>
            <p:nvPr/>
          </p:nvSpPr>
          <p:spPr>
            <a:xfrm>
              <a:off x="152280" y="990720"/>
              <a:ext cx="876276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7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8"/>
          <p:cNvSpPr/>
          <p:nvPr/>
        </p:nvSpPr>
        <p:spPr>
          <a:xfrm>
            <a:off x="0" y="44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Xerophyte adaptations summ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-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Cactus"/>
          <p:cNvPicPr/>
          <p:nvPr/>
        </p:nvPicPr>
        <p:blipFill>
          <a:blip r:embed="rId1"/>
          <a:stretch/>
        </p:blipFill>
        <p:spPr>
          <a:xfrm>
            <a:off x="0" y="1371600"/>
            <a:ext cx="3594240" cy="548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actus_colour"/>
          <p:cNvPicPr/>
          <p:nvPr/>
        </p:nvPicPr>
        <p:blipFill>
          <a:blip r:embed="rId2"/>
          <a:srcRect l="10893" t="0" r="8488" b="0"/>
          <a:stretch/>
        </p:blipFill>
        <p:spPr>
          <a:xfrm>
            <a:off x="6067440" y="1371600"/>
            <a:ext cx="3076560" cy="548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xerophyte"/>
          <p:cNvPicPr/>
          <p:nvPr/>
        </p:nvPicPr>
        <p:blipFill>
          <a:blip r:embed="rId3"/>
          <a:srcRect l="7457" t="0" r="7975" b="0"/>
          <a:stretch/>
        </p:blipFill>
        <p:spPr>
          <a:xfrm>
            <a:off x="3340080" y="1371600"/>
            <a:ext cx="307980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82880" y="243000"/>
            <a:ext cx="83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All Cacti are xerophy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76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 and r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pidermis of the cactu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hipsalis dissimili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ef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View of the epidermis surface. The crater-shaped depressions with a guard cell each at their base can be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X-section through the epidermis &amp; underlying tissues. The guard cells are countersunk, the cuticle is thickened. These are classic xerophyte adap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7c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06:00Z</dcterms:created>
  <dc:creator>St Mary's College</dc:creator>
  <dc:description/>
  <dc:language>en-US</dc:language>
  <cp:lastModifiedBy>LEGION2</cp:lastModifiedBy>
  <dcterms:modified xsi:type="dcterms:W3CDTF">2016-01-14T14:24:46Z</dcterms:modified>
  <cp:revision>17</cp:revision>
  <dc:subject/>
  <dc:title>PowerPoint Presentation</dc:title>
</cp:coreProperties>
</file>