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3179-64FE-4928-BB21-95E06E701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99E-03C4-4481-B983-B2BD4982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989-392D-480D-88FF-EBBB77D3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E5C-0C9B-456C-912B-5855F260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7F0-FA6D-4266-8790-850640A8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F9F-1D3C-4CEE-A561-7F3C1C6F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767-F5F0-457F-AB48-819E299A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01D-95B6-4F07-9C18-8AEA0007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4B9-7762-4A9F-AA03-361DA2EC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843-6C19-480A-A63D-AAA43379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B3D-B108-4D3E-BCEB-599E5EDA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B26-A709-452B-9D5E-61E03784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1EE-AA6D-4BAC-9813-B27BAFBA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3DDE-2844-4BA2-AE35-705B14DA4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34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LEGION</cp:lastModifiedBy>
  <cp:lastPrinted>2001-04-20T17:23:54Z</cp:lastPrinted>
  <dcterms:modified xsi:type="dcterms:W3CDTF">2016-12-07T08:31:16Z</dcterms:modified>
  <cp:revision>258</cp:revision>
  <dc:subject/>
  <dc:title>development</dc:title>
</cp:coreProperties>
</file>