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82CC-AE88-44B7-8A76-FAA36E9D5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AC1-41F3-40A8-ACC7-154E9FF3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0DB-DBAC-47F2-AF7A-1BBFB5BD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671-3226-4E46-9EAC-7056A773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0BA-ADC6-4E07-AE1B-A982C091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F6C-991B-484D-AA49-106F0EDD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7C9-E842-417A-96E2-3A9853F9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F77-A8A0-42D8-A866-7249752B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99A-70EF-4EDD-8775-577A9906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45D-C0D5-4F5A-BFEE-89B22592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150-AC5B-47D9-B2D6-AEF1CFE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CB3-0C5D-4D48-ADEF-22C79FD7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FA3-B453-4C6E-8154-5CCD6F73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7D69-7EBC-4BE1-8803-B68E13E0B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34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LEGION</cp:lastModifiedBy>
  <cp:lastPrinted>2001-04-20T17:23:54Z</cp:lastPrinted>
  <dcterms:modified xsi:type="dcterms:W3CDTF">2016-12-07T08:31:16Z</dcterms:modified>
  <cp:revision>258</cp:revision>
  <dc:subject/>
  <dc:title>development</dc:title>
</cp:coreProperties>
</file>