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E2FD-C53C-43A8-944D-B5EB8F755B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917-4496-4282-812C-66B8AE02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85AB-823C-4F63-A3A6-DE1171E4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3E73-89D5-40A0-BAB2-B95E02EC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E27F-4179-40C1-AB83-78975DB6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ECBA-0E5D-491F-9269-4F31F009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F3E9-476F-4030-B9A5-06BA32AB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0A9C-B44A-4C82-B603-76DE1255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BE01-2943-4D24-9F92-FFED15CF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AAF0-2348-4707-AB9D-2ABECEBD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696C-87E6-41D0-AE15-B9813C9E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DD19-04A6-4B0E-B2DF-79E2651D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D91-C100-442C-8F50-C9EFDA1D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9F16-45FD-4A37-B249-88DCBD6B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A962-C3C7-4681-9495-E3FA861E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0913-B295-4158-86C7-A5485186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1D9A-F7B8-4CC7-AFC4-B9A58258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3CFB-DE54-4AE1-A40B-9EDA9145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DB66-B5D4-469A-B562-EB86B7AD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0B71-5CDC-409A-8CD4-92248354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2DA-AC4E-403A-B24A-03EF7517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4D4-6FF0-4C18-8FBD-84BD1D2A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E823-9D18-487D-89AA-07ED46BE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5A3-B2A5-4B62-957B-A1FDBCE1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EB3B-F499-437A-B1D0-74D3271E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4E11-C885-40A8-9D11-7181E40DD3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E82C-E1B0-4826-BE8E-2B7CC075A75B}" type="slidenum"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How do changes in the environment affect organisms?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2" name="Picture 6" descr="j0299587"/>
          <p:cNvPicPr/>
          <p:nvPr/>
        </p:nvPicPr>
        <p:blipFill>
          <a:blip r:embed="rId1"/>
          <a:stretch/>
        </p:blipFill>
        <p:spPr>
          <a:xfrm>
            <a:off x="3693960" y="3733920"/>
            <a:ext cx="1756080" cy="17524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Comic Sans MS"/>
              </a:rPr>
              <a:t>Wilderbeas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34196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Wilderbeast </a:t>
            </a:r>
            <a:r>
              <a:rPr b="0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migrate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ey travel hundreds of miles every winter looking for grass to eat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Grass will only grow where it rains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9" name="Picture 4" descr="mso8EF63"/>
          <p:cNvPicPr/>
          <p:nvPr/>
        </p:nvPicPr>
        <p:blipFill>
          <a:blip r:embed="rId1"/>
          <a:stretch/>
        </p:blipFill>
        <p:spPr>
          <a:xfrm>
            <a:off x="3492360" y="1341360"/>
            <a:ext cx="5256360" cy="46213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ome insects spend winter in protective cases called pupu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is butterfly is emerging from a pup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4" name="Picture 4" descr="mso9F5D1"/>
          <p:cNvPicPr/>
          <p:nvPr/>
        </p:nvPicPr>
        <p:blipFill>
          <a:blip r:embed="rId1"/>
          <a:stretch/>
        </p:blipFill>
        <p:spPr>
          <a:xfrm>
            <a:off x="0" y="1341360"/>
            <a:ext cx="4859280" cy="47768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552600"/>
            <a:ext cx="793116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1ddd4"/>
                </a:solidFill>
                <a:latin typeface="Comic Sans MS"/>
              </a:rPr>
              <a:t>Some plants store their food for winter underground in their roots and stems.</a:t>
            </a:r>
            <a:r>
              <a:rPr b="0" lang="en-GB" sz="4000" spc="-1" strike="noStrike">
                <a:solidFill>
                  <a:srgbClr val="d1ddd4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8" name="Picture 4" descr="msoC90F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80528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quirrels store foods like nuts in the autumn to eat during the winter when there is not much food around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73" name="Picture 4" descr="mso3389D"/>
          <p:cNvPicPr/>
          <p:nvPr/>
        </p:nvPicPr>
        <p:blipFill>
          <a:blip r:embed="rId1"/>
          <a:stretch/>
        </p:blipFill>
        <p:spPr>
          <a:xfrm>
            <a:off x="324000" y="981000"/>
            <a:ext cx="4663800" cy="54007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1ddd4"/>
                </a:solidFill>
                <a:latin typeface="Comic Sans MS"/>
              </a:rPr>
              <a:t>Some animals like tortoises, hedgehogs and bears, cannot store food to keep them warm. Instead they go to sleep in a warm sheltered place, such as undera pile of old leaves or inside an old tree trunk. This is called </a:t>
            </a:r>
            <a:r>
              <a:rPr b="0" lang="en-GB" sz="2000" spc="-1" strike="noStrike">
                <a:solidFill>
                  <a:srgbClr val="cc0000"/>
                </a:solidFill>
                <a:latin typeface="Comic Sans MS"/>
              </a:rPr>
              <a:t>hibernation.</a:t>
            </a:r>
            <a:endParaRPr b="0" lang="en-US" sz="2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76" name="Picture 4" descr="mso627FB"/>
          <p:cNvPicPr/>
          <p:nvPr/>
        </p:nvPicPr>
        <p:blipFill>
          <a:blip r:embed="rId1"/>
          <a:stretch/>
        </p:blipFill>
        <p:spPr>
          <a:xfrm>
            <a:off x="496800" y="1628640"/>
            <a:ext cx="3697200" cy="4608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mso66EA9"/>
          <p:cNvPicPr/>
          <p:nvPr/>
        </p:nvPicPr>
        <p:blipFill>
          <a:blip r:embed="rId2"/>
          <a:stretch/>
        </p:blipFill>
        <p:spPr>
          <a:xfrm>
            <a:off x="4400640" y="1557360"/>
            <a:ext cx="3716280" cy="4680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Arial"/>
              </a:rPr>
              <a:t>Living things are adapted to daily changes in their habitat…………….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Verdana"/>
              </a:rPr>
              <a:t>Flowers open and clos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9" name="Picture 4" descr="msoEB827"/>
          <p:cNvPicPr/>
          <p:nvPr/>
        </p:nvPicPr>
        <p:blipFill>
          <a:blip r:embed="rId1"/>
          <a:stretch/>
        </p:blipFill>
        <p:spPr>
          <a:xfrm>
            <a:off x="539640" y="1341360"/>
            <a:ext cx="8209080" cy="3888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Verdana"/>
              </a:rPr>
              <a:t>Sea anemones pull in their tentacles when the tide goes out to stop them drying out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3" name="Picture 4" descr="mso263F5"/>
          <p:cNvPicPr/>
          <p:nvPr/>
        </p:nvPicPr>
        <p:blipFill>
          <a:blip r:embed="rId1"/>
          <a:stretch/>
        </p:blipFill>
        <p:spPr>
          <a:xfrm rot="21466200">
            <a:off x="971640" y="1268280"/>
            <a:ext cx="7200720" cy="36212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Living things are adapted to seasonal changes in their habitat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Seasonal changes in a garden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garden in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the summer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0" name="Picture 4" descr="mso9AC54"/>
          <p:cNvPicPr/>
          <p:nvPr/>
        </p:nvPicPr>
        <p:blipFill>
          <a:blip r:embed="rId1"/>
          <a:stretch/>
        </p:blipFill>
        <p:spPr>
          <a:xfrm>
            <a:off x="250920" y="1773360"/>
            <a:ext cx="4427280" cy="4427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mso2D81E"/>
          <p:cNvPicPr/>
          <p:nvPr/>
        </p:nvPicPr>
        <p:blipFill>
          <a:blip r:embed="rId2"/>
          <a:stretch/>
        </p:blipFill>
        <p:spPr>
          <a:xfrm>
            <a:off x="4716360" y="1700280"/>
            <a:ext cx="4284720" cy="4284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A woodland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woodland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in spring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5" name="Picture 4" descr="msoAA8ED"/>
          <p:cNvPicPr/>
          <p:nvPr/>
        </p:nvPicPr>
        <p:blipFill>
          <a:blip r:embed="rId1"/>
          <a:stretch/>
        </p:blipFill>
        <p:spPr>
          <a:xfrm>
            <a:off x="395280" y="1700280"/>
            <a:ext cx="4194360" cy="439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soC89DF"/>
          <p:cNvPicPr/>
          <p:nvPr/>
        </p:nvPicPr>
        <p:blipFill>
          <a:blip r:embed="rId2"/>
          <a:stretch/>
        </p:blipFill>
        <p:spPr>
          <a:xfrm>
            <a:off x="4716360" y="1687680"/>
            <a:ext cx="4176720" cy="43336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Arctic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9" name="Picture 4" descr="mso259F9"/>
          <p:cNvPicPr/>
          <p:nvPr/>
        </p:nvPicPr>
        <p:blipFill>
          <a:blip r:embed="rId1"/>
          <a:stretch/>
        </p:blipFill>
        <p:spPr>
          <a:xfrm>
            <a:off x="4788000" y="1557360"/>
            <a:ext cx="4106880" cy="4392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msoD5BCB"/>
          <p:cNvPicPr/>
          <p:nvPr/>
        </p:nvPicPr>
        <p:blipFill>
          <a:blip r:embed="rId2"/>
          <a:stretch/>
        </p:blipFill>
        <p:spPr>
          <a:xfrm>
            <a:off x="468360" y="1630440"/>
            <a:ext cx="4176720" cy="425124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Seashor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53" name="Picture 4" descr="mso31A45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4392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mso22EF7"/>
          <p:cNvPicPr/>
          <p:nvPr/>
        </p:nvPicPr>
        <p:blipFill>
          <a:blip r:embed="rId2"/>
          <a:stretch/>
        </p:blipFill>
        <p:spPr>
          <a:xfrm>
            <a:off x="4716360" y="1557360"/>
            <a:ext cx="4195800" cy="43927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0:31:09Z</dcterms:created>
  <dc:creator>Bella Griffiths</dc:creator>
  <dc:description/>
  <dc:language>en-US</dc:language>
  <cp:lastModifiedBy>LEGION</cp:lastModifiedBy>
  <dcterms:modified xsi:type="dcterms:W3CDTF">2016-12-07T08:31:28Z</dcterms:modified>
  <cp:revision>47</cp:revision>
  <dc:subject/>
  <dc:title>Slide 1</dc:title>
</cp:coreProperties>
</file>