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F998-27FE-40A3-A9C5-C4DDE7DD5CB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4EA76-2765-4E44-A59D-3F014A596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DDCB4-9AAA-4A85-ABE1-DA8DC23D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522E9-FC04-408F-B856-018849BE1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8B51-4994-4742-A15B-A2271DDA5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F5165-47EF-42B1-9E83-4A9B7C19D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8115-AE09-494B-876A-8935E2C54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7AFFF-6D8D-4619-A989-CD70C2816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306BB-C144-4C0C-B687-4178B5380F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BCA8E-6AA4-4ABE-9316-F6F8BEA6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BEB9B-3202-42A7-A049-9C19AF5D8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FD524-A276-4E2D-B75A-B5BC9DB6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921D-9E5A-4C25-A3F5-BB9090850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D2B29-56CC-446B-9318-C6AB12902FF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1939C-37B1-44AD-A7B4-E9A0E153A0BC}"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cp:lastModifiedBy>
  <dcterms:modified xsi:type="dcterms:W3CDTF">2016-12-07T08:31:55Z</dcterms:modified>
  <cp:revision>9</cp:revision>
  <dc:subject/>
  <dc:title>SUPPORT AND TRANSPORT IN PLANTS</dc:title>
</cp:coreProperties>
</file>