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chimes.wav" ContentType="audio/x-wav"/>
  <Override PartName="/ppt/media/image6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03F41-3D4B-4418-8FFA-E8D16F097CE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mponents of the bloo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ir jo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ponents of the bl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ir jo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s on the bl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part of blood carries oxygen to cel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are red blood cells flat disc-shap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job of platele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white blood cells d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how a white blood cell carries out its jo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straw-coloured liquid which carries all the other parts of blood call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 on the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part of blood carries oxygen to cel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red blood cells flat disc-shap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job of platele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white blood cells d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how a white blood cell carries out its jo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straw-coloured liquid which carries all the other parts of blood call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questions on bl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cell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cell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questions on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cell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cell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blood made up of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blood cel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blood cel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eakdown products of digestion, such as glucose, fatty acids and amino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solved mineral sa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blood made up of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blood c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down products of digestion, such as glucose, fatty acids and amino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solved mineral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plasm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sma is the liquid part of the blood which carries everything el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sma is a straw-yellow coloured liqu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everything in plasma was removed, plasma would look like th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plasm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ma is the liquid part of the blood which carries everything el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ma is a straw-yellow coloured liqu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everything in plasma was removed, plasma would look like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the different parts of blood look like under a microscop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the different parts of blood look like under a microscop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job of red blood cel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have a round, flat disc shape for a large surface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do not have a 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contain haemoglobin which combines with oxygen in areas of high concentration to form oxyhaemoglob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ygen + haemoglobin         oxyhaemoglob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blood cells carry oxygen to the cells of the body for use in respi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job of red blood cel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have a round, flat disc shape for a large surface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do not have a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ontain haemoglobin which combines with oxygen in areas of high concentration to form oxyhaemoglo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+ haemoglobin         oxyhaemoglo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blood cells carry oxygen to the cells of the body for use in respi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white blood cells d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blood cells help the body to fight invading bacte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blood cells will engulf and ingest invading bacte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white blood cells d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 help the body to fight invading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 will engulf and ingest invading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important jobs of the white blood cell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produce antibodies which can recognise and fight bacte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produce antitoxins which neutralise the toxins (poisons) that bacteria produce, which make us feel i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important jobs of the white blood cel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produce antibodies which can recognise and fight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produce antitoxins which neutralise the toxins (poisons) that bacteria produce, which make us feel 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platelets d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telets are fragments of cel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job of platelets is to help blood clot and form a sca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telets are involved in the formation of fibrin, which is needed for clotting bl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useful for stopping bleeding, and for preventing germs from entering the body through the c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platelets d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elets are fragments of c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job of platelets is to help blood clot and form a sc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telets are involved in the formation of fibrin, which is needed for clotting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useful for stopping bleeding, and for preventing germs from entering the body through the c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ary of the composition of bl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of the composition of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8313-6D89-438D-830F-91F51624E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9A4A-0EE2-45F1-BF2C-B7283FFE5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A4DA-9F5A-4167-9F5A-66182B6E4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39AE-C822-4799-A6C6-EFEC26E63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1888-50F0-4A68-9C79-9CB0B5A50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8685-EC0E-4FC9-9876-E37FBA82D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A62D-C84E-48FB-AA19-9B918D5E0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B1DC-5EE8-4771-96FB-1BF9BE748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B931-DE7D-4134-87B0-C977D8BAE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5402-A910-4523-AF0B-9C195040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CAFF-3D12-479B-A94E-CD70C802E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7482-BF34-41D9-B223-8C9744048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AE33D-C770-4CB3-BB4E-47DD389DBC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The components of the bloo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and their job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Questions on the bl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at part of blood carries oxygen to cell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y are red blood cells flat disc-shap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at is the job of platele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at do white blood cells d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escribe how a white blood cell carries out its jo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at is the straw-coloured liquid which carries all the other parts of blood cal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More questions on bl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ame cell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ame cell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blood1"/>
          <p:cNvPicPr/>
          <p:nvPr/>
        </p:nvPicPr>
        <p:blipFill>
          <a:blip r:embed="rId1"/>
          <a:stretch/>
        </p:blipFill>
        <p:spPr>
          <a:xfrm>
            <a:off x="2895480" y="1981080"/>
            <a:ext cx="3886200" cy="2971800"/>
          </a:xfrm>
          <a:prstGeom prst="rect">
            <a:avLst/>
          </a:prstGeom>
          <a:ln w="0">
            <a:noFill/>
          </a:ln>
        </p:spPr>
      </p:pic>
      <p:sp>
        <p:nvSpPr>
          <p:cNvPr id="94" name="Line 5"/>
          <p:cNvSpPr/>
          <p:nvPr/>
        </p:nvSpPr>
        <p:spPr>
          <a:xfrm>
            <a:off x="1828800" y="2438280"/>
            <a:ext cx="190512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6"/>
          <p:cNvSpPr/>
          <p:nvPr/>
        </p:nvSpPr>
        <p:spPr>
          <a:xfrm flipH="1" flipV="1">
            <a:off x="6019560" y="4038480"/>
            <a:ext cx="22860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609588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1447920" y="22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What is blood made up of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Red blood cel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ite blood cel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latel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las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Breakdown products of digestion, such as glucose, fatty acids and amino ac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issolved mineral sa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arbon diox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U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horm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What is plasm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lasma is the liquid part of the blood which carries everything el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lasma is a straw-yellow coloured liqu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f everything in plasma was removed, plasma would look like th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Object 4"/>
          <p:cNvGraphicFramePr/>
          <p:nvPr/>
        </p:nvGraphicFramePr>
        <p:xfrm>
          <a:off x="6400800" y="4191120"/>
          <a:ext cx="608040" cy="238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4191120"/>
                    <a:ext cx="608040" cy="23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What do the different parts of blood look like under a microscop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3" descr="blood"/>
          <p:cNvPicPr/>
          <p:nvPr/>
        </p:nvPicPr>
        <p:blipFill>
          <a:blip r:embed="rId1"/>
          <a:stretch/>
        </p:blipFill>
        <p:spPr>
          <a:xfrm>
            <a:off x="1219320" y="1905120"/>
            <a:ext cx="6248160" cy="4419360"/>
          </a:xfrm>
          <a:prstGeom prst="rect">
            <a:avLst/>
          </a:prstGeom>
          <a:ln w="0">
            <a:noFill/>
          </a:ln>
        </p:spPr>
      </p:pic>
      <p:sp>
        <p:nvSpPr>
          <p:cNvPr id="61" name="Line 4"/>
          <p:cNvSpPr/>
          <p:nvPr/>
        </p:nvSpPr>
        <p:spPr>
          <a:xfrm>
            <a:off x="762120" y="2666880"/>
            <a:ext cx="914400" cy="38124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5"/>
          <p:cNvSpPr/>
          <p:nvPr/>
        </p:nvSpPr>
        <p:spPr>
          <a:xfrm>
            <a:off x="914400" y="3124080"/>
            <a:ext cx="609480" cy="60984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0" y="266688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d blood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7"/>
          <p:cNvSpPr/>
          <p:nvPr/>
        </p:nvSpPr>
        <p:spPr>
          <a:xfrm flipH="1" flipV="1">
            <a:off x="5486040" y="3809520"/>
            <a:ext cx="2057400" cy="38124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8"/>
          <p:cNvSpPr/>
          <p:nvPr/>
        </p:nvSpPr>
        <p:spPr>
          <a:xfrm flipH="1" flipV="1">
            <a:off x="4419720" y="2666520"/>
            <a:ext cx="3124080" cy="121932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7467480" y="3809880"/>
            <a:ext cx="106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hite blood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What is the job of red blood cell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y have a round, flat disc shape for a large surface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y do not have a 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y contain haemoglobin which combines with oxygen in areas of high concentration to form oxyhaemoglob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Times New Roman"/>
              </a:rPr>
              <a:t>Oxygen + haemoglobin         oxyhaemoglob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d blood cells carry oxygen to the cells of the body for use in respi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6" descr="red-blood-cells"/>
          <p:cNvPicPr/>
          <p:nvPr/>
        </p:nvPicPr>
        <p:blipFill>
          <a:blip r:embed="rId1"/>
          <a:stretch/>
        </p:blipFill>
        <p:spPr>
          <a:xfrm>
            <a:off x="4724280" y="2133720"/>
            <a:ext cx="4038840" cy="3867120"/>
          </a:xfrm>
          <a:prstGeom prst="rect">
            <a:avLst/>
          </a:prstGeom>
          <a:ln w="0">
            <a:noFill/>
          </a:ln>
        </p:spPr>
      </p:pic>
      <p:sp>
        <p:nvSpPr>
          <p:cNvPr id="71" name="Line 7"/>
          <p:cNvSpPr/>
          <p:nvPr/>
        </p:nvSpPr>
        <p:spPr>
          <a:xfrm>
            <a:off x="2666880" y="46483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What do white blood cells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ite blood cells help the body to fight invading bac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ite blood cells will engulf and ingest invading bac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6" descr="engulfing bacteria"/>
          <p:cNvPicPr/>
          <p:nvPr/>
        </p:nvPicPr>
        <p:blipFill>
          <a:blip r:embed="rId1"/>
          <a:stretch/>
        </p:blipFill>
        <p:spPr>
          <a:xfrm>
            <a:off x="685800" y="2070000"/>
            <a:ext cx="3809880" cy="393552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Other important jobs of the white blood cell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26665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y produce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Times New Roman"/>
              </a:rPr>
              <a:t>antibodie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which can recognise and fight bac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7960" y="26665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y produce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Times New Roman"/>
              </a:rPr>
              <a:t>antitoxin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which neutralise the toxins (poisons) that bacteria produce, which make us feel 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What do platelets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latelets are fragments of cell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job of platelets is to help blood clot and form a sc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platelets are involved in the formation of fibrin, which is needed for clotting bl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useful for stopping bleeding, and for preventing germs from entering the body through the c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Summary of the composition of blo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4" descr="blood composition"/>
          <p:cNvPicPr/>
          <p:nvPr/>
        </p:nvPicPr>
        <p:blipFill>
          <a:blip r:embed="rId1"/>
          <a:stretch/>
        </p:blipFill>
        <p:spPr>
          <a:xfrm>
            <a:off x="457200" y="838080"/>
            <a:ext cx="8153280" cy="541044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6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0T15:39:52Z</dcterms:created>
  <dc:creator> </dc:creator>
  <dc:description/>
  <dc:language>en-US</dc:language>
  <cp:lastModifiedBy>LEGION</cp:lastModifiedBy>
  <dcterms:modified xsi:type="dcterms:W3CDTF">2016-12-07T08:32:40Z</dcterms:modified>
  <cp:revision>7</cp:revision>
  <dc:subject/>
  <dc:title>The components of the blood </dc:title>
</cp:coreProperties>
</file>