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F8DE-9641-413A-88C1-0A019BE2D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2A65-D451-40FE-9E2F-34FCB20B5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43E4-9213-4278-B19A-BBD53DF3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96FB-02B7-4BDA-9B0E-49B4BF9C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E514-856F-4765-A788-5442C3B51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CA81-0BD3-4521-ABE6-2EFA3E08D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803B-BE47-4884-96D2-0DDA9F8F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FC62-3739-4022-A7B2-02447EB2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F621-4FB7-4648-BD64-5BBBC1AF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4C89-F740-47B0-B8C8-762EC641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ACE8-09E4-4D18-AC4A-3F01DF86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3283-7E93-4AFF-B999-0EC5D3A5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E576-8526-4EF0-805C-9C97925F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BE9E-94E0-4173-BECF-0C5B21AF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0915-D454-4CB8-849E-6CCC0041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3A5C-E740-4D73-893F-2167FC1A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1079-522C-495E-9E16-17F20724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DF65-32E2-49C9-B33F-B3C20642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5CAD3-FEBB-48F6-A2BD-566C244F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95D8B-6237-4137-916D-6CD07FBF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26322-77B5-4918-B29B-3EBF4BBF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EBDAD-5561-4158-8890-475CC1B6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CA1EA-AD7C-4A4D-B8D8-35A6D353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BA8E-93D3-4FDF-A986-6954FD91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ABB60-5C9E-4A21-9EC4-1B25A6CF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A1EE0-0E90-4B32-9324-906D2DF5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C0590-33F4-4D66-AA90-D28D533E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F029F-25B4-46BD-86FB-38DA805D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31D7F-A65D-426F-B716-20248966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CAF0E-A373-4C5E-9014-4CC65137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C61C7-5AEC-409A-920A-B31574621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77F90-83E8-4568-AF4F-D381D692E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4D2BB-3CC5-4342-99A6-BB4653A5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49BD1-5B0A-41E4-B99C-30F26CE2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8C1B-B61C-48E3-AC08-7543ED06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E9337-3B6B-4A85-91CC-ED5540C4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77AE4-1527-4124-8AF0-DA38DF33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11D34-4D81-4708-A83D-D836A58D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C5EE9-87F5-4EB3-82FC-C62C6655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71333-0525-4070-B17D-BF863B36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AA5A0-EC46-4DD3-B009-8EDDF2C2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7E206-7756-43A1-BA6B-6D062A1E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32419-CD44-43E5-8F7C-954E9E4F0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3ABDB-7C6D-498A-B026-6DA57CDD4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A96A-671D-425E-BD96-F84EF286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B509-9F8C-4A5E-B0D5-213C6B98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CE80-EF74-4C4B-B126-E0294687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19BC-830D-4193-AC93-70F7D2C4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59C2-EDAB-42B4-8E56-A9C61CBB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43C4-CEC0-4084-ADD1-96F5DF1AA5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C91A-6D3B-48AE-A559-C6FFAAABFB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55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5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57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1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8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8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9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0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3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4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AF9A-95EB-4835-B184-3BB70B0236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61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62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3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265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6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6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5142-403D-4309-BB25-BEB3516EA6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im: How do cells make new cell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Think about it – Without reproduction, all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life on earth would no longer exist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sexual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421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itosi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is the exact duplication of the nucleus of a cell so as to form two identical nuclei during cell divis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9" name="Picture 4" descr="Mitosis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3733560"/>
          </a:xfrm>
          <a:prstGeom prst="rect">
            <a:avLst/>
          </a:prstGeom>
          <a:ln w="0">
            <a:noFill/>
          </a:ln>
        </p:spPr>
      </p:pic>
      <p:sp>
        <p:nvSpPr>
          <p:cNvPr id="33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ypes of Asexual Reprodu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120" y="1717200"/>
            <a:ext cx="441972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inary Fis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occurs in one-celled organisms such as the ameba and paramecium. The nucleus divides by mitosis and the cytoplasm divides, forming 2 new daughter cells of equal siz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3" name="Picture 6" descr="biamoeba"/>
          <p:cNvPicPr/>
          <p:nvPr/>
        </p:nvPicPr>
        <p:blipFill>
          <a:blip r:embed="rId1"/>
          <a:stretch/>
        </p:blipFill>
        <p:spPr>
          <a:xfrm>
            <a:off x="5246640" y="2065320"/>
            <a:ext cx="3600360" cy="18921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TEM-Fission_rod"/>
          <p:cNvPicPr/>
          <p:nvPr/>
        </p:nvPicPr>
        <p:blipFill>
          <a:blip r:embed="rId2"/>
          <a:stretch/>
        </p:blipFill>
        <p:spPr>
          <a:xfrm>
            <a:off x="5710320" y="4145040"/>
            <a:ext cx="2674800" cy="198756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3922200"/>
            <a:ext cx="822636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Budd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Hydra and yeast. The division of cytoplasm is unequal so one of the daughter cells is larger than the other.  The daughter cells can separate or remain attach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8" name="Picture 6" descr="buddingyeast(color)"/>
          <p:cNvPicPr/>
          <p:nvPr/>
        </p:nvPicPr>
        <p:blipFill>
          <a:blip r:embed="rId1"/>
          <a:stretch/>
        </p:blipFill>
        <p:spPr>
          <a:xfrm>
            <a:off x="1279440" y="1712880"/>
            <a:ext cx="2387520" cy="1943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u1fig35"/>
          <p:cNvPicPr/>
          <p:nvPr/>
        </p:nvPicPr>
        <p:blipFill>
          <a:blip r:embed="rId2"/>
          <a:stretch/>
        </p:blipFill>
        <p:spPr>
          <a:xfrm>
            <a:off x="5052960" y="1598760"/>
            <a:ext cx="3220920" cy="217152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Sporulat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molds, mosses, et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43" name="Picture 6" descr="sporulation"/>
          <p:cNvPicPr/>
          <p:nvPr/>
        </p:nvPicPr>
        <p:blipFill>
          <a:blip r:embed="rId1"/>
          <a:stretch/>
        </p:blipFill>
        <p:spPr>
          <a:xfrm>
            <a:off x="846000" y="3922560"/>
            <a:ext cx="3256200" cy="21733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spores"/>
          <p:cNvPicPr/>
          <p:nvPr/>
        </p:nvPicPr>
        <p:blipFill>
          <a:blip r:embed="rId2"/>
          <a:stretch/>
        </p:blipFill>
        <p:spPr>
          <a:xfrm>
            <a:off x="1008000" y="1598760"/>
            <a:ext cx="2930760" cy="217152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7" name="Picture 6" descr="stages"/>
          <p:cNvPicPr/>
          <p:nvPr/>
        </p:nvPicPr>
        <p:blipFill>
          <a:blip r:embed="rId1"/>
          <a:stretch/>
        </p:blipFill>
        <p:spPr>
          <a:xfrm>
            <a:off x="477720" y="1827360"/>
            <a:ext cx="3990960" cy="403848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5.</a:t>
            </a:r>
            <a:r>
              <a:rPr b="1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Regeneration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Refers to the replacement or regrowth of lost or damaged body part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6.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Vegetative Propaga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52" name="Picture 5" descr="potato%20bud1"/>
          <p:cNvPicPr/>
          <p:nvPr/>
        </p:nvPicPr>
        <p:blipFill>
          <a:blip r:embed="rId1"/>
          <a:stretch/>
        </p:blipFill>
        <p:spPr>
          <a:xfrm>
            <a:off x="5181480" y="1981080"/>
            <a:ext cx="3765600" cy="301320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22:44:47Z</dcterms:created>
  <dc:creator>Saul</dc:creator>
  <dc:description/>
  <dc:language>en-US</dc:language>
  <cp:lastModifiedBy>LEGION</cp:lastModifiedBy>
  <dcterms:modified xsi:type="dcterms:W3CDTF">2016-12-07T08:33:08Z</dcterms:modified>
  <cp:revision>29</cp:revision>
  <dc:subject/>
  <dc:title>Aim: How do cells make new cells?</dc:title>
</cp:coreProperties>
</file>