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7FF5-242D-4CE9-9BDE-4319F2632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1F2-95D8-4054-96D9-DF928B6C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0FC9-9A74-427A-ABBF-084B4C7D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1DD87-03BA-4AB3-A295-AF4B5D4F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2DB41-F9A6-43C9-895A-CFE863FA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D75C0-7135-404E-80F7-2A4B5AD0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81BD7-D49F-4614-908E-7660AA74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61656-15BB-4608-B232-A98E9504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D4D70-C07C-4AA2-8C1E-591B4194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6C524-A895-47F0-B6AD-9EC9BA22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9B6CC-848B-4BD1-9999-16D0AFAD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850EF-7350-45D2-B8E4-4231AF6E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D33EB-1AE7-4A9B-8D55-678122B6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1AC-45A2-4F7D-8403-76B3F8D2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B328C-AF1B-4445-81C6-C8B87836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BB2CD-F0C3-4D6F-B4AB-686FE738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5D687-D4CC-43C3-922A-96A9CC3B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052CA-B852-4722-B630-F7781BF0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4FB83-A47C-41C0-A24A-EBE28C31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0D030-4AB0-49D5-A621-DD4A938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B2DF3-555C-42DD-B2B4-631EEC0A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779D1-2628-41C5-A392-DED0DF6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3BCCF-A01D-4C0F-AE41-44E27021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A8620-DFAE-4088-AFD4-4A6DD31E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2F1-0A99-4CB3-B832-9C271F4C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4EA5A-F281-4781-B9E9-B92A2781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46EED-72E1-4856-AF64-BE8C4C89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CAAB5-EF84-419E-946F-B88D79AA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8540F-8628-492B-8450-19EE0C9B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D2A98-23F6-4644-A8B1-1E01FA8E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178C6-2854-42AB-A472-C181CF89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0DCE9-AB58-4461-A908-8B60356A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BBBE3-616B-402E-A1F2-88DA65B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718A8-92CC-491C-88FA-1820C95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89D0A-12E8-4320-8046-E5DE1F19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C71B-7DB5-46DD-A1E9-F0BC2865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F8690-3D80-4EF5-AEA0-26146AF8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1DC45-1D9F-4B1E-BA6E-2CD3100A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4B1E9-32F2-4720-B70F-61C7F5A0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9866E-7619-4DA0-96A0-00AC8131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41EB2-74C9-4982-8E41-D473D7E3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154D7-64D6-48B7-A617-E5DABBE4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81A8D-B028-4A3C-8EB4-58F4D705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8D72E-01D5-4312-AE53-D7A1B9B5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F0583-4876-4CC1-9994-216B7E8B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8743F-6B5E-468D-BAAA-E32834E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3816-0E20-48C8-8F38-823D05D6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C62F3-8DA9-44F1-8271-91974665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AF099-D652-4AA0-9B92-3408EE3F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C658B-B3A8-4C03-9F21-BDEE1D11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6D1C8-4C29-48FB-B3B9-D9539EF0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EB0D2-6FC5-438B-ABAE-15C7424C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1DB5-A1A7-4698-A2D4-899C7251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E322-ED81-4012-92CE-A7E59245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0FB8-876E-41D6-9CBD-F098C3C7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D6C0-3DBB-4635-8362-43CAF74E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7564-9587-406F-883B-FBC85499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917-659A-4E9F-9188-EF76FCE7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4A20-9D65-4BAE-ABFB-465CCB0F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BE41-4E21-4656-8FC4-788947A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B51D-A828-494E-A11C-D5045752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79D3-A1CF-4549-B645-6EEF9D88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7A38-19DE-4696-A371-F0BDE168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445C-2545-43E9-8C14-0D21F9F1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D161-AD2C-4206-AF1B-8E872E6F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D6022-F59B-4815-9FE0-D0CE292E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3953-D941-4ADC-A425-D1A90D12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D935-2E13-4934-83E8-1055C3EE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AA4-4422-4335-B85F-BCD9A4C9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5715-8541-46BC-9324-5E1AF2AB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11B46-9EC6-4D05-A590-45033160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41AA0-D0BF-4B99-BD2B-010886F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01E2-F65C-48D4-AB4D-ECD9CC6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39C7-C8F8-4408-BA1F-00031744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3E46-1CE8-48B2-A50A-C76DE77F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8A31-E55C-48A2-83E9-2BFDCE59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D28AC-643D-45B0-B96E-DCE1F5CC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BA801-1341-44F3-B89C-C57D0BDD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24EE8-D57E-4784-BFFB-CF2017E3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4FE-7238-4FCD-B086-B9D95076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6A56-29E6-40B3-BCC6-8C351A87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D319-82B5-4848-8438-88A39E69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A79E-CBA4-4FED-AD61-6C912C63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40AEE-F17B-4EBC-BED3-718F52B8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CC371-DA20-4B58-B48A-85B7C2DD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7F85-AFDF-4924-9F43-A3247039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5D2A-1773-43A8-B90D-7F615D75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1EE6-5383-43E2-B91D-AF68A974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E6188-F736-4AC9-90E5-A2CA4C4A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4F723-0919-43FC-A7BE-B9D39D0F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3AE-85F7-4CA3-84B3-EC9F19A0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C8467-DD6E-49D6-AFBA-915E6B3E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90E05-BC09-4E1E-A8A4-7BD03A31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3A3AC-F909-450B-85F1-7592A6B2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F0F57-6B18-4482-862D-3314DC06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E3A7-3BBE-469C-85CC-39B030FD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2AF05-330A-4B8B-BF05-3CD41E83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C9885-6C3D-47E9-924D-67E71DCE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385F6-8BD7-4F63-86D4-E4E4376D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A848C-D3BB-496C-9816-C436AD19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0CE33-A386-499C-AAF0-FA83009C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2B1-BF78-4C8B-9918-488E956E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1274-D97A-40E9-9965-B9B5EE1D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49DF3-E532-474A-BCCC-0E734143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30DD8-BC9E-47C6-BBA9-B5BEE553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E3FC5-5958-4F51-8171-9FD4720F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3D8AB-B53A-4729-8547-946B9C5B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F7D1C-8593-4FB9-BD88-D9095486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7AD9C-6E25-49BB-9A1D-5D71393C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9455F-8E20-4773-B4EC-33466554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512DB-7152-4F4D-8EF8-87BB6699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7989F-C35C-4663-A85C-02B8AB49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5BC-BC7F-4257-B964-EBE39852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AB46C-8E9B-4143-B881-BF9DCFF3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0C9A7-2566-4692-9B4D-87B2F9A4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8C591-8EF0-4213-BD3F-6E5C2281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99338-B322-42FA-8C0D-3806E869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1F64B-46C3-4C9B-9264-D6F9DB3B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F8FF8-E868-4299-9AB1-819E9C2D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CF4E8-B052-4859-A5E1-D2B0D7B3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7953F-2BDC-433D-B70A-C224CED3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7C8B6-F147-47AC-BE3F-0E11A01B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9C714-EE15-430A-89F1-6D0E7BD1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7B1-EBB9-4706-8A91-8F342E1B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A2D88-AB70-4996-9341-47A4BB45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E9FA1-93F2-44DA-A3E4-91B22D88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37577-4F74-4853-9BBC-2896C23C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C3E7A-7373-4644-BC5C-8DE3B920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CBAEC-A272-405A-A391-D68C17A9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5DBD5-D3B8-49DD-A8BE-B9B66F77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ED1E0-4E72-40DC-8859-BCE29258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94DF5-FFAD-4103-8A0C-F3ED134B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CABDD-C013-494F-9621-9E148B9C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822C8-4A31-4296-AD23-C34E5321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0C4-E99B-444D-AD7F-57611EF8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235DB-48A4-4D73-B12A-22B6BA37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60531-76AC-4F42-A44E-8B7A6473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A4CB9-4D1A-4B7A-B48A-E10C87AA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0838F-44D2-4B82-B7A7-CF6F5AEB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C9CCF-B3C6-4D70-9F16-4612C389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190E4-E4C7-437C-9229-CF8EE020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55668-E527-4AD4-B9ED-6C276270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9B3AD-9A04-46F1-B307-08034477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3A09D-D1ED-44A1-9DBA-337B6436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1C86C-5303-4277-824B-73082650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8667-3381-4B72-A028-D75430C7ECD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C0D7-74CB-46FE-9CD8-C85EFFD9DA3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955D-CA8F-44A8-9FA3-9EA2FDFA991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5059-05C7-4DC7-B35A-481D7D592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2D5B-BD71-406F-A67D-5A627BFB5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40F5-2619-4021-B25C-8CDB56247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8EF0-C2A7-47BA-8CE6-52656C931A0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640D-A267-4AB6-85E5-150696484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B147-C1F4-42ED-880D-60388EBE9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31ED-B41C-47B8-9CB0-8D98D9864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25F6-87A1-4734-B8F9-2A9B5AAA0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54DC-7281-4B73-AD10-0A8BB2C9C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6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3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40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7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4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1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8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5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2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9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6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3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10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7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4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1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2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9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6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6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3:19Z</dcterms:modified>
  <cp:revision>14</cp:revision>
  <dc:subject/>
  <dc:title>Sexual Reproduction</dc:title>
</cp:coreProperties>
</file>