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0A23-739B-4AA7-AA45-5C93CAAA9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F4A-627D-44BB-801B-DF6DE87A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3BD-C390-4812-9144-30C59207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CE513-A69E-4D7C-81A3-21E809BA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88796-646E-42F9-B261-1BAE2C33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4CCC3-BB5E-44B5-B0D0-BB2F495F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3C47E-AEAD-46A4-B4AB-74A44CFB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2F7B5-6A8A-4FB0-9B70-D1857784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3E270-DBA6-474B-80B5-06C56BB4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A77E4-5FB9-42CA-B16C-59EC8098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40DCC-EBF9-4F21-93C8-FE95ABC8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59573-A88A-4DEC-9A9F-8A4D0C4D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9A630-CF71-433C-98A8-E41314B0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D2B-F4E5-4A1D-8117-FA9F7B17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ACDBF-5BDE-4222-A020-1B22E6BB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12812-8F45-42FF-9306-4CF73998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64522-680F-438C-BD9D-7899CF8B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BA8F3-F84C-4D1D-9055-4E801EFB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3E959-5F89-49D1-8A6D-D3387C1D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3AF32-46CF-41E3-AF6A-B482025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3B3AA-1A5B-4312-B707-3C6B09D1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408C5-CD65-472F-A2FA-1D159ED5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D9A48-3682-46B8-8773-B6CE3A6C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FC304-9DDE-447D-9ABE-9D81F1E3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E08-56A4-49AC-B9AB-401C4300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AD30F-6EA1-4153-8E25-4BD6F16D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F14F2-B7D0-45C7-95CF-BFE62685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BA848-138F-499D-A846-2A16CA59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98395-0DE0-4AE9-9A20-CC368B05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9A871-5447-4566-934D-32BDE6CD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5434D-F579-4732-9115-351E6637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57DF3-2263-45BC-B6C2-11A721EF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17B35-3200-4717-BBB9-6F417EE9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EA11E-43D3-4911-B94C-6E320DA8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B1238-0BB3-42DF-BB7A-1A0BC8C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D266-F457-40EB-84AB-DDD2735F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3F21E-8B22-4E20-8C3C-A1421AD2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6BE84-5442-4964-B2BD-3C08DB44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E3874-456A-4AC9-8FFD-66F46870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0C7A1-D21C-4734-B079-416F159E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9849D-0253-4A73-A035-8BE1B12F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CFAA3-27B7-4E9A-BA03-A5D7B2E3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AF42B-59EB-421C-A72E-FCE9750E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B09A6-9429-47AD-9198-59227829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8EAA4-AD8F-449F-8778-4F5927D4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8816B-075A-4C06-B21F-950A2DEF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FA1F-BD68-4847-A117-3C03FAE7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3F368-5E17-42B6-B6BF-9DC1C094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E28BE-F284-46AB-B588-93C2B4DC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89104-2651-443D-86C4-936E292B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8EE22-926F-43D2-A1B3-034803EE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66E15-9C39-47CC-A8C4-8A7F4FAE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DDBB-76BD-4902-9FB5-271FA4DD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1548-D637-428F-A04D-537B6FDB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E97C-852F-4337-AEDC-4AB81B55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A5BC-2AA2-4B40-A1C2-D85515B6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E1B8-F61B-45A5-84FB-E5F5111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930-D5A9-4636-B65B-D9C0A9D4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A216-3807-4DAE-8C32-60248445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6791-CE74-41F0-987A-74FEFA6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AAF5-53E7-4F26-ADDF-B718A61B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74ED-81A2-4634-B1C0-373EDF14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2D19-C1DC-42AB-ADB1-19EE6374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ABCD-5232-487B-BE0B-D92B987B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5875-94B9-46C6-9AF0-0A171826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ADD9-B61B-4FAF-ACDB-F0523F27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F703-717B-40A9-AA92-3265053D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BA90A-F337-4A5B-88F9-31DFFF55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70D-4D7D-4B4F-B5EA-C018BEEC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813A-2B68-4522-B5D9-4C4D5B13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9E9A-179A-4DBF-B552-611212B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C77E-D043-445B-94FD-2CB1CD94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4FC6B-5692-4A59-BCCF-ECF57B9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1538-30B8-44FB-A3C1-070F48DC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5697-34D2-4987-B7E3-36635F81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ABC99-4F3C-45D9-9FF1-28BBE98E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05FB9-758B-4218-89C7-F51B48F3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E726-3FFF-4990-A443-2E3CE3F8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F27A-7626-4755-99EA-0A208D4A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F91-6EF5-4A69-9057-3B4FB6B7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C2CC7-A308-49BD-80EE-67301E8C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8A3E-19BA-4580-9291-3D448ABE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60EC-F14E-42D2-BCDF-BBFAFB30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5DF1B-00C8-458D-BD40-7EFAC626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3EEA-816D-4AE5-886C-B06345CA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4E6B-A0B2-4F33-B64F-94A8B954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F71D9-E7A7-4266-9AA4-B75ACB28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E8119-5EEA-44BB-8659-1642871F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D012-132C-4333-A8FA-62B95BA8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03D8-4FD3-49C8-A660-2C11DE5C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426-7041-4136-947F-D1AA7250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606C-FD83-471E-88BA-461BB7B6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62B8-23E7-439B-B2D6-76967723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A8825-8DC2-4402-88AE-FB0FBE6D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0A147-BBCC-4828-B05A-0597DA6E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389B5-99AA-4EBA-A28E-71C43A64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BCBFC-7341-43A2-81C6-B96E36D3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867FB-4EEB-4E02-903A-69CD6C53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BCC15-B3E4-4392-B141-D25E8F44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8D1E5-A380-4307-86F9-10D26C9B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F7313-6389-4AE0-8E20-39F193CB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531-6B32-4C5F-940A-8A06D9E0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D727F-73D5-4ED7-9D77-B5CEC6C3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F7FE0-E9ED-40B1-A0FD-B1BBC4EC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2B24A-07B3-400A-B10A-7A98E676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1B647-2323-4208-AB17-B6F9D507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FAAC4-8022-459B-86F0-18F67092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3B6AE-0375-444E-9881-BBA075C9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8F717-7424-41E6-981D-B1F79360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5F161-44FF-4EDF-9D8C-D72AA18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341A6-8A3E-438F-A65A-236AC198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D85A1-305B-4867-89D4-AF9B19F0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1CD-C645-4D26-BB31-24DDB0B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50F55-6770-4D44-AFF9-6E0DB94A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6339E-51D8-4BA1-8FC7-2BF9C6E2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3462-5C4C-4E33-8BBB-A3B153D1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51D1C-7284-4A39-9B1B-F3E47E73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2362A-3B18-45DE-89CC-63849797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1CABE-5E8D-49BB-86F5-8636D85B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2A039-B483-4677-A4B3-1C6FDA65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A273A-8EED-49A0-A345-5F6D5796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7DE68-ABCF-47EC-9C96-7A2EE375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843AB-67BF-4AA4-907C-DEF24C7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538-AAC5-4394-AE22-8665AE59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5ECF4-3A53-43F3-A5DB-404E3B5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DDD6B-7C3F-40F6-A9E2-FC3DCD58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7B91F-4136-43D5-96E0-43CC066B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74F91-DBBE-4E2A-AA4D-AA232FA2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96BD5-7EB6-42AE-B230-69C6E419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76519-C32B-434B-804E-323D6F91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9F9CF-2B33-4A52-A703-A02C00C7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8EA33-C7BE-49C6-9427-5863CB1F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806A2-1CB8-4582-A0E3-13001A9D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0AE9A-AC1E-4C5E-AA19-E11BCF49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7FB-74EB-462F-BE4E-66FB8ACB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598FA-87FC-4409-9A4C-59F8FE4A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1CF9A-18B8-431D-8E8E-A37F540B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DB1E7-FDE7-4F4A-99EF-0FAF1801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93FD4-D71D-4E5F-9DB5-5C963E8B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8C91B-8D7F-42B7-9FC2-C64A1251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DF6D7-C300-4ED5-A147-9E97F2B9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13D05-0526-4F73-BC44-113D3633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DE59D-BD67-4D00-82FD-A52855EA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0CE9C-C26F-4AF5-969E-9642905E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CA875-7E05-495A-915C-70FFE206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7B75-7BFA-4038-8F01-0E441569F18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7C22-A3CA-454B-B036-2E043944DBC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FE7C-F795-4834-AE01-3EC150BE64A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9106-8A01-4812-BBAE-F28F9EA30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0162-3548-438A-B082-B8FA94925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092C-78CD-41E3-9FA9-50C05D0E1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42C7-1E7D-4758-BDA6-B7C7B7BCD07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9B5B-F302-4950-BE3C-63897DE23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07E-3151-4986-866F-55A91D907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0F71-4C34-4486-8E68-88389E71C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1ACD-FA35-4FC6-917B-9779DD2AC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6279-03BE-4109-800F-BF2B064C2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6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3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40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7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4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1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8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5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2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9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6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3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10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7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4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1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2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9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6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6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3:19Z</dcterms:modified>
  <cp:revision>14</cp:revision>
  <dc:subject/>
  <dc:title>Sexual Reproduction</dc:title>
</cp:coreProperties>
</file>