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07FB2-49CD-4CED-BDDE-2AF00562D3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320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1 – Maintaining Dynamic Equilibrium I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 – Nervous Sy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uron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32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1 – Maintaining Dynamic Equilibrium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 –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uro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resting potential maintained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 Distribu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resting potential maintain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 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resting potential maintained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rest, the sodium gates are clos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rane is 50 times more permeable to K+ ions causing them to “leak” ou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uses outside of membrane to have an abundance of + charges compared to inside. The inside of the membrane is negative compared to the outside. This is helped by the (-) proteins etc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sodium-potassium” pump pulls 2 K+ ions in for 3 Na+ ions sent out. This further creates a charge difference!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resting potential maintain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rest, the sodium gates are clo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rane is 50 times more permeable to K+ ions causing them to “leak”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uses outside of membrane to have an abundance of + charges compared to inside. The inside of the membrane is negative compared to the outside. This is helped by the (-) protein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sodium-potassium” pump pulls 2 K+ ions in for 3 Na+ ions sent out. This further creates a charge differenc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 Potenti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chanism by which neurons send impulses. They are comprised of electrical signals generated at the soma and moving along the axon toward the end opposite the soma (motor neuron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 potentials occur in two stag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olariz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lariz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chanism by which neurons send impulses. They are comprised of electrical signals generated at the soma and moving along the axon toward the end opposite the soma (motor neur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 potentials occur in two stag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ola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la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olarization in an action potenti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neuron is excited past its “Threshold” the following events occur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ions (Na+) rush into the axon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neutralizes the negative ions insid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ide of the axon becomes temporarily (+) while the outside becomes temporarily   (-). The reversal of charge is known as “depolarization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by Sodium (Na+) channels open to continue the depolarizati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olarization in an action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neuron is excited past its “Threshold” the following events occu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ions (Na+) rush into the ax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neutralizes the negative ions in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ide of the axon becomes temporarily (+) while the outside becomes temporarily   (-). The reversal of charge is known as “depolarizatio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by Sodium (Na+) channels open to continue the depolar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Have a loo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cgrawhill.ca/school/booksites/biology/student+resources/toc/unit+4+homeostasis+maintaining+dynamic+equilibrium/chapter+12+the+nervous+system/cool+stuff+to+see+and+do/movie+channel+behaviour.php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Have a loo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cgrawhill.ca/school/booksites/biology/student+resources/toc/unit+4+homeostasis+maintaining+dynamic+equilibrium/chapter+12+the+nervous+system/cool+stuff+to+see+and+do/movie+channel+behaviour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lariz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restoring of the (+) charge on the outside of the axon and (-) on the inside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gates open and potassium floods ou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enerates positive charge on the outside of membran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Channels Close (no + charges can get insid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dium/Potassium pump rapidly moves Sodium out of the cel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rther creates the (+) charge outside with a (-) charge insid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la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restoring of the (+) charge on the outside of the axon and (-) on the ins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gates open and potassium floods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enerates positive charge on the outside of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Channels Close (no + charges can get insi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dium/Potassium pump rapidly moves Sodium out of the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rther creates the (+) charge outside with a (-) charge in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ory Perio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ef period of time between the triggering of an impulse and when it is available for another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NEW action potentials can be created during this tim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ory Perio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ef period of time between the triggering of an impulse and when it is available for ano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NEW action potentials can be created during this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atory Condu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jumping” of an impulse between the “Nodes of Ranvier” thus dramatically increasing it’s spe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occurs in axons having Myeli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/s  120 m/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atory Con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jumping” of an impulse between the “Nodes of Ranvier” thus dramatically increasing it’s spe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occurs in axons having Myel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/s  120 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ur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ic functional unit of the nervous system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Send impulses to and from the CNS and PNS and the effectors (muscles/gland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u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ic functional unit of the nervous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Send impulses to and from the CNS and PNS and the effectors (muscles/glan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r None Respons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 axon is stimulated above its threshold it will trigger an impulse down its leng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ength of the response is not dependent upon the stimulu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xon cannot send a mild or strong response. It either responds or does not!!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r No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 axon is stimulated above its threshold it will trigger an impulse down its 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ength of the response is not dependent upon the stimul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xon cannot send a mild or strong response. It either responds or does not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 ILO 06 – Structure of a Neur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Activity 1 and 2 (Go to Wor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 ILO 07 – Nerve Tansmiss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Q. 2, 4, 5, 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critical role Myelin plays to an axon. Include at least two roles it play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 ILO 06 – Structure of a Neu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Activity 1 and 2 (Go to Wor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 ILO 07 – Nerve Tans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Q. 2, 4, 5,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critical role Myelin plays to an axon. Include at least two roles it pl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uron Structu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uron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drite  Fine hair-like extensions on the end of a neur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receive incoming stimuli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Body or Soma  The control center of the neuron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Directs impulses from the dendrites to the ax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  Control center of the Soma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Tells the soma what to d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xon Pathway for the nerve impulse (electrical message) from the soma to the opposite end of the neur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elin Sheath  An insulating layer around an axon. Made up of Schwann cell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des of Ranvier  Gaps between schwann cells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Saltatory Conduction (Situation where speed of an impulse is greatly increased by the message ‘jumping’ the gaps in an axon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drite  Fine hair-like extensions on the end of a neur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receive incoming stimul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Body or Soma  The control center of the neur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Directs impulses from the dendrites to the ax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  Control center of the Som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Tells the soma what to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xon Pathway for the nerve impulse (electrical message) from the soma to the opposite end of the neur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elin Sheath  An insulating layer around an axon. Made up of Schwann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des of Ranvier  Gaps between schwann cel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Saltatory Conduction (Situation where speed of an impulse is greatly increased by the message ‘jumping’ the gaps in an axo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3 types of neur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y Neurons 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s located near recept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s (skin, eyes, ears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ive incoming stimuli from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Neurons  Neurons located near effectors (muscl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gland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y impules to effectors to initiate 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urons  Neurons that relay messages between other neurons such as sensory and motor neurons. (found most often in Brain and Spinal chord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3 types of neu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y Neurons 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s located near recept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s (skin, eyes, ear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ive incoming stimuli from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Neurons  Neurons located near effectors (muscl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glan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y impules to effectors to initiate 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urons  Neurons that relay messages between other neurons such as sensory and motor neurons. (found most often in Brain and Spinal chor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es  Collections of neurons that are joined together by connective tissu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le for transferring impulses from receptors to CNS and back to effecto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es  Collections of neurons that are joined together by connective tiss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le for transferring impulses from receptors to CNS and back to effe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Neurons Operate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at Rest  Resting Potenti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when the neuron is at 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dition where the outside of the membrane is positively(+) charged compared to the inside which is negatively(-) charg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is said to be polariz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has a voltage difference of -70 mV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Neurons Opera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at Rest  Resting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when the neuron is at r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dition where the outside of the membrane is positively(+) charged compared to the inside which is negatively(-) charg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is said to be polariz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has a voltage difference of -70 m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959D-7009-4733-A3B6-17F025C3B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C0CE-915C-4DC4-984A-5CAD8CB8F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9477-ECCE-4F13-A931-673B2683C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A268-FF38-4659-BFE5-8286B89E8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297D7-DEDE-43C5-BDD0-AA51218EF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B05B0-93A2-4C96-9BF2-F84B85BEA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02775-843D-488C-B5DE-14DA9C5BD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4528E-989B-4135-A05C-3DF981325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35CD0-C1BD-4CBB-8900-635F5242E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5A12B-FCAA-4603-8E83-B87E3E70E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DF18C-CFA5-4488-9385-3116D3F6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46E6-B3C5-49AD-B245-7F74C8D29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8232E-5DAC-4F11-A778-92F7F4D3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B2CD3-1382-415C-8665-5EF81679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23D94-8E3C-4F00-A606-19316FC44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82000-7855-47EC-A278-799C550DB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83FF4-D4CF-4722-95B6-489E0C0A4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160A-19D9-4ED8-B430-3D5C44A53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0A80-AB62-442C-8C10-796F74E7E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EBCF-7D16-45A3-840D-8C499249A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1BCF-6B15-4E63-BD80-3B23DBEC4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4F3E-F587-493A-BB7C-38369A13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3E7F-39BD-4E8F-9186-BC51CF41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F5D5-D796-4A3F-9E83-1546A11E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98CCC-C2DE-47F5-AD00-6E876A51399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5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FC6FB-FB75-4EB0-BB77-8E0A0057448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Biology 3201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nit 1 – Maintaining Dynamic Equilibrium I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tion 1 – Nervous Syste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Neuron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How is resting potential maintained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24" name="Picture 4" descr="newnakpump2"/>
          <p:cNvPicPr/>
          <p:nvPr/>
        </p:nvPicPr>
        <p:blipFill>
          <a:blip r:embed="rId1"/>
          <a:stretch/>
        </p:blipFill>
        <p:spPr>
          <a:xfrm>
            <a:off x="457200" y="2502000"/>
            <a:ext cx="8458200" cy="4356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609480" y="175248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00"/>
                </a:solidFill>
                <a:latin typeface="Verdana"/>
              </a:rPr>
              <a:t>Ion Distrib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How is resting potential maintained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rest, the sodium gates are clos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mbrane is 50 times more permeable to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ons causing them to “leak” ou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causes outside of membrane to have an abundance of + charges compared to inside. The inside of the membrane is negative compared to the outside. This is helped by the (-) proteins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“sodium-potassium” pump pulls 2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ons in for 3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ons sent out. This further creates a charge difference!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ction Potenti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echanism by which neurons send impulses. They are comprised of electrical signals generated at the soma and moving along the axon toward the end opposite the soma (motor neuron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tion potentials occur in two stag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polariz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olariz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Depolarization in an action potenti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the neuron is excited past its “Threshold” the following events occu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dium ions (N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rush into the ax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neutralizes the negative ions insid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inside of the axon becomes temporarily (+) while the outside becomes temporarily   (-). The reversal of charge is known as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“depolarization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arby Sodium (N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channels open to continue the depolariz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depolarization"/>
          <p:cNvPicPr/>
          <p:nvPr/>
        </p:nvPicPr>
        <p:blipFill>
          <a:blip r:embed="rId1"/>
          <a:stretch/>
        </p:blipFill>
        <p:spPr>
          <a:xfrm>
            <a:off x="0" y="1400040"/>
            <a:ext cx="9144000" cy="360864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Let’s Have a look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www.mcgrawhill.ca/school/booksites/biology/student+resources/toc/unit+4+homeostasis+maintaining+dynamic+equilibrium/chapter+12+the+nervous+system/cool+stuff+to+see+and+do/movie+channel+behaviour.ph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Repolariza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is the restoring of the (+) charge on the outside of the axon and (-) on the insid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tassium gates open and potassium floods ou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s generates positive charge on the outside of membran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dium Channels Close (no + charges can get insid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Sodium/Potassium pump rapidly moves Sodium out of the cel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rther creates the (+) charge outside with a (-) charge insid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4" descr="refractory period"/>
          <p:cNvPicPr/>
          <p:nvPr/>
        </p:nvPicPr>
        <p:blipFill>
          <a:blip r:embed="rId1"/>
          <a:stretch/>
        </p:blipFill>
        <p:spPr>
          <a:xfrm>
            <a:off x="2438280" y="3398760"/>
            <a:ext cx="6410520" cy="345924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Refractory Period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ief period of time between the triggering of an impulse and when it is available for another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 NEW action potentials can be created during this tim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Saltatory Conductio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“jumping” of an impulse between the “Nodes of Ranvier” thus dramatically increasing it’s spe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ly occurs in axons having Myeli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m/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120 m/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Picture 7" descr="saltatoryconduct2"/>
          <p:cNvPicPr/>
          <p:nvPr/>
        </p:nvPicPr>
        <p:blipFill>
          <a:blip r:embed="rId1"/>
          <a:stretch/>
        </p:blipFill>
        <p:spPr>
          <a:xfrm>
            <a:off x="2057400" y="2438280"/>
            <a:ext cx="4714920" cy="441972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he Neur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basic functional unit of the nervous syst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ff"/>
                </a:solidFill>
                <a:uFillTx/>
                <a:latin typeface="Verdana"/>
              </a:rPr>
              <a:t>Function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end impulses to and from the CNS and PNS and the effectors (muscles/gland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4" descr="cholinerges_neuron"/>
          <p:cNvPicPr/>
          <p:nvPr/>
        </p:nvPicPr>
        <p:blipFill>
          <a:blip r:embed="rId1"/>
          <a:stretch/>
        </p:blipFill>
        <p:spPr>
          <a:xfrm>
            <a:off x="4419720" y="1676520"/>
            <a:ext cx="4724280" cy="435600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ll or None Respons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an axon is stimulated above its threshold it will trigger an impulse down its lengt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trength of the response is not dependent upon the stimulu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axon cannot send a mild or strong response. It either responds or does not!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Homework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ew ILO 06 – Structure of a Neur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lete Activity 1 and 2 (Go to Work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ew ILO 07 – Nerve Tansmis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swer Q. 2, 4, 5, 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critical role Myelin plays to an axon. Include at least two roles it pl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Neuron Structu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4" name="Picture 7" descr="neuron"/>
          <p:cNvPicPr/>
          <p:nvPr/>
        </p:nvPicPr>
        <p:blipFill>
          <a:blip r:embed="rId1"/>
          <a:stretch/>
        </p:blipFill>
        <p:spPr>
          <a:xfrm>
            <a:off x="228600" y="1370160"/>
            <a:ext cx="8915400" cy="561492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519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Dendri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Fine hair-like extensions on the end of a neur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Func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receive incoming stimul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ell Body or Som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he control center of the neur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Function: Directs impulses from the dendrites to the ax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Nucleu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ontrol center of the Soma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: Tells the soma what to d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Axon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athway for the nerve impulse (electrical message) from the soma to the opposite end of the neur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Myelin Shea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 insulating layer around an axon. Made up of Schwann cel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Nodes of Ranvi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Gaps between schwann cell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: Saltatory Conduction (Situation where speed of an impulse is greatly increased by the message ‘jumping’ the gaps in an axon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neuron_structure"/>
          <p:cNvPicPr/>
          <p:nvPr/>
        </p:nvPicPr>
        <p:blipFill>
          <a:blip r:embed="rId1"/>
          <a:stretch/>
        </p:blipFill>
        <p:spPr>
          <a:xfrm>
            <a:off x="0" y="117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ypes of Neuron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are 3 types of neur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Verdana"/>
              </a:rPr>
              <a:t>Sensory Neuro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urons located near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recept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s (skin, eyes, ear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ceive incoming stimuli from th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viron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9900"/>
                </a:solidFill>
                <a:uFillTx/>
                <a:latin typeface="Verdana"/>
              </a:rPr>
              <a:t>Motor Neuro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Neurons located near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effectors 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scle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gland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rry impules to effectors to initiate a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pon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6600"/>
                </a:solidFill>
                <a:uFillTx/>
                <a:latin typeface="Verdana"/>
              </a:rPr>
              <a:t>Interneuro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Neurons that relay messages between other neurons such as sensory and motor neurons. (found most often in Brain and Spinal chord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Types of Neuron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4" name="Picture 7" descr="neuron_types_3"/>
          <p:cNvPicPr/>
          <p:nvPr/>
        </p:nvPicPr>
        <p:blipFill>
          <a:blip r:embed="rId1"/>
          <a:stretch/>
        </p:blipFill>
        <p:spPr>
          <a:xfrm>
            <a:off x="380880" y="722160"/>
            <a:ext cx="8077320" cy="605952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Nerv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rve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ollections of neurons that are joined together by connective tissu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ponsible for transferring impulses from receptors to CNS and back to effecto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00"/>
                </a:solidFill>
                <a:latin typeface="Garamond"/>
              </a:rPr>
              <a:t>How Do Neurons Operate?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ff"/>
                </a:solidFill>
                <a:uFillTx/>
                <a:latin typeface="Verdana"/>
              </a:rPr>
              <a:t>Neuron at Rest </a:t>
            </a:r>
            <a:r>
              <a:rPr b="0" lang="en-US" sz="18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33ff"/>
                </a:solidFill>
                <a:latin typeface="Verdana"/>
              </a:rPr>
              <a:t> Resting Pot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ccurs when the neuron is at res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condition where the </a:t>
            </a:r>
            <a:r>
              <a:rPr b="0" i="1" lang="en-US" sz="1800" spc="-1" strike="noStrike" u="sng">
                <a:solidFill>
                  <a:srgbClr val="99cc00"/>
                </a:solidFill>
                <a:uFillTx/>
                <a:latin typeface="Verdana"/>
              </a:rPr>
              <a:t>outsid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of the membrane is </a:t>
            </a:r>
            <a:r>
              <a:rPr b="0" i="1" lang="en-US" sz="1800" spc="-1" strike="noStrike">
                <a:solidFill>
                  <a:srgbClr val="3333ff"/>
                </a:solidFill>
                <a:latin typeface="Verdana"/>
              </a:rPr>
              <a:t>positively(+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harged compared to the </a:t>
            </a:r>
            <a:r>
              <a:rPr b="0" lang="en-US" sz="1800" spc="-1" strike="noStrike" u="sng">
                <a:solidFill>
                  <a:srgbClr val="999900"/>
                </a:solidFill>
                <a:uFillTx/>
                <a:latin typeface="Verdana"/>
              </a:rPr>
              <a:t>insid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which is </a:t>
            </a:r>
            <a:r>
              <a:rPr b="0" i="1" lang="en-US" sz="1800" spc="-1" strike="noStrike">
                <a:solidFill>
                  <a:srgbClr val="cc0000"/>
                </a:solidFill>
                <a:latin typeface="Verdana"/>
              </a:rPr>
              <a:t>negatively(-)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arg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uron is said to be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polariz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uron has a voltage difference of -70 mV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4" descr="resting1"/>
          <p:cNvPicPr/>
          <p:nvPr/>
        </p:nvPicPr>
        <p:blipFill>
          <a:blip r:embed="rId1"/>
          <a:stretch/>
        </p:blipFill>
        <p:spPr>
          <a:xfrm>
            <a:off x="380880" y="3817800"/>
            <a:ext cx="8763120" cy="267192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0T17:26:53Z</dcterms:created>
  <dc:creator>M. Sceviour</dc:creator>
  <dc:description/>
  <dc:language>en-US</dc:language>
  <cp:lastModifiedBy>LEGION</cp:lastModifiedBy>
  <dcterms:modified xsi:type="dcterms:W3CDTF">2016-12-07T08:33:31Z</dcterms:modified>
  <cp:revision>40</cp:revision>
  <dc:subject/>
  <dc:title>Biology 3201</dc:title>
</cp:coreProperties>
</file>