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7489-600B-4F71-88FD-2E326DF170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107-2CDC-4ADD-BD2F-6C8C887F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096-1F1A-4078-8C1E-C07C77EE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F75-CBDD-42E7-A0D4-F3A8B545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D81-1D49-461A-AEB7-640B26DA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93C-2582-4A81-B661-44A36F3E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EB6-E72D-492E-B0D9-B72F1197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8C5-2870-49B1-AB26-FFCC03CC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0D4-0E3D-48AF-BB52-0524167B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C30-7259-47A8-812E-7BCB7545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CFA-2817-41E6-94C6-136FBA80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4A8-0D1E-496C-8B04-B9A00EB4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1A5-F28D-47B6-A895-2736E38D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2CC9-D0DB-49D5-9047-47BB8AEBC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228600" y="457200"/>
            <a:ext cx="3581280" cy="1211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can10026"/>
          <p:cNvPicPr/>
          <p:nvPr/>
        </p:nvPicPr>
        <p:blipFill>
          <a:blip r:embed="rId2"/>
          <a:srcRect l="23575" t="35840" r="24497" b="46341"/>
          <a:stretch/>
        </p:blipFill>
        <p:spPr>
          <a:xfrm>
            <a:off x="3809880" y="1905120"/>
            <a:ext cx="3048120" cy="1436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038480" y="1523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Scan10027"/>
          <p:cNvPicPr/>
          <p:nvPr/>
        </p:nvPicPr>
        <p:blipFill>
          <a:blip r:embed="rId3"/>
          <a:srcRect l="11818" t="29424" r="9800" b="49904"/>
          <a:stretch/>
        </p:blipFill>
        <p:spPr>
          <a:xfrm>
            <a:off x="0" y="304812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Scan10025"/>
          <p:cNvPicPr/>
          <p:nvPr/>
        </p:nvPicPr>
        <p:blipFill>
          <a:blip r:embed="rId4"/>
          <a:srcRect l="11818" t="47247" r="9800" b="37787"/>
          <a:stretch/>
        </p:blipFill>
        <p:spPr>
          <a:xfrm>
            <a:off x="228600" y="5145120"/>
            <a:ext cx="3581280" cy="1209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0" y="4687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Scan10026"/>
          <p:cNvPicPr/>
          <p:nvPr/>
        </p:nvPicPr>
        <p:blipFill>
          <a:blip r:embed="rId5"/>
          <a:srcRect l="23575" t="35840" r="24497" b="46341"/>
          <a:stretch/>
        </p:blipFill>
        <p:spPr>
          <a:xfrm>
            <a:off x="3809880" y="6593040"/>
            <a:ext cx="3048120" cy="1438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038480" y="6211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Scan10027"/>
          <p:cNvPicPr/>
          <p:nvPr/>
        </p:nvPicPr>
        <p:blipFill>
          <a:blip r:embed="rId6"/>
          <a:srcRect l="11818" t="29424" r="9800" b="49904"/>
          <a:stretch/>
        </p:blipFill>
        <p:spPr>
          <a:xfrm>
            <a:off x="0" y="773604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0" y="7431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nerves diagrams</dc:description>
  <cp:keywords>nerves diagrams</cp:keywords>
  <dc:language>en-US</dc:language>
  <cp:lastModifiedBy>LEGION</cp:lastModifiedBy>
  <dcterms:modified xsi:type="dcterms:W3CDTF">2016-12-07T08:33:41Z</dcterms:modified>
  <cp:revision>6</cp:revision>
  <dc:subject>nerves diagrams</dc:subject>
  <dc:title>nerves diagra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