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62080" y="728640"/>
            <a:ext cx="2733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E920-68D6-4DA8-B70A-1F5FF0FAE1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062080" y="728640"/>
            <a:ext cx="2733840" cy="36432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nsor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tor Neur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B124-82DC-45A1-9339-817A73FE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4399-DF38-41D2-8684-8FA8F81C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956-2852-400F-BABD-8ED48BE5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E91A-A3E4-41B7-B249-4CE5C015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04F-B5BE-4392-890C-981946F4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6CF-C6D0-4668-B431-F08548E3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D3E-6B0F-4BC0-8126-8AA253FA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BA3C-6A2D-4AFE-9D06-FCF6E5E0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28B0-C848-4E8E-9152-0D9E2BA2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A45-467F-48F7-AEB6-73CEF635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403-6E0B-490C-9D50-396E0A0B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10CD-5DE3-4995-A4C7-5FC05137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76AF-88E2-434D-B79A-6E47D5E3E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can10025"/>
          <p:cNvPicPr/>
          <p:nvPr/>
        </p:nvPicPr>
        <p:blipFill>
          <a:blip r:embed="rId1"/>
          <a:srcRect l="11818" t="47247" r="9800" b="37787"/>
          <a:stretch/>
        </p:blipFill>
        <p:spPr>
          <a:xfrm>
            <a:off x="228600" y="457200"/>
            <a:ext cx="3581280" cy="1211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0" y="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ensor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Scan10026"/>
          <p:cNvPicPr/>
          <p:nvPr/>
        </p:nvPicPr>
        <p:blipFill>
          <a:blip r:embed="rId2"/>
          <a:srcRect l="23575" t="35840" r="24497" b="46341"/>
          <a:stretch/>
        </p:blipFill>
        <p:spPr>
          <a:xfrm>
            <a:off x="3809880" y="1905120"/>
            <a:ext cx="3048120" cy="1436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038480" y="1523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la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Scan10027"/>
          <p:cNvPicPr/>
          <p:nvPr/>
        </p:nvPicPr>
        <p:blipFill>
          <a:blip r:embed="rId3"/>
          <a:srcRect l="11818" t="29424" r="9800" b="49904"/>
          <a:stretch/>
        </p:blipFill>
        <p:spPr>
          <a:xfrm>
            <a:off x="0" y="3048120"/>
            <a:ext cx="3886200" cy="1407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0" y="2743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Motor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Scan10025"/>
          <p:cNvPicPr/>
          <p:nvPr/>
        </p:nvPicPr>
        <p:blipFill>
          <a:blip r:embed="rId4"/>
          <a:srcRect l="11818" t="47247" r="9800" b="37787"/>
          <a:stretch/>
        </p:blipFill>
        <p:spPr>
          <a:xfrm>
            <a:off x="228600" y="5145120"/>
            <a:ext cx="3581280" cy="1209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0" y="4687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ensor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Scan10026"/>
          <p:cNvPicPr/>
          <p:nvPr/>
        </p:nvPicPr>
        <p:blipFill>
          <a:blip r:embed="rId5"/>
          <a:srcRect l="23575" t="35840" r="24497" b="46341"/>
          <a:stretch/>
        </p:blipFill>
        <p:spPr>
          <a:xfrm>
            <a:off x="3809880" y="6593040"/>
            <a:ext cx="3048120" cy="1438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038480" y="6211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Relay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4" descr="Scan10027"/>
          <p:cNvPicPr/>
          <p:nvPr/>
        </p:nvPicPr>
        <p:blipFill>
          <a:blip r:embed="rId6"/>
          <a:srcRect l="11818" t="29424" r="9800" b="49904"/>
          <a:stretch/>
        </p:blipFill>
        <p:spPr>
          <a:xfrm>
            <a:off x="0" y="7736040"/>
            <a:ext cx="3886200" cy="1407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0" y="7431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Motor Neu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nerves diagrams</dc:description>
  <cp:keywords>nerves diagrams</cp:keywords>
  <dc:language>en-US</dc:language>
  <cp:lastModifiedBy>LEGION</cp:lastModifiedBy>
  <dcterms:modified xsi:type="dcterms:W3CDTF">2016-12-07T08:33:41Z</dcterms:modified>
  <cp:revision>6</cp:revision>
  <dc:subject>nerves diagrams</dc:subject>
  <dc:title>nerves diagra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