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0.jpeg" ContentType="image/jpeg"/>
  <Override PartName="/ppt/media/image11.gif" ContentType="image/gif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81E1-0332-4219-9887-1CDD8A6A58F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Y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ye is an extension of the br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ye is an extension of the b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stance 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ys enter the eye closer togeth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ed less bend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nner lens nee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ys enter the eye closer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less be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ner le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ging lens thickn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ens is slightly elastic, its relaxed state is short and fa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lary muscles are attached to the lens, when contracted they pull the lens th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lens thic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is slightly elastic, its relaxed state is short and f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lary muscles are attached to the lens, when contracted they pull the lens 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rolling light leve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r eye are very sensitive and can be damaged by harsh light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r iris controls light allowed into the eye by changing the size of the pupi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ling light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eye are very sensitive and can be damaged by harsh ligh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iris controls light allowed into the eye by changing the size of the pup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ye brain proxom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you see 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optic nerve bundl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inal cord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 brain proxom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se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ptic nerve bund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al cor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 must know the position of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lero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tic ner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lary musc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spensory liga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know the position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lero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lary mus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spensory liga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tina – receives the im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ll of light receptors which are sensitive to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leve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ssive blood supply is also nee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vea is the main focal point and has greatest density of light recep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 – receives the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 of light receptors which are sensitiv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ive blood supply is also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vea is the main focal point and has greatest density of light 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tina recep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receptors are called rods and c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 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receptors are called rods and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ing on obj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ens and cornea focus the light on the reti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ing on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and cornea focus the light on 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ens job is to make the rays hit the same poi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red rays will be out of f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job is to make the rays hit the same poi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d rays will be out of f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nding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is refracted and bent to focus it as it passes through the le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s thickness can be changed so the amount of bending is chang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d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refracted and bent to focus it as it passes through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 thickness can be changed so the amount of bending is cha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ar 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bend the light more to focus 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at lens nee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nd the light more to focus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 le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6132-8E20-4FF0-B48A-FC42C6ACF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E1DA-BB66-4CFA-BD9B-E791F66C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5A76-87DD-4F0D-85FC-0F4ACDCDF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55D5-7C65-4347-9819-F9EB600F2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0CCFD-7C89-4044-B1E1-58C037E5F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F8AD-6948-4475-B7CF-A575D3E4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D2DF-7ED4-4DC2-B3F3-8CB685B8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5116E-E5B9-4505-94B7-2694FE38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3B2F-0F9F-4863-9F54-2437DC1A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C6522-073C-4046-8093-F334FBAB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FBC46-B465-4EAD-89FC-CE969E43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0082-A6D5-4745-B8AD-D906AE3E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0DB95-2F91-4BEF-B78F-43662686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0EB3-248A-4144-B74C-3EC210A6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87B7-C6BB-4608-B189-8547EB67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10D92-B14A-4535-8B54-DCC655225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58B8-3882-422E-973F-29ABCE07A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86AE-0A03-488E-A8F2-50D7D1A3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15CE-631A-4479-9E0E-738603FA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16AD-9F15-43B6-A2A2-223B9A8E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B625-434E-4FA7-A81D-F5E76470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3BE0-59AA-4BD5-9258-01E033C2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10E2-BF59-43B3-889B-8885704B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0E30-428E-476A-9C8C-692662E0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403A-C0F1-4AED-BD59-591040BBED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233B-4C9B-439B-AEB1-CA60449005E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2057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Y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Picture 1029" descr="Eye Brain"/>
          <p:cNvPicPr/>
          <p:nvPr/>
        </p:nvPicPr>
        <p:blipFill>
          <a:blip r:embed="rId1"/>
          <a:stretch/>
        </p:blipFill>
        <p:spPr>
          <a:xfrm>
            <a:off x="2438280" y="380880"/>
            <a:ext cx="6019920" cy="59436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031"/>
          <p:cNvSpPr/>
          <p:nvPr/>
        </p:nvSpPr>
        <p:spPr>
          <a:xfrm>
            <a:off x="304920" y="22096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eye is an extension of the br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Distance vi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2767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ays enter the eye closer toge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eed less be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inner lens nee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5" descr="eyeparts"/>
          <p:cNvPicPr/>
          <p:nvPr/>
        </p:nvPicPr>
        <p:blipFill>
          <a:blip r:embed="rId1"/>
          <a:stretch/>
        </p:blipFill>
        <p:spPr>
          <a:xfrm>
            <a:off x="3886200" y="1981080"/>
            <a:ext cx="4724280" cy="403884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hanging lens thickn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3809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lens is slightly elastic, its relaxed state is short and f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5181480" y="990720"/>
            <a:ext cx="39625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lary muscles are attached to the lens, when contracted they pull the lens th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7" descr="eye lens move"/>
          <p:cNvPicPr/>
          <p:nvPr/>
        </p:nvPicPr>
        <p:blipFill>
          <a:blip r:embed="rId1"/>
          <a:stretch/>
        </p:blipFill>
        <p:spPr>
          <a:xfrm>
            <a:off x="1447920" y="2895480"/>
            <a:ext cx="6172200" cy="34290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trolling light leve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Your eye are very sensitive and can be damaged by harsh ligh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Your iris controls light allowed into the eye by changing the size of the pup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5" descr="eye front pic"/>
          <p:cNvPicPr/>
          <p:nvPr/>
        </p:nvPicPr>
        <p:blipFill>
          <a:blip r:embed="rId1"/>
          <a:stretch/>
        </p:blipFill>
        <p:spPr>
          <a:xfrm>
            <a:off x="3809880" y="2743200"/>
            <a:ext cx="5105520" cy="3886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eye pupil"/>
          <p:cNvPicPr/>
          <p:nvPr/>
        </p:nvPicPr>
        <p:blipFill>
          <a:blip r:embed="rId2"/>
          <a:stretch/>
        </p:blipFill>
        <p:spPr>
          <a:xfrm>
            <a:off x="5562720" y="380880"/>
            <a:ext cx="1896840" cy="213372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ye brain proxomi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28195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you see 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optic nerve bundl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pinal cor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4" descr="photo brain eye"/>
          <p:cNvPicPr/>
          <p:nvPr/>
        </p:nvPicPr>
        <p:blipFill>
          <a:blip r:embed="rId1"/>
          <a:stretch/>
        </p:blipFill>
        <p:spPr>
          <a:xfrm>
            <a:off x="4076640" y="609480"/>
            <a:ext cx="4076640" cy="57913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ross se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243864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You must know the position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Ret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e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rn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clero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Optic ner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ilary musc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uspensory liga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10" descr="eye2"/>
          <p:cNvPicPr/>
          <p:nvPr/>
        </p:nvPicPr>
        <p:blipFill>
          <a:blip r:embed="rId1"/>
          <a:stretch/>
        </p:blipFill>
        <p:spPr>
          <a:xfrm>
            <a:off x="3429000" y="1066680"/>
            <a:ext cx="5029200" cy="487692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etina – receives the imag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ull of light receptors which are sensitive 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lo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ght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ssive blood supply is also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5" descr="retina"/>
          <p:cNvPicPr/>
          <p:nvPr/>
        </p:nvPicPr>
        <p:blipFill>
          <a:blip r:embed="rId1"/>
          <a:stretch/>
        </p:blipFill>
        <p:spPr>
          <a:xfrm>
            <a:off x="3505320" y="1752480"/>
            <a:ext cx="4876560" cy="39625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5715000" y="419112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ovea is the main focal point and has greatest density of light recep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etina recep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48160" y="2133360"/>
            <a:ext cx="2514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ight receptors are called rods and c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4" descr="eye retina receptor"/>
          <p:cNvPicPr/>
          <p:nvPr/>
        </p:nvPicPr>
        <p:blipFill>
          <a:blip r:embed="rId1"/>
          <a:stretch/>
        </p:blipFill>
        <p:spPr>
          <a:xfrm>
            <a:off x="609480" y="1905120"/>
            <a:ext cx="5486400" cy="38862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Focusing on objec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2514600"/>
            <a:ext cx="27432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lens and cornea focus the light on the ret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5" descr="eye focus"/>
          <p:cNvPicPr/>
          <p:nvPr/>
        </p:nvPicPr>
        <p:blipFill>
          <a:blip r:embed="rId1"/>
          <a:stretch/>
        </p:blipFill>
        <p:spPr>
          <a:xfrm>
            <a:off x="3809880" y="9907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Focus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38680" y="1828440"/>
            <a:ext cx="28195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lens job is to make the rays hit the same poi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red rays will be out of foc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5" descr="eye xsect focus"/>
          <p:cNvPicPr/>
          <p:nvPr/>
        </p:nvPicPr>
        <p:blipFill>
          <a:blip r:embed="rId1"/>
          <a:stretch/>
        </p:blipFill>
        <p:spPr>
          <a:xfrm>
            <a:off x="609480" y="1981080"/>
            <a:ext cx="4419720" cy="358164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Bending ligh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ght is refracted and bent to focus it as it passes through the le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ens thickness can be changed so the amount of bending is chang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6" descr="lens focus"/>
          <p:cNvPicPr/>
          <p:nvPr/>
        </p:nvPicPr>
        <p:blipFill>
          <a:blip r:embed="rId1"/>
          <a:stretch/>
        </p:blipFill>
        <p:spPr>
          <a:xfrm>
            <a:off x="4648320" y="1905120"/>
            <a:ext cx="3809880" cy="31226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Near vi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2590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o bend the light more to focus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at lens nee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6" descr="eye focus book"/>
          <p:cNvPicPr/>
          <p:nvPr/>
        </p:nvPicPr>
        <p:blipFill>
          <a:blip r:embed="rId1"/>
          <a:stretch/>
        </p:blipFill>
        <p:spPr>
          <a:xfrm>
            <a:off x="2971800" y="1828800"/>
            <a:ext cx="5905440" cy="395604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09:03:31Z</dcterms:created>
  <dc:creator>RM</dc:creator>
  <dc:description/>
  <dc:language>en-US</dc:language>
  <cp:lastModifiedBy>LEGION</cp:lastModifiedBy>
  <dcterms:modified xsi:type="dcterms:W3CDTF">2016-12-07T08:34:03Z</dcterms:modified>
  <cp:revision>15</cp:revision>
  <dc:subject/>
  <dc:title>The Eye</dc:title>
</cp:coreProperties>
</file>