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BC00-0634-4A85-A281-673353B4C2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B3A-451B-4627-9CCE-612173DC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29D-70A8-4051-93DC-385A87AA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0DA-FAEE-475C-9F9B-11A57C5B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F62-769F-4413-9697-DE1F7AD2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1B4-DDEA-49ED-8D73-DAE9146F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B69-6B5E-40D4-A6C2-7171A79D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566-958B-430D-B767-2191AB75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980-8C15-49CE-8AEE-D0C72F92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0E9-27D9-4E87-A3B5-728F7BD7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DFC3-08D1-4F56-AEE0-81E70077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20E2-04B8-4A7B-98CC-411078BE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C43-68BE-46C2-AA2F-DC812DED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4C59-AEEF-4070-85A2-90B7FCD0F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4, the Carbo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557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metal carbon exists as an element in several f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’re familiar with two of them—diamond and graph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5"/>
          <p:cNvPicPr/>
          <p:nvPr/>
        </p:nvPicPr>
        <p:blipFill>
          <a:blip r:embed="rId1"/>
          <a:stretch/>
        </p:blipFill>
        <p:spPr>
          <a:xfrm>
            <a:off x="3909960" y="1981080"/>
            <a:ext cx="3944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90680"/>
            <a:ext cx="739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also is found in all living thing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21016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is followed by the metalloid silicon, an abundant element contained in sa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3520" y="324468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 contains ground up particles of minerals such as quartz, which is composed of silicon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3520" y="4822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 is an important product made from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13716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and its Group 14 neighbor, germanium, are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2460600"/>
            <a:ext cx="548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sed in electronics as semicondu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508200"/>
            <a:ext cx="5105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micond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esn’t conduct electricity as well as metal, but does conduct electricity better than a nonmet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im27 semiconductor"/>
          <p:cNvPicPr/>
          <p:nvPr/>
        </p:nvPicPr>
        <p:blipFill>
          <a:blip r:embed="rId1"/>
          <a:stretch/>
        </p:blipFill>
        <p:spPr>
          <a:xfrm>
            <a:off x="5715000" y="2057400"/>
            <a:ext cx="2965320" cy="3298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873000" y="3962520"/>
            <a:ext cx="4765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and lead are the two heaviest elements in Group 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21430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is used to protect your torso during dental X ray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3520" y="307008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48736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is used in pewter, toothpaste, and the coating on steel cans used fo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7:32Z</dcterms:created>
  <dc:creator>CIC1</dc:creator>
  <dc:description/>
  <dc:language>en-US</dc:language>
  <cp:lastModifiedBy>RomaK</cp:lastModifiedBy>
  <dcterms:modified xsi:type="dcterms:W3CDTF">2015-09-02T05:50:50Z</dcterms:modified>
  <cp:revision>6</cp:revision>
  <dc:subject/>
  <dc:title>Group 14, the Carbon Group</dc:title>
</cp:coreProperties>
</file>