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39AB-4E32-4210-BF7B-43C158F29E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6CA-F93F-4DD8-AFF1-F80910AE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2EF-783C-4950-88AE-BDC42B00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F8E-CD2B-40BE-94F5-84588AE6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C45-AD35-44F0-B9F8-6783D083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BC2-56AD-47ED-AF13-E291E3CB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30C-1324-473F-9E8A-7663F881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DDE-53D2-4089-A1B8-77855D39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A22-F9D5-4EDA-8035-CAD24648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325-D21D-442C-91F5-08D0E885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479-7BB4-41B9-8033-22F96053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A45-FC9F-4153-8A00-6BCF9904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BC8-05AB-4A22-963D-AC133C1A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A7C1-6D5D-4C8D-A93F-137BBD371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4, the Carbo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55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metal carbon exists as an element in several f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’re familiar with two of them—diamond and graph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5"/>
          <p:cNvPicPr/>
          <p:nvPr/>
        </p:nvPicPr>
        <p:blipFill>
          <a:blip r:embed="rId1"/>
          <a:stretch/>
        </p:blipFill>
        <p:spPr>
          <a:xfrm>
            <a:off x="3909960" y="1981080"/>
            <a:ext cx="3944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9068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also is found in all living thing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21016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followed by the metalloid silicon, an abundant element contained in sa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3520" y="324468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 contains ground up particles of minerals such as quartz, which is composed of silicon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4822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 is an important product made from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13716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and its Group 14 neighbor, germanium, are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2460600"/>
            <a:ext cx="548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sed in electronics as semicondu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508200"/>
            <a:ext cx="5105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ond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n’t conduct electricity as well as metal, but does conduct electricity better than a nonme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im27 semiconductor"/>
          <p:cNvPicPr/>
          <p:nvPr/>
        </p:nvPicPr>
        <p:blipFill>
          <a:blip r:embed="rId1"/>
          <a:stretch/>
        </p:blipFill>
        <p:spPr>
          <a:xfrm>
            <a:off x="5715000" y="2057400"/>
            <a:ext cx="2965320" cy="3298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873000" y="3962520"/>
            <a:ext cx="4765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and lead are the two heaviest elements in Group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21430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s used to protect your torso during dental X ray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3520" y="3070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8736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is used in pewter, toothpaste, and the coating on steel cans used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7:32Z</dcterms:created>
  <dc:creator>CIC1</dc:creator>
  <dc:description/>
  <dc:language>en-US</dc:language>
  <cp:lastModifiedBy>RomaK</cp:lastModifiedBy>
  <dcterms:modified xsi:type="dcterms:W3CDTF">2015-09-02T05:50:50Z</dcterms:modified>
  <cp:revision>6</cp:revision>
  <dc:subject/>
  <dc:title>Group 14, the Carbon Group</dc:title>
</cp:coreProperties>
</file>