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gif" ContentType="image/gif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E094-22B8-49A2-8D52-4A31C8ECE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IOENERGETIC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IOENERGE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at is Metabolism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sum total of the chemical activities of all cells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Metabolis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um total of the chemical activities of all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wo Types of Metabolis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Pathway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 Pathway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 of Metaboli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Pathw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 Pathw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Pathwa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, which consume energy (endergonic), to build complicated molecules from simpler compounds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CO2   +  6H2O    C6H12O6   + 6O2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Path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reactions, which consume energy (endergonic), to build complicated molecules from simpler compou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   +  6H2O    C6H12O6   +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 Pathwa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 which release energy (exergonic) by breaking down complex molecules in simpler compou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+ 6O2    6CO2  +  6H2O  +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 Path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reactions which release energy (exergonic) by breaking down complex molecules in simpler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+ 6O2    6CO2  +  6H2O  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Energy -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ar Energy -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omponents: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1. adenine: nitrogenous base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2. ribose: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five carbon sugar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3.phosphate group:  chain of 3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nent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adenine: 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ribos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five 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phosphate group:  chain of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ree phosphate groups-(two with high energy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Last phosphate group (PO4) contains the MOST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phosphate groups-(two with high energy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st phosphate group (PO4) contains the MOST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reaking the Bonds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rocess is called phosphoryl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ccurs continually in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zyme ATP-ase can weaken &amp; break last PO4 bond releasing energy &amp; free PO4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eaking the Bonds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called phosphory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continually in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ATP-ase can weaken &amp; break last PO4 bond releasing energy &amp; free P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does ATP work 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ganisms use enzymes to break down energy-rich glucose to release its 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is energy is trapped and stored in the form of adenosine triphosphate(ATP) 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TP work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sms use enzymes to break down energy-rich glucose to release its 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energy is trapped and stored in the form of adenosine triphosphate(ATP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Much ATP Do Cells Use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It is estimated that each cell will generate and consume approximately 10,000,000 molecules of ATP per second 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Much ATP Do Cells Us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is estimated that each cell will generate and consume approximately 10,000,000 molecules of ATP per seco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at is Bioenergetics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study of energy in living systems (environments) and the organisms (plants and animals) that utilize the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Bioenergetic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udy of energy in living systems (environments) and the organisms (plants and animals) that utilize th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oupled Reaction -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exergonic hydrolysis of ATP is coupled with the endergonic dehydration process by transferring a phosphate group to another molecule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P + 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upled Reaction -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xergonic hydrolysis of ATP is coupled with the endergonic dehydration process by transferring a phosphate group to another molecu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P + 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  +  H2O      ADP +  P   (exergonic)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  +  H2O      ADP +  P   (exergon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rolysis is Ex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Used by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rolysis is Ex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Used b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P +   P       ATP + H2O (endergonic)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(Remove 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hydration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P +   P       ATP + H2O (endergon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hydratio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Remove 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 is End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is restored in Chemical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hydration is End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is restored in Chemical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view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many high energy phosphate bonds does ATP have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many high energy phosphate bonds does ATP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ich is true of photosyntheis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ich is true of photosynthei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breakdown of ATP is due to: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 added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 removed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eakdown of ATP is due to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hydratio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added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remo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ich Reactions are often Coupled in Organism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  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Dehyd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sm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   or         Catabolis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ich Reactions are often Coupled in Organis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Dehyd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sm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or         Cataboli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quired by all organism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ay be Kinetic or 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quired by all organis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y be Kinetic or 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ady for the test? If not, review and try again!!!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dy for the test? If not, review and try again!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Kinetic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of Mo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eat and light energy are example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inetic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of Mo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at and light energy are 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of posi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Includes energy stored in chemical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of pos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s energy stored in chemical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wo Types of Energy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 of Energy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hemical reaction that requires a net input of energy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CO2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+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H2O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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 +  6O2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reaction that requires a net input of energ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H2O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+ 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hemical reactions that releases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 + 6O2   6CO2 + 6H2O+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reactions that releases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+ 6O2   6CO2 + 6H2O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 of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etabolic Reactions of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28E-7AF4-4C69-AC79-17420B39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9D3-D249-4D12-BF3F-F9E42A39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897-3F17-4260-8647-B52E2804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DE1-2E22-4655-835E-D1AA0731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D0EB-F7B4-487B-B6F8-422C096F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AE7D-0C74-47D5-B6F6-A140114A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6457-6586-454E-9C97-B70C2E71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4CD9-C65C-4B34-A4DB-F55BAE96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8EFA-0DA5-488D-B318-9C9B04B1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2790-7192-420A-9BB6-2F5F774A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3BDC-C1A2-4A4C-A218-BD3F0F9A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5E8-D879-40A6-A71E-B1A1821F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8BCD-D061-476E-A26E-348B871D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0646-E318-4664-BCED-4531F9EE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8BD0-AEA9-472E-8199-3581B6CA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0D28-4F0F-47C7-B88F-1313437B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DE51-01FA-4A63-89B0-E0D093A2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650-A699-4C44-8DD8-1778BCB7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439-F41C-4816-AFA8-1473231A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63E-7DFE-41ED-862B-18CDFF10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8AA-1E5C-4891-A492-0EF8D78C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AC4-4301-49D9-B30F-645CF84D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B71-BE73-4E70-ABDD-5C803B96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BD3-5F1F-4AC4-BFFB-221E2946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3B2B-E1B3-4F00-821D-33FE5190E02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50ED-ECDF-46A6-9764-65A504CCC6B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Comic Sans MS"/>
              </a:rPr>
              <a:t>BIOENERGETICS</a:t>
            </a:r>
            <a:endParaRPr b="0" lang="en-US" sz="72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9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What is Metabolism?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sum total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f the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hemical activitie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of all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39" name="Picture 5" descr="metabolism[1]"/>
          <p:cNvPicPr/>
          <p:nvPr/>
        </p:nvPicPr>
        <p:blipFill>
          <a:blip r:embed="rId1"/>
          <a:srcRect l="0" t="0" r="0" b="16150"/>
          <a:stretch/>
        </p:blipFill>
        <p:spPr>
          <a:xfrm>
            <a:off x="5105520" y="2133720"/>
            <a:ext cx="3352680" cy="3862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Two Types of Metabolism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Anabolic Pathway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Catabolic Pathway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43" name="Picture 6" descr="1b"/>
          <p:cNvPicPr/>
          <p:nvPr/>
        </p:nvPicPr>
        <p:blipFill>
          <a:blip r:embed="rId1"/>
          <a:stretch/>
        </p:blipFill>
        <p:spPr>
          <a:xfrm>
            <a:off x="4267080" y="1752480"/>
            <a:ext cx="4343400" cy="45277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600"/>
                </a:solidFill>
                <a:latin typeface="Comic Sans MS"/>
              </a:rPr>
              <a:t>Anabolic Pathway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Metabolic reactions,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which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onsume energy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ndergonic),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build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complicated molecules from simpler compound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hotosynthesi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6C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   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+  6H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O  </a:t>
            </a:r>
            <a:r>
              <a:rPr b="0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  C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6   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+ 6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495680" y="3581280"/>
            <a:ext cx="3835080" cy="2719800"/>
            <a:chOff x="4495680" y="3581280"/>
            <a:chExt cx="3835080" cy="2719800"/>
          </a:xfrm>
        </p:grpSpPr>
        <p:sp>
          <p:nvSpPr>
            <p:cNvPr id="148" name="Oval 5"/>
            <p:cNvSpPr/>
            <p:nvPr/>
          </p:nvSpPr>
          <p:spPr>
            <a:xfrm>
              <a:off x="5964120" y="3581280"/>
              <a:ext cx="1282680" cy="12063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6173280" y="3941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SUN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4495680" y="4398840"/>
              <a:ext cx="1297080" cy="896760"/>
            </a:xfrm>
            <a:custGeom>
              <a:avLst/>
              <a:gdLst>
                <a:gd name="textAreaLeft" fmla="*/ 0 w 1297080"/>
                <a:gd name="textAreaRight" fmla="*/ 1297440 w 129708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817" h="565">
                  <a:moveTo>
                    <a:pt x="816" y="0"/>
                  </a:moveTo>
                  <a:lnTo>
                    <a:pt x="792" y="36"/>
                  </a:lnTo>
                  <a:lnTo>
                    <a:pt x="756" y="60"/>
                  </a:lnTo>
                  <a:lnTo>
                    <a:pt x="720" y="72"/>
                  </a:lnTo>
                  <a:lnTo>
                    <a:pt x="684" y="60"/>
                  </a:lnTo>
                  <a:lnTo>
                    <a:pt x="648" y="72"/>
                  </a:lnTo>
                  <a:lnTo>
                    <a:pt x="648" y="108"/>
                  </a:lnTo>
                  <a:lnTo>
                    <a:pt x="636" y="144"/>
                  </a:lnTo>
                  <a:lnTo>
                    <a:pt x="624" y="180"/>
                  </a:lnTo>
                  <a:lnTo>
                    <a:pt x="588" y="204"/>
                  </a:lnTo>
                  <a:lnTo>
                    <a:pt x="552" y="216"/>
                  </a:lnTo>
                  <a:lnTo>
                    <a:pt x="516" y="216"/>
                  </a:lnTo>
                  <a:lnTo>
                    <a:pt x="480" y="216"/>
                  </a:lnTo>
                  <a:lnTo>
                    <a:pt x="444" y="228"/>
                  </a:lnTo>
                  <a:lnTo>
                    <a:pt x="420" y="264"/>
                  </a:lnTo>
                  <a:lnTo>
                    <a:pt x="408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72"/>
                  </a:lnTo>
                  <a:lnTo>
                    <a:pt x="288" y="372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180" y="384"/>
                  </a:lnTo>
                  <a:lnTo>
                    <a:pt x="144" y="396"/>
                  </a:lnTo>
                  <a:lnTo>
                    <a:pt x="120" y="432"/>
                  </a:lnTo>
                  <a:lnTo>
                    <a:pt x="84" y="456"/>
                  </a:lnTo>
                  <a:lnTo>
                    <a:pt x="72" y="492"/>
                  </a:lnTo>
                  <a:lnTo>
                    <a:pt x="48" y="528"/>
                  </a:lnTo>
                  <a:lnTo>
                    <a:pt x="36" y="564"/>
                  </a:lnTo>
                  <a:lnTo>
                    <a:pt x="0" y="564"/>
                  </a:lnTo>
                </a:path>
              </a:pathLst>
            </a:custGeom>
            <a:noFill/>
            <a:ln cap="rnd" w="50760">
              <a:solidFill>
                <a:srgbClr val="fe9b0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314120" y="3713040"/>
              <a:ext cx="1016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0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800240" y="584640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53" name="Місце для нижнього колонтитула 5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Comic Sans MS"/>
              </a:rPr>
              <a:t>Catabolic Pathwa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Metabolic reaction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which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release energy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xergonic)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breaking down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omplex molecules in simpler compound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+ 6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   </a:t>
            </a:r>
            <a:r>
              <a:rPr b="1" lang="en-US" sz="28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6C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+  6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 +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457200" y="4343400"/>
            <a:ext cx="7886160" cy="1749960"/>
            <a:chOff x="457200" y="4343400"/>
            <a:chExt cx="7886160" cy="1749960"/>
          </a:xfrm>
        </p:grpSpPr>
        <p:sp>
          <p:nvSpPr>
            <p:cNvPr id="157" name="Oval 5"/>
            <p:cNvSpPr/>
            <p:nvPr/>
          </p:nvSpPr>
          <p:spPr>
            <a:xfrm>
              <a:off x="7162920" y="4876920"/>
              <a:ext cx="1130040" cy="977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57200" y="5638680"/>
              <a:ext cx="1612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7163640" y="4343400"/>
              <a:ext cx="1179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60" name="Місце для нижнього колонтитула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Cellular Energy - ATP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162" name="Picture 7" descr="ATP[1]"/>
          <p:cNvPicPr/>
          <p:nvPr/>
        </p:nvPicPr>
        <p:blipFill>
          <a:blip r:embed="rId1"/>
          <a:stretch/>
        </p:blipFill>
        <p:spPr>
          <a:xfrm>
            <a:off x="2666880" y="3048120"/>
            <a:ext cx="4492800" cy="301788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ATP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omponents: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1. adenine: nitrogenous base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2. ribose: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 five carbon sugar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e8bc00"/>
                </a:solidFill>
                <a:latin typeface="Comic Sans MS"/>
              </a:rPr>
              <a:t>3.phosphate group:  chain of 3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2973240" y="5093280"/>
            <a:ext cx="2387520" cy="1045080"/>
            <a:chOff x="2973240" y="5093280"/>
            <a:chExt cx="2387520" cy="1045080"/>
          </a:xfrm>
        </p:grpSpPr>
        <p:sp>
          <p:nvSpPr>
            <p:cNvPr id="167" name="AutoShape 5"/>
            <p:cNvSpPr/>
            <p:nvPr/>
          </p:nvSpPr>
          <p:spPr>
            <a:xfrm rot="79800">
              <a:off x="4282560" y="5105520"/>
              <a:ext cx="1066680" cy="99072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>
              <a:off x="3825720" y="5105520"/>
              <a:ext cx="457200" cy="38088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69" name="Text Box 7"/>
            <p:cNvSpPr/>
            <p:nvPr/>
          </p:nvSpPr>
          <p:spPr>
            <a:xfrm>
              <a:off x="2973240" y="5678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c0081"/>
                  </a:solidFill>
                  <a:latin typeface="Arial"/>
                </a:rPr>
                <a:t>ribose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170" name="Group 8"/>
          <p:cNvGrpSpPr/>
          <p:nvPr/>
        </p:nvGrpSpPr>
        <p:grpSpPr>
          <a:xfrm>
            <a:off x="703440" y="3755160"/>
            <a:ext cx="3508200" cy="1589040"/>
            <a:chOff x="703440" y="3755160"/>
            <a:chExt cx="3508200" cy="1589040"/>
          </a:xfrm>
        </p:grpSpPr>
        <p:sp>
          <p:nvSpPr>
            <p:cNvPr id="171" name="Text Box 9"/>
            <p:cNvSpPr/>
            <p:nvPr/>
          </p:nvSpPr>
          <p:spPr>
            <a:xfrm>
              <a:off x="703440" y="434340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adenine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2" name="AutoShape 10"/>
            <p:cNvSpPr/>
            <p:nvPr/>
          </p:nvSpPr>
          <p:spPr>
            <a:xfrm rot="5435400">
              <a:off x="3177360" y="4076640"/>
              <a:ext cx="1066680" cy="990360"/>
            </a:xfrm>
            <a:prstGeom prst="pentagon">
              <a:avLst/>
            </a:prstGeom>
            <a:solidFill>
              <a:srgbClr val="000099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3" name="AutoShape 11"/>
            <p:cNvSpPr/>
            <p:nvPr/>
          </p:nvSpPr>
          <p:spPr>
            <a:xfrm rot="19921200">
              <a:off x="2077920" y="3978000"/>
              <a:ext cx="1235160" cy="1143000"/>
            </a:xfrm>
            <a:prstGeom prst="hexagon">
              <a:avLst>
                <a:gd name="adj" fmla="val 27016"/>
                <a:gd name="vf" fmla="val 115470"/>
              </a:avLst>
            </a:prstGeom>
            <a:solidFill>
              <a:srgbClr val="000099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5349960" y="4343400"/>
            <a:ext cx="2745360" cy="1447920"/>
            <a:chOff x="5349960" y="4343400"/>
            <a:chExt cx="2745360" cy="1447920"/>
          </a:xfrm>
        </p:grpSpPr>
        <p:sp>
          <p:nvSpPr>
            <p:cNvPr id="175" name="Line 13"/>
            <p:cNvSpPr/>
            <p:nvPr/>
          </p:nvSpPr>
          <p:spPr>
            <a:xfrm>
              <a:off x="5349960" y="5562720"/>
              <a:ext cx="3812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6" name="Oval 14"/>
            <p:cNvSpPr/>
            <p:nvPr/>
          </p:nvSpPr>
          <p:spPr>
            <a:xfrm>
              <a:off x="5731200" y="5257800"/>
              <a:ext cx="53316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7" name="Oval 15"/>
            <p:cNvSpPr/>
            <p:nvPr/>
          </p:nvSpPr>
          <p:spPr>
            <a:xfrm>
              <a:off x="6492960" y="5257800"/>
              <a:ext cx="53352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8" name="Oval 16"/>
            <p:cNvSpPr/>
            <p:nvPr/>
          </p:nvSpPr>
          <p:spPr>
            <a:xfrm>
              <a:off x="7255080" y="5257800"/>
              <a:ext cx="53352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6256440" y="5419800"/>
              <a:ext cx="230400" cy="12240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7026480" y="5410440"/>
              <a:ext cx="230040" cy="1220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1" name="Text Box 19"/>
            <p:cNvSpPr/>
            <p:nvPr/>
          </p:nvSpPr>
          <p:spPr>
            <a:xfrm>
              <a:off x="580896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657108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733320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4" name="Text Box 22"/>
            <p:cNvSpPr/>
            <p:nvPr/>
          </p:nvSpPr>
          <p:spPr>
            <a:xfrm>
              <a:off x="5427360" y="4343400"/>
              <a:ext cx="266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phosphate grou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5" name="AutoShape 23"/>
            <p:cNvSpPr/>
            <p:nvPr/>
          </p:nvSpPr>
          <p:spPr>
            <a:xfrm rot="5353800">
              <a:off x="6568920" y="4038840"/>
              <a:ext cx="304920" cy="19810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86" name="Місце для нижнього колонтитула 8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00"/>
                </a:solidFill>
                <a:latin typeface="Comic Sans MS"/>
              </a:rPr>
              <a:t>Adenosine Triphosphate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339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ree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phosphate groups-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two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with high energy bond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Last phosphate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group (PO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) contains the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MOST energy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89" name="Picture 6" descr="Copy of atp[1]"/>
          <p:cNvPicPr/>
          <p:nvPr/>
        </p:nvPicPr>
        <p:blipFill>
          <a:blip r:embed="rId1"/>
          <a:stretch/>
        </p:blipFill>
        <p:spPr>
          <a:xfrm>
            <a:off x="4724280" y="2057400"/>
            <a:ext cx="4038840" cy="4267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reaking the Bonds of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rocess is called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phosphorylation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ccurs continually in cell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ATP-ase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can weaken &amp; break </a:t>
            </a:r>
            <a:r>
              <a:rPr b="1" lang="en-US" sz="3200" spc="-1" strike="noStrike">
                <a:solidFill>
                  <a:srgbClr val="2a3d7a"/>
                </a:solidFill>
                <a:latin typeface="Comic Sans MS"/>
              </a:rPr>
              <a:t>last PO</a:t>
            </a:r>
            <a:r>
              <a:rPr b="1" lang="en-US" sz="3200" spc="-1" strike="noStrike" baseline="-25000">
                <a:solidFill>
                  <a:srgbClr val="2a3d7a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2a3d7a"/>
                </a:solidFill>
                <a:latin typeface="Comic Sans MS"/>
              </a:rPr>
              <a:t> bond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releasing energy &amp; free P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93" name="Picture 10" descr="C7_atp_2[1]"/>
          <p:cNvPicPr/>
          <p:nvPr/>
        </p:nvPicPr>
        <p:blipFill>
          <a:blip r:embed="rId1"/>
          <a:stretch/>
        </p:blipFill>
        <p:spPr>
          <a:xfrm>
            <a:off x="4876920" y="1828800"/>
            <a:ext cx="396216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How does ATP work ?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Organisms use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nzymes</a:t>
            </a: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 to break down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nergy-rich glucose</a:t>
            </a: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 to release its potential energy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This energy is trapped and stored in the form of </a:t>
            </a: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denosine triphosphate(ATP)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Comic Sans MS"/>
              </a:rPr>
              <a:t>How Much ATP Do Cells Use?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It is estimated that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each cell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 will generate and consume approximate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10,000,000 molecules of ATP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er second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200" name="Picture 6" descr="Copy (2) of atp[1]"/>
          <p:cNvPicPr/>
          <p:nvPr/>
        </p:nvPicPr>
        <p:blipFill>
          <a:blip r:embed="rId1"/>
          <a:stretch/>
        </p:blipFill>
        <p:spPr>
          <a:xfrm>
            <a:off x="5191200" y="1905120"/>
            <a:ext cx="3416400" cy="44193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3d7a"/>
                </a:solidFill>
                <a:latin typeface="Comic Sans MS"/>
              </a:rPr>
              <a:t>What is Bioenergetics?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he study of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living system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(environments) and the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organism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(plants and animals) that utilize them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02" name="Picture 9" descr="061219_stevefrancis_vmed_1130a"/>
          <p:cNvPicPr/>
          <p:nvPr/>
        </p:nvPicPr>
        <p:blipFill>
          <a:blip r:embed="rId1"/>
          <a:stretch/>
        </p:blipFill>
        <p:spPr>
          <a:xfrm>
            <a:off x="5611680" y="2101680"/>
            <a:ext cx="264348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Comic Sans MS"/>
              </a:rPr>
              <a:t>Coupled Reaction - ATP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exergonic hydrolysi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f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is coupled with the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endergonic dehydration proces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by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ransferring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hosphate group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o another molecule.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4" name="AutoShape 21"/>
          <p:cNvSpPr/>
          <p:nvPr/>
        </p:nvSpPr>
        <p:spPr>
          <a:xfrm>
            <a:off x="5334120" y="1905120"/>
            <a:ext cx="2514600" cy="24382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5" name="Oval 22"/>
          <p:cNvSpPr/>
          <p:nvPr/>
        </p:nvSpPr>
        <p:spPr>
          <a:xfrm>
            <a:off x="6172200" y="5181480"/>
            <a:ext cx="1600200" cy="1371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6" name="WordArt 25"/>
          <p:cNvSpPr txBox="1"/>
          <p:nvPr/>
        </p:nvSpPr>
        <p:spPr>
          <a:xfrm>
            <a:off x="5943600" y="2895480"/>
            <a:ext cx="1047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TP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7" name="WordArt 27"/>
          <p:cNvSpPr txBox="1"/>
          <p:nvPr/>
        </p:nvSpPr>
        <p:spPr>
          <a:xfrm>
            <a:off x="6324480" y="5638680"/>
            <a:ext cx="1352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DP + P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4076640" y="3824280"/>
            <a:ext cx="990720" cy="5796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9" name="Line 29"/>
          <p:cNvSpPr/>
          <p:nvPr/>
        </p:nvSpPr>
        <p:spPr>
          <a:xfrm flipV="1">
            <a:off x="4572000" y="3352680"/>
            <a:ext cx="838080" cy="45720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4572000" y="5943600"/>
            <a:ext cx="990720" cy="5796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1" name="Line 32"/>
          <p:cNvSpPr/>
          <p:nvPr/>
        </p:nvSpPr>
        <p:spPr>
          <a:xfrm flipH="1">
            <a:off x="5486400" y="6248520"/>
            <a:ext cx="914400" cy="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Comic Sans MS"/>
              </a:rPr>
              <a:t>Hydrolysis of</a:t>
            </a: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+ 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 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AD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+  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P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(exergonic)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324480" y="3429000"/>
            <a:ext cx="2036880" cy="2133360"/>
            <a:chOff x="6324480" y="3429000"/>
            <a:chExt cx="2036880" cy="2133360"/>
          </a:xfrm>
        </p:grpSpPr>
        <p:sp>
          <p:nvSpPr>
            <p:cNvPr id="216" name="Line 5"/>
            <p:cNvSpPr/>
            <p:nvPr/>
          </p:nvSpPr>
          <p:spPr>
            <a:xfrm>
              <a:off x="6324480" y="3429000"/>
              <a:ext cx="0" cy="213336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17" name="Text Box 6"/>
            <p:cNvSpPr/>
            <p:nvPr/>
          </p:nvSpPr>
          <p:spPr>
            <a:xfrm>
              <a:off x="6553080" y="3913920"/>
              <a:ext cx="180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Hydrolysis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add water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18" name="Group 7"/>
          <p:cNvGrpSpPr/>
          <p:nvPr/>
        </p:nvGrpSpPr>
        <p:grpSpPr>
          <a:xfrm>
            <a:off x="1078560" y="1899000"/>
            <a:ext cx="7147080" cy="1999080"/>
            <a:chOff x="1078560" y="1899000"/>
            <a:chExt cx="7147080" cy="1999080"/>
          </a:xfrm>
        </p:grpSpPr>
        <p:sp>
          <p:nvSpPr>
            <p:cNvPr id="219" name="AutoShape 8"/>
            <p:cNvSpPr/>
            <p:nvPr/>
          </p:nvSpPr>
          <p:spPr>
            <a:xfrm rot="967200">
              <a:off x="2494440" y="2133720"/>
              <a:ext cx="1031760" cy="83988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0" name="AutoShape 9"/>
            <p:cNvSpPr/>
            <p:nvPr/>
          </p:nvSpPr>
          <p:spPr>
            <a:xfrm rot="79800">
              <a:off x="3600000" y="3046320"/>
              <a:ext cx="1033920" cy="83988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3157560" y="3046320"/>
              <a:ext cx="442440" cy="32292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4634280" y="3433680"/>
              <a:ext cx="3686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3" name="Oval 12"/>
            <p:cNvSpPr/>
            <p:nvPr/>
          </p:nvSpPr>
          <p:spPr>
            <a:xfrm>
              <a:off x="500328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574164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648000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5512320" y="3312000"/>
              <a:ext cx="222120" cy="1033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6257880" y="3305160"/>
              <a:ext cx="222120" cy="1033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8" name="Text Box 17"/>
            <p:cNvSpPr/>
            <p:nvPr/>
          </p:nvSpPr>
          <p:spPr>
            <a:xfrm>
              <a:off x="507816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581328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655488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1" name="Text Box 20"/>
            <p:cNvSpPr/>
            <p:nvPr/>
          </p:nvSpPr>
          <p:spPr>
            <a:xfrm>
              <a:off x="3660480" y="2498760"/>
              <a:ext cx="456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enosine triphosphate (AT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2" name="AutoShape 21"/>
            <p:cNvSpPr/>
            <p:nvPr/>
          </p:nvSpPr>
          <p:spPr>
            <a:xfrm rot="19677600">
              <a:off x="1218960" y="2205720"/>
              <a:ext cx="1427400" cy="940320"/>
            </a:xfrm>
            <a:prstGeom prst="hexagon">
              <a:avLst>
                <a:gd name="adj" fmla="val 37950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33" name="Group 22"/>
          <p:cNvGrpSpPr/>
          <p:nvPr/>
        </p:nvGrpSpPr>
        <p:grpSpPr>
          <a:xfrm>
            <a:off x="974160" y="4157640"/>
            <a:ext cx="7977240" cy="2349000"/>
            <a:chOff x="974160" y="4157640"/>
            <a:chExt cx="7977240" cy="2349000"/>
          </a:xfrm>
        </p:grpSpPr>
        <p:sp>
          <p:nvSpPr>
            <p:cNvPr id="234" name="AutoShape 23"/>
            <p:cNvSpPr/>
            <p:nvPr/>
          </p:nvSpPr>
          <p:spPr>
            <a:xfrm rot="967200">
              <a:off x="2278440" y="4414320"/>
              <a:ext cx="990360" cy="90180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5" name="AutoShape 24"/>
            <p:cNvSpPr/>
            <p:nvPr/>
          </p:nvSpPr>
          <p:spPr>
            <a:xfrm rot="79800">
              <a:off x="3338640" y="5395680"/>
              <a:ext cx="990360" cy="90180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6" name="Line 25"/>
            <p:cNvSpPr/>
            <p:nvPr/>
          </p:nvSpPr>
          <p:spPr>
            <a:xfrm>
              <a:off x="2915640" y="5396040"/>
              <a:ext cx="423000" cy="34632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7" name="Line 26"/>
            <p:cNvSpPr/>
            <p:nvPr/>
          </p:nvSpPr>
          <p:spPr>
            <a:xfrm>
              <a:off x="4329360" y="5812560"/>
              <a:ext cx="3542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8" name="Oval 27"/>
            <p:cNvSpPr/>
            <p:nvPr/>
          </p:nvSpPr>
          <p:spPr>
            <a:xfrm>
              <a:off x="4683960" y="5534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9" name="Oval 28"/>
            <p:cNvSpPr/>
            <p:nvPr/>
          </p:nvSpPr>
          <p:spPr>
            <a:xfrm>
              <a:off x="5390280" y="5534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0" name="Oval 29"/>
            <p:cNvSpPr/>
            <p:nvPr/>
          </p:nvSpPr>
          <p:spPr>
            <a:xfrm>
              <a:off x="6875640" y="5525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1" name="Freeform 30"/>
            <p:cNvSpPr/>
            <p:nvPr/>
          </p:nvSpPr>
          <p:spPr>
            <a:xfrm>
              <a:off x="5171400" y="5681160"/>
              <a:ext cx="213840" cy="1119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4754520" y="553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3" name="Rectangle 32"/>
            <p:cNvSpPr/>
            <p:nvPr/>
          </p:nvSpPr>
          <p:spPr>
            <a:xfrm>
              <a:off x="5460480" y="553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4" name="Rectangle 33"/>
            <p:cNvSpPr/>
            <p:nvPr/>
          </p:nvSpPr>
          <p:spPr>
            <a:xfrm>
              <a:off x="6949440" y="5525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6153840" y="549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6" name="Text Box 35"/>
            <p:cNvSpPr/>
            <p:nvPr/>
          </p:nvSpPr>
          <p:spPr>
            <a:xfrm>
              <a:off x="4387680" y="6046920"/>
              <a:ext cx="456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Arial"/>
                </a:rPr>
                <a:t>Adenosine diphosphate (AD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7" name="AutoShape 36"/>
            <p:cNvSpPr/>
            <p:nvPr/>
          </p:nvSpPr>
          <p:spPr>
            <a:xfrm rot="19677600">
              <a:off x="1143000" y="4419360"/>
              <a:ext cx="1274400" cy="1003320"/>
            </a:xfrm>
            <a:prstGeom prst="hexagon">
              <a:avLst>
                <a:gd name="adj" fmla="val 31755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248" name="Місце для нижнього колонтитула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Hyrolysis is Exergonic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50" name="Picture 4" descr="atp"/>
          <p:cNvPicPr/>
          <p:nvPr/>
        </p:nvPicPr>
        <p:blipFill>
          <a:blip r:embed="rId1"/>
          <a:stretch/>
        </p:blipFill>
        <p:spPr>
          <a:xfrm>
            <a:off x="1066680" y="1523880"/>
            <a:ext cx="4800600" cy="506736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5"/>
          <p:cNvSpPr/>
          <p:nvPr/>
        </p:nvSpPr>
        <p:spPr>
          <a:xfrm>
            <a:off x="5943600" y="3886200"/>
            <a:ext cx="1295280" cy="914400"/>
          </a:xfrm>
          <a:prstGeom prst="rightArrow">
            <a:avLst>
              <a:gd name="adj1" fmla="val 50000"/>
              <a:gd name="adj2" fmla="val 35413"/>
            </a:avLst>
          </a:prstGeom>
          <a:solidFill>
            <a:srgbClr val="ff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7315200" y="3124080"/>
            <a:ext cx="16002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nergy Used by Cell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Comic Sans MS"/>
              </a:rPr>
              <a:t>Dehydration of</a:t>
            </a: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ADP +  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 P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+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ndergonic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256" name="Group 7"/>
          <p:cNvGrpSpPr/>
          <p:nvPr/>
        </p:nvGrpSpPr>
        <p:grpSpPr>
          <a:xfrm>
            <a:off x="836280" y="4398120"/>
            <a:ext cx="7343280" cy="2167560"/>
            <a:chOff x="836280" y="4398120"/>
            <a:chExt cx="7343280" cy="2167560"/>
          </a:xfrm>
        </p:grpSpPr>
        <p:sp>
          <p:nvSpPr>
            <p:cNvPr id="257" name="AutoShape 8"/>
            <p:cNvSpPr/>
            <p:nvPr/>
          </p:nvSpPr>
          <p:spPr>
            <a:xfrm rot="967200">
              <a:off x="2360520" y="4648320"/>
              <a:ext cx="1108440" cy="91260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58" name="AutoShape 9"/>
            <p:cNvSpPr/>
            <p:nvPr/>
          </p:nvSpPr>
          <p:spPr>
            <a:xfrm rot="79800">
              <a:off x="3548880" y="5640120"/>
              <a:ext cx="1110600" cy="91260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59" name="Line 10"/>
            <p:cNvSpPr/>
            <p:nvPr/>
          </p:nvSpPr>
          <p:spPr>
            <a:xfrm>
              <a:off x="3072960" y="5640120"/>
              <a:ext cx="475560" cy="35100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0" name="Line 11"/>
            <p:cNvSpPr/>
            <p:nvPr/>
          </p:nvSpPr>
          <p:spPr>
            <a:xfrm>
              <a:off x="4659480" y="6061320"/>
              <a:ext cx="39636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505584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584892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64236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4" name="Freeform 15"/>
            <p:cNvSpPr/>
            <p:nvPr/>
          </p:nvSpPr>
          <p:spPr>
            <a:xfrm>
              <a:off x="5602680" y="5929200"/>
              <a:ext cx="238680" cy="11232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5" name="Freeform 16"/>
            <p:cNvSpPr/>
            <p:nvPr/>
          </p:nvSpPr>
          <p:spPr>
            <a:xfrm>
              <a:off x="6403680" y="5921640"/>
              <a:ext cx="238680" cy="11232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513648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7" name="Rectangle 18"/>
            <p:cNvSpPr/>
            <p:nvPr/>
          </p:nvSpPr>
          <p:spPr>
            <a:xfrm>
              <a:off x="592632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8" name="Rectangle 19"/>
            <p:cNvSpPr/>
            <p:nvPr/>
          </p:nvSpPr>
          <p:spPr>
            <a:xfrm>
              <a:off x="672300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614400" y="5045400"/>
              <a:ext cx="456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enosine triphosphate (AT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0" name="AutoShape 21"/>
            <p:cNvSpPr/>
            <p:nvPr/>
          </p:nvSpPr>
          <p:spPr>
            <a:xfrm rot="19677600">
              <a:off x="990360" y="4726800"/>
              <a:ext cx="1533240" cy="1022040"/>
            </a:xfrm>
            <a:prstGeom prst="hexagon">
              <a:avLst>
                <a:gd name="adj" fmla="val 37504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71" name="Group 22"/>
          <p:cNvGrpSpPr/>
          <p:nvPr/>
        </p:nvGrpSpPr>
        <p:grpSpPr>
          <a:xfrm>
            <a:off x="581400" y="1939680"/>
            <a:ext cx="8165160" cy="2464920"/>
            <a:chOff x="581400" y="1939680"/>
            <a:chExt cx="8165160" cy="2464920"/>
          </a:xfrm>
        </p:grpSpPr>
        <p:sp>
          <p:nvSpPr>
            <p:cNvPr id="272" name="AutoShape 23"/>
            <p:cNvSpPr/>
            <p:nvPr/>
          </p:nvSpPr>
          <p:spPr>
            <a:xfrm rot="967200">
              <a:off x="1959480" y="2209680"/>
              <a:ext cx="1044000" cy="95904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3" name="AutoShape 24"/>
            <p:cNvSpPr/>
            <p:nvPr/>
          </p:nvSpPr>
          <p:spPr>
            <a:xfrm rot="79800">
              <a:off x="3077280" y="3252960"/>
              <a:ext cx="1044000" cy="95868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4" name="Line 25"/>
            <p:cNvSpPr/>
            <p:nvPr/>
          </p:nvSpPr>
          <p:spPr>
            <a:xfrm>
              <a:off x="2631240" y="3252960"/>
              <a:ext cx="446040" cy="36828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5" name="Line 26"/>
            <p:cNvSpPr/>
            <p:nvPr/>
          </p:nvSpPr>
          <p:spPr>
            <a:xfrm>
              <a:off x="4122000" y="3695760"/>
              <a:ext cx="37368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6" name="Oval 27"/>
            <p:cNvSpPr/>
            <p:nvPr/>
          </p:nvSpPr>
          <p:spPr>
            <a:xfrm>
              <a:off x="4495680" y="340056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7" name="Oval 28"/>
            <p:cNvSpPr/>
            <p:nvPr/>
          </p:nvSpPr>
          <p:spPr>
            <a:xfrm>
              <a:off x="5240160" y="340056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8" name="Oval 29"/>
            <p:cNvSpPr/>
            <p:nvPr/>
          </p:nvSpPr>
          <p:spPr>
            <a:xfrm>
              <a:off x="6806520" y="339084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9" name="Freeform 30"/>
            <p:cNvSpPr/>
            <p:nvPr/>
          </p:nvSpPr>
          <p:spPr>
            <a:xfrm>
              <a:off x="5009760" y="3556080"/>
              <a:ext cx="225360" cy="1191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0" name="Text Box 31"/>
            <p:cNvSpPr/>
            <p:nvPr/>
          </p:nvSpPr>
          <p:spPr>
            <a:xfrm>
              <a:off x="4569840" y="3398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1" name="Rectangle 32"/>
            <p:cNvSpPr/>
            <p:nvPr/>
          </p:nvSpPr>
          <p:spPr>
            <a:xfrm>
              <a:off x="5313960" y="3398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2" name="Rectangle 33"/>
            <p:cNvSpPr/>
            <p:nvPr/>
          </p:nvSpPr>
          <p:spPr>
            <a:xfrm>
              <a:off x="6883920" y="3390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3" name="Text Box 34"/>
            <p:cNvSpPr/>
            <p:nvPr/>
          </p:nvSpPr>
          <p:spPr>
            <a:xfrm>
              <a:off x="6047280" y="3354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4" name="Text Box 35"/>
            <p:cNvSpPr/>
            <p:nvPr/>
          </p:nvSpPr>
          <p:spPr>
            <a:xfrm>
              <a:off x="4182840" y="3944880"/>
              <a:ext cx="456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Arial"/>
                </a:rPr>
                <a:t>Adenosine diphosphate (AD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5" name="AutoShape 36"/>
            <p:cNvSpPr/>
            <p:nvPr/>
          </p:nvSpPr>
          <p:spPr>
            <a:xfrm rot="19677600">
              <a:off x="761760" y="2214360"/>
              <a:ext cx="1343520" cy="1066680"/>
            </a:xfrm>
            <a:prstGeom prst="hexagon">
              <a:avLst>
                <a:gd name="adj" fmla="val 31488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286" name="Text Box 39"/>
          <p:cNvSpPr/>
          <p:nvPr/>
        </p:nvSpPr>
        <p:spPr>
          <a:xfrm>
            <a:off x="5943600" y="1905120"/>
            <a:ext cx="266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(Remove 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7" name="Line 40"/>
          <p:cNvSpPr/>
          <p:nvPr/>
        </p:nvSpPr>
        <p:spPr>
          <a:xfrm flipH="1">
            <a:off x="6324120" y="2743200"/>
            <a:ext cx="304920" cy="76212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8" name="Line 41"/>
          <p:cNvSpPr/>
          <p:nvPr/>
        </p:nvSpPr>
        <p:spPr>
          <a:xfrm>
            <a:off x="6324480" y="4419720"/>
            <a:ext cx="0" cy="68580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Dehydration is Endergonic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91" name="Picture 4" descr="adp[1]"/>
          <p:cNvPicPr/>
          <p:nvPr/>
        </p:nvPicPr>
        <p:blipFill>
          <a:blip r:embed="rId1"/>
          <a:stretch/>
        </p:blipFill>
        <p:spPr>
          <a:xfrm>
            <a:off x="838080" y="2057400"/>
            <a:ext cx="5257800" cy="454824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5"/>
          <p:cNvSpPr/>
          <p:nvPr/>
        </p:nvSpPr>
        <p:spPr>
          <a:xfrm>
            <a:off x="6172200" y="3581280"/>
            <a:ext cx="990720" cy="914400"/>
          </a:xfrm>
          <a:prstGeom prst="rightArrow">
            <a:avLst>
              <a:gd name="adj1" fmla="val 50000"/>
              <a:gd name="adj2" fmla="val 27087"/>
            </a:avLst>
          </a:prstGeom>
          <a:solidFill>
            <a:srgbClr val="ff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7162920" y="2514600"/>
            <a:ext cx="16761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nergy is restored in Chemical Bonds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2a3d7a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ow many high energy phosphate bonds does ATP have?</a:t>
            </a:r>
            <a:endParaRPr b="0" lang="en-US" sz="40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98" name="Picture 3" descr="atp[1]"/>
          <p:cNvPicPr/>
          <p:nvPr/>
        </p:nvPicPr>
        <p:blipFill>
          <a:blip r:embed="rId1"/>
          <a:stretch/>
        </p:blipFill>
        <p:spPr>
          <a:xfrm>
            <a:off x="1523880" y="1981080"/>
            <a:ext cx="6400800" cy="449748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a3d7a"/>
                </a:solidFill>
                <a:latin typeface="Comic Sans MS"/>
              </a:rPr>
              <a:t>Which is true of photosyntheis?</a:t>
            </a:r>
            <a:endParaRPr b="0" lang="en-US" sz="4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85800" y="2895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Anabolic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r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atabolic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2895480" y="289548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85800" y="4343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5334120" y="426708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a3d7a"/>
                </a:solidFill>
                <a:latin typeface="Comic Sans MS"/>
              </a:rPr>
              <a:t>The breakdown of ATP is due to: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533520" y="2963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533520" y="464832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added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removed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5105520" y="297180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2743200" y="4572000"/>
            <a:ext cx="762120" cy="762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Comic Sans MS"/>
              </a:rPr>
              <a:t>Which Reactions are often Coupled in Organisms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762120" y="2666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  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Dehydration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5800" y="3886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nabolism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   or         Catabolism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762120" y="5257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6" name="AutoShape 12"/>
          <p:cNvSpPr/>
          <p:nvPr/>
        </p:nvSpPr>
        <p:spPr>
          <a:xfrm>
            <a:off x="3429000" y="205740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7" name="AutoShape 14"/>
          <p:cNvSpPr/>
          <p:nvPr/>
        </p:nvSpPr>
        <p:spPr>
          <a:xfrm>
            <a:off x="3429000" y="342900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3657600" y="487692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Energ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quired by all </a:t>
            </a: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organism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Kinetic or Potenti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nergy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06" name="Picture 9" descr="e1fd5aab-a2c1-4c50-a04e-ff1f8f0eab10-big"/>
          <p:cNvPicPr/>
          <p:nvPr/>
        </p:nvPicPr>
        <p:blipFill>
          <a:blip r:embed="rId1"/>
          <a:stretch/>
        </p:blipFill>
        <p:spPr>
          <a:xfrm>
            <a:off x="5029200" y="2867040"/>
            <a:ext cx="3809880" cy="2584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Ready for the test? If not, review and try again!!!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a3d7a"/>
                </a:solidFill>
                <a:latin typeface="Comic Sans MS"/>
              </a:rPr>
              <a:t>Kinetic Energy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Energy of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Motion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Heat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and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light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energy are example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10" name="Picture 6" descr="energy10b[1]"/>
          <p:cNvPicPr/>
          <p:nvPr/>
        </p:nvPicPr>
        <p:blipFill>
          <a:blip r:embed="rId1"/>
          <a:stretch/>
        </p:blipFill>
        <p:spPr>
          <a:xfrm>
            <a:off x="4952880" y="2101680"/>
            <a:ext cx="35956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Potential Energ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Energy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of position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Includes energy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stored in chemical bond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14" name="Picture 6" descr="model7[1]"/>
          <p:cNvPicPr/>
          <p:nvPr/>
        </p:nvPicPr>
        <p:blipFill>
          <a:blip r:embed="rId1"/>
          <a:stretch/>
        </p:blipFill>
        <p:spPr>
          <a:xfrm>
            <a:off x="4495680" y="2517840"/>
            <a:ext cx="4343400" cy="37400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Two Types of Energy Reaction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a3d7a"/>
                </a:solidFill>
                <a:latin typeface="Comic Sans MS"/>
              </a:rPr>
              <a:t>Endergonic Reactions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Chemical reaction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that 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requires a net input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of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energy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hotosynthesi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6C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6H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6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+  6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3961800" y="3886200"/>
            <a:ext cx="4781520" cy="2581560"/>
            <a:chOff x="3961800" y="3886200"/>
            <a:chExt cx="4781520" cy="2581560"/>
          </a:xfrm>
        </p:grpSpPr>
        <p:sp>
          <p:nvSpPr>
            <p:cNvPr id="121" name="Oval 5"/>
            <p:cNvSpPr/>
            <p:nvPr/>
          </p:nvSpPr>
          <p:spPr>
            <a:xfrm>
              <a:off x="6178680" y="3886200"/>
              <a:ext cx="1282680" cy="12063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6387840" y="42462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SUN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4724640" y="4565520"/>
              <a:ext cx="1296720" cy="896400"/>
            </a:xfrm>
            <a:custGeom>
              <a:avLst/>
              <a:gdLst>
                <a:gd name="textAreaLeft" fmla="*/ 0 w 1296720"/>
                <a:gd name="textAreaRight" fmla="*/ 1296720 w 129672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817" h="565">
                  <a:moveTo>
                    <a:pt x="816" y="0"/>
                  </a:moveTo>
                  <a:lnTo>
                    <a:pt x="792" y="36"/>
                  </a:lnTo>
                  <a:lnTo>
                    <a:pt x="756" y="60"/>
                  </a:lnTo>
                  <a:lnTo>
                    <a:pt x="720" y="72"/>
                  </a:lnTo>
                  <a:lnTo>
                    <a:pt x="684" y="60"/>
                  </a:lnTo>
                  <a:lnTo>
                    <a:pt x="648" y="72"/>
                  </a:lnTo>
                  <a:lnTo>
                    <a:pt x="648" y="108"/>
                  </a:lnTo>
                  <a:lnTo>
                    <a:pt x="636" y="144"/>
                  </a:lnTo>
                  <a:lnTo>
                    <a:pt x="624" y="180"/>
                  </a:lnTo>
                  <a:lnTo>
                    <a:pt x="588" y="204"/>
                  </a:lnTo>
                  <a:lnTo>
                    <a:pt x="552" y="216"/>
                  </a:lnTo>
                  <a:lnTo>
                    <a:pt x="516" y="216"/>
                  </a:lnTo>
                  <a:lnTo>
                    <a:pt x="480" y="216"/>
                  </a:lnTo>
                  <a:lnTo>
                    <a:pt x="444" y="228"/>
                  </a:lnTo>
                  <a:lnTo>
                    <a:pt x="420" y="264"/>
                  </a:lnTo>
                  <a:lnTo>
                    <a:pt x="408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72"/>
                  </a:lnTo>
                  <a:lnTo>
                    <a:pt x="288" y="372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180" y="384"/>
                  </a:lnTo>
                  <a:lnTo>
                    <a:pt x="144" y="396"/>
                  </a:lnTo>
                  <a:lnTo>
                    <a:pt x="120" y="432"/>
                  </a:lnTo>
                  <a:lnTo>
                    <a:pt x="84" y="456"/>
                  </a:lnTo>
                  <a:lnTo>
                    <a:pt x="72" y="492"/>
                  </a:lnTo>
                  <a:lnTo>
                    <a:pt x="48" y="528"/>
                  </a:lnTo>
                  <a:lnTo>
                    <a:pt x="36" y="564"/>
                  </a:lnTo>
                  <a:lnTo>
                    <a:pt x="0" y="564"/>
                  </a:lnTo>
                </a:path>
              </a:pathLst>
            </a:custGeom>
            <a:noFill/>
            <a:ln cap="rnd" w="5076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961800" y="46414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photons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7530120" y="4017600"/>
              <a:ext cx="1213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Light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333760" y="601308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27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Exergonic Reaction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Chemical reactions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that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releases energy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6 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+ 6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  </a:t>
            </a:r>
            <a:r>
              <a:rPr b="1" lang="en-US" sz="32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6C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+ 6H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+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375920" y="3962520"/>
            <a:ext cx="7767000" cy="1826280"/>
            <a:chOff x="1375920" y="3962520"/>
            <a:chExt cx="7767000" cy="1826280"/>
          </a:xfrm>
        </p:grpSpPr>
        <p:sp>
          <p:nvSpPr>
            <p:cNvPr id="131" name="Oval 5"/>
            <p:cNvSpPr/>
            <p:nvPr/>
          </p:nvSpPr>
          <p:spPr>
            <a:xfrm>
              <a:off x="7949880" y="4516560"/>
              <a:ext cx="1130400" cy="977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1375920" y="533412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7929720" y="396252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34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Metabolic Reactions of Cell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5:47:44Z</dcterms:created>
  <dc:creator>Cheryl Massengale</dc:creator>
  <dc:description/>
  <dc:language>en-US</dc:language>
  <cp:lastModifiedBy>LEGION</cp:lastModifiedBy>
  <dcterms:modified xsi:type="dcterms:W3CDTF">2016-12-07T09:22:59Z</dcterms:modified>
  <cp:revision>14</cp:revision>
  <dc:subject/>
  <dc:title>BIOENERGETICS</dc:title>
</cp:coreProperties>
</file>