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6.jpeg" ContentType="image/jpeg"/>
  <Override PartName="/ppt/media/image10.wmf" ContentType="image/x-wmf"/>
  <Override PartName="/ppt/media/image25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34.jpeg" ContentType="image/jpeg"/>
  <Override PartName="/ppt/media/image35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4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DD0B-1D33-47B9-A7BB-F19D63955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2D2-FA3E-49EC-A4D9-8ABA6683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D74-F4AD-45C3-BBEF-833D59AE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1A2-7582-4237-BC11-1C045712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991-4BAE-4721-8B6A-2D340DED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07A9-F958-4115-A126-BBD91DD7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8F0D-B00C-47A5-9DDE-A660F89C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52A0-D193-41E9-B576-B86EC49C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E02E-B07E-409B-ABD0-79BFBD35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EBC3-1E2B-4557-83B0-93AAC531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0402-01F1-4B78-A997-B5C0F1B2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3135-EB0A-4B53-843C-99820BFA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D53-F151-410A-92FD-057A6A9D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2296-2171-4446-A3AE-617C2654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B6EB-21E1-4BD4-B374-453E15C5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5881-7A69-4685-8CEB-C62ABD54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ED38-1C47-47C8-BA66-DB2A1EF4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8DFE-A54C-4054-B718-131F03C7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396-B890-495E-9460-E43809E2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B81-32A9-4F98-BDC7-2D254392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7FB-C25A-43E1-8C23-0190EDA7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40F-84DC-4656-A904-226A4C7C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D12-6254-4328-A7ED-92FBC78D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255-3ACC-4142-9656-B6D2602D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166-270B-42B4-B045-BEFC4E16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7429-EA32-436E-A31F-D31B3C74B0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8DBA-77F3-4B18-AB8B-9138E340B6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5080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95280" y="40924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cf202"/>
                </a:solidFill>
                <a:latin typeface="Comic Sans MS"/>
              </a:rPr>
              <a:t>Lab Safe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301920" y="2768760"/>
            <a:ext cx="2540160" cy="13204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need to smell the odor o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ft the fu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war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nose with one hand.  Do no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ut your nose over the containe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ur water into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centrated acid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    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ould be poured slowly into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6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ollow the instruct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you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when disposing of all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fter handl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200240" cy="19810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cor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re n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can trip on them or ge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 sure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ands and your lab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rea are d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fore us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ke anything in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outle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1177920" cy="1600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plug cords b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ulling the 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not the 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ll electrical equipm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nd of the lab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Object 6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8651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ELECTRIC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s and hotplates cool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wn before touching them. Tes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see if they are cool enough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ringing the back of your h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ose to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ongs and/or protective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handle hot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reach across an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open fla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 bu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nly type of glassware that ma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fely be heated is eith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Kimax o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yr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point th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top ends of test tub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at are being heated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rom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heating a test tube,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ove i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ound slowly over the flame t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tribute the heat eve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286000" cy="15667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THERMAL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glassware that is thorough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ry should be hea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t glassware by placing it o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re gauz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latform on a ring st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hold it in your h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RINGSTAN"/>
          <p:cNvPicPr/>
          <p:nvPr/>
        </p:nvPicPr>
        <p:blipFill>
          <a:blip r:embed="rId1"/>
          <a:stretch/>
        </p:blipFill>
        <p:spPr>
          <a:xfrm>
            <a:off x="4038480" y="4419720"/>
            <a:ext cx="1509840" cy="220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IRONRING"/>
          <p:cNvPicPr/>
          <p:nvPr/>
        </p:nvPicPr>
        <p:blipFill>
          <a:blip r:embed="rId2"/>
          <a:stretch/>
        </p:blipFill>
        <p:spPr>
          <a:xfrm>
            <a:off x="4267080" y="4724280"/>
            <a:ext cx="809640" cy="2606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THERMAL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hen lighting a bu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wait until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riker is in place before you turn o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0. 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mount of air can be adjus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air supply valve below the tube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rner.  This regulates the flam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mperature and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leave a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 or hotplat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at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5" descr="BUNSENBU"/>
          <p:cNvPicPr/>
          <p:nvPr/>
        </p:nvPicPr>
        <p:blipFill>
          <a:blip r:embed="rId1"/>
          <a:stretch/>
        </p:blipFill>
        <p:spPr>
          <a:xfrm>
            <a:off x="7391520" y="4495680"/>
            <a:ext cx="1409760" cy="1828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FIRE"/>
          <p:cNvPicPr/>
          <p:nvPr/>
        </p:nvPicPr>
        <p:blipFill>
          <a:blip r:embed="rId2"/>
          <a:stretch/>
        </p:blipFill>
        <p:spPr>
          <a:xfrm>
            <a:off x="7086600" y="0"/>
            <a:ext cx="1905120" cy="13939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ediately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lush with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til burn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ation is 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,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ressing directly on minor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 will stop blee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w minutes.  Apply c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ess to bruises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uce swel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isten to or re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struction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efully before attempting to d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Wea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afety goggl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protect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eyes from chemicals, heate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erials, or things that might b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ble to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Notify your teac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f any spills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Object 5" descr=""/>
          <p:cNvPicPr/>
          <p:nvPr/>
        </p:nvPicPr>
        <p:blipFill>
          <a:blip r:embed="rId1"/>
          <a:stretch/>
        </p:blipFill>
        <p:spPr>
          <a:xfrm>
            <a:off x="5381640" y="5715000"/>
            <a:ext cx="1400040" cy="800280"/>
          </a:xfrm>
          <a:prstGeom prst="rect">
            <a:avLst/>
          </a:prstGeom>
          <a:ln w="0">
            <a:noFill/>
          </a:ln>
        </p:spPr>
      </p:pic>
      <p:pic>
        <p:nvPicPr>
          <p:cNvPr id="98" name="Object 6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876600" cy="766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st A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o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ir and hav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 recline so that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n the res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ir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1787760" cy="18288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ey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mmediate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plenty of water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ral minutes.  I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eign object is lodged i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ye, do not allow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ye to be rubb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213840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Find out what subst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responsible for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oisoning and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lert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teacher immediat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pills on the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l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quantities of water. 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k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da solution.  Fo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a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vinegar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ric ac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Picture 4" descr="CHEMIC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ut o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curr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.  Remove wir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rubber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Aler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immed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ELECTRIC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226" name="Object 5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1690920" cy="27432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handling chemicals, alway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soap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uring lab work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keep your hands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way from your 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e back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ng hai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7477200" y="2209680"/>
            <a:ext cx="1666800" cy="12351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1652760" cy="16765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Roll up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ose slee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.  Know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fire extinguisher, fire blanket, eyewash station, and first aid k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Keep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ork area unclutte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Object 4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5" descr=""/>
          <p:cNvPicPr/>
          <p:nvPr/>
        </p:nvPicPr>
        <p:blipFill>
          <a:blip r:embed="rId2"/>
          <a:stretch/>
        </p:blipFill>
        <p:spPr>
          <a:xfrm>
            <a:off x="3352680" y="5143680"/>
            <a:ext cx="2286000" cy="1601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uggested that you wea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glas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ather than contact le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ver put anything into your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mou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a lab experi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ean 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r lab area at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 of the laborato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Never “horse around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pla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al jokes in the labora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Object 4" descr=""/>
          <p:cNvPicPr/>
          <p:nvPr/>
        </p:nvPicPr>
        <p:blipFill>
          <a:blip r:embed="rId1"/>
          <a:stretch/>
        </p:blipFill>
        <p:spPr>
          <a:xfrm>
            <a:off x="7391520" y="0"/>
            <a:ext cx="1371600" cy="128736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6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98748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hipped or cracked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be used. Show it to the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roken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not b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ecial glass dispos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er fo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ouring liquids into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ure the container you a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uring into is resting on a table 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a hands breadth from the 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Pour down a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ass stirring r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prevent liquids from splatte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If a piece of glassware gets broken, do not try to clean it up by yourself.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otify the tea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When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inserting glass tubi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o a rubber stopper, apply a lubricant lik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ycer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the glass and use a twisting mo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not plac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ot glasswa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water.  Rapid cooling may make it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1712880" cy="2235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rotective gogg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d a lab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ron whenever heating or pouring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ix chemical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gether unles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are told to do so (and then only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manner specifi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ever tas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y chemicals (you shoul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taste anything in the lab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6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941400" cy="12189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LEGION</cp:lastModifiedBy>
  <dcterms:modified xsi:type="dcterms:W3CDTF">2016-12-07T09:27:21Z</dcterms:modified>
  <cp:revision>73</cp:revision>
  <dc:subject/>
  <dc:title>Lab Safety</dc:title>
</cp:coreProperties>
</file>