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2A60-6BE9-47A3-A0D8-81A9FE196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ientific 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trols an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nd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Experiments Follow R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perimenter changes one factor and observes or measures what happ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ientific Experiments Follow Ru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perimenter changes one factor and observes or measures what happe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rol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perimenter makes a special effort to keep other factors constant so that they will not effect the outc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factors are called control variab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ontrol Vari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experimenter makes a special effort to keep other factors constant so that they will not effect the outcom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ose factors are called control variables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Purpose of a Cont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are NOT being tes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are used for COMPAR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at is the Purpose of a Control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re NOT being test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re used for COMPARIS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at is changed is known as the independent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at is measured or observed is called the dependent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actor that is changed is known as the independent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actor that is measured or observed is called the dependent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f Controls &amp;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suppose you want to figure out the fastest route to walk home from schoo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try several different routes and time how long it takes you to get home by each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you are only interested in finding a route that is fastest for you, you will do the walking yoursel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ample of Controls &amp;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example, suppose you want to figure out the fastest route to walk home from school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ou will try several different routes and time how long it takes you to get home by each on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ce you are only interested in finding a route that is fastest for you, you will do the walking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Variables in Your Experi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ying the route is the independent var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it takes is the dependent var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ing the same walker throughout makes the walker a control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at are the Variables in Your Experiment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rying the route is the independent variabl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time it takes is the dependent variabl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eeping the same walker throughout makes the walker a control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ore thing… it is best to make several trials with each independen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e more thing… it is best to make several trials with each independent variab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alid Experi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 Experim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 To be a Valid Experime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groups are required --- the control &amp; experimental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should be only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ember: To be a Valid Experiment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groups are required --- the control &amp; experimental grou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should be only one vari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in the 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ps in the Scientific 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 of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 be quantitative (numbers) or qualit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ults of the 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y be quantitative (numbers) or qualita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e organiz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organized into charts, tables, or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st be organiz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n be organized into charts, tables, or graph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the hypothesis based on the data obtained from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nswer to the hypothesis based on the data obtained from the 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verify the results, experiments must be rete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order to verify the results, experiments must be retest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Identify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State Observations about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Form a Hypothesis about the problem (if…then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Design an Experiment to test the 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Collect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Form a 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 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lving a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)Identify a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) State Observations about the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) Form a Hypothesis about the problem (if…then…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) Design an Experiment to test the 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) Collect 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) Form a 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7) 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thered through your s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cientist notices something in their natural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athered through your sens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scientist notices something in their natural wor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ample of an observation might be noticing that many salamanders near a pond have curved, not straight, t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ample of an observation might be noticing that many salamanders near a pond have curved, not straight, tai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ggested solution to the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e te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written as If…Then… stat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dicts an out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suggested solution to the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st be test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metimes written as If…Then… statem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edicts an outc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ample of a hypothesis might be that the salamanders have curved tails due to a pollutant in the moist soil where they li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ample of a hypothesis might be that the salamanders have curved tails due to a pollutant in the moist soil where they liv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cedure to test the hypoth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procedure to test the hypothesi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– factor in the experiment that is being tes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riable – factor in the experiment that is being test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or “valid” experiment will only have ONE variab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good or “valid” experiment will only have ONE variable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C429-C3E1-4E75-AB30-17F5D427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7831-1A23-47FE-9B9C-3C3E8683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54AE-8073-4F6D-9715-6F2807D5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97FE-0D09-4A63-B349-63670CA5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FF83-F888-4422-8B95-CAC31E63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0D55-30D9-4B7C-A769-C18642A3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9A42-1486-4363-82AF-601AD939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7D92-7B8A-426E-A870-3C7A8EDC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9A6A-01B1-41F7-8CB1-679095EE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59C6-A4F6-4BB6-B55A-9E9B5E0C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065D-71D0-427E-B2EF-A97AE839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970-1FC3-4A41-AACC-700452B2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1427-9E34-4328-A6D2-2370509C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8464-EA5D-4F4E-9BF2-18C339ED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A551-6C1C-4FFC-B8FB-A56E8F36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3C51-6333-4C00-9832-BC851F14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0B0B-C060-49E7-97CA-15C495F8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0C02-3088-4B6C-8E5E-EEAE55E3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BE91-E8B9-463D-AD4D-2339FA44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C378-4268-4A84-9C92-C426B5B5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3E07-2A28-4197-9F7C-6289BBAA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396-FC00-4BE2-94D2-B9803B1D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9553-9D70-4263-A1C1-99B239BD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866E-4456-4BFC-85D4-B2C9241C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AE0D-5D64-4D93-9633-019312C99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79C4-E23D-4F8F-8BEF-F0DE464D30C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Scientific Method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ontrols and Variabl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Scientific Experiments Follow Rul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experimente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hanges one factor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bserves or measures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happe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professor7"/>
          <p:cNvPicPr/>
          <p:nvPr/>
        </p:nvPicPr>
        <p:blipFill>
          <a:blip r:embed="rId1"/>
          <a:stretch/>
        </p:blipFill>
        <p:spPr>
          <a:xfrm>
            <a:off x="5068800" y="2498760"/>
            <a:ext cx="3886200" cy="30938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The Control Variab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experimenter makes a special effort to keep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factors constan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so that they will not effect the outcom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ose factors are called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ontrol variables.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What is the Purpose of a Control?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709720"/>
            <a:ext cx="777240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rols are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being test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rols are used for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OMPARIS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Other Variabl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factor that is changed is known as the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independent variable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factor that is measured or observed is called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endent variabl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Example of Controls &amp; Vari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or exam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ppose you want to figure out th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astest rou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walk home from school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will try several different routes and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ime how long it tak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to get home by each on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you are only interested in finding a route that is fastest for you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you will do the walking yoursel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at are the Variables in Your Experime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arying the route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time it takes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Keeping the same walker throughout makes the walker 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ntrol variable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One more thing… it is best to make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everal trials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 with each independent variable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Valid Experiment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member: To be a Valid Experimen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wo grou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required --- the control &amp; experimental group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should be only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n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variab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teps in 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6" descr="j0076135"/>
          <p:cNvPicPr/>
          <p:nvPr/>
        </p:nvPicPr>
        <p:blipFill>
          <a:blip r:embed="rId1"/>
          <a:stretch/>
        </p:blipFill>
        <p:spPr>
          <a:xfrm>
            <a:off x="1182600" y="2692440"/>
            <a:ext cx="3810240" cy="2765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the experi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y b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quantitativ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numbers) o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qualitativ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6" descr="j0076136"/>
          <p:cNvPicPr/>
          <p:nvPr/>
        </p:nvPicPr>
        <p:blipFill>
          <a:blip r:embed="rId1"/>
          <a:stretch/>
        </p:blipFill>
        <p:spPr>
          <a:xfrm>
            <a:off x="5145120" y="2376360"/>
            <a:ext cx="3809880" cy="33958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ust be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organiz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n be organized into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charts, tables, or graph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4" descr="j0076136"/>
          <p:cNvPicPr/>
          <p:nvPr/>
        </p:nvPicPr>
        <p:blipFill>
          <a:blip r:embed="rId1"/>
          <a:stretch/>
        </p:blipFill>
        <p:spPr>
          <a:xfrm>
            <a:off x="5145120" y="2376360"/>
            <a:ext cx="3809880" cy="33958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Conclu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415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nsw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the hypothesis based on the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data obtained from the experi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6" descr="bs01344_"/>
          <p:cNvPicPr/>
          <p:nvPr/>
        </p:nvPicPr>
        <p:blipFill>
          <a:blip r:embed="rId1"/>
          <a:stretch/>
        </p:blipFill>
        <p:spPr>
          <a:xfrm>
            <a:off x="5145120" y="2435400"/>
            <a:ext cx="3809880" cy="32781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etes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order to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verify the 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experiments must be retested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6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Review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olving a Proble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4419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dentif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) State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bservati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) Form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ypothesi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 (if…then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) Design an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xperiment to test the hypo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) Collect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) Form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)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e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6" descr="j0076187"/>
          <p:cNvPicPr/>
          <p:nvPr/>
        </p:nvPicPr>
        <p:blipFill>
          <a:blip r:embed="rId1"/>
          <a:stretch/>
        </p:blipFill>
        <p:spPr>
          <a:xfrm>
            <a:off x="5210280" y="2017800"/>
            <a:ext cx="3679560" cy="41148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Observation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thered through you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en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cientist notices something in thei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atur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6" descr="j0078802"/>
          <p:cNvPicPr/>
          <p:nvPr/>
        </p:nvPicPr>
        <p:blipFill>
          <a:blip r:embed="rId1"/>
          <a:stretch/>
        </p:blipFill>
        <p:spPr>
          <a:xfrm>
            <a:off x="5145120" y="2351160"/>
            <a:ext cx="3809880" cy="34480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Observation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430704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f an observ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ight be noticing that many salamanders near a pond have curved, not straight, 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j0078802"/>
          <p:cNvPicPr/>
          <p:nvPr/>
        </p:nvPicPr>
        <p:blipFill>
          <a:blip r:embed="rId1"/>
          <a:stretch/>
        </p:blipFill>
        <p:spPr>
          <a:xfrm>
            <a:off x="5145120" y="2351160"/>
            <a:ext cx="3809880" cy="34480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Hypothes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uggested solution to the probl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b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es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metimes written as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If…Then…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edic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 outc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6" descr="bd05030_"/>
          <p:cNvPicPr/>
          <p:nvPr/>
        </p:nvPicPr>
        <p:blipFill>
          <a:blip r:embed="rId1"/>
          <a:stretch/>
        </p:blipFill>
        <p:spPr>
          <a:xfrm>
            <a:off x="5526000" y="2017800"/>
            <a:ext cx="304668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Hypothes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 of a hypothesi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ight be that the salamanders have curved tails due to a pollutant in the moist soil where they liv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bd05030_"/>
          <p:cNvPicPr/>
          <p:nvPr/>
        </p:nvPicPr>
        <p:blipFill>
          <a:blip r:embed="rId1"/>
          <a:stretch/>
        </p:blipFill>
        <p:spPr>
          <a:xfrm>
            <a:off x="5526000" y="2017800"/>
            <a:ext cx="3046680" cy="41148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procedure to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es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hypothesi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Variabl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factor in the experiment that is being test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4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good or “valid” experiment will only have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NE variable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03:26:13Z</dcterms:created>
  <dc:creator>Cheryl Massengale</dc:creator>
  <dc:description/>
  <dc:language>en-US</dc:language>
  <cp:lastModifiedBy>LEGION</cp:lastModifiedBy>
  <dcterms:modified xsi:type="dcterms:W3CDTF">2016-12-07T09:22:17Z</dcterms:modified>
  <cp:revision>10</cp:revision>
  <dc:subject/>
  <dc:title>Scientific Method</dc:title>
</cp:coreProperties>
</file>