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wmf" ContentType="image/x-wmf"/>
  <Override PartName="/ppt/media/image3.wmf" ContentType="image/x-wmf"/>
  <Override PartName="/ppt/media/image4.gif" ContentType="image/gif"/>
  <Override PartName="/ppt/media/image5.gif" ContentType="image/gif"/>
  <Override PartName="/ppt/media/image6.wmf" ContentType="image/x-wmf"/>
  <Override PartName="/ppt/media/image7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8D20E-7317-46EB-A035-1D223A8EE7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cientific Meth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cientific Metho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ntrols and Variab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ntrols and Variabl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ientific Experiments Follow Ru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experimenter changes one factor and observes or measures what happe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cientific Experiments Follow Rul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n experimenter changes one factor and observes or measures what happen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ntrol Vari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xperimenter makes a special effort to keep other factors constant so that they will not effect the outco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ose factors are called control variabl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Control Variabl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experimenter makes a special effort to keep other factors constant so that they will not effect the outcom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ose factors are called control variables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Purpose of a Control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rols are NOT being tes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rols are used for COMPARIS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hat is the Purpose of a Control?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ntrols are NOT being teste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ntrols are used for COMPARIS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ther Variab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actor that is changed is known as the independent variabl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actor that is measured or observed is called the dependent variabl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ther Variabl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factor that is changed is known as the independent variable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factor that is measured or observed is called the dependent variable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of Controls &amp; Variab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example, suppose you want to figure out the fastest route to walk home from school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will try several different routes and time how long it takes you to get home by each on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ce you are only interested in finding a route that is fastest for you, you will do the walking yourself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xample of Controls &amp; Variabl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or example, suppose you want to figure out the fastest route to walk home from school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You will try several different routes and time how long it takes you to get home by each one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ince you are only interested in finding a route that is fastest for you, you will do the walking yourself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the Variables in Your Experimen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rying the route is the independent variabl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ime it takes is the dependent variabl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eeping the same walker throughout makes the walker a control variabl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hat are the Variables in Your Experiment?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arying the route is the independent variable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time it takes is the dependent variable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Keeping the same walker throughout makes the walker a control variable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more thing… it is best to make several trials with each independent variab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ne more thing… it is best to make several trials with each independent variabl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Valid Experi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alid Experiment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member: To be a Valid Experimen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groups are required --- the control &amp; experimental grou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should be only one vari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member: To be a Valid Experiment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wo groups are required --- the control &amp; experimental group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re should be only one variabl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s in the Scientific Meth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serv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eri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ta Coll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teps in the Scientific Metho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bserv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xperimen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ata Collec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tes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ults of the experi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y be quantitative (numbers) or qualita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sults of the experimen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ay be quantitative (numbers) or qualitativ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st be organiz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be organized into charts, tables, or grap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ust be organize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an be organized into charts, tables, or graph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nswer to the hypothesis based on the data obtained from the experi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answer to the hypothesis based on the data obtained from the experimen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order to verify the results, experiments must be retest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tes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 order to verify the results, experiments must be reteste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evie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view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ving a Probl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Identify a Probl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 State Observations about the probl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) Form a Hypothesis about the problem (if…then…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) Design an Experiment to test the hypothes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) Collect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) Form a Conclu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) Re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olving a Proble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)Identify a Proble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) State Observations about the proble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) Form a Hypothesis about the problem (if…then…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) Design an Experiment to test the hypothesi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5) Collect Dat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6) Form a Conclus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7) Retes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serv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thered through your sen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cientist notices something in their natural wor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bservation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Gathered through your sens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 scientist notices something in their natural worl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serv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example of an observation might be noticing that many salamanders near a pond have curved, not straight, tai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bservation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n example of an observation might be noticing that many salamanders near a pond have curved, not straight, tail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uggested solution to the probl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st be test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times written as If…Then… stat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dicts an outco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 suggested solution to the problem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ust be testabl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ometimes written as If…Then… statement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redicts an outcom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example of a hypothesis might be that the salamanders have curved tails due to a pollutant in the moist soil where they liv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n example of a hypothesis might be that the salamanders have curved tails due to a pollutant in the moist soil where they live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eri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rocedure to test the hypothesi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xperimen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 procedure to test the hypothesi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eri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riable – factor in the experiment that is being tes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xperimen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ariable – factor in the experiment that is being teste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eri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good or “valid” experiment will only have ONE variabl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xperimen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 good or “valid” experiment will only have ONE variable!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CB14-70AB-409C-9A55-2EDA8EB74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E97D-38AD-4EE0-94F0-418DBE3AF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3290-89BF-4479-96C0-A2F71A7FC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280A-17A6-4ABE-A75C-F9DB8814E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58E08-28EA-448D-9AE8-131205FBD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140AD-01B2-4D37-89F6-761866A94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62B74-40B9-4D0A-8100-00349985A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3AB66-7640-4E9F-8F64-1DFCC29AC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D66C9-9915-4CAC-ADA8-5C4C60FCF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C63D5-D1AB-45E7-B38A-B14A48BDD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6C2D4-BE6E-48C2-95A7-1084F7CE6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5781-EDBA-47AC-A3D6-7AF50C776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3454C-BA04-4A08-BBED-D1ACEB055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D0A3C-C814-4242-B596-11DBCF3CE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AB65A-8C76-44E9-B096-99DC2CA01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5C1D3-F8CB-4A3E-9791-2E5A792F6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BB562-753E-45CF-9D9F-03C1B84C3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F7CA-C192-4DED-890D-20BBDE35B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3E3E-3D67-4252-8ED0-1227FA465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D997-DAF2-4915-BB18-F8E38B35D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AE1E-7473-4DB4-A827-54D2D9857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DC50-3E08-4A63-91BF-6F6F46019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4613-4472-41D0-95C4-8FF3CD0A1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7943-BD2E-4839-9CF9-FFDB6DFBC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CEF33-C2E9-4CF9-92DD-9897C83642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8171C-0E52-4C26-BBF1-D72EFD651499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Comic Sans MS"/>
              </a:rPr>
              <a:t>Scientific Method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Controls and Variables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Scientific Experiments Follow Rule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n experimenter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changes one factor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nd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observes or measures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what happens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4" name="Picture 4" descr="professor7"/>
          <p:cNvPicPr/>
          <p:nvPr/>
        </p:nvPicPr>
        <p:blipFill>
          <a:blip r:embed="rId1"/>
          <a:stretch/>
        </p:blipFill>
        <p:spPr>
          <a:xfrm>
            <a:off x="5068800" y="2498760"/>
            <a:ext cx="3886200" cy="3093840"/>
          </a:xfrm>
          <a:prstGeom prst="rect">
            <a:avLst/>
          </a:prstGeom>
          <a:ln w="0">
            <a:noFill/>
          </a:ln>
        </p:spPr>
      </p:pic>
      <p:sp>
        <p:nvSpPr>
          <p:cNvPr id="145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Comic Sans MS"/>
              </a:rPr>
              <a:t>The Control Variable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he experimenter makes a special effort to keep </a:t>
            </a:r>
            <a:r>
              <a:rPr b="1" lang="en-US" sz="4000" spc="-1" strike="noStrike">
                <a:solidFill>
                  <a:srgbClr val="ff3300"/>
                </a:solidFill>
                <a:latin typeface="Comic Sans MS"/>
              </a:rPr>
              <a:t>other factors constant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so that they will not effect the outcome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hose factors are called </a:t>
            </a:r>
            <a:r>
              <a:rPr b="1" lang="en-US" sz="4000" spc="-1" strike="noStrike">
                <a:solidFill>
                  <a:srgbClr val="ff3300"/>
                </a:solidFill>
                <a:latin typeface="Comic Sans MS"/>
              </a:rPr>
              <a:t>control variables.</a:t>
            </a:r>
            <a:r>
              <a:rPr b="0" lang="en-US" sz="40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1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Comic Sans MS"/>
              </a:rPr>
              <a:t>What is the Purpose of a Control?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82600" y="2709720"/>
            <a:ext cx="7772400" cy="34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ontrols are </a:t>
            </a:r>
            <a:r>
              <a:rPr b="1" lang="en-US" sz="4000" spc="-1" strike="noStrike">
                <a:solidFill>
                  <a:srgbClr val="ff3300"/>
                </a:solidFill>
                <a:latin typeface="Comic Sans MS"/>
              </a:rPr>
              <a:t>NOT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being tested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ontrols are used for </a:t>
            </a:r>
            <a:r>
              <a:rPr b="1" lang="en-US" sz="4000" spc="-1" strike="noStrike">
                <a:solidFill>
                  <a:srgbClr val="ff3300"/>
                </a:solidFill>
                <a:latin typeface="Comic Sans MS"/>
              </a:rPr>
              <a:t>COMPARISON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Comic Sans MS"/>
              </a:rPr>
              <a:t>Other Variables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 factor that is changed is known as the </a:t>
            </a:r>
            <a:r>
              <a:rPr b="1" lang="en-US" sz="4000" spc="-1" strike="noStrike">
                <a:solidFill>
                  <a:srgbClr val="ff3300"/>
                </a:solidFill>
                <a:latin typeface="Comic Sans MS"/>
              </a:rPr>
              <a:t>independent variable</a:t>
            </a: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factor that is measured or observed is called the 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dependent variable</a:t>
            </a: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Example of Controls &amp; Variab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845820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For exampl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suppose you want to figure out the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astest rout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o walk home from school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ou will try several different routes and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ime how long it take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you to get home by each on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nce you are only interested in finding a route that is fastest for you,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you will do the walking yourself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What are the Variables in Your Experime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82600" y="2133720"/>
            <a:ext cx="7772400" cy="39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Varying the route is the 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independent variable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 time it takes is the 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dependent variable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Keeping the same walker throughout makes the walker a 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control variable.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4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9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4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276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Comic Sans MS"/>
              </a:rPr>
              <a:t>One more thing… it is best to make </a:t>
            </a: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several trials</a:t>
            </a:r>
            <a:r>
              <a:rPr b="1" lang="en-US" sz="4800" spc="-1" strike="noStrike">
                <a:solidFill>
                  <a:srgbClr val="333399"/>
                </a:solidFill>
                <a:latin typeface="Comic Sans MS"/>
              </a:rPr>
              <a:t> with each independent variable.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Comic Sans MS"/>
              </a:rPr>
              <a:t>Valid Experiments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Remember: To be a Valid Experiment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047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Two group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are required --- the control &amp; experimental group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re should be only </a:t>
            </a: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one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variabl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Steps in the Scientific Metho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b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ypothe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xperi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et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0" name="Picture 6" descr="j0076135"/>
          <p:cNvPicPr/>
          <p:nvPr/>
        </p:nvPicPr>
        <p:blipFill>
          <a:blip r:embed="rId1"/>
          <a:stretch/>
        </p:blipFill>
        <p:spPr>
          <a:xfrm>
            <a:off x="1182600" y="2692440"/>
            <a:ext cx="3810240" cy="276552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Data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Result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of the experi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May be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quantitative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(numbers) or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qualitativ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Picture 6" descr="j0076136"/>
          <p:cNvPicPr/>
          <p:nvPr/>
        </p:nvPicPr>
        <p:blipFill>
          <a:blip r:embed="rId1"/>
          <a:stretch/>
        </p:blipFill>
        <p:spPr>
          <a:xfrm>
            <a:off x="5145120" y="2376360"/>
            <a:ext cx="3809880" cy="3395880"/>
          </a:xfrm>
          <a:prstGeom prst="rect">
            <a:avLst/>
          </a:prstGeom>
          <a:ln w="0">
            <a:noFill/>
          </a:ln>
        </p:spPr>
      </p:pic>
      <p:sp>
        <p:nvSpPr>
          <p:cNvPr id="171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Data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Must be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 organiz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Can be organized into </a:t>
            </a: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charts, tables, or graph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4" name="Picture 4" descr="j0076136"/>
          <p:cNvPicPr/>
          <p:nvPr/>
        </p:nvPicPr>
        <p:blipFill>
          <a:blip r:embed="rId1"/>
          <a:stretch/>
        </p:blipFill>
        <p:spPr>
          <a:xfrm>
            <a:off x="5145120" y="2376360"/>
            <a:ext cx="3809880" cy="3395880"/>
          </a:xfrm>
          <a:prstGeom prst="rect">
            <a:avLst/>
          </a:prstGeom>
          <a:ln w="0">
            <a:noFill/>
          </a:ln>
        </p:spPr>
      </p:pic>
      <p:sp>
        <p:nvSpPr>
          <p:cNvPr id="175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Conclusion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7720" y="2017800"/>
            <a:ext cx="4154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answer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to the hypothesis based on the </a:t>
            </a: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data obtained from the experi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8" name="Picture 6" descr="bs01344_"/>
          <p:cNvPicPr/>
          <p:nvPr/>
        </p:nvPicPr>
        <p:blipFill>
          <a:blip r:embed="rId1"/>
          <a:stretch/>
        </p:blipFill>
        <p:spPr>
          <a:xfrm>
            <a:off x="5145120" y="2435400"/>
            <a:ext cx="3809880" cy="3278160"/>
          </a:xfrm>
          <a:prstGeom prst="rect">
            <a:avLst/>
          </a:prstGeom>
          <a:ln w="0">
            <a:noFill/>
          </a:ln>
        </p:spPr>
      </p:pic>
      <p:sp>
        <p:nvSpPr>
          <p:cNvPr id="179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etest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In order to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verify the result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, experiments must be retested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Picture 6" descr="j0076135"/>
          <p:cNvPicPr/>
          <p:nvPr/>
        </p:nvPicPr>
        <p:blipFill>
          <a:blip r:embed="rId1"/>
          <a:stretch/>
        </p:blipFill>
        <p:spPr>
          <a:xfrm>
            <a:off x="5145120" y="2692440"/>
            <a:ext cx="3809880" cy="2765520"/>
          </a:xfrm>
          <a:prstGeom prst="rect">
            <a:avLst/>
          </a:prstGeom>
          <a:ln w="0">
            <a:noFill/>
          </a:ln>
        </p:spPr>
      </p:pic>
      <p:sp>
        <p:nvSpPr>
          <p:cNvPr id="183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Comic Sans MS"/>
              </a:rPr>
              <a:t>Review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olving a Problem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14040" y="2209320"/>
            <a:ext cx="4419720" cy="39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96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)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Identify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2) State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Observations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about the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3) Form a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Hypothesis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about the problem (if…then…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4) Design an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Experiment to test the hypothe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5) Collect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6) Form a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7)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Ret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Picture 6" descr="j0076187"/>
          <p:cNvPicPr/>
          <p:nvPr/>
        </p:nvPicPr>
        <p:blipFill>
          <a:blip r:embed="rId1"/>
          <a:stretch/>
        </p:blipFill>
        <p:spPr>
          <a:xfrm>
            <a:off x="5210280" y="2017800"/>
            <a:ext cx="3679560" cy="4114800"/>
          </a:xfrm>
          <a:prstGeom prst="rect">
            <a:avLst/>
          </a:prstGeom>
          <a:ln w="0">
            <a:noFill/>
          </a:ln>
        </p:spPr>
      </p:pic>
      <p:sp>
        <p:nvSpPr>
          <p:cNvPr id="189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5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0" dur="5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5" dur="5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0" dur="500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5" dur="500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Observations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ctr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Gathered through your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sen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ctr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 scientist notices something in their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natural wor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4" name="Picture 6" descr="j0078802"/>
          <p:cNvPicPr/>
          <p:nvPr/>
        </p:nvPicPr>
        <p:blipFill>
          <a:blip r:embed="rId1"/>
          <a:stretch/>
        </p:blipFill>
        <p:spPr>
          <a:xfrm>
            <a:off x="5145120" y="2351160"/>
            <a:ext cx="3809880" cy="344808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Observations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2017440"/>
            <a:ext cx="4307040" cy="445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n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exampl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of an observation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might be noticing that many salamanders near a pond have curved, not straight, tai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8" name="Picture 4" descr="j0078802"/>
          <p:cNvPicPr/>
          <p:nvPr/>
        </p:nvPicPr>
        <p:blipFill>
          <a:blip r:embed="rId1"/>
          <a:stretch/>
        </p:blipFill>
        <p:spPr>
          <a:xfrm>
            <a:off x="5145120" y="2351160"/>
            <a:ext cx="3809880" cy="344808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Hypothesis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4303800" cy="445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 suggested solution to the proble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ust be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test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ometimes written as 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If…Then…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stat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Predict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an outco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2" name="Picture 6" descr="bd05030_"/>
          <p:cNvPicPr/>
          <p:nvPr/>
        </p:nvPicPr>
        <p:blipFill>
          <a:blip r:embed="rId1"/>
          <a:stretch/>
        </p:blipFill>
        <p:spPr>
          <a:xfrm>
            <a:off x="5526000" y="2017800"/>
            <a:ext cx="3046680" cy="411480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Hypothesis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4303800" cy="445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n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example of a hypothesi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might be that the salamanders have curved tails due to a pollutant in the moist soil where they liv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6" name="Picture 4" descr="bd05030_"/>
          <p:cNvPicPr/>
          <p:nvPr/>
        </p:nvPicPr>
        <p:blipFill>
          <a:blip r:embed="rId1"/>
          <a:stretch/>
        </p:blipFill>
        <p:spPr>
          <a:xfrm>
            <a:off x="5526000" y="2017800"/>
            <a:ext cx="3046680" cy="411480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Experiment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 procedure to </a:t>
            </a: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test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the hypothesis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0" name="Picture 6" descr="j0076135"/>
          <p:cNvPicPr/>
          <p:nvPr/>
        </p:nvPicPr>
        <p:blipFill>
          <a:blip r:embed="rId1"/>
          <a:stretch/>
        </p:blipFill>
        <p:spPr>
          <a:xfrm>
            <a:off x="5145120" y="2692440"/>
            <a:ext cx="3809880" cy="2765520"/>
          </a:xfrm>
          <a:prstGeom prst="rect">
            <a:avLst/>
          </a:prstGeom>
          <a:ln w="0">
            <a:noFill/>
          </a:ln>
        </p:spPr>
      </p:pic>
      <p:sp>
        <p:nvSpPr>
          <p:cNvPr id="131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Experiment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Variable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– factor in the experiment that is being tested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4" name="Picture 4" descr="j0076135"/>
          <p:cNvPicPr/>
          <p:nvPr/>
        </p:nvPicPr>
        <p:blipFill>
          <a:blip r:embed="rId1"/>
          <a:stretch/>
        </p:blipFill>
        <p:spPr>
          <a:xfrm>
            <a:off x="5145120" y="2692440"/>
            <a:ext cx="3809880" cy="2765520"/>
          </a:xfrm>
          <a:prstGeom prst="rect">
            <a:avLst/>
          </a:prstGeom>
          <a:ln w="0">
            <a:noFill/>
          </a:ln>
        </p:spPr>
      </p:pic>
      <p:sp>
        <p:nvSpPr>
          <p:cNvPr id="135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Experiment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 good or “valid” experiment will only have </a:t>
            </a: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ONE variable!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8" name="Picture 4" descr="j0076135"/>
          <p:cNvPicPr/>
          <p:nvPr/>
        </p:nvPicPr>
        <p:blipFill>
          <a:blip r:embed="rId1"/>
          <a:stretch/>
        </p:blipFill>
        <p:spPr>
          <a:xfrm>
            <a:off x="5145120" y="2692440"/>
            <a:ext cx="3809880" cy="276552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8T03:26:13Z</dcterms:created>
  <dc:creator>Cheryl Massengale</dc:creator>
  <dc:description/>
  <dc:language>en-US</dc:language>
  <cp:lastModifiedBy>LEGION</cp:lastModifiedBy>
  <dcterms:modified xsi:type="dcterms:W3CDTF">2016-12-07T09:22:17Z</dcterms:modified>
  <cp:revision>10</cp:revision>
  <dc:subject/>
  <dc:title>Scientific Method</dc:title>
</cp:coreProperties>
</file>