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gif" ContentType="image/gif"/>
  <Override PartName="/ppt/media/image5.gif" ContentType="image/gif"/>
  <Override PartName="/ppt/media/image6.wmf" ContentType="image/x-wmf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7FCD6-2329-4702-8C64-190E6ADE8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nd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cientific Experiments Follow R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perimenter changes one factor and observes or measures what happen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Control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experimenter makes a special effort to keep other factors constant so that they will not effect the outcom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ose factors are called control variables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is the Purpose of a Control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NOT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trols are used for COMPARIS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changed is known as the in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factor that is measured or observed is called the dependent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ample of Controls &amp; Variab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example, suppose you want to figure out the fastest route to walk home from school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ou will try several different routes and time how long it takes you to get home by each on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nce you are only interested in finding a route that is fastest for you, you will do the walking yourself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at are the Variables in Your Experiment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ying the route is the in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time it takes is the dependent variabl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eeping the same walker throughout makes the walker a control variabl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ne more thing… it is best to make several trials with each independent variab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 Experi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ember: To be a Valid Experiment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groups are required --- the control &amp; experimental grou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re should be only one vari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teps in the Scientific Metho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Colle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sults of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ay be quantitative (numbers) or qualitativ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organiz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n be organized into charts, tables, or graph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e answer to the hypothesis based on the data obtained from the 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 order to verify the results, experiments must be reteste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lving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)Identify a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) State Observations about the proble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) Form a Hypothesis about the problem (if…then…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) Design an Experiment to test the 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) Collect Dat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) Form a Conclus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) Rete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athered through your sen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cientist notices something in their natural wor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servatio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n observation might be noticing that many salamanders near a pond have curved, not straight, tai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suggested solution to the problem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ust be testab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ometimes written as If…Then… statement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edicts an outco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ypothe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n example of a hypothesis might be that the salamanders have curved tails due to a pollutant in the moist soil where they live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procedure to test the hypothesi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riable – factor in the experiment that is being tes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eri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 good or “valid” experiment will only have ONE variable!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A4AB-F706-4FD1-B53A-EE50FC057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2DD-3263-41C9-B90A-3C6688D7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6BA-6B02-4B23-8E1A-C1938934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0647-D993-401F-A007-04EECD2B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F47DE-1BA0-4F4E-A8AD-C76B6D6F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2E06-9764-4B96-96CB-87B7F5C1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8767-6769-4B8E-B3DC-047F1DB6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76B7-DBDC-4CFC-A915-86F4A60C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35CD-CAD1-487D-9111-88B18E69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ED20-5948-43F3-9279-AE9F74EC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0367-E752-43EA-9F00-0C041C9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E2AA-8584-4171-B4E4-D5EE76E3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6552-9970-4375-9E93-E3480FD4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C2E0-3E34-495E-BDB4-17C2A3D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4C9A-93F2-40FF-AA41-B2E3E1C2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B8DC-E071-46DA-9E4F-9FCFBC9EA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93F1-56E4-4FE7-827B-396FA9A9E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8676-0710-4E41-9750-A9F75CE59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23E7-733F-4CF6-AAB6-FE0ECF65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7E5-27B7-4927-94BB-F935F09F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D91F-BB92-4419-8135-E13557E5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948C-C41B-4544-BB24-F32B99EF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B82A-8CBF-4065-8751-430A194A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77A-8A06-4D59-9ADD-B0D470E8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51E4-EE1F-46AE-B149-EFECBAEA3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A8DA-A00D-48B0-A5D7-20620C74C29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Comic Sans MS"/>
              </a:rPr>
              <a:t>Scientific Method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Controls and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Scientific Experiments Follow Rul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 experimente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changes one factor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nd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bserves or measures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happens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Picture 4" descr="professor7"/>
          <p:cNvPicPr/>
          <p:nvPr/>
        </p:nvPicPr>
        <p:blipFill>
          <a:blip r:embed="rId1"/>
          <a:stretch/>
        </p:blipFill>
        <p:spPr>
          <a:xfrm>
            <a:off x="5068800" y="2498760"/>
            <a:ext cx="3886200" cy="309384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The Control Vari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experimenter makes a special effort to keep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other factors constan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o that they will not effect the outcom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ose factors are called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ntrol variables.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hat is the Purpose of a Control?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709720"/>
            <a:ext cx="777240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NOT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ntrols are used for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COMPARISO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Other Variable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factor that is changed is known as the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factor that is measured or observed is called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Example of Controls &amp; Variab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or exampl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suppose you want to figure out the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astest rout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alk home from schoo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try several different routes and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ime how long it tak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 to get home by each on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ce you are only interested in finding a route that is fastest for you,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you will do the walking yourself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What are the Variables in Your Experime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133720"/>
            <a:ext cx="777240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rying the route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ime it takes is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pendent variabl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Keeping the same walker throughout makes the walker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ntrol variable.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One more thing… it is best to make </a:t>
            </a: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several trials</a:t>
            </a:r>
            <a:r>
              <a:rPr b="1" lang="en-US" sz="4800" spc="-1" strike="noStrike">
                <a:solidFill>
                  <a:srgbClr val="333399"/>
                </a:solidFill>
                <a:latin typeface="Comic Sans MS"/>
              </a:rPr>
              <a:t> with each independent variable.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Valid Experiments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Remember: To be a Valid Experiment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047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Two group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required --- the control &amp; experimental group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re should be only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on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variab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Steps in the Scientific Meth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b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ypothe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t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j0076135"/>
          <p:cNvPicPr/>
          <p:nvPr/>
        </p:nvPicPr>
        <p:blipFill>
          <a:blip r:embed="rId1"/>
          <a:stretch/>
        </p:blipFill>
        <p:spPr>
          <a:xfrm>
            <a:off x="1182600" y="2692440"/>
            <a:ext cx="3810240" cy="276552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f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ay b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ntitative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(numbers) or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qualitativ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6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Data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ust be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 organiz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an be organized into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charts, tables, or graph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4" name="Picture 4" descr="j0076136"/>
          <p:cNvPicPr/>
          <p:nvPr/>
        </p:nvPicPr>
        <p:blipFill>
          <a:blip r:embed="rId1"/>
          <a:stretch/>
        </p:blipFill>
        <p:spPr>
          <a:xfrm>
            <a:off x="5145120" y="2376360"/>
            <a:ext cx="3809880" cy="33958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Conclu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4154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answer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to the hypothesis based on the </a:t>
            </a: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ata obtained from the experi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6" descr="bs01344_"/>
          <p:cNvPicPr/>
          <p:nvPr/>
        </p:nvPicPr>
        <p:blipFill>
          <a:blip r:embed="rId1"/>
          <a:stretch/>
        </p:blipFill>
        <p:spPr>
          <a:xfrm>
            <a:off x="5145120" y="2435400"/>
            <a:ext cx="3809880" cy="32781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etes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 order to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verify the result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, experiments must be retested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Review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olving a Problem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4419720" cy="39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Identif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) State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Observation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3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ypothesi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about the problem (if…then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4) Design 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Experiment to test the hypothe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5) Collect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6) Form a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)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Re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96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Picture 6" descr="j0076187"/>
          <p:cNvPicPr/>
          <p:nvPr/>
        </p:nvPicPr>
        <p:blipFill>
          <a:blip r:embed="rId1"/>
          <a:stretch/>
        </p:blipFill>
        <p:spPr>
          <a:xfrm>
            <a:off x="5210280" y="2017800"/>
            <a:ext cx="3679560" cy="411480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thered through yo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sen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cientist notices something in thei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natur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Observation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17440"/>
            <a:ext cx="430704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f an observatio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noticing that many salamanders near a pond have curved, not straight, 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4" descr="j0078802"/>
          <p:cNvPicPr/>
          <p:nvPr/>
        </p:nvPicPr>
        <p:blipFill>
          <a:blip r:embed="rId1"/>
          <a:stretch/>
        </p:blipFill>
        <p:spPr>
          <a:xfrm>
            <a:off x="5145120" y="2351160"/>
            <a:ext cx="3809880" cy="34480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suggested solution to the proble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ust be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es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metimes written as </a:t>
            </a: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If…Then…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stat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Predict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 outc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Picture 6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Hypothesi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430380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example of a hypothesi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might be that the salamanders have curved tails due to a pollutant in the moist soil where they liv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Picture 4" descr="bd05030_"/>
          <p:cNvPicPr/>
          <p:nvPr/>
        </p:nvPicPr>
        <p:blipFill>
          <a:blip r:embed="rId1"/>
          <a:stretch/>
        </p:blipFill>
        <p:spPr>
          <a:xfrm>
            <a:off x="5526000" y="2017800"/>
            <a:ext cx="3046680" cy="41148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procedure to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test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the hypothesis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Variabl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– factor in the experiment that is being teste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Experiment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 good or “valid” experiment will only have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ONE variable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j0076135"/>
          <p:cNvPicPr/>
          <p:nvPr/>
        </p:nvPicPr>
        <p:blipFill>
          <a:blip r:embed="rId1"/>
          <a:stretch/>
        </p:blipFill>
        <p:spPr>
          <a:xfrm>
            <a:off x="5145120" y="2692440"/>
            <a:ext cx="3809880" cy="27655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03:26:13Z</dcterms:created>
  <dc:creator>Cheryl Massengale</dc:creator>
  <dc:description/>
  <dc:language>en-US</dc:language>
  <cp:lastModifiedBy>LEGION</cp:lastModifiedBy>
  <dcterms:modified xsi:type="dcterms:W3CDTF">2016-12-07T09:22:17Z</dcterms:modified>
  <cp:revision>10</cp:revision>
  <dc:subject/>
  <dc:title>Scientific Method</dc:title>
</cp:coreProperties>
</file>