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74AD-FA02-481C-BA4A-617472DFB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77F-6EC7-4A16-8AC2-7F7FCB8A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2A5A-6BC9-4E6C-AE3C-09038EA1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2A2-BB4A-4E86-A196-5B1C1F6E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677-72DF-41EA-877D-B524E9D1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778C-1D95-43FF-9D5C-0ADA8734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8B06-B324-4701-AC29-D9F93714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64FB-5224-4612-BBD8-1F6013BA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BDDF-EE3D-4BF0-8C3E-0FF2784F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EB15-C93B-431D-AC70-1950A703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4B5C-EB2A-4D2B-8713-E4C5CEC3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B8C5-28E6-407E-896E-5D5F695F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6BA7-96CB-4E53-956D-B1BB4B1D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529D-19F4-4DFB-A755-F76EDD5D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61A3-730C-4658-AC22-635FA5CC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D718-A6ED-4B97-B90E-8B06C65C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A1A2-5B2E-41DB-82F9-46DC2166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899F-D304-4467-A4DD-0E0D8934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616-E7E6-4793-A004-E9DF927F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0C6-BE07-4330-9919-4A68CCA2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1AB-49B5-49B0-A375-754AE4C3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5C1-76D8-4DD4-AE44-4D6A92DF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6DD-F8D7-4A7F-BECB-F97D7AA1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9269-DDCC-40C8-B533-89FFE7EA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D9F-EDD5-4C3C-B800-5479DB6A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D286-1550-4BBB-A0B5-89E1B0FE3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F2DC-61BE-410B-83E1-54C5927DA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Comic Sans MS"/>
              </a:rPr>
              <a:t>The Chemistry of Life</a:t>
            </a:r>
            <a:endParaRPr b="0" lang="en-US" sz="60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680" y="335268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Ionic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23" name="Picture 4" descr="nacl_dissolving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3875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09480" y="5638680"/>
            <a:ext cx="81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+ ions will be attracted to WHAT END of the water molec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s that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n’t dissolve but separate into tiny pie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te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keeps the pieces suspend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o they don’t settl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lood &amp; Cytoplasm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susp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mayonaise"/>
          <p:cNvPicPr/>
          <p:nvPr/>
        </p:nvPicPr>
        <p:blipFill>
          <a:blip r:embed="rId1"/>
          <a:stretch/>
        </p:blipFill>
        <p:spPr>
          <a:xfrm>
            <a:off x="7238880" y="3886200"/>
            <a:ext cx="161316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My Documents\My Pictures\180px-WaterAndFlourSuspensionLiquid.jpg"/>
          <p:cNvPicPr/>
          <p:nvPr/>
        </p:nvPicPr>
        <p:blipFill>
          <a:blip r:embed="rId2"/>
          <a:stretch/>
        </p:blipFill>
        <p:spPr>
          <a:xfrm>
            <a:off x="5105520" y="1219320"/>
            <a:ext cx="2286000" cy="3911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, Bases &amp; pH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 water molecule in 550 million naturally dissociates into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xide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ydrogen Ion          Hydroxide 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cid </a:t>
            </a: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5800" y="3581280"/>
            <a:ext cx="746748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O  </a:t>
            </a:r>
            <a:r>
              <a:rPr b="0" lang="en-US" sz="48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H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 Black"/>
              </a:rPr>
              <a:t>+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+  OH</a:t>
            </a:r>
            <a:r>
              <a:rPr b="1" lang="en-US" sz="6600" spc="-1" strike="noStrike" baseline="34000">
                <a:solidFill>
                  <a:srgbClr val="ffffff"/>
                </a:solidFill>
                <a:latin typeface="Arial Black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 flipV="1">
            <a:off x="3886200" y="4267080"/>
            <a:ext cx="304920" cy="609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6858000" y="4190760"/>
            <a:ext cx="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pH Sca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icates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ncentration of 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anges from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0 –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7 is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0 up to 7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id … H</a:t>
            </a:r>
            <a:r>
              <a:rPr b="1" lang="en-US" sz="3200" spc="-1" strike="noStrike" baseline="4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above 7 to 14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se… OH</a:t>
            </a:r>
            <a:r>
              <a:rPr b="1" lang="en-US" sz="32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ach p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unit represents a factor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0X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change in 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96920" y="5513400"/>
            <a:ext cx="856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ow much stronger is a pH3 than a pH of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Acid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600" spc="-1" strike="noStrike" baseline="36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600" spc="-1" strike="noStrike" baseline="36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pH_acid"/>
          <p:cNvPicPr/>
          <p:nvPr/>
        </p:nvPicPr>
        <p:blipFill>
          <a:blip r:embed="rId1"/>
          <a:stretch/>
        </p:blipFill>
        <p:spPr>
          <a:xfrm>
            <a:off x="4114800" y="1676520"/>
            <a:ext cx="4648320" cy="43448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ase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Base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1 –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</a:t>
            </a:r>
            <a:r>
              <a:rPr b="1" lang="en-US" sz="36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+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pH_basic"/>
          <p:cNvPicPr/>
          <p:nvPr/>
        </p:nvPicPr>
        <p:blipFill>
          <a:blip r:embed="rId1"/>
          <a:stretch/>
        </p:blipFill>
        <p:spPr>
          <a:xfrm>
            <a:off x="4114800" y="1600200"/>
            <a:ext cx="4800600" cy="42609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uffer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eak acids or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react with strong acids or b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de by the bo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vent sharp, sudden changes in pH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keep pH neutra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C:\My Documents\My Pictures\heinz-white-vinegar.jpg"/>
          <p:cNvPicPr/>
          <p:nvPr/>
        </p:nvPicPr>
        <p:blipFill>
          <a:blip r:embed="rId1"/>
          <a:stretch/>
        </p:blipFill>
        <p:spPr>
          <a:xfrm>
            <a:off x="2286000" y="4952880"/>
            <a:ext cx="1104840" cy="11052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9051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C:\My Documents\My Pictures\DawnLarge.jpg"/>
          <p:cNvPicPr/>
          <p:nvPr/>
        </p:nvPicPr>
        <p:blipFill>
          <a:blip r:embed="rId2"/>
          <a:stretch/>
        </p:blipFill>
        <p:spPr>
          <a:xfrm>
            <a:off x="56386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54100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Neutral Charge – Z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no char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n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Equal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+ and e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harges aren’t evenly distribu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ola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water molecule is polar because there is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uneven distribution of electr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etween the oxygen and hydro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-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water_molecule"/>
          <p:cNvPicPr/>
          <p:nvPr/>
        </p:nvPicPr>
        <p:blipFill>
          <a:blip r:embed="rId1"/>
          <a:stretch/>
        </p:blipFill>
        <p:spPr>
          <a:xfrm>
            <a:off x="33526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6400800" y="4952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909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olar water molecul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t like magnet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ttract each 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of the Hydrogen end (+) of one molecule for the Oxygen e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(-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nother water mole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y are strong bonds that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orm between molecules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, …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05" name="Picture 4" descr="water_lattice"/>
          <p:cNvPicPr/>
          <p:nvPr/>
        </p:nvPicPr>
        <p:blipFill>
          <a:blip r:embed="rId1"/>
          <a:stretch/>
        </p:blipFill>
        <p:spPr>
          <a:xfrm>
            <a:off x="2709720" y="1523880"/>
            <a:ext cx="4319640" cy="44197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Cohesion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lecules of the same substan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e.g. wat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attracting other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lows some insects and spiders to walk o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water_strider"/>
          <p:cNvPicPr/>
          <p:nvPr/>
        </p:nvPicPr>
        <p:blipFill>
          <a:blip r:embed="rId1"/>
          <a:stretch/>
        </p:blipFill>
        <p:spPr>
          <a:xfrm>
            <a:off x="5410080" y="1905120"/>
            <a:ext cx="3448080" cy="28065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dhesion &amp; Capillarity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dhes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-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 and different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hesion &amp; adhesion produce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pillarity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upward movement against gravity of water through small tub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capillary_tube_b copy"/>
          <p:cNvPicPr/>
          <p:nvPr/>
        </p:nvPicPr>
        <p:blipFill>
          <a:blip r:embed="rId1"/>
          <a:stretch/>
        </p:blipFill>
        <p:spPr>
          <a:xfrm>
            <a:off x="5181480" y="4038480"/>
            <a:ext cx="2803680" cy="300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990720" y="48006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uestion: How do plants make use of Capilla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olutions &amp; 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ter is usually part of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ixtur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ecause so many things dissolve in water, it is called th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Universal Sol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re are two types of mixtur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l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uspen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Properties of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ic compound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isperse a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water (+ions &amp; -ions spread out among polar water molecu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olutions ar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enly distribut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 that is being dissol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solving Substance for the 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04:37:26Z</dcterms:created>
  <dc:creator>Cheryl Massengale</dc:creator>
  <dc:description/>
  <dc:language>en-US</dc:language>
  <cp:lastModifiedBy>LEGION</cp:lastModifiedBy>
  <dcterms:modified xsi:type="dcterms:W3CDTF">2016-12-07T09:22:09Z</dcterms:modified>
  <cp:revision>18</cp:revision>
  <dc:subject/>
  <dc:title>water</dc:title>
</cp:coreProperties>
</file>