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C8061-0ADB-46CC-9977-48CE9E0234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mistry of Li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erties of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mistry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ic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+ ions will be attracted to WHAT END of the water molecu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c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+ ions will be attracted to WHAT END of the water molecu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spe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stances that don’t dissolve but separate into tiny pie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keeps the pieces suspended so they don’t settle 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od &amp; Cytoplasm are suspe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sp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s that don’t dissolve but separate into tiny pie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keeps the pieces suspended so they don’t settle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&amp; Cytoplasm are susp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ids, Bases &amp; 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 water molecule in 550 million naturally dissociates into a Hydrogen Ion and a Hydroxide 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ydrogen Ion          Hydroxide 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id                         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2O    H+  +  OH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, Bases &amp;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water molecule in 550 million naturally dissociates into a Hydrogen Ion and a Hydroxide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Ion          Hydroxide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                        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    H+  + 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icates the concentration of H+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ges from 0 –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of 7 is neut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0 up to 7  acid … H+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above 7 to 14  base… OH-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pH unit represents a factor of 10X change in concent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stronger is a pH3 than a pH of 5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s the concentration of H+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ges from 0 –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of 7 is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0 up to 7  acid … H+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above 7 to 14  base… OH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H unit represents a factor of 10X change in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stronger is a pH3 than a pH of 5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Acid = pH 1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in H+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er number of OH-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Acid = pH 1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in H+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r number of OH-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Base = pH 11 –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in OH-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er in number of H+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Base = pH 11 –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in OH-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r in number of H+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ff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k acids or bases that react with strong acids or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de by the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vent sharp, sudden changes in pH (keep pH neutr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k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k 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ff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k acids or bases that react with strong acids or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by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 sharp, sudden changes in pH (keep pH neutr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k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k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ter Molecu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al Charge – 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no 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an Equal number of p+ and e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ges aren’t evenly distribu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ter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Charge –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no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n Equal number of p+ and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s aren’t evenly distribu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ter Molecu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ater molecule is polar because there is an uneven distribution of electrons between the oxygen and hydrogen ato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-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ter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a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ater molecule is polar because there is an uneven distribution of electrons between the oxygen and hydrogen at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-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ar water molecules act like magnets and attract each oth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traction of the Hydrogen end (+) of one molecule for the Oxygen end (-) of another water molecu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strong bonds that form between molecules (CO2, H2O, 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ar water molecules act like magnets and attract each o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traction of the Hydrogen end (+) of one molecule for the Oxygen end (-) of another water molec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strong bonds that form between molecules (CO2, H2O, 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he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traction between molecules of the same substance (e.g. water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2O attracting other H2O mole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ows some insects and spiders to walk on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he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traction between molecules of the same substance (e.g. wate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 attracting other H2O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some insects and spiders to walk o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hesion &amp; Capil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hesion - Attraction between H2O molecules and different mole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hesion &amp; adhesion produce Capillarity (upward movement against gravity of water through small tub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: How do plants make use of Capillarit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hesion &amp; Capilla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hesion - Attraction between H2O molecules and different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hesion &amp; adhesion produce Capillarity (upward movement against gravity of water through small tub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How do plants make use of Capillar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s &amp; Suspe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is usually part of a mix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so many things dissolve in water, it is called the Universal Solv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wo types of mixtur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spe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s &amp; Susp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is usually part of a mix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so many things dissolve in water, it is called the Universal Sol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types of mixtu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sp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erties of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ic compounds disperse as ions in water (+ions &amp; -ions spread out among polar water molecu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s are Evenly distributed mixtu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stance that is being dissol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solving Substance for the solu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c compounds disperse as ions in water (+ions &amp; -ions spread out among polar water molecu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s are Evenly distributed 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 that is being diss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lving Substance for the sol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184B-581B-4340-A3B5-D7F568DF3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2F22-8777-4E46-A5FE-2991711C3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AB70-B0BC-44BE-87B0-8E443C976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3F1A-14AD-4196-9A75-C9C53C715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DB9A7-3606-471F-B5A9-3AF0BEBAF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9BDD0-491B-4F95-BA05-FBD95F922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8CAA8-BFFC-44F0-9E9A-7F5CFA79A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9E728-D1EC-42FD-91E4-F6A6F48D2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BB59F-9927-4FAF-ACA3-518857302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BDB2F-01E8-46BC-AAC8-E3463DA07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6ECE9-634D-47D3-8F4E-3E8DE99C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6FE5-E045-496B-9A47-43704AC4B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045A4-F77A-4FBB-BD08-6353311A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5615A-EA96-4563-A857-4BEFBFE1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3DF1B-8438-4FE9-B941-4CBBD34B2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E9EF0-FC49-4919-9916-1CD838308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E9B6A-3431-4B58-AFC7-65BFCCE2F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3397-37D0-4D2C-9C93-B88D1FAE6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0C26-DCEF-47A7-A783-879D17EE4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72D1-D365-4C92-86A3-0557939A1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0B80-B481-41CF-9386-ABDC877DF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01A3-A7B3-49AD-9CD6-0D27CE83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638E-9266-4836-96BB-D37DF588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3FB1-6E94-424D-A744-FA9959F8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8013A-9B87-4C25-B9F4-B4AEC00C7B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8D920-BD3D-4305-A775-AE0B2DCA18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1294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Comic Sans MS"/>
              </a:rPr>
              <a:t>The Chemistry of Life</a:t>
            </a:r>
            <a:endParaRPr b="0" lang="en-US" sz="60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66680" y="3352680"/>
            <a:ext cx="7467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Properties of Wat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Ionic Solution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pic>
        <p:nvPicPr>
          <p:cNvPr id="123" name="Picture 4" descr="nacl_dissolving"/>
          <p:cNvPicPr/>
          <p:nvPr/>
        </p:nvPicPr>
        <p:blipFill>
          <a:blip r:embed="rId1"/>
          <a:stretch/>
        </p:blipFill>
        <p:spPr>
          <a:xfrm>
            <a:off x="609480" y="1523880"/>
            <a:ext cx="8001000" cy="38750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609480" y="5638680"/>
            <a:ext cx="8169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Na+ ions will be attracted to WHAT END of the water molec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Suspension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ubstances that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don’t dissolve but separate into tiny pie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ater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keeps the pieces suspended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so they don’t settle o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Blood &amp; Cytoplasm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are suspen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4" descr="mayonaise"/>
          <p:cNvPicPr/>
          <p:nvPr/>
        </p:nvPicPr>
        <p:blipFill>
          <a:blip r:embed="rId1"/>
          <a:stretch/>
        </p:blipFill>
        <p:spPr>
          <a:xfrm>
            <a:off x="7238880" y="3886200"/>
            <a:ext cx="1613160" cy="2743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C:\My Documents\My Pictures\180px-WaterAndFlourSuspensionLiquid.jpg"/>
          <p:cNvPicPr/>
          <p:nvPr/>
        </p:nvPicPr>
        <p:blipFill>
          <a:blip r:embed="rId2"/>
          <a:stretch/>
        </p:blipFill>
        <p:spPr>
          <a:xfrm>
            <a:off x="5105520" y="1219320"/>
            <a:ext cx="2286000" cy="39114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Acids, Bases &amp; pH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1 water molecule in 550 million naturally dissociates into a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ydrogen Ion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and a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ydroxide 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Hydrogen Ion          Hydroxide 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cid </a:t>
            </a: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685800" y="3581280"/>
            <a:ext cx="7467480" cy="11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H</a:t>
            </a:r>
            <a:r>
              <a:rPr b="0" lang="en-US" sz="4800" spc="-1" strike="noStrike" baseline="-25000">
                <a:solidFill>
                  <a:srgbClr val="ffffff"/>
                </a:solidFill>
                <a:latin typeface="Arial Black"/>
              </a:rPr>
              <a:t>2</a:t>
            </a: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O  </a:t>
            </a:r>
            <a:r>
              <a:rPr b="0" lang="en-US" sz="4800" spc="-1" strike="noStrike">
                <a:solidFill>
                  <a:srgbClr val="ffffff"/>
                </a:solidFill>
                <a:latin typeface="Wingdings 3"/>
                <a:ea typeface="Wingdings 3"/>
              </a:rPr>
              <a:t></a:t>
            </a: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  H</a:t>
            </a:r>
            <a:r>
              <a:rPr b="0" lang="en-US" sz="4800" spc="-1" strike="noStrike" baseline="30000">
                <a:solidFill>
                  <a:srgbClr val="ffffff"/>
                </a:solidFill>
                <a:latin typeface="Arial Black"/>
              </a:rPr>
              <a:t>+</a:t>
            </a: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  +  OH</a:t>
            </a:r>
            <a:r>
              <a:rPr b="1" lang="en-US" sz="6600" spc="-1" strike="noStrike" baseline="34000">
                <a:solidFill>
                  <a:srgbClr val="ffffff"/>
                </a:solidFill>
                <a:latin typeface="Arial Black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5"/>
          <p:cNvSpPr/>
          <p:nvPr/>
        </p:nvSpPr>
        <p:spPr>
          <a:xfrm flipV="1">
            <a:off x="3886200" y="4267080"/>
            <a:ext cx="304920" cy="6098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6"/>
          <p:cNvSpPr/>
          <p:nvPr/>
        </p:nvSpPr>
        <p:spPr>
          <a:xfrm flipV="1">
            <a:off x="6858000" y="4190760"/>
            <a:ext cx="0" cy="60948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The pH Scale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ndicates th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oncentration of H</a:t>
            </a:r>
            <a:r>
              <a:rPr b="1" lang="en-US" sz="3200" spc="-1" strike="noStrike" baseline="30000">
                <a:solidFill>
                  <a:srgbClr val="ffff00"/>
                </a:solidFill>
                <a:latin typeface="Comic Sans MS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Ranges from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0 – 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H of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7 is neut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H 0 up to 7 </a:t>
            </a: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cid … H</a:t>
            </a:r>
            <a:r>
              <a:rPr b="1" lang="en-US" sz="3200" spc="-1" strike="noStrike" baseline="40000">
                <a:solidFill>
                  <a:srgbClr val="ffff00"/>
                </a:solidFill>
                <a:latin typeface="Comic Sans MS"/>
              </a:rPr>
              <a:t>+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H above 7 to 14 </a:t>
            </a: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base… OH</a:t>
            </a:r>
            <a:r>
              <a:rPr b="1" lang="en-US" sz="3200" spc="-1" strike="noStrike" baseline="34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ach pH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unit represents a factor of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10X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change in concen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196920" y="5513400"/>
            <a:ext cx="856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How much stronger is a pH3 than a pH of 5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Acid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2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Strong Acid =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pH 1-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High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US" sz="3600" spc="-1" strike="noStrike" baseline="36000">
                <a:solidFill>
                  <a:srgbClr val="ffff00"/>
                </a:solidFill>
                <a:latin typeface="Comic Sans MS"/>
              </a:rPr>
              <a:t>+</a:t>
            </a:r>
            <a:r>
              <a:rPr b="1" lang="en-US" sz="3600" spc="-1" strike="noStrike" baseline="36000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Lower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number of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OH-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4" descr="pH_acid"/>
          <p:cNvPicPr/>
          <p:nvPr/>
        </p:nvPicPr>
        <p:blipFill>
          <a:blip r:embed="rId1"/>
          <a:stretch/>
        </p:blipFill>
        <p:spPr>
          <a:xfrm>
            <a:off x="4114800" y="1676520"/>
            <a:ext cx="4648320" cy="434484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Base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Strong Base =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pH 11 – 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High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OH</a:t>
            </a:r>
            <a:r>
              <a:rPr b="1" lang="en-US" sz="3600" spc="-1" strike="noStrike" baseline="34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Lower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in number of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H+ 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4" descr="pH_basic"/>
          <p:cNvPicPr/>
          <p:nvPr/>
        </p:nvPicPr>
        <p:blipFill>
          <a:blip r:embed="rId1"/>
          <a:stretch/>
        </p:blipFill>
        <p:spPr>
          <a:xfrm>
            <a:off x="4114800" y="1600200"/>
            <a:ext cx="4800600" cy="426096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Buffer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Weak acids or bases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that react with strong acids or ba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Made by the bod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revent sharp, sudden changes in pH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(keep pH neutral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4" descr="C:\My Documents\My Pictures\heinz-white-vinegar.jpg"/>
          <p:cNvPicPr/>
          <p:nvPr/>
        </p:nvPicPr>
        <p:blipFill>
          <a:blip r:embed="rId1"/>
          <a:stretch/>
        </p:blipFill>
        <p:spPr>
          <a:xfrm>
            <a:off x="2286000" y="4952880"/>
            <a:ext cx="1104840" cy="11052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1905120" y="6095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ak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C:\My Documents\My Pictures\DawnLarge.jpg"/>
          <p:cNvPicPr/>
          <p:nvPr/>
        </p:nvPicPr>
        <p:blipFill>
          <a:blip r:embed="rId2"/>
          <a:stretch/>
        </p:blipFill>
        <p:spPr>
          <a:xfrm>
            <a:off x="5638680" y="47242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8"/>
          <p:cNvSpPr/>
          <p:nvPr/>
        </p:nvSpPr>
        <p:spPr>
          <a:xfrm>
            <a:off x="5410080" y="6095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ak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The Water Molecule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-2023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Neutral Charge – ZE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02320" indent="-20232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Have 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no char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02320" indent="-20232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Have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an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 Equal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number of 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p+ and e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02320" indent="-202320">
              <a:lnSpc>
                <a:spcPct val="80000"/>
              </a:lnSpc>
              <a:spcBef>
                <a:spcPts val="1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Charges aren’t evenly distribut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The Water Molecule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Polar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 water molecule is polar because there is an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uneven distribution of electron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between the oxygen and hydrogen at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-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4" descr="water_molecule"/>
          <p:cNvPicPr/>
          <p:nvPr/>
        </p:nvPicPr>
        <p:blipFill>
          <a:blip r:embed="rId1"/>
          <a:stretch/>
        </p:blipFill>
        <p:spPr>
          <a:xfrm>
            <a:off x="3352680" y="4191120"/>
            <a:ext cx="2667240" cy="24382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6400800" y="49528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+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2590920" y="4952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Hydrogen Bond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olar water molecules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ct like magnet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and attract each oth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ydrogen Bo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 attraction of the Hydrogen end (+) of one molecule for the Oxygen end </a:t>
            </a: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(-)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of another water molecu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y are strong bonds that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form between molecules</a:t>
            </a: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, H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, …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Hydrogen Bond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pic>
        <p:nvPicPr>
          <p:cNvPr id="105" name="Picture 4" descr="water_lattice"/>
          <p:cNvPicPr/>
          <p:nvPr/>
        </p:nvPicPr>
        <p:blipFill>
          <a:blip r:embed="rId1"/>
          <a:stretch/>
        </p:blipFill>
        <p:spPr>
          <a:xfrm>
            <a:off x="2709720" y="1523880"/>
            <a:ext cx="4319640" cy="441972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Cohesion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 attraction between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molecules of the same substanc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(e.g. water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 attracting other 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 molec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llows some insects and spiders to walk on w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5" descr="water_strider"/>
          <p:cNvPicPr/>
          <p:nvPr/>
        </p:nvPicPr>
        <p:blipFill>
          <a:blip r:embed="rId1"/>
          <a:stretch/>
        </p:blipFill>
        <p:spPr>
          <a:xfrm>
            <a:off x="5410080" y="1905120"/>
            <a:ext cx="3448080" cy="280656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Adhesion &amp; Capillarity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dhesion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- Attraction between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 molecules and different molec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ohesion &amp; adhesion produce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apillarity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(upward movement against gravity of water through small tub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5" descr="capillary_tube_b copy"/>
          <p:cNvPicPr/>
          <p:nvPr/>
        </p:nvPicPr>
        <p:blipFill>
          <a:blip r:embed="rId1"/>
          <a:stretch/>
        </p:blipFill>
        <p:spPr>
          <a:xfrm>
            <a:off x="5181480" y="4038480"/>
            <a:ext cx="2803680" cy="30052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6"/>
          <p:cNvSpPr/>
          <p:nvPr/>
        </p:nvSpPr>
        <p:spPr>
          <a:xfrm>
            <a:off x="990720" y="4800600"/>
            <a:ext cx="380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Question: How do plants make use of Capillar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Solutions &amp; Suspension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Water is usually part of a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mixture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Because so many things dissolve in water, it is called the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Universal Solv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re are two types of mixtur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olu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uspens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Properties of Solution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onic compound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disperse as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on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in water (+ions &amp; -ions spread out among polar water molecul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olutions ar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venly distributed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mix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OLU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ubstance that is being dissol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OLV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Dissolving Substance for the solu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7T04:37:26Z</dcterms:created>
  <dc:creator>Cheryl Massengale</dc:creator>
  <dc:description/>
  <dc:language>en-US</dc:language>
  <cp:lastModifiedBy>LEGION</cp:lastModifiedBy>
  <dcterms:modified xsi:type="dcterms:W3CDTF">2016-12-07T09:22:09Z</dcterms:modified>
  <cp:revision>18</cp:revision>
  <dc:subject/>
  <dc:title>water</dc:title>
</cp:coreProperties>
</file>