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0.png" ContentType="image/png"/>
  <Override PartName="/ppt/media/image28.jpeg" ContentType="image/jpeg"/>
  <Override PartName="/ppt/media/image6.png" ContentType="image/png"/>
  <Override PartName="/ppt/media/image10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27.png" ContentType="image/png"/>
  <Override PartName="/ppt/media/image26.jpeg" ContentType="image/jpeg"/>
  <Override PartName="/ppt/media/image1.png" ContentType="image/png"/>
  <Override PartName="/ppt/media/image24.jpeg" ContentType="image/jpeg"/>
  <Override PartName="/ppt/media/image22.wmf" ContentType="image/x-wmf"/>
  <Override PartName="/ppt/media/image21.png" ContentType="image/png"/>
  <Override PartName="/ppt/media/image18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23.wmf" ContentType="image/x-wmf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FC683-3319-422F-974B-36D107F7B21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Study of Biolo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udy of B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More Cell Fac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More complex cells are called Eukaryot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hese cells DO have a nucleus and membrane-bound organel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Plants, animals, protists, &amp; fungi are examp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Cell F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complex cells are called Eukary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cells DO have a nucleus and membrane-bound organel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s, animals, protists, &amp; fungi are exam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Organisms are Grouped by their Number of Cel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Unicellular Organis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Living Organism Made Up Of One Ce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Multicellular Organis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Living Organism Made Up Of Many, Specialized Cel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ms are Grouped by their Number of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cellular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ing Organism Made Up Of One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cellular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ing Organism Made Up Of Many, Specialize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Organisms Reproduce to Pass on their Genetic Trai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ms Reproduce to Pass on their Genetic Tra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wo Types of Reproduc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Sexual Reproduc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Involves 2 pare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Egg fertilized by sperm to make a ZYGO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Offspring DIFFERENT from pare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Types of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olves 2 par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g fertilized by sperm to make a ZYG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fspring DIFFERENT from par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wo Types of Reproduc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sexual Reproduc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Involves a single organism or ce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Cell divid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Offspring IDENTICAL to par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Types of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olves a single organism or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div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fspring IDENTICAL to pa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Cells Have a Genetic Co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Have a Genetic C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Genetic Co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DNA (deoxyribose nucleic acid) carries the genetic code for all organis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ll organisms contain DN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DNA codes for the proteins that make up cells &amp; do all the wor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tic C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(deoxyribose nucleic acid) carries the genetic code for all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organisms contain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codes for the proteins that make up cells &amp; do all the 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Organisms Grow &amp; Develo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rganisms Grow &amp; Devel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Growth &amp; Develop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Organisms grow by producing MORE CELLS &amp; by cell ENLARGE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Organisms develop as they mature into an adult organis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wth &amp;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ms grow by producing MORE CELLS &amp; by cell ENLAR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ms develop as they mature into an adult org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Cells Require Food &amp; Ener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ells Require Food &amp;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What is Biolog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Biology is  the study of all living thing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Living things are called organis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Organisms include bacteria, protists, fungi, plants, &amp; anima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Biolog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logy is  the study of all living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ing things are called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ms include bacteria, protists, fungi, plants, &amp;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Food Requireme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utotrophs can make their own foo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Photoautotrophs use sunlight to make food (photosynthesi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Chemoautotrophs use chemicals such as iron &amp; sulfur as their ener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od Requir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otrophs can make their own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toautotrophs use sunlight to make food (photosynthesi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oautotrophs use chemicals such as iron &amp; sulfur as their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Food Requireme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Heterotrophs can NOT make their own foo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hey must consume other organis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Herbivores eat pla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Carnivores eat mea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Omnivores eat plants &amp; anima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od Requir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terotrophs can NOT make their own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must consume other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bivores eat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nivores eat me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mnivores eat plants &amp;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Metabolis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Sum of all the chemical reactions in an organis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ll require ener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Sunlight is the ultimate energy for life on Earth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bol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 of all the chemical reactions in an org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require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light is the ultimate energy for life on Ear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Metabolis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Cellular Respiration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Cells releasing the chemical energy stored in foo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6O2 + C6H12O6               6CO2 + 6H2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bol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ular Respir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releasing the chemical energy stored in fo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O2 + C6H12O6               6CO2 + 6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Organisms Respond to Stimul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Organisms Respond to stimuli (Temperature, Water, Food Supplies, etc.) In Order To Survive &amp; Reprodu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ms Respond to Stimu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ms Respond to stimuli (Temperature, Water, Food Supplies, etc.) In Order To Survive &amp; Reprodu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Homeostas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Keeping The Internal Environment (Homeostasis) Of The Cell or Organism Within The Ranges Required For Lif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Stable internal conditions of pH, temperature, water balance, et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osta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ing The Internal Environment (Homeostasis) Of The Cell or Organism Within The Ranges Required For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ble internal conditions of pH, temperature, water balanc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Living Things Evolv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Groups Of Organisms (Not Individuals) Change Over Time In Order To Survive Within Changing Environment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Fossil records show changes in groups of organis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ing Things Evo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s Of Organisms (Not Individuals) Change Over Time In Order To Survive Within Changing Environ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ssil records show changes in groups of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Life is Organized on Several Leve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 is Organized on Several Lev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Leve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to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Molecu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Organel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Cells – life starts he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issu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Orga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Organis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v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rganel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ells – life start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rg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Leve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Popul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Commun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Eco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Biosphe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o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ll Living Things Share Common Characteristic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Basic Unit is the Ce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hey Reprodu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ll Based On Universal Genetic Code (DNA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Grow &amp; Develo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Living Things Share Common Character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ic Unit is the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Reprodu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Based On Universal Genetic Code (DN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w &amp; Devel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Common Characteristic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Obtain &amp; Use Materials &amp; Ener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espond To Their Environ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Maintain A Stable Internal Environ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S A GROUP, Living Things Evolve, That Is They Change Over Tim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Character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&amp; Use Materials &amp;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d To Their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ain A Stable Internal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 GROUP, Living Things Evolve, That Is They Change Over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Characteristics of Organis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haracteristics of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ll Organisms are made of Cel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Organisms are made of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Facts About Cel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Cells are the smallest living unit of an organis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ll cells contain living material called cytoplas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ll cells are surrounded by a cell membrane that controls what enters &amp; leaves the ce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s About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are the smallest living unit of an org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cells contain living material called cytopla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cells are surrounded by a cell membrane that controls what enters &amp; leaves the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More Cell Fac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Cells are complex &amp; highly organiz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Cells have parts called organelles that do different job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e.g. Chloroplasts in plants make suga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Cell F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are complex &amp; highly organiz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have parts called organelles that do different jo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Chloroplasts in plants make sug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More Cell Fac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he simplest cells are called Prokaryot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hese cells DO NOT have a nucleus or membrane-bound organel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Bacteria are examp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Cell F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implest cells are called Prokary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cells DO NOT have a nucleus or membrane-bound organel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 are exam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3E30-B2F2-49A6-8733-A09E233D3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E230-E060-4C39-BB48-B2C169064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A46D-F6B6-42FE-837A-CBEB9E4BD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1BCC-8D05-4194-B863-B6145DD52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23836-02BF-46A4-A5AA-A1E474106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2D12B-F706-420B-8D31-5E72A4E13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FB110-E1A2-41E0-8CF0-12FF41603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22F50-FE9A-4490-8912-538838075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75264-B6FF-40AE-890D-32FA5DCD3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2693D-3134-459B-B0BF-FF32D0595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B6C3F-3E70-4399-ABAB-ABD998491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908B-EFC2-40C7-8CFB-3F8989E7C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B5DA8-8A59-41CC-96F0-2B519F1CC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30CD6-9632-4E7E-9BAA-09B1DC9F8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0C6C1-7F45-45CA-9117-0101F9741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F28F4-F85B-4E78-834C-D384FF0BA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9A21A-6337-4027-9CB4-6ED94F421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245C-D383-4979-A3F1-73ADA4C7D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F870-E7E8-45BD-91A2-A2C63EEF3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320F-75D5-4302-936D-545B99766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8166-B4C4-440E-A01A-6C9A16238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7072-C5A7-4922-BB13-03BFC27B7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48A3-A382-4FA9-9AF2-5DD5898E1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DE88-CE71-4657-9667-83CE710D8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29A7D-3F42-4E72-8D42-91F3872ABBB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1E390-75DA-477D-A5A8-E02EE4904BA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21.png"/><Relationship Id="rId5" Type="http://schemas.openxmlformats.org/officeDocument/2006/relationships/image" Target="../media/image22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ethnopharmacology.com/index.html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Study of Biology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Picture 4" descr="spider"/>
          <p:cNvPicPr/>
          <p:nvPr/>
        </p:nvPicPr>
        <p:blipFill>
          <a:blip r:embed="rId1"/>
          <a:stretch/>
        </p:blipFill>
        <p:spPr>
          <a:xfrm>
            <a:off x="2362320" y="2590920"/>
            <a:ext cx="4444920" cy="3860640"/>
          </a:xfrm>
          <a:prstGeom prst="rect">
            <a:avLst/>
          </a:prstGeom>
          <a:ln w="0">
            <a:noFill/>
          </a:ln>
        </p:spPr>
      </p:pic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More Cell Fact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51920" y="1599840"/>
            <a:ext cx="5257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More complex cells are called 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Eukaryo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These cells 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DO have a nucleus and membrane-bound organel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Plants, animals, protists, &amp; fungi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are examp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" name="Picture 6" descr="cell_structure"/>
          <p:cNvPicPr/>
          <p:nvPr/>
        </p:nvPicPr>
        <p:blipFill>
          <a:blip r:embed="rId4"/>
          <a:stretch/>
        </p:blipFill>
        <p:spPr>
          <a:xfrm>
            <a:off x="5257800" y="2514600"/>
            <a:ext cx="3695760" cy="2771640"/>
          </a:xfrm>
          <a:prstGeom prst="rect">
            <a:avLst/>
          </a:prstGeom>
          <a:ln w="0">
            <a:noFill/>
          </a:ln>
        </p:spPr>
      </p:pic>
      <p:sp>
        <p:nvSpPr>
          <p:cNvPr id="2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Organisms are Grouped by their Number of Cel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ff3300"/>
                </a:solidFill>
                <a:latin typeface="Comic Sans MS"/>
              </a:rPr>
              <a:t>Unicellular Organism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Living Organism Made Up Of One Cel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ff3300"/>
                </a:solidFill>
                <a:latin typeface="Comic Sans MS"/>
              </a:rPr>
              <a:t>Multicellular Organism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Living Organism Made Up Of Many, Specialized Cell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mic Sans MS"/>
              </a:rPr>
              <a:t>Organisms Reproduce to Pass on their Genetic Trait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7" name="Picture 4" descr="brownnoddynest01"/>
          <p:cNvPicPr/>
          <p:nvPr/>
        </p:nvPicPr>
        <p:blipFill>
          <a:blip r:embed="rId1"/>
          <a:stretch/>
        </p:blipFill>
        <p:spPr>
          <a:xfrm>
            <a:off x="2057400" y="3048120"/>
            <a:ext cx="5121360" cy="3413160"/>
          </a:xfrm>
          <a:prstGeom prst="rect">
            <a:avLst/>
          </a:prstGeom>
          <a:ln w="0">
            <a:noFill/>
          </a:ln>
        </p:spPr>
      </p:pic>
      <p:sp>
        <p:nvSpPr>
          <p:cNvPr id="2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Two Types of </a:t>
            </a: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Re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Sexual Reproduc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Involves 2 par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Egg fertilized by sperm to make a ZYGO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Offspring DIFFERENT from par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" name="Picture 7" descr="weasleys2"/>
          <p:cNvPicPr/>
          <p:nvPr/>
        </p:nvPicPr>
        <p:blipFill>
          <a:blip r:embed="rId5"/>
          <a:stretch/>
        </p:blipFill>
        <p:spPr>
          <a:xfrm>
            <a:off x="4648320" y="1996920"/>
            <a:ext cx="3962160" cy="3883320"/>
          </a:xfrm>
          <a:prstGeom prst="rect">
            <a:avLst/>
          </a:prstGeom>
          <a:ln w="0">
            <a:noFill/>
          </a:ln>
        </p:spPr>
      </p:pic>
      <p:sp>
        <p:nvSpPr>
          <p:cNvPr id="212" name="TextBox 1"/>
          <p:cNvSpPr/>
          <p:nvPr/>
        </p:nvSpPr>
        <p:spPr>
          <a:xfrm>
            <a:off x="4267080" y="24382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Two Types of </a:t>
            </a: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Re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lnSpc>
                <a:spcPct val="100000"/>
              </a:lnSpc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Comic Sans MS"/>
              </a:rPr>
              <a:t>Asexual Reproduc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78880" indent="-5788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Involves a single organism or c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8880" indent="-5788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Cell divid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8880" indent="-5788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Offspring IDENTICAL to pa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Picture 6" descr="Slide01"/>
          <p:cNvPicPr/>
          <p:nvPr/>
        </p:nvPicPr>
        <p:blipFill>
          <a:blip r:embed="rId5"/>
          <a:stretch/>
        </p:blipFill>
        <p:spPr>
          <a:xfrm>
            <a:off x="4724280" y="1523880"/>
            <a:ext cx="3365640" cy="4343400"/>
          </a:xfrm>
          <a:prstGeom prst="rect">
            <a:avLst/>
          </a:prstGeom>
          <a:ln w="0">
            <a:noFill/>
          </a:ln>
        </p:spPr>
      </p:pic>
      <p:sp>
        <p:nvSpPr>
          <p:cNvPr id="2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Cells Have a Genetic Cod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Picture 6" descr="dna"/>
          <p:cNvPicPr/>
          <p:nvPr/>
        </p:nvPicPr>
        <p:blipFill>
          <a:blip r:embed="rId1"/>
          <a:stretch/>
        </p:blipFill>
        <p:spPr>
          <a:xfrm>
            <a:off x="2362320" y="1676520"/>
            <a:ext cx="4762440" cy="4762440"/>
          </a:xfrm>
          <a:prstGeom prst="rect">
            <a:avLst/>
          </a:prstGeom>
          <a:ln w="0">
            <a:noFill/>
          </a:ln>
        </p:spPr>
      </p:pic>
      <p:sp>
        <p:nvSpPr>
          <p:cNvPr id="2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Genetic Cod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22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DNA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(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deoxyribose nucleic acid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) carries the genetic code for all organism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All organisms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contain D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DNA 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codes for the proteins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that make up cells &amp; do all the wor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Organisms Grow &amp; Develop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Picture 6" descr="bellfrog_illus"/>
          <p:cNvPicPr/>
          <p:nvPr/>
        </p:nvPicPr>
        <p:blipFill>
          <a:blip r:embed="rId1"/>
          <a:stretch/>
        </p:blipFill>
        <p:spPr>
          <a:xfrm>
            <a:off x="2362320" y="2209680"/>
            <a:ext cx="4724280" cy="4027680"/>
          </a:xfrm>
          <a:prstGeom prst="rect">
            <a:avLst/>
          </a:prstGeom>
          <a:ln w="0">
            <a:noFill/>
          </a:ln>
        </p:spPr>
      </p:pic>
      <p:sp>
        <p:nvSpPr>
          <p:cNvPr id="2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Growth &amp; Develop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54100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Organisms 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grow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by producing MORE CELLS &amp; by cell ENLARGEM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Organisms 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develop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as they mature into an adult organis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Picture 5" descr="butterfly-hatch"/>
          <p:cNvPicPr/>
          <p:nvPr/>
        </p:nvPicPr>
        <p:blipFill>
          <a:blip r:embed="rId3"/>
          <a:stretch/>
        </p:blipFill>
        <p:spPr>
          <a:xfrm>
            <a:off x="6008760" y="2362320"/>
            <a:ext cx="2895480" cy="3200400"/>
          </a:xfrm>
          <a:prstGeom prst="rect">
            <a:avLst/>
          </a:prstGeom>
          <a:ln w="0">
            <a:noFill/>
          </a:ln>
        </p:spPr>
      </p:pic>
      <p:sp>
        <p:nvSpPr>
          <p:cNvPr id="2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5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Cells Require Food &amp; Energ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5" descr="african-lion-picture"/>
          <p:cNvPicPr/>
          <p:nvPr/>
        </p:nvPicPr>
        <p:blipFill>
          <a:blip r:embed="rId1"/>
          <a:stretch/>
        </p:blipFill>
        <p:spPr>
          <a:xfrm>
            <a:off x="2057400" y="1905120"/>
            <a:ext cx="5629320" cy="4101840"/>
          </a:xfrm>
          <a:prstGeom prst="rect">
            <a:avLst/>
          </a:prstGeom>
          <a:ln w="0">
            <a:noFill/>
          </a:ln>
        </p:spPr>
      </p:pic>
      <p:sp>
        <p:nvSpPr>
          <p:cNvPr id="2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What is Biology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Comic Sans MS"/>
              </a:rPr>
              <a:t>Biology</a:t>
            </a: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is  the study of all living thing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Living things are called </a:t>
            </a:r>
            <a:r>
              <a:rPr b="1" lang="en-US" sz="4000" spc="-1" strike="noStrike">
                <a:solidFill>
                  <a:srgbClr val="008000"/>
                </a:solidFill>
                <a:latin typeface="Comic Sans MS"/>
              </a:rPr>
              <a:t>organism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Organisms include bacteria, protists, fungi, plants, &amp; animal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Food Requiremen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48765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Autotrophs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can make their own fo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Photoautotrophs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use sunlight to make food (photosynthesi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Chemoautotrophs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use chemicals such as iron &amp; sulfur as their ener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Picture 8" descr="AS3bSxJudyPJplants"/>
          <p:cNvPicPr/>
          <p:nvPr/>
        </p:nvPicPr>
        <p:blipFill>
          <a:blip r:embed="rId4"/>
          <a:stretch/>
        </p:blipFill>
        <p:spPr>
          <a:xfrm>
            <a:off x="5715000" y="1828800"/>
            <a:ext cx="3200400" cy="4267080"/>
          </a:xfrm>
          <a:prstGeom prst="rect">
            <a:avLst/>
          </a:prstGeom>
          <a:ln w="0">
            <a:noFill/>
          </a:ln>
        </p:spPr>
      </p:pic>
      <p:sp>
        <p:nvSpPr>
          <p:cNvPr id="2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Food Requiremen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Heterotrophs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can NOT make their own foo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They must consume other organism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Herbivores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eat pla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Carnivores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eat me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Omnivores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eat plants &amp; animal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Metabolis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Sum of all the chemical reactions in an organis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All 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require energ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Sunlight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is the ultimate energy for life on Earth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3" name="Picture 5" descr=""/>
          <p:cNvPicPr/>
          <p:nvPr/>
        </p:nvPicPr>
        <p:blipFill>
          <a:blip r:embed="rId4"/>
          <a:stretch/>
        </p:blipFill>
        <p:spPr>
          <a:xfrm>
            <a:off x="1828800" y="4800600"/>
            <a:ext cx="5638680" cy="16858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6" descr="j0141155"/>
          <p:cNvPicPr/>
          <p:nvPr/>
        </p:nvPicPr>
        <p:blipFill>
          <a:blip r:embed="rId5"/>
          <a:stretch/>
        </p:blipFill>
        <p:spPr>
          <a:xfrm>
            <a:off x="7391520" y="304920"/>
            <a:ext cx="1225440" cy="1295280"/>
          </a:xfrm>
          <a:prstGeom prst="rect">
            <a:avLst/>
          </a:prstGeom>
          <a:ln w="0">
            <a:noFill/>
          </a:ln>
        </p:spPr>
      </p:pic>
      <p:sp>
        <p:nvSpPr>
          <p:cNvPr id="2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Metabolis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Comic Sans MS"/>
              </a:rPr>
              <a:t>Cellular Respiration</a:t>
            </a: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Cells releasing the chemical energy stored in food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6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+ C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Comic Sans MS"/>
              </a:rPr>
              <a:t>6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H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Comic Sans MS"/>
              </a:rPr>
              <a:t>12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Comic Sans MS"/>
              </a:rPr>
              <a:t>6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              6C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+ 6H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Line 4"/>
          <p:cNvSpPr/>
          <p:nvPr/>
        </p:nvSpPr>
        <p:spPr>
          <a:xfrm>
            <a:off x="3962520" y="5334120"/>
            <a:ext cx="114300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Picture 5" descr="NA00455_"/>
          <p:cNvPicPr/>
          <p:nvPr/>
        </p:nvPicPr>
        <p:blipFill>
          <a:blip r:embed="rId2"/>
          <a:stretch/>
        </p:blipFill>
        <p:spPr>
          <a:xfrm>
            <a:off x="3886200" y="4343400"/>
            <a:ext cx="1042920" cy="612720"/>
          </a:xfrm>
          <a:prstGeom prst="rect">
            <a:avLst/>
          </a:prstGeom>
          <a:ln w="0">
            <a:noFill/>
          </a:ln>
        </p:spPr>
      </p:pic>
      <p:sp>
        <p:nvSpPr>
          <p:cNvPr id="2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Organisms Respond to Stimuli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Organisms 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Respond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to 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stimuli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(Temperature, Water, Food Supplies, etc.) 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In Order To Survive &amp; Reprodu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Picture 5" descr="2"/>
          <p:cNvPicPr/>
          <p:nvPr/>
        </p:nvPicPr>
        <p:blipFill>
          <a:blip r:embed="rId2"/>
          <a:stretch/>
        </p:blipFill>
        <p:spPr>
          <a:xfrm>
            <a:off x="2438280" y="3962520"/>
            <a:ext cx="4229280" cy="2638440"/>
          </a:xfrm>
          <a:prstGeom prst="rect">
            <a:avLst/>
          </a:prstGeom>
          <a:ln w="0">
            <a:noFill/>
          </a:ln>
        </p:spPr>
      </p:pic>
      <p:sp>
        <p:nvSpPr>
          <p:cNvPr id="2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Homeostasi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Keeping The Internal Environment 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(Homeostasis)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Of The Cell or Organism Within The Ranges Required For Lif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Stable internal conditions of 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pH, temperature, water balance, etc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AutoShape 5"/>
          <p:cNvSpPr/>
          <p:nvPr/>
        </p:nvSpPr>
        <p:spPr>
          <a:xfrm>
            <a:off x="19368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AutoShape 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0" name="Picture 10" descr="fever"/>
          <p:cNvPicPr/>
          <p:nvPr/>
        </p:nvPicPr>
        <p:blipFill>
          <a:blip r:embed="rId3"/>
          <a:stretch/>
        </p:blipFill>
        <p:spPr>
          <a:xfrm>
            <a:off x="3124080" y="4495680"/>
            <a:ext cx="3429000" cy="2057400"/>
          </a:xfrm>
          <a:prstGeom prst="rect">
            <a:avLst/>
          </a:prstGeom>
          <a:ln w="0">
            <a:noFill/>
          </a:ln>
        </p:spPr>
      </p:pic>
      <p:sp>
        <p:nvSpPr>
          <p:cNvPr id="2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Living Things Evolv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715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Groups Of Organisms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(Not Individuals) Change Over Time In Order To Survive Within Changing Environment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Fossil records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show changes in groups of organism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4" name="Picture 5" descr="science_dino01"/>
          <p:cNvPicPr/>
          <p:nvPr/>
        </p:nvPicPr>
        <p:blipFill>
          <a:blip r:embed="rId3"/>
          <a:stretch/>
        </p:blipFill>
        <p:spPr>
          <a:xfrm>
            <a:off x="5715000" y="2971800"/>
            <a:ext cx="3200400" cy="2233440"/>
          </a:xfrm>
          <a:prstGeom prst="rect">
            <a:avLst/>
          </a:prstGeom>
          <a:ln w="0">
            <a:noFill/>
          </a:ln>
        </p:spPr>
      </p:pic>
      <p:sp>
        <p:nvSpPr>
          <p:cNvPr id="2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mic Sans MS"/>
              </a:rPr>
              <a:t>Life is Organized on Several Level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omic Sans MS"/>
              </a:rPr>
              <a:t>Level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4800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to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Molecu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rganel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Cells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– life starts 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issu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rga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rgan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omic Sans MS"/>
              </a:rPr>
              <a:t>Level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34290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Popul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Communi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Ecosyste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Biosphe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3" name="Picture 7" descr="earth_1_apollo17_big"/>
          <p:cNvPicPr/>
          <p:nvPr/>
        </p:nvPicPr>
        <p:blipFill>
          <a:blip r:embed="rId5"/>
          <a:stretch/>
        </p:blipFill>
        <p:spPr>
          <a:xfrm>
            <a:off x="4114800" y="1444680"/>
            <a:ext cx="4743360" cy="4699080"/>
          </a:xfrm>
          <a:prstGeom prst="rect">
            <a:avLst/>
          </a:prstGeom>
          <a:ln w="0">
            <a:noFill/>
          </a:ln>
        </p:spPr>
      </p:pic>
      <p:sp>
        <p:nvSpPr>
          <p:cNvPr id="2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All Living Things Share Common Characteristic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66320" y="2209320"/>
            <a:ext cx="7543800" cy="41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86d1ec"/>
              </a:buClr>
              <a:buSzPct val="9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Basic Unit is the </a:t>
            </a: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Cel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86d1ec"/>
              </a:buClr>
              <a:buSzPct val="9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hey </a:t>
            </a: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Reprodu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86d1ec"/>
              </a:buClr>
              <a:buSzPct val="9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All Based On Universal Genetic Code </a:t>
            </a: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(DNA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86d1ec"/>
              </a:buClr>
              <a:buSzPct val="9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Grow &amp; Develo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" dur="5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5" descr="1"/>
          <p:cNvPicPr/>
          <p:nvPr/>
        </p:nvPicPr>
        <p:blipFill>
          <a:blip r:embed="rId1"/>
          <a:srcRect l="18897" t="0" r="19686" b="4089"/>
          <a:stretch/>
        </p:blipFill>
        <p:spPr>
          <a:xfrm>
            <a:off x="1752480" y="228600"/>
            <a:ext cx="5597640" cy="6172200"/>
          </a:xfrm>
          <a:prstGeom prst="rect">
            <a:avLst/>
          </a:prstGeom>
          <a:ln w="0">
            <a:noFill/>
          </a:ln>
        </p:spPr>
      </p:pic>
      <p:sp>
        <p:nvSpPr>
          <p:cNvPr id="2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omic Sans MS"/>
              </a:rPr>
              <a:t>Common Characteristic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86d1ec"/>
              </a:buClr>
              <a:buSzPct val="90000"/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Obtain &amp; Use Materials &amp; </a:t>
            </a: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Energ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86d1ec"/>
              </a:buClr>
              <a:buSzPct val="90000"/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Respond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To Their Environm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86d1ec"/>
              </a:buClr>
              <a:buSzPct val="90000"/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Maintain A </a:t>
            </a: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Stable Internal Environm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86d1ec"/>
              </a:buClr>
              <a:buSzPct val="90000"/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6d1ec"/>
                </a:solidFill>
                <a:latin typeface="Comic Sans MS"/>
              </a:rPr>
              <a:t>AS A GROUP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, Living Things </a:t>
            </a: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Evolve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, That Is They Change Over Tim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Characteristics of Organis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6" descr="sp-1"/>
          <p:cNvPicPr/>
          <p:nvPr/>
        </p:nvPicPr>
        <p:blipFill>
          <a:blip r:embed="rId1"/>
          <a:stretch/>
        </p:blipFill>
        <p:spPr>
          <a:xfrm>
            <a:off x="5105520" y="1371600"/>
            <a:ext cx="3457440" cy="5076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8" descr="delicious and nutritious? No.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990720" y="1905120"/>
            <a:ext cx="3514680" cy="4143240"/>
          </a:xfrm>
          <a:prstGeom prst="rect">
            <a:avLst/>
          </a:prstGeom>
          <a:ln w="0">
            <a:noFill/>
          </a:ln>
        </p:spPr>
      </p:pic>
      <p:sp>
        <p:nvSpPr>
          <p:cNvPr id="1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All Organisms are made of Cell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Picture 6" descr="cell_membrane"/>
          <p:cNvPicPr/>
          <p:nvPr/>
        </p:nvPicPr>
        <p:blipFill>
          <a:blip r:embed="rId1"/>
          <a:stretch/>
        </p:blipFill>
        <p:spPr>
          <a:xfrm>
            <a:off x="2133720" y="2795760"/>
            <a:ext cx="5105160" cy="2795400"/>
          </a:xfrm>
          <a:prstGeom prst="rect">
            <a:avLst/>
          </a:prstGeom>
          <a:ln w="0">
            <a:noFill/>
          </a:ln>
        </p:spPr>
      </p:pic>
      <p:sp>
        <p:nvSpPr>
          <p:cNvPr id="1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Facts About Cell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Cells are the 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smallest living unit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of an organis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All cells contain living material called 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cytoplas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All cells are surrounded by a 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cell membrane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that controls what enters &amp; leaves the cel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More Cell Fact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5562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Cells are complex &amp; highly </a:t>
            </a: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organiz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Cells have parts called </a:t>
            </a: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organelles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that do different job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e.g. Chloroplasts in plants make suga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Picture 7" descr="celltypes"/>
          <p:cNvPicPr/>
          <p:nvPr/>
        </p:nvPicPr>
        <p:blipFill>
          <a:blip r:embed="rId3"/>
          <a:stretch/>
        </p:blipFill>
        <p:spPr>
          <a:xfrm>
            <a:off x="5715000" y="1676520"/>
            <a:ext cx="3200400" cy="4267080"/>
          </a:xfrm>
          <a:prstGeom prst="rect">
            <a:avLst/>
          </a:prstGeom>
          <a:ln w="0">
            <a:noFill/>
          </a:ln>
        </p:spPr>
      </p:pic>
      <p:sp>
        <p:nvSpPr>
          <p:cNvPr id="1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More Cell Fact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51920" y="1599840"/>
            <a:ext cx="5867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he simplest cells are called 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Prokaryot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hese cells 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DO NOT have a nucleus or membrane-bound organell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Bacteria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are exampl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Picture 5" descr="prokaryote"/>
          <p:cNvPicPr/>
          <p:nvPr/>
        </p:nvPicPr>
        <p:blipFill>
          <a:blip r:embed="rId4"/>
          <a:stretch/>
        </p:blipFill>
        <p:spPr>
          <a:xfrm>
            <a:off x="5334120" y="2286000"/>
            <a:ext cx="3286080" cy="3200400"/>
          </a:xfrm>
          <a:prstGeom prst="rect">
            <a:avLst/>
          </a:prstGeom>
          <a:ln w="0">
            <a:noFill/>
          </a:ln>
        </p:spPr>
      </p:pic>
      <p:sp>
        <p:nvSpPr>
          <p:cNvPr id="1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8T23:59:15Z</dcterms:created>
  <dc:creator>Cheryl Massengale</dc:creator>
  <dc:description/>
  <dc:language>en-US</dc:language>
  <cp:lastModifiedBy>LEGION</cp:lastModifiedBy>
  <dcterms:modified xsi:type="dcterms:W3CDTF">2016-12-07T09:21:58Z</dcterms:modified>
  <cp:revision>26</cp:revision>
  <dc:subject/>
  <dc:title>1-3 Studying Life</dc:title>
</cp:coreProperties>
</file>