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8FA5-4500-42C8-8264-222447B7C2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, 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, 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and phosphorus are required by living things and are used to manufacture various i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lso are parts of the biological materials that store genetic information and energy in living organis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and phosphorus are required by living things and are used to manufacture various i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lso are parts of the biological materials that store genetic information and energy in living organis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almost 80 percent of the air you breathe is nitrogen, you can’t get the nitrogen your body needs by breathing nitrogen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the soil must first change nitrogen gas into substances that can be absorbed through the roots of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by eating some plants, nitrogen becomes available to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almost 80 percent of the air you breathe is nitrogen, you can’t get the nitrogen your body needs by breathing nitrogen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the soil must first change nitrogen gas into substances that can be absorbed through the roots of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by eating some plants, nitrogen becomes available to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is a gas that contains nitrogen and hydro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mmonia is dissolved in water, it can be used as a cleaner and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also can be converted into solid fertiliz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to freeze-dry food and as a refriger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is a gas that contains nitrogen and hydro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mmonia is dissolved in water, it can be used as a cleaner and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also can be converted into solid fertiliz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to freeze-dry food and as a refriger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phosphorus comes in two forms—white and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phosphorus is so active it can’t be exposed to oxygen in the air or it will burst into fla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s of matches contain the less active red phosphorus, which ignites from the heat produced by friction when the match is st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phosphorus comes in two forms—white and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phosphorus is so active it can’t be exposed to oxygen in the air or it will burst into fla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s of matches contain the less active red phosphorus, which ignites from the heat produced by friction when the match is st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ous compounds are essential ingredients for healthy teeth and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lso need phosphorus, so it is one of the nutrients in most fertiliz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ous compounds are essential ingredients for healthy teeth and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lso need phosphorus, so it is one of the nutrients in most fertiliz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4C2-79C4-49E0-BED5-58D002A5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2804-3C1F-4304-A09B-BF465066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C682-E14D-4C7E-8CA2-A0E95D98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099-D5F3-405C-B5B0-8AE27820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D268-776D-44D2-AF55-07E3EF75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01E2-BA12-4137-A5BB-D063AF18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FE54-EC8B-4410-A70A-A15D2207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5D4-D920-4BAB-8824-74ACF0B4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DF3-D926-4997-97AF-F1EA5759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2C7B-898F-4F3D-9C49-827E3561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A2FA-A22C-49EF-8436-AE33D3DB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87C2-A127-4E07-AEE9-87E85E62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9CF3-74E5-4EC3-B7F7-F19BAA8E5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5, the Nitroge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3516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ogen and phosphorus are required by living things and are used to manufacture various ite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606760"/>
            <a:ext cx="41907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also are parts of the biological materials that store genetic information and energy in living organis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9"/>
          <p:cNvPicPr/>
          <p:nvPr/>
        </p:nvPicPr>
        <p:blipFill>
          <a:blip r:embed="rId1"/>
          <a:stretch/>
        </p:blipFill>
        <p:spPr>
          <a:xfrm>
            <a:off x="4645080" y="2178000"/>
            <a:ext cx="37368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30200"/>
            <a:ext cx="7848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almost 80 percent of the air you breathe is nitrogen, you can’t get the nitrogen your body needs by breathing nitrogen g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3213000"/>
            <a:ext cx="8076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teria in the soil must first change nitrogen gas into substances that can be absorbed through the roots of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33520" y="4670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, by eating some plants, nitrogen becomes available to your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33520" y="13842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a is a gas that contains nitrogen and hydro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33520" y="2476440"/>
            <a:ext cx="75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mmonia is dissolved in water, it can be used as a cleaner and disinfectan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33520" y="35560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a also can be converted into solid fertiliz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33520" y="46324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to freeze-dry food and as a refrigera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3520" y="135576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 phosphorus comes in two forms—white and 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39724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te phosphorus is so active it can’t be exposed to oxygen in the air or it will burst into flam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87036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ds of matches contain the less active red phosphorus, which ignites from the heat produced by friction when the match is stru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1508040"/>
            <a:ext cx="4724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sphorous compounds are essential ingredients for healthy teeth and b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3641760"/>
            <a:ext cx="4495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also need phosphorus, so it is one of the nutrients in most fertiliz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47 im33 fertilizer copy"/>
          <p:cNvPicPr/>
          <p:nvPr/>
        </p:nvPicPr>
        <p:blipFill>
          <a:blip r:embed="rId1"/>
          <a:stretch/>
        </p:blipFill>
        <p:spPr>
          <a:xfrm>
            <a:off x="5332320" y="1490760"/>
            <a:ext cx="3305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1:16Z</dcterms:created>
  <dc:creator>CIC1</dc:creator>
  <dc:description/>
  <dc:language>en-US</dc:language>
  <cp:lastModifiedBy>RomaK</cp:lastModifiedBy>
  <dcterms:modified xsi:type="dcterms:W3CDTF">2015-09-01T16:27:18Z</dcterms:modified>
  <cp:revision>6</cp:revision>
  <dc:subject/>
  <dc:title>Group 15, the Nitrogen Group</dc:title>
</cp:coreProperties>
</file>