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8DDAA-185E-4C33-9BD6-D7E0D067C2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, 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, 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and phosphorus are required by living things and are used to manufacture various i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lso are parts of the biological materials that store genetic information and energy in living organis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itrogen and phosphorus are required by living things and are used to manufacture various ite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elements also are parts of the biological materials that store genetic information and energy in living organis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almost 80 percent of the air you breathe is nitrogen, you can’t get the nitrogen your body needs by breathing nitrogen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the soil must first change nitrogen gas into substances that can be absorbed through the roots of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by eating some plants, nitrogen becomes available to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almost 80 percent of the air you breathe is nitrogen, you can’t get the nitrogen your body needs by breathing nitrogen g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cteria in the soil must first change nitrogen gas into substances that can be absorbed through the roots of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, by eating some plants, nitrogen becomes available to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is a gas that contains nitrogen and hydro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mmonia is dissolved in water, it can be used as a cleaner and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also can be converted into solid fertiliz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to freeze-dry food and as a refriger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is a gas that contains nitrogen and hydrog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mmonia is dissolved in water, it can be used as a cleaner and disinfect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monia also can be converted into solid fertiliz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so is used to freeze-dry food and as a refrigera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phosphorus comes in two forms—white and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phosphorus is so active it can’t be exposed to oxygen in the air or it will burst into fla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s of matches contain the less active red phosphorus, which ignites from the heat produced by friction when the match is stru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 phosphorus comes in two forms—white and 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phosphorus is so active it can’t be exposed to oxygen in the air or it will burst into fla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s of matches contain the less active red phosphorus, which ignites from the heat produced by friction when the match is struc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ous compounds are essential ingredients for healthy teeth and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lso need phosphorus, so it is one of the nutrients in most fertiliz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5—The Nitrogen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sphorous compounds are essential ingredients for healthy teeth and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ts also need phosphorus, so it is one of the nutrients in most fertiliz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DD3C-4F88-4319-86D5-D97C80B56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8E3D-2B71-4393-BCC5-1B57EDEC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BB15-0A93-4F08-8E41-CE28785B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C588-F6B5-469D-B363-7B86AD9B2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70DF-3945-4012-8839-7F7DC1D0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2A3C-799B-47CB-8CC2-A80F2340F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805-ED3C-4379-83FE-064901B5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1A10-CA2C-4B48-ABDC-67FFA17EE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8152-2AF8-468F-A1A7-3176FCDB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CA84-D6AC-4DB3-9534-0FAED8FDB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E634-FCDD-4E9F-8C16-A5F1F1F1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160D-E36D-4B60-B1AE-8CB049DE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F39C7-D53C-4DD1-9E5D-E6D51F002D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5, the Nitrogen Gr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1235160"/>
            <a:ext cx="78483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itrogen and phosphorus are required by living things and are used to manufacture various item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533520" y="2606760"/>
            <a:ext cx="4190760" cy="31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se elements also are parts of the biological materials that store genetic information and energy in living organism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im29"/>
          <p:cNvPicPr/>
          <p:nvPr/>
        </p:nvPicPr>
        <p:blipFill>
          <a:blip r:embed="rId1"/>
          <a:stretch/>
        </p:blipFill>
        <p:spPr>
          <a:xfrm>
            <a:off x="4645080" y="2178000"/>
            <a:ext cx="3736800" cy="37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3520" y="1330200"/>
            <a:ext cx="78483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though almost 80 percent of the air you breathe is nitrogen, you can’t get the nitrogen your body needs by breathing nitrogen g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3213000"/>
            <a:ext cx="807696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teria in the soil must first change nitrogen gas into substances that can be absorbed through the roots of plan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33520" y="4670280"/>
            <a:ext cx="7924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n, by eating some plants, nitrogen becomes available to your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533520" y="138420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monia is a gas that contains nitrogen and hydrog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533520" y="2476440"/>
            <a:ext cx="75438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mmonia is dissolved in water, it can be used as a cleaner and disinfectan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533520" y="35560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mmonia also can be converted into solid fertiliz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533520" y="4632480"/>
            <a:ext cx="78483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also is used to freeze-dry food and as a refrigera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533520" y="1355760"/>
            <a:ext cx="76960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 phosphorus comes in two forms—white and 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6"/>
          <p:cNvSpPr/>
          <p:nvPr/>
        </p:nvSpPr>
        <p:spPr>
          <a:xfrm>
            <a:off x="533520" y="2397240"/>
            <a:ext cx="75438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te phosphorus is so active it can’t be exposed to oxygen in the air or it will burst into flame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533520" y="3870360"/>
            <a:ext cx="7696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heads of matches contain the less active red phosphorus, which ignites from the heat produced by friction when the match is struck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570320" y="685800"/>
            <a:ext cx="65174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5—The Nitrog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1508040"/>
            <a:ext cx="4724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osphorous compounds are essential ingredients for healthy teeth and b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533520" y="3641760"/>
            <a:ext cx="44956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also need phosphorus, so it is one of the nutrients in most fertiliz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647 im33 fertilizer copy"/>
          <p:cNvPicPr/>
          <p:nvPr/>
        </p:nvPicPr>
        <p:blipFill>
          <a:blip r:embed="rId1"/>
          <a:stretch/>
        </p:blipFill>
        <p:spPr>
          <a:xfrm>
            <a:off x="5332320" y="1490760"/>
            <a:ext cx="33051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21:16Z</dcterms:created>
  <dc:creator>CIC1</dc:creator>
  <dc:description/>
  <dc:language>en-US</dc:language>
  <cp:lastModifiedBy>RomaK</cp:lastModifiedBy>
  <dcterms:modified xsi:type="dcterms:W3CDTF">2015-09-01T16:27:18Z</dcterms:modified>
  <cp:revision>6</cp:revision>
  <dc:subject/>
  <dc:title>Group 15, the Nitrogen Group</dc:title>
</cp:coreProperties>
</file>