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7.png" ContentType="image/png"/>
  <Override PartName="/ppt/media/image6.wmf" ContentType="image/x-wmf"/>
  <Override PartName="/ppt/media/image19.jpeg" ContentType="image/jpeg"/>
  <Override PartName="/ppt/media/image5.jpeg" ContentType="image/jpeg"/>
  <Override PartName="/ppt/media/image8.gif" ContentType="image/gif"/>
  <Override PartName="/ppt/media/image18.jpeg" ContentType="image/jpeg"/>
  <Override PartName="/ppt/media/image24.png" ContentType="image/png"/>
  <Override PartName="/ppt/media/image1.gif" ContentType="image/gif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png" ContentType="image/png"/>
  <Override PartName="/ppt/media/image2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06D2-2FD7-4661-857B-9941266AC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the Plant King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 to the Plant Kingdo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lant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ternation of generations life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ploid (2n) sporophyt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ploid (1n) gametophyt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oduce multicellular embryo protected inside multicellular haploid (gametophyte egg sac)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 Reproduc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nation of generations life cyc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ploid (2n) sporophyte stag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ploid (1n) gametophyte stag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 multicellular embryo protected inside multicellular haploid (gametophyte egg sac) tissu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lant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ploid (2n) sporophyte stage produces haploid spores by me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ploid spores undergo mitosis to produce gametophyt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ametophyte makes gametes (eggs and sperm) by me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ygote (2n) produces the new sporoph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 Reproduc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ploid (2n) sporophyte stage produces haploid spores by meiosi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ploid spores undergo mitosis to produce gametophyte stag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metophyte makes gametes (eggs and sperm) by meiosi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ygote (2n) produces the new sporophyt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ternation of Gen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n Sporoph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n gametoph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n po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vary with 1n ovules (eg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n seed with plant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oroph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ametoph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nation of Generat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n Sporophyt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n gametophyt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n poll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vary with 1n ovules (eggs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n seed with plant embry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orophyt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metophyt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lant Div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 Divis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x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are divided into two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the presence or absence of an internal transport system for water and dissolved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d Vascu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cular Bun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xonom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s are divided into two group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sed on the presence or absence of an internal transport system for water and dissolved materia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led Vascular Syste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scular Bundl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cu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ylem tissue carries water and minerals upward from the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loem tissue carries sugars made by photosynthesis from the leaves to where they will be stored or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p is the fluid carried inside the xylem or phl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scular Syste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ylem tissue carries water and minerals upward from the roo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loem tissue carries sugars made by photosynthesis from the leaves to where they will be stored or us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p is the fluid carried inside the xylem or phloe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n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o not have vascular tissue for support or conduction of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lled Bryoph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quire a constantly moist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ss Gametophytes &amp; Sporoph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orophyt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ametophyt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n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 have vascular tissue for support or conduction of materia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led Bryophy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quire a constantly moist environmen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s Gametophytes &amp; Sporophy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orophyte stag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metophyte Stag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can’t grow as 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must be in direct contact with mois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s move by diffusion cell-to-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must swim to egg through water drop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n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s can’t grow as tal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s must be in direct contact with moistu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erials move by diffusion cell-to-cel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rm must swim to egg through water drople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n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cludes  mosses (Bryophyta), liverworts (Hepatophyta), and hornworts (Antherophy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verw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rnw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n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ludes  mosses (Bryophyta), liverworts (Hepatophyta), and hornworts (Antherophyta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rwor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rnwor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Parts of 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ound above 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ave leaves atta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hotosynthetic part of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ound below 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bsorb water &amp; min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nchor the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in Parts of 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o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Found above groun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Have leaves attach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Photosynthetic part of plan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o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Found below groun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bsorb water &amp; minera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nchor the plan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Ances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quatic to Terrestrial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ly Ancestor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quatic to Terrestrial Lif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called Tracheoph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divided into two groups -- Seedless vascular plants and Seed-bearing 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b M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called Tracheophy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bdivided into two groups -- Seedless vascular plants and Seed-bearing 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ub Mos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edless 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cludes club moss (Lycophyta), horsetails (Sphenophyta), whisk ferns (Psilophyta), and ferns (Pterophy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rs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hisk f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dless 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ludes club moss (Lycophyta), horsetails (Sphenophyta), whisk ferns (Psilophyta), and ferns (Pterophyta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rsetai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sk fer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-Producing 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two groups – Gymnosperms and Angi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ymnosperms have naked seeds in c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iosperms have flowers that produce seeds to attract pollinators and produce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d-Producing 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ludes two groups – Gymnosperms and Angiosperm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ymnosperms have naked seeds in con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giosperms have flowers that produce seeds to attract pollinators and produce see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ymn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niferophyta are known as conif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cludes pine, cedar, spruce, and f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ycadophyta – cyc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inkgophyta - gink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ink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yc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ymnosperm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iferophyta are known as conifer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ludes pine, cedar, spruce, and fi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ycadophyta – cyca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inkgophyta - ginkg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inkg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yca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ymn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the oldest living plant – Bristle cone p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the tallest living plant – Sequoia or redw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ymnosperm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ins the oldest living plant – Bristle cone pi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ins the tallest living plant – Sequoia or redwoo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ing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s are formed when an egg or ovule is fertilized by pollen in the 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ary is within a 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 contains the male (stamen) and/or female (ovaries) parts of the pla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its are frequently produced from these ripened ovaries (help disperse see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giosperm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owering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ds are formed when an egg or ovule is fertilized by pollen in the ova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vary is within a flowe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ower contains the male (stamen) and/or female (ovaries) parts of the plant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uits are frequently produced from these ripened ovaries (help disperse seeds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sion Anth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divided into two groups – Monocots and Dic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ots have a single seed cotyle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ots have two seed cotyled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giosperm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vision Anthophyta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bdivided into two groups – Monocots and Dico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ocots have a single seed cotyled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cots have two seed cotyled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venation in le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 parts in multiples of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cular tissue scattered in cross section of 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oco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llel venation in leav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ower parts in multiples of 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scular tissue scattered in cross section of ste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venation in le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 parts in multiples of 4 or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cular tissue in rings in cross section of 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co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t venation in leav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ower parts in multiples of 4 or 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scular tissue in rings in cross section of ste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lant 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 Us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quatic Ance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st living species to a possible land plant ance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gree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d Charyophyc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quatic Ancesto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sest living species to a possible land plant ancesto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oup of green alga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led Charyophycea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e Can’t do Without Pla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oxygen for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lumber for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homes and food for many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 er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for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We Can’t do Without Plants!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 oxygen for the atm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 lumber for buildin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vide homes and food for many organism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vent eros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d for foo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Reasons We Can’t do Without Pla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wood pulp for paper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of many medic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namental and shade for y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s such as cotton for fab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Reasons We Can’t do Without Plants!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 wood pulp for paper produc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urce of many medicin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namental and shade for yar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bers such as cotton for fabri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y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ae &amp; Land Plant Simila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contain chlorophylls a and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chloroplasts with stacks of thylak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e starch in plast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ose in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hrough Alternation of Generations life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gae &amp; Land Plant Similariti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th contain chlorophylls a and b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ve chloroplasts with stacks of thylakoi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ore starch in plasti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ulose in cell wal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 through Alternation of Generations life Cyc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rrestrial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quatic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rrestrial Habita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quatic Habita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in Aquatic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surrounded by water so don’t dry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swims to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supports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stay in upper surface near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b nutrients from the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in Aquatic Environme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s surrounded by water so don’t dry ou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rm swims to eg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supports plan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s stay in upper surface near ligh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sorb nutrients from the H2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lant Adaptations to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ed min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crease in Height for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aptations for Drie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ots absorb H2O &amp; min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gnin &amp; cellulose in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ascular Transpor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xy cuticle &amp; stomata with guar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llen containing 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 Adaptations to Lan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blem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minera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rease in Height for Ligh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aptations for Drier environmen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ion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ots absorb H2O &amp; minera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gnin &amp; cellulose in cell wal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scular Transport Syste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xy cuticle &amp; stomata with guard cel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len containing sper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 Plants All A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Are  Plants All Alike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lant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ulticell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utotrophic (photosynthe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lorophylls a and b in thylakoid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rrounded by cell walls containing cellulose (polysacchar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ore reserve food as amylose (star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 Characteristic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cellula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totrophic (photosynthesis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lorophylls a and b in thylakoid membran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rrounded by cell walls containing cellulose (polysaccharide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ore reserve food as amylose (starch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36B7-8C2E-4963-84B4-56212CD6C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D0E7-3E5C-43D3-A87D-978CAA15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85A9-A550-4833-AAE3-0C2D07586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F683-E616-4500-8EB1-D41281688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FFF1-1565-4634-B407-9E534476D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7AEE-42EB-4FC5-BB0E-3EB91D35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7C74-D6C7-4B0E-8026-A09A6957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DDA7-CF9E-4352-A6A5-60E38781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E6A7-92C5-4AC8-BEC1-F2E8EB30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3A773-D865-47A6-837B-D21D6F2B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93D21-A519-40DC-8F81-21A86FE5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1596-8E44-4C84-AFA5-0F2107FE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D95D-620B-4034-99BC-1C9154E0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8641-9B44-4BDC-83BB-C77155F3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568F-86AF-477C-A774-8D296EFE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4057-9FD1-4DF6-8026-2DA3F331E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DB1E-7C35-4F6B-8F53-28C0826A4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FAF5-85D5-4D6E-81D1-2767C3CF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6B57-BD26-4D7B-99B1-DF074B06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0D69-D679-48EA-92A7-DF543D4D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4DD3-8BD3-4167-AA9A-0BD0385B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8349-76AD-451D-8631-7FC081F4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892E-83E1-471D-B93F-04869FA3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3741-97A7-42AA-A918-1C3D4F6F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255E-E703-4FB1-B210-262594A95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1026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1027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2" name="Freeform 1028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" name="Freeform 1029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" name="Freeform 1030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5" name="Freeform 1031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6" name="Freeform 1032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" name="Freeform 1033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" name="Freeform 1034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" name="Freeform 1035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0" name="Rectangle 1036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1" name="Rectangle 1037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2" name="Freeform 1038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3" name="Freeform 1039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4" name="Freeform 1040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" name="Freeform 1041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6" name="Freeform 1042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7" name="Freeform 1043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8" name="Freeform 1044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AA24-3F59-49D5-AE45-BD2D13ED95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04760" y="1828800"/>
            <a:ext cx="563868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GB" sz="6600" spc="-1" strike="noStrike">
                <a:solidFill>
                  <a:srgbClr val="ffffcc"/>
                </a:solidFill>
                <a:latin typeface="Comic Sans MS"/>
              </a:rPr>
              <a:t>Introduction to the Plant Kingdom</a:t>
            </a:r>
            <a:endParaRPr b="1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8" name="Picture 7" descr="plant &amp; butterfly"/>
          <p:cNvPicPr/>
          <p:nvPr/>
        </p:nvPicPr>
        <p:blipFill>
          <a:blip r:embed="rId1"/>
          <a:stretch/>
        </p:blipFill>
        <p:spPr>
          <a:xfrm>
            <a:off x="533520" y="3962520"/>
            <a:ext cx="2361960" cy="23619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Plant Reproduction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Alternation of generations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life cyc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Diploid (2n)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sporophyte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st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Haploid (1n)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gametophyte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st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roduce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multicellular embryo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protected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inside multicellular haploid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gametophyte egg sac)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tiss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Plant Reproduction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Diploid (2n)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sporophyte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stage produc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haploid spore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by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meio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Haploid spores undergo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mitosi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to produce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gametophyte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st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Gametophyte mak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gametes (eggs and sperm)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by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meio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Zygote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(2n) produces the new sporophy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Alternation of Generation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7" name="Picture 16" descr="alternation of generation general"/>
          <p:cNvPicPr/>
          <p:nvPr/>
        </p:nvPicPr>
        <p:blipFill>
          <a:blip r:embed="rId1"/>
          <a:srcRect l="0" t="0" r="18609" b="14764"/>
          <a:stretch/>
        </p:blipFill>
        <p:spPr>
          <a:xfrm>
            <a:off x="539640" y="1413000"/>
            <a:ext cx="7848720" cy="52498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7"/>
          <p:cNvSpPr/>
          <p:nvPr/>
        </p:nvSpPr>
        <p:spPr>
          <a:xfrm>
            <a:off x="1042920" y="1844640"/>
            <a:ext cx="20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2n Sporophyt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4211640" y="184464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2n gametophyt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6948360" y="184464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1n polle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6659640" y="5373720"/>
            <a:ext cx="180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Ovary with 1n ovules (eggs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3995640" y="4508640"/>
            <a:ext cx="18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2n seed with plant embry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Line 22"/>
          <p:cNvSpPr/>
          <p:nvPr/>
        </p:nvSpPr>
        <p:spPr>
          <a:xfrm>
            <a:off x="2700360" y="1341360"/>
            <a:ext cx="4176720" cy="518328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Text Box 23"/>
          <p:cNvSpPr/>
          <p:nvPr/>
        </p:nvSpPr>
        <p:spPr>
          <a:xfrm>
            <a:off x="1908000" y="6237360"/>
            <a:ext cx="1944720" cy="459720"/>
          </a:xfrm>
          <a:prstGeom prst="rect">
            <a:avLst/>
          </a:prstGeom>
          <a:solidFill>
            <a:srgbClr val="5692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orophyt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 Box 24"/>
          <p:cNvSpPr/>
          <p:nvPr/>
        </p:nvSpPr>
        <p:spPr>
          <a:xfrm>
            <a:off x="5435640" y="1413000"/>
            <a:ext cx="2232000" cy="825480"/>
          </a:xfrm>
          <a:prstGeom prst="rect">
            <a:avLst/>
          </a:prstGeom>
          <a:solidFill>
            <a:srgbClr val="5692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ametophyt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9933"/>
                </a:solidFill>
                <a:latin typeface="Comic Sans MS"/>
              </a:rPr>
              <a:t>    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295280" y="1066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cc"/>
                </a:solidFill>
                <a:latin typeface="Comic Sans MS"/>
              </a:rPr>
              <a:t>Plant Division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7" descr="flower"/>
          <p:cNvPicPr/>
          <p:nvPr/>
        </p:nvPicPr>
        <p:blipFill>
          <a:blip r:embed="rId1"/>
          <a:stretch/>
        </p:blipFill>
        <p:spPr>
          <a:xfrm>
            <a:off x="3048120" y="3429000"/>
            <a:ext cx="2773080" cy="27734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768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4" dur="768" fill="hold"/>
                                        <p:tgtEl>
                                          <p:spTgt spid="1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6" dur="768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8" dur="768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Taxonomy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Comic Sans MS"/>
              </a:rPr>
              <a:t>Plants are divided into </a:t>
            </a:r>
            <a:r>
              <a:rPr b="1" lang="en-US" sz="3000" spc="-1" strike="noStrike">
                <a:solidFill>
                  <a:srgbClr val="cc3300"/>
                </a:solidFill>
                <a:latin typeface="Comic Sans MS"/>
              </a:rPr>
              <a:t>two</a:t>
            </a:r>
            <a:r>
              <a:rPr b="1" lang="en-US" sz="3000" spc="-1" strike="noStrike">
                <a:solidFill>
                  <a:srgbClr val="9966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ffffcc"/>
                </a:solidFill>
                <a:latin typeface="Comic Sans MS"/>
              </a:rPr>
              <a:t>group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Comic Sans MS"/>
              </a:rPr>
              <a:t>Based on the </a:t>
            </a:r>
            <a:r>
              <a:rPr b="1" lang="en-US" sz="3000" spc="-1" strike="noStrike">
                <a:solidFill>
                  <a:srgbClr val="996600"/>
                </a:solidFill>
                <a:latin typeface="Comic Sans MS"/>
              </a:rPr>
              <a:t>presence or absence</a:t>
            </a:r>
            <a:r>
              <a:rPr b="1" lang="en-US" sz="3000" spc="-1" strike="noStrike">
                <a:solidFill>
                  <a:srgbClr val="ffffcc"/>
                </a:solidFill>
                <a:latin typeface="Comic Sans MS"/>
              </a:rPr>
              <a:t> of an </a:t>
            </a:r>
            <a:r>
              <a:rPr b="1" lang="en-US" sz="3000" spc="-1" strike="noStrike">
                <a:solidFill>
                  <a:srgbClr val="996600"/>
                </a:solidFill>
                <a:latin typeface="Comic Sans MS"/>
              </a:rPr>
              <a:t>internal transport system</a:t>
            </a:r>
            <a:r>
              <a:rPr b="1" lang="en-US" sz="3000" spc="-1" strike="noStrike">
                <a:solidFill>
                  <a:srgbClr val="ffffcc"/>
                </a:solidFill>
                <a:latin typeface="Comic Sans MS"/>
              </a:rPr>
              <a:t> for water and dissolved material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Comic Sans MS"/>
              </a:rPr>
              <a:t>Called </a:t>
            </a:r>
            <a:r>
              <a:rPr b="1" lang="en-US" sz="3000" spc="-1" strike="noStrike">
                <a:solidFill>
                  <a:srgbClr val="cc3300"/>
                </a:solidFill>
                <a:latin typeface="Comic Sans MS"/>
              </a:rPr>
              <a:t>Vascular Syste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12" descr="celery"/>
          <p:cNvPicPr/>
          <p:nvPr/>
        </p:nvPicPr>
        <p:blipFill>
          <a:blip r:embed="rId1"/>
          <a:stretch/>
        </p:blipFill>
        <p:spPr>
          <a:xfrm>
            <a:off x="4800600" y="1295280"/>
            <a:ext cx="3962520" cy="25797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3" descr="vascular tissue"/>
          <p:cNvPicPr/>
          <p:nvPr/>
        </p:nvPicPr>
        <p:blipFill>
          <a:blip r:embed="rId2"/>
          <a:stretch/>
        </p:blipFill>
        <p:spPr>
          <a:xfrm>
            <a:off x="4419720" y="4114800"/>
            <a:ext cx="4724280" cy="25322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4"/>
          <p:cNvSpPr/>
          <p:nvPr/>
        </p:nvSpPr>
        <p:spPr>
          <a:xfrm>
            <a:off x="4952880" y="266688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ascular Bundl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Line 15"/>
          <p:cNvSpPr/>
          <p:nvPr/>
        </p:nvSpPr>
        <p:spPr>
          <a:xfrm flipV="1">
            <a:off x="6172200" y="2666880"/>
            <a:ext cx="38088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Vascular System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Xylem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tissue carrie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water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and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mineral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upward from the roo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Phloem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tissue carrie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sugar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made by photosynthesis from the leaves to where they will be stored or us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Sap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is the fluid carried inside the xylem or phloe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Nonvascular Pla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o not have vascular tissue for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support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or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onduction of mater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Called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Bryophy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Require a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onstantly moist 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Picture 9" descr="moss"/>
          <p:cNvPicPr/>
          <p:nvPr/>
        </p:nvPicPr>
        <p:blipFill>
          <a:blip r:embed="rId1"/>
          <a:stretch/>
        </p:blipFill>
        <p:spPr>
          <a:xfrm>
            <a:off x="4572000" y="1752480"/>
            <a:ext cx="4038480" cy="4077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10"/>
          <p:cNvSpPr/>
          <p:nvPr/>
        </p:nvSpPr>
        <p:spPr>
          <a:xfrm>
            <a:off x="4648320" y="5791320"/>
            <a:ext cx="419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Moss Gametophytes &amp; Sporophyt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4191120" y="21337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Sporophyte stag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Line 12"/>
          <p:cNvSpPr/>
          <p:nvPr/>
        </p:nvSpPr>
        <p:spPr>
          <a:xfrm>
            <a:off x="5486400" y="2514600"/>
            <a:ext cx="838080" cy="60948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6629400" y="480060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Gametophyte Stag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Nonvascular Pla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Plants can’t grow as tal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Cells must be in </a:t>
            </a: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direct contact with moistu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Materials move by </a:t>
            </a: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diffusion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 cell-to-cel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Sperm must </a:t>
            </a: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swim to egg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 through water drople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Nonvascular Pla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Includes  mosse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Bryophyta)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, liverwort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Hepatophyta)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, and hornwort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Antherophyta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10" descr="liverwort"/>
          <p:cNvPicPr/>
          <p:nvPr/>
        </p:nvPicPr>
        <p:blipFill>
          <a:blip r:embed="rId1"/>
          <a:stretch/>
        </p:blipFill>
        <p:spPr>
          <a:xfrm>
            <a:off x="762120" y="3429000"/>
            <a:ext cx="3429000" cy="2573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1" descr="hornwort1"/>
          <p:cNvPicPr/>
          <p:nvPr/>
        </p:nvPicPr>
        <p:blipFill>
          <a:blip r:embed="rId2"/>
          <a:stretch/>
        </p:blipFill>
        <p:spPr>
          <a:xfrm>
            <a:off x="4952880" y="3429000"/>
            <a:ext cx="3505320" cy="26924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2"/>
          <p:cNvSpPr/>
          <p:nvPr/>
        </p:nvSpPr>
        <p:spPr>
          <a:xfrm>
            <a:off x="1066680" y="60958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Liverwor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5181480" y="60958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Hornwor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Main Parts of Vascular Pla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699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Comic Sans MS"/>
              </a:rPr>
              <a:t>Shoo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-Found above g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-Have leaves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- Photosynthetic part of pl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Comic Sans MS"/>
              </a:rPr>
              <a:t>Roo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-Found below g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-Absorb water &amp; miner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-Anchor the pl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Picture 8" descr="plantbod[1]"/>
          <p:cNvPicPr/>
          <p:nvPr/>
        </p:nvPicPr>
        <p:blipFill>
          <a:blip r:embed="rId1"/>
          <a:stretch/>
        </p:blipFill>
        <p:spPr>
          <a:xfrm>
            <a:off x="6012000" y="981000"/>
            <a:ext cx="3020760" cy="568800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cc"/>
                </a:solidFill>
                <a:latin typeface="Comic Sans MS"/>
              </a:rPr>
              <a:t>Early Ancestors</a:t>
            </a:r>
            <a:endParaRPr b="1" lang="en-US" sz="7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Aquatic to Terrestrial Lif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Vascular Pla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Also called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Tracheophy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ubdivided into two groups --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Seedless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vascular plants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and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Seed-bearing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vascular pl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Picture 7" descr="clubmoss3"/>
          <p:cNvPicPr/>
          <p:nvPr/>
        </p:nvPicPr>
        <p:blipFill>
          <a:blip r:embed="rId1"/>
          <a:stretch/>
        </p:blipFill>
        <p:spPr>
          <a:xfrm>
            <a:off x="5157720" y="1600200"/>
            <a:ext cx="3017880" cy="45306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8"/>
          <p:cNvSpPr/>
          <p:nvPr/>
        </p:nvSpPr>
        <p:spPr>
          <a:xfrm>
            <a:off x="5334120" y="60958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Club Mos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Seedless Vascular Pla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Includes club mos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Lycophyta)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, horsetail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Sphenophyta)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, whisk fern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Psilophyta)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, and fern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Pterophyta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Picture 5" descr="whisk ferns"/>
          <p:cNvPicPr/>
          <p:nvPr/>
        </p:nvPicPr>
        <p:blipFill>
          <a:blip r:embed="rId1"/>
          <a:stretch/>
        </p:blipFill>
        <p:spPr>
          <a:xfrm>
            <a:off x="762120" y="4014720"/>
            <a:ext cx="3429000" cy="2309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horsetails"/>
          <p:cNvPicPr/>
          <p:nvPr/>
        </p:nvPicPr>
        <p:blipFill>
          <a:blip r:embed="rId2"/>
          <a:stretch/>
        </p:blipFill>
        <p:spPr>
          <a:xfrm>
            <a:off x="5257800" y="3657600"/>
            <a:ext cx="2698920" cy="265572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7"/>
          <p:cNvSpPr/>
          <p:nvPr/>
        </p:nvSpPr>
        <p:spPr>
          <a:xfrm>
            <a:off x="5562720" y="62485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Horsetail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1295280" y="624852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Whisk fern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Seed-Producing Vascular Pla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Includes two groups –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Gymnosperm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and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Angiosper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Gymnosperm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have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naked seed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in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co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ngiosperm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have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flowers that produce seeds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to attract pollinators and produce see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Gymnosperm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48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oniferophyta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are known as conif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Includes pine, cedar, spruce, and f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ycadophyta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– cyca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Ginkgophyta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- gink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Picture 5" descr="cycad-2"/>
          <p:cNvPicPr/>
          <p:nvPr/>
        </p:nvPicPr>
        <p:blipFill>
          <a:blip r:embed="rId1"/>
          <a:stretch/>
        </p:blipFill>
        <p:spPr>
          <a:xfrm>
            <a:off x="5715000" y="304920"/>
            <a:ext cx="2846520" cy="4092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ginkgo"/>
          <p:cNvPicPr/>
          <p:nvPr/>
        </p:nvPicPr>
        <p:blipFill>
          <a:blip r:embed="rId2"/>
          <a:stretch/>
        </p:blipFill>
        <p:spPr>
          <a:xfrm>
            <a:off x="4114800" y="3886200"/>
            <a:ext cx="3657600" cy="274968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8"/>
          <p:cNvSpPr/>
          <p:nvPr/>
        </p:nvSpPr>
        <p:spPr>
          <a:xfrm>
            <a:off x="3124080" y="5867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Ginkg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8001000" y="4343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Cyca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Gymnosperm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ontains the oldest living plant –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Bristle cone p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ontains the tallest living plant –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Sequoia or redw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Picture 6" descr="sequoia_tree"/>
          <p:cNvPicPr/>
          <p:nvPr/>
        </p:nvPicPr>
        <p:blipFill>
          <a:blip r:embed="rId1"/>
          <a:stretch/>
        </p:blipFill>
        <p:spPr>
          <a:xfrm>
            <a:off x="4495680" y="3886200"/>
            <a:ext cx="3581640" cy="2681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Bristlecone-Pine0012-web"/>
          <p:cNvPicPr/>
          <p:nvPr/>
        </p:nvPicPr>
        <p:blipFill>
          <a:blip r:embed="rId2"/>
          <a:stretch/>
        </p:blipFill>
        <p:spPr>
          <a:xfrm>
            <a:off x="5851440" y="228600"/>
            <a:ext cx="2817720" cy="358128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Angiosperm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0920" y="1218960"/>
            <a:ext cx="540072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Flowering pl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Seeds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are formed when an </a:t>
            </a: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egg or ovule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is fertilized by </a:t>
            </a: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pollen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in the ov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Ovary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is within a flo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Flower contains the male </a:t>
            </a: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(stamen)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and/or female </a:t>
            </a: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(ovaries)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parts of the pla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Fruits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are frequently produced from these ripened ovaries (</a:t>
            </a: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help disperse seed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2" name="Picture 6" descr="flowers"/>
          <p:cNvPicPr/>
          <p:nvPr/>
        </p:nvPicPr>
        <p:blipFill>
          <a:blip r:embed="rId1"/>
          <a:stretch/>
        </p:blipFill>
        <p:spPr>
          <a:xfrm>
            <a:off x="5334120" y="1371600"/>
            <a:ext cx="3590640" cy="460548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Angiosperm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Division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Anthophyt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Subdivided into two groups –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Monocots and Dico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Monocot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have a single seed cotyled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Dicot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have two seed cotyled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Comic Sans MS"/>
              </a:rPr>
              <a:t>Monoco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384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Parallel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venation in leav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Flower parts in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multiples of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Vascular tissue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scattered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in cross section of ste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Picture 7" descr="monocot_characteristics"/>
          <p:cNvPicPr/>
          <p:nvPr/>
        </p:nvPicPr>
        <p:blipFill>
          <a:blip r:embed="rId1"/>
          <a:stretch/>
        </p:blipFill>
        <p:spPr>
          <a:xfrm>
            <a:off x="4716360" y="1197000"/>
            <a:ext cx="3586320" cy="540072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Comic Sans MS"/>
              </a:rPr>
              <a:t>Dico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384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Net venation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in leav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Flower parts in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multiples of 4 or 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Vascular tissue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in ring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in cross section of ste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Picture 6" descr="dicot_characteristics"/>
          <p:cNvPicPr/>
          <p:nvPr/>
        </p:nvPicPr>
        <p:blipFill>
          <a:blip r:embed="rId1"/>
          <a:stretch/>
        </p:blipFill>
        <p:spPr>
          <a:xfrm>
            <a:off x="5148360" y="1197000"/>
            <a:ext cx="3600360" cy="544356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Comic Sans MS"/>
              </a:rPr>
              <a:t>Plant Uses</a:t>
            </a:r>
            <a:endParaRPr b="1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56" name="Picture 5" descr="paper"/>
          <p:cNvPicPr/>
          <p:nvPr/>
        </p:nvPicPr>
        <p:blipFill>
          <a:blip r:embed="rId1"/>
          <a:srcRect l="1811" t="1770" r="1811" b="1852"/>
          <a:stretch/>
        </p:blipFill>
        <p:spPr>
          <a:xfrm rot="720000">
            <a:off x="2700000" y="2276280"/>
            <a:ext cx="3887640" cy="388764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Aquatic Ancestor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losest living specie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to a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possible land plant ancest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Group of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green alga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alled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Charyophycea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9" descr="CHARA"/>
          <p:cNvPicPr/>
          <p:nvPr/>
        </p:nvPicPr>
        <p:blipFill>
          <a:blip r:embed="rId1"/>
          <a:stretch/>
        </p:blipFill>
        <p:spPr>
          <a:xfrm>
            <a:off x="4800600" y="2286000"/>
            <a:ext cx="4038480" cy="29368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0"/>
          <p:cNvSpPr/>
          <p:nvPr/>
        </p:nvSpPr>
        <p:spPr>
          <a:xfrm>
            <a:off x="5867280" y="51814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Comic Sans MS"/>
              </a:rPr>
              <a:t>Chara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Why We Can’t do Without Plants!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roduce oxygen for the atmosp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roduce lumber for build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rovide homes and food for many organis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revent ero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Used for f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0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7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1" dur="1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8" dur="1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More Reasons We Can’t do Without Plants!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roduce wood pulp for paper produc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Source of many medici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Ornamental and shade for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Fibers such as cotton for fabr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Dy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7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5" dur="10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Algae &amp; Land Plant Similaritie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Both contain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hlorophylls </a:t>
            </a:r>
            <a:r>
              <a:rPr b="1" i="1" lang="en-US" sz="3200" spc="-1" strike="noStrike">
                <a:solidFill>
                  <a:srgbClr val="996600"/>
                </a:solidFill>
                <a:latin typeface="Comic Sans MS"/>
              </a:rPr>
              <a:t>a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 and </a:t>
            </a:r>
            <a:r>
              <a:rPr b="1" i="1" lang="en-US" sz="3200" spc="-1" strike="noStrike">
                <a:solidFill>
                  <a:srgbClr val="996600"/>
                </a:solidFill>
                <a:latin typeface="Comic Sans MS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Hav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hloroplasts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with stacks of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thylako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tore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starch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i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last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ellulose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i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ell wa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Go through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Alternation of Generation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life Cy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5105520" y="1219320"/>
            <a:ext cx="3725640" cy="5124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0806083"/>
          <p:cNvPicPr/>
          <p:nvPr/>
        </p:nvPicPr>
        <p:blipFill>
          <a:blip r:embed="rId2"/>
          <a:srcRect l="0" t="0" r="1550" b="6561"/>
          <a:stretch/>
        </p:blipFill>
        <p:spPr>
          <a:xfrm>
            <a:off x="304920" y="1600200"/>
            <a:ext cx="4724280" cy="39117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0" y="56386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errestrial Habitat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5029200" y="44928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quatic Habitat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Living in Aquatic Environme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lants surrounded by water so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don’t dry ou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Sperm swim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to eg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Water support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pla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lants stay in upper surface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near ligh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Absorb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 nutrients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from the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 H</a:t>
            </a:r>
            <a:r>
              <a:rPr b="1" lang="en-US" sz="3600" spc="-1" strike="noStrike" baseline="-25000">
                <a:solidFill>
                  <a:srgbClr val="9966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5" descr="oscillatoria1"/>
          <p:cNvPicPr/>
          <p:nvPr/>
        </p:nvPicPr>
        <p:blipFill>
          <a:blip r:embed="rId1"/>
          <a:stretch/>
        </p:blipFill>
        <p:spPr>
          <a:xfrm>
            <a:off x="6019920" y="2362320"/>
            <a:ext cx="2376360" cy="184464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Plant Adaptations to Land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380988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roblem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Need miner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Gra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Increase in Height for L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Adaptations for Drier 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Rep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962520" y="1371240"/>
            <a:ext cx="4952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Comic Sans MS"/>
              </a:rPr>
              <a:t>Solu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Comic Sans MS"/>
              </a:rPr>
              <a:t>Roots</a:t>
            </a: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 absorb H</a:t>
            </a:r>
            <a:r>
              <a:rPr b="1" lang="en-GB" sz="3000" spc="-1" strike="noStrike" baseline="-25000">
                <a:solidFill>
                  <a:srgbClr val="996600"/>
                </a:solidFill>
                <a:latin typeface="Comic Sans MS"/>
              </a:rPr>
              <a:t>2</a:t>
            </a: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O &amp; mineral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Comic Sans MS"/>
              </a:rPr>
              <a:t>Lignin &amp; cellulose</a:t>
            </a: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 in cell wall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Comic Sans MS"/>
              </a:rPr>
              <a:t>Vascular </a:t>
            </a: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Transport Syste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Comic Sans MS"/>
              </a:rPr>
              <a:t>Waxy cuticle</a:t>
            </a: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 &amp; </a:t>
            </a:r>
            <a:r>
              <a:rPr b="1" lang="en-GB" sz="3000" spc="-1" strike="noStrike">
                <a:solidFill>
                  <a:srgbClr val="ffff00"/>
                </a:solidFill>
                <a:latin typeface="Comic Sans MS"/>
              </a:rPr>
              <a:t>stomata</a:t>
            </a: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 with guard cell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Comic Sans MS"/>
              </a:rPr>
              <a:t>Pollen </a:t>
            </a: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containing sper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Comic Sans MS"/>
              </a:rPr>
              <a:t>How Are  Plants All Alike?</a:t>
            </a:r>
            <a:endParaRPr b="1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5" name="Picture 10" descr="DD00864_"/>
          <p:cNvPicPr/>
          <p:nvPr/>
        </p:nvPicPr>
        <p:blipFill>
          <a:blip r:embed="rId1"/>
          <a:stretch/>
        </p:blipFill>
        <p:spPr>
          <a:xfrm>
            <a:off x="2743200" y="2438280"/>
            <a:ext cx="3851280" cy="397512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Plant Characteristic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Multicell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Autotrophic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(photosynthesi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hlorophylls </a:t>
            </a:r>
            <a:r>
              <a:rPr b="1" i="1" lang="en-US" sz="3200" spc="-1" strike="noStrike">
                <a:solidFill>
                  <a:srgbClr val="996600"/>
                </a:solidFill>
                <a:latin typeface="Comic Sans MS"/>
              </a:rPr>
              <a:t>a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 and </a:t>
            </a:r>
            <a:r>
              <a:rPr b="1" i="1" lang="en-US" sz="3200" spc="-1" strike="noStrike">
                <a:solidFill>
                  <a:srgbClr val="996600"/>
                </a:solidFill>
                <a:latin typeface="Comic Sans MS"/>
              </a:rPr>
              <a:t>b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in thylakoid membra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urrounded by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ell walls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containing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ellulose (polysaccharid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tore reserve food as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amylose (starc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2:59:38Z</dcterms:created>
  <dc:creator>Cheryl Massengale</dc:creator>
  <dc:description/>
  <dc:language>en-US</dc:language>
  <cp:lastModifiedBy>LEGION</cp:lastModifiedBy>
  <dcterms:modified xsi:type="dcterms:W3CDTF">2016-12-07T09:20:38Z</dcterms:modified>
  <cp:revision>50</cp:revision>
  <dc:subject/>
  <dc:title>PLANTS</dc:title>
</cp:coreProperties>
</file>