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FC5B-8A2B-4993-9680-4997E175A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&amp; 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&amp; 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NA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DNA stores genetic information in segments called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Certain codons are translated by the cell into certain 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NA 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NA stores genetic information in segments called ge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Certain codons are translated by the cell into certain 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th type of macro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link between gen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rce of genetic information in chromos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4th type of macro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cal link between gen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rce of genetic information in chromos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do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ate amino-acid sequence in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hey do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tate amino-acid sequence in 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made o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units called nucleotides, connected in long ch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 have 3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5-Carbon sugar (pent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Nitrogen containing b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ade of C, H and 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A phosphate group ( 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made of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units called nucleotides, connected in long 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otides have 3 par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5-Carbon sugar (pento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Nitrogen containing ba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de of C, H and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A phosphate group ( 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types of Nucleotides (depending on the sugar they con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nucleic acids (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Deoxyribonucleic acids (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Deoxyribose (has just an hydrogen in the same place--- H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oxy = “minus oxygen”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ypes of Nucleotides (depending on the sugar they conta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nucleic acids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Deoxyribonucleic acids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Deoxyribose (has just an hydrogen in the same place--- H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oxy = “minus oxygen”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3 parts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 (no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Thymine (Only in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3 parts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 (no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ymine (Only in 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 3 part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 (with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racyl (only in 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 3 parts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 (with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Uracyl (only in 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vs 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Thymine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Double-stranded helix arran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Uracyl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- Single str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vs R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Thymine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Double-stranded helix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Uracyl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- Single stra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al mod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oposed by Watson &amp; Crick,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--T     ,     C---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mod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proposed by Watson &amp; Crick, 19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---T     ,     C--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E22-E3A4-4887-BC53-BDEE21E3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38D-EDD5-4FDA-B0B9-EBEC2F5B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1DC-6B4A-4FBE-AD9E-7ED78EBD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AA0-F6AE-4EB6-819F-E64AAAFF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D62D-0EE9-465B-B8AE-E3231DC7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1C15-0794-40FA-A0E5-25B73AC9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40E5-8483-4A99-8533-A70D7410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7F73-1681-48B3-B7DA-F179A777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F264-8B18-4345-A9C6-FE6B581D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C15C-BED4-4846-82A1-CC61A170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E744-6C49-4970-93CD-9D2714D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40E-FC5A-4DF8-8966-A22C1E4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4DFD-6FD7-4965-9596-4CBD8C83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9B9F-0CF2-4A82-A8F3-ABD066C9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A67E-39EA-4642-872B-622872EA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1C27-0569-46F5-AA84-59D3E9B8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8627-207B-4A9B-8945-6575A50E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0B3-AC75-44A3-90E6-AAEEA59A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194-60D6-4767-98EF-8493F77D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233-5EB5-4AA9-B8C3-DEC2B3EA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39A-A5D8-4DB7-8EBE-C8171E44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E4E-495F-440F-9322-B674B1A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AB3-D65B-4081-B265-4603A6C9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708-225F-4CAC-AA83-CB5B597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A415-CB25-4BE8-B555-8513BAB08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478-3B20-4670-A64D-D07647262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Comic Sans MS"/>
              </a:rPr>
              <a:t>Nucleic Acid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omic Sans MS"/>
              </a:rPr>
              <a:t>DNA &amp; R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ow DNA Work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NA stores genetic information in segments called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ge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2- The DNA code is in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Tri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Comic Sans MS"/>
              </a:rPr>
              <a:t>plet 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(short sequences of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nucleotides each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3- Certain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are translated by the cell into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ertain Ami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ci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4. Thus, the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nucleotide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DNA indicate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Amino acid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are they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typ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chemical link between gen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ourc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 information in chromos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do they do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ctat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mino-acid sequence in prote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ive information to chromosomes, which is then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ed from parent to off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y made of 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mple unit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onnected in long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ave 3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5-Carbon sugar (pen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Nitrogen containing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made of C, H and 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A phosphate group ( P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 groups make the links that unite the sugars (hence a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ugar-phosphate backb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wo types of Nucleotides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(depending on the sugar they contain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nucleic acids (R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a hydroxyl group in the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arbon---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nucleic acids (D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just an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n the same place--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)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oxy = “minus oxygen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D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omposition (3 parts):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oxyr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no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Thymine (Only in 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R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osition ( 3 parts)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with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Uracyl (only in 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</a:t>
            </a: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vs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N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oxyr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ymi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u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stranded helix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Uracy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Sing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The Double Helix (DNA)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uctural mode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odel proposed by Watson &amp; Crick, 195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wo sugar-phosphate strands, next to each other, but running in opposite dire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Comic Sans MS"/>
              </a:rPr>
              <a:t>Specific Hydrogen bonds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occur among bases from one chain to the othe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A---T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    ,     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C---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Due to this specificity, a certain base on one strand indicates a certain base in the other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he 2 strands intertwine, forming a double-helix that winds around a central ax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0:59:06Z</dcterms:created>
  <dc:creator>Cheryl Massengale</dc:creator>
  <dc:description/>
  <dc:language>en-US</dc:language>
  <cp:lastModifiedBy>LEGION</cp:lastModifiedBy>
  <dcterms:modified xsi:type="dcterms:W3CDTF">2016-12-07T09:19:58Z</dcterms:modified>
  <cp:revision>29</cp:revision>
  <dc:subject/>
  <dc:title>Nucleic Acids What are they ?</dc:title>
</cp:coreProperties>
</file>