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0CBB-6CD9-4390-895C-6FAA8A39D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&amp; 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ic Ac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&amp; 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NA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DNA stores genetic information in segments called 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Certain codons are translated by the cell into certain Am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NA Wo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NA stores genetic information in segments called ge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The DNA code is in Triplet Codons (short sequences of 3 nucleotides eac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Certain codons are translated by the cell into certain Am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Thus, the sequence of nucleotides in DNA indicate a sequence of Amino acids in a prote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th type of macro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link between gen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rce of genetic information in chromos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4th type of macro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cal link between gen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rce of genetic information in chromos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do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tate amino-acid sequence in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hey do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ctate amino-acid sequence in 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information to chromosomes, which is then passed from parent to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y made of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units called nucleotides, connected in long ch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 have 3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 5-Carbon sugar (pent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- Nitrogen containing ba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ade of C, H and 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 A phosphate group ( P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made of 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units called nucleotides, connected in long 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otides have 3 par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5-Carbon sugar (pento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Nitrogen containing ba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made of C, H and 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A phosphate group ( P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 groups make the links that unite the sugars (hence a “sugar-phosphate backbon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types of Nucleotides (depending on the sugar they contai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nucleic acids (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Deoxyribonucleic acids (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pentose sugar is Deoxyribose (has just an hydrogen in the same place--- H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oxy = “minus oxygen”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ypes of Nucleotides (depending on the sugar they conta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nucleic acids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Ribose (has a hydroxyl group in the 3rd carbon---O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Deoxyribonucleic acids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ntose sugar is Deoxyribose (has just an hydrogen in the same place--- H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oxy = “minus oxygen”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3 parts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 (no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Thymine (Only in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3 parts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 (no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ymine (Only in 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 Nucleotid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ition ( 3 part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 (with O in 3rd carb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One of 4 types of bases (all containing nitrogen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Ade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Uracyl (only in 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yt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 Nucleotid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ition ( 3 parts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 (with O in 3rd carbo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Phosphate gro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One of 4 types of bases (all containing nitrogen)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e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Uracyl (only in 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Cytos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 vs R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Deoxy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Thymine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- Double-stranded helix arran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- Rib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- Bases: Adenine, Uracyl, Cytosine, Guan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- Single str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vs RN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Deoxy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Thymine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- Double-stranded helix arran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- Ribose su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- Bases: Adenine, Uracyl, Cytosine, Guan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- Single stran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al mod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proposed by Watson &amp; Crick,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---T     ,     C---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ouble Helix (DNA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model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l proposed by Watson &amp; Crick, 19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ugar-phosphate strands, next to each other, but running in opposite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Hydrogen bonds occur among bases from one chain to the oth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---T     ,     C---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e to this specificity, a certain base on one strand indicates a certain base in the oth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2 strands intertwine, forming a double-helix that winds around a central 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2E8-D6B9-43D3-B45F-455BCAA1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110-A413-4CFF-8D05-9C6755F0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385-8F23-43CF-A11B-CC723CBE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7E7-894B-4C4E-85E6-551101C0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5BFB-784D-4182-A712-BFF65612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DF68-FF6E-4793-B6C5-3DF249AE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34E2-D588-46C9-9371-9CCDE84A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C11F-FDC8-4E49-B1F3-2C9EA39D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7ACD-8033-4564-AD33-1A167651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F801-5D41-4B58-A0D2-E02B0AFC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4F75-6559-40FC-AE81-310F0121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CD7-557E-4942-952C-7D81AEF7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BE48-B167-41BD-8271-5B3FE251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230F-8D89-4761-A2E5-21034A83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F47F-6342-49B6-A396-A803DD1F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D4A5-C8EA-4B97-9BE5-5FE53EAB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19D5-85BE-44F9-A7E1-007A1AA2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D23-FD1C-4E63-8359-440DA3E2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DD4-B2AF-42E9-8C5F-727E5399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99E-80B6-4FC1-A0FD-9B6C9403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702-3040-4DB9-8E74-1EA164B3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1AD-DD9E-4EF3-B389-5E0A7F03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217-6E63-4B6E-AF92-54F4E437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A93-04FC-45A2-A5D5-7572D38A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622D-68E5-4391-98E0-2AE94C748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780E-6A50-438F-A9CA-3544C0AFA5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Comic Sans MS"/>
              </a:rPr>
              <a:t>Nucleic Acids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omic Sans MS"/>
              </a:rPr>
              <a:t>DNA &amp; RN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How DNA Work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DNA stores genetic information in segments called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ge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2- The DNA code is in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Comic Sans MS"/>
              </a:rPr>
              <a:t>Tri</a:t>
            </a:r>
            <a:r>
              <a:rPr b="1" lang="en-US" sz="3400" spc="-1" strike="noStrike" u="sng">
                <a:solidFill>
                  <a:srgbClr val="ffff00"/>
                </a:solidFill>
                <a:uFillTx/>
                <a:latin typeface="Comic Sans MS"/>
              </a:rPr>
              <a:t>plet 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(short sequences of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nucleotides each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3- Certain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odon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are translated by the cell into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certain Amin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acid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4. Thus, the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nucleotide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DNA indicate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sequence of Amino acids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 in a </a:t>
            </a:r>
            <a:r>
              <a:rPr b="1" lang="en-US" sz="3400" spc="-1" strike="noStrike">
                <a:solidFill>
                  <a:srgbClr val="ff0000"/>
                </a:solidFill>
                <a:latin typeface="Comic Sans MS"/>
              </a:rPr>
              <a:t>protein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are they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typ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chemical link between gene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he source of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genetic information in chromos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What do they do 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ictat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mino-acid sequence in prote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Give information to chromosomes, which is then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ssed from parent to offsp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What are they made of 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mple units call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onnected in long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ucleotid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have 3 par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5-Carbon sugar (pento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Nitrogen containing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made of C, H and 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A phosphate group ( P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P groups make the links that unite the sugars (hence a “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ugar-phosphate backb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Two types of Nucleotides</a:t>
            </a: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b7"/>
                </a:solidFill>
                <a:latin typeface="Comic Sans MS"/>
              </a:rPr>
              <a:t>(depending on the sugar they contain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nucleic acids (R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a hydroxyl group in the 3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arbon---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H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nucleic acids (D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 pentose sugar is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eoxyribos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(has just an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in the same place---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)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oxy = “minus oxygen”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D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omposition (3 parts):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oxyr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no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Thymine (Only in 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24bdf"/>
                </a:solidFill>
                <a:latin typeface="Comic Sans MS"/>
              </a:rPr>
              <a:t>RNA</a:t>
            </a:r>
            <a:r>
              <a:rPr b="1" lang="en-US" sz="4800" spc="-1" strike="noStrike">
                <a:solidFill>
                  <a:srgbClr val="ffffb7"/>
                </a:solidFill>
                <a:latin typeface="Comic Sans MS"/>
              </a:rPr>
              <a:t> Nucleotides</a:t>
            </a:r>
            <a:br>
              <a:rPr sz="4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omposition ( 3 parts)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bose sugar (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with O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arb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- 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ne of 4 types of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all containing nitrogen)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524bdf"/>
                </a:solidFill>
                <a:latin typeface="Comic Sans MS"/>
              </a:rPr>
              <a:t>Uracyl (only in R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Cytos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- Gua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85120" cy="10666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DNA </a:t>
            </a:r>
            <a:r>
              <a:rPr b="1" lang="en-US" sz="5400" spc="-1" strike="noStrike">
                <a:solidFill>
                  <a:srgbClr val="ffffb7"/>
                </a:solidFill>
                <a:latin typeface="Comic Sans MS"/>
              </a:rPr>
              <a:t>vs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RNA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oxyr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ymin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-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oub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stranded helix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bose sug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- Bases: Adenine,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Uracyl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Cytosine, Guan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4- </a:t>
            </a:r>
            <a:r>
              <a:rPr b="1" lang="en-US" sz="3200" spc="-1" strike="noStrike">
                <a:solidFill>
                  <a:srgbClr val="524bdf"/>
                </a:solidFill>
                <a:latin typeface="Comic Sans MS"/>
              </a:rPr>
              <a:t>Singl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tr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Comic Sans MS"/>
              </a:rPr>
              <a:t>The Double Helix (DNA)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ructural model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Model proposed by Watson &amp; Crick, 1953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wo sugar-phosphate strands, next to each other, but running in opposite direction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Comic Sans MS"/>
              </a:rPr>
              <a:t>Specific Hydrogen bonds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occur among bases from one chain to the othe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0000"/>
                </a:solidFill>
                <a:latin typeface="Comic Sans MS"/>
              </a:rPr>
              <a:t>A---T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     ,     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C---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Due to this specificity, a certain base on one strand indicates a certain base in the other</a:t>
            </a:r>
            <a:r>
              <a:rPr b="1" lang="en-US" sz="2900" spc="-1" strike="noStrike">
                <a:solidFill>
                  <a:srgbClr val="524bdf"/>
                </a:solidFill>
                <a:latin typeface="Comic Sans MS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The 2 strands intertwine, forming a double-helix that winds around a central ax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0:59:06Z</dcterms:created>
  <dc:creator>Cheryl Massengale</dc:creator>
  <dc:description/>
  <dc:language>en-US</dc:language>
  <cp:lastModifiedBy>LEGION</cp:lastModifiedBy>
  <dcterms:modified xsi:type="dcterms:W3CDTF">2016-12-07T09:19:58Z</dcterms:modified>
  <cp:revision>29</cp:revision>
  <dc:subject/>
  <dc:title>Nucleic Acids What are they ?</dc:title>
</cp:coreProperties>
</file>