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png" ContentType="image/png"/>
  <Override PartName="/ppt/media/image1.png" ContentType="image/png"/>
  <Override PartName="/ppt/media/CAMERA.WAV" ContentType="audio/x-wav"/>
  <Override PartName="/ppt/media/image5.png" ContentType="image/png"/>
  <Override PartName="/ppt/media/image10.png" ContentType="image/png"/>
  <Override PartName="/ppt/media/image6.png" ContentType="image/png"/>
  <Override PartName="/ppt/media/LASER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media/WHOOSH.WAV" ContentType="audio/x-wav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942F-F93E-4ADA-91B6-31FDB876F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9649-5F1E-4085-8A0B-D3A86A0F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E509-4D73-4940-8F4F-4FF13F7E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70F-23EE-4E58-BECB-BE71356A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B16-96C1-4386-B895-4FEB36FF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428-6F68-494D-BBCF-CB88A895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B8A-1E7E-4D8B-AC6F-A25822AF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6979-9552-4CC0-B9E4-8DE69BAE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8FB-F790-47CC-9932-1B02B182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B3A5-1B25-49A4-AAB6-526B63AC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7A0-8D81-43A3-9787-50D4A980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0CE2-6ABE-41D5-8607-08E9B9A0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640D-9908-42BE-9A56-84372AE2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9D7B-B297-46CA-8542-FFACA7B8B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45d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057400"/>
            <a:ext cx="7848360" cy="1828800"/>
          </a:xfrm>
          <a:prstGeom prst="rect">
            <a:avLst/>
          </a:prstGeom>
          <a:gradFill rotWithShape="0">
            <a:gsLst>
              <a:gs pos="0">
                <a:srgbClr val="62a382"/>
              </a:gs>
              <a:gs pos="100000">
                <a:srgbClr val="99ffcc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99"/>
                </a:solidFill>
                <a:latin typeface="Palatia"/>
              </a:rPr>
              <a:t>PROTEIN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ffff99"/>
            </a:gs>
            <a:gs pos="100000">
              <a:srgbClr val="99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Palatia"/>
              </a:rPr>
              <a:t>Characteristics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Contain carbon, hydrogen, oxygen, nitrogen, and sulf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structural components of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control molecules (enzym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transport and messenger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Basic building block is the amino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Palatia"/>
              </a:rPr>
              <a:t>Amino Ac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5"/>
          <p:cNvGraphicFramePr/>
          <p:nvPr/>
        </p:nvGraphicFramePr>
        <p:xfrm>
          <a:off x="2819520" y="1752480"/>
          <a:ext cx="352404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52480"/>
                    <a:ext cx="352404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7"/>
          <p:cNvSpPr/>
          <p:nvPr/>
        </p:nvSpPr>
        <p:spPr>
          <a:xfrm>
            <a:off x="669960" y="4092480"/>
            <a:ext cx="771984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mine group acts like a base, tends to be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Carboxyl group acts like an acid, tends to be neg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“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R” group is variable, from 1 atom to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Two amino acids join together to form a dipepti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djacent carboxyl and amino groups bond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579132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Palatia"/>
              </a:rPr>
              <a:t>Som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3_19A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51436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553080" cy="6858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a"/>
              </a:rPr>
              <a:t>Some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3_19B"/>
          <p:cNvPicPr/>
          <p:nvPr/>
        </p:nvPicPr>
        <p:blipFill>
          <a:blip r:embed="rId1"/>
          <a:stretch/>
        </p:blipFill>
        <p:spPr>
          <a:xfrm>
            <a:off x="1143000" y="1219320"/>
            <a:ext cx="6654960" cy="5162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latia"/>
              </a:rPr>
              <a:t>Still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3_19C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4967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1676520" y="1219320"/>
          <a:ext cx="594360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9436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3"/>
          <p:cNvSpPr/>
          <p:nvPr/>
        </p:nvSpPr>
        <p:spPr>
          <a:xfrm>
            <a:off x="1068120" y="380880"/>
            <a:ext cx="6749280" cy="76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Palatia"/>
              </a:rPr>
              <a:t>Formation of a Dipept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4343400" y="3124080"/>
          <a:ext cx="43812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124080"/>
                    <a:ext cx="438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1676520" y="3733920"/>
          <a:ext cx="5943600" cy="22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733920"/>
                    <a:ext cx="594360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6"/>
          <p:cNvSpPr/>
          <p:nvPr/>
        </p:nvSpPr>
        <p:spPr>
          <a:xfrm>
            <a:off x="2252880" y="6216480"/>
            <a:ext cx="496908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Palatia"/>
              </a:rPr>
              <a:t>Dehydration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95800" y="492120"/>
            <a:ext cx="751572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Amino Acid --&gt; D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98040" y="1711440"/>
            <a:ext cx="731448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Dipeptide --&gt; Tr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.A. + A.A. + …..+ Tripeptide --&gt; Poly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3_20"/>
          <p:cNvPicPr/>
          <p:nvPr/>
        </p:nvPicPr>
        <p:blipFill>
          <a:blip r:embed="rId1"/>
          <a:stretch/>
        </p:blipFill>
        <p:spPr>
          <a:xfrm>
            <a:off x="2743200" y="3733920"/>
            <a:ext cx="4000680" cy="257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002240" y="263520"/>
            <a:ext cx="65556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A protein consists of one or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polypeptide ch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3_22"/>
          <p:cNvPicPr/>
          <p:nvPr/>
        </p:nvPicPr>
        <p:blipFill>
          <a:blip r:embed="rId1"/>
          <a:stretch/>
        </p:blipFill>
        <p:spPr>
          <a:xfrm>
            <a:off x="380880" y="1447920"/>
            <a:ext cx="2971800" cy="244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3_26"/>
          <p:cNvPicPr/>
          <p:nvPr/>
        </p:nvPicPr>
        <p:blipFill>
          <a:blip r:embed="rId2"/>
          <a:stretch/>
        </p:blipFill>
        <p:spPr>
          <a:xfrm>
            <a:off x="6450120" y="1447920"/>
            <a:ext cx="2313000" cy="3504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3_30"/>
          <p:cNvPicPr/>
          <p:nvPr/>
        </p:nvPicPr>
        <p:blipFill>
          <a:blip r:embed="rId3"/>
          <a:stretch/>
        </p:blipFill>
        <p:spPr>
          <a:xfrm>
            <a:off x="2895480" y="3581280"/>
            <a:ext cx="3606840" cy="2799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17:37:10Z</dcterms:created>
  <dc:creator>Cheryl Massengale</dc:creator>
  <dc:description/>
  <dc:language>en-US</dc:language>
  <cp:lastModifiedBy>LEGION</cp:lastModifiedBy>
  <dcterms:modified xsi:type="dcterms:W3CDTF">2016-12-07T09:19:45Z</dcterms:modified>
  <cp:revision>8</cp:revision>
  <dc:subject/>
  <dc:title>PROTEINS</dc:title>
</cp:coreProperties>
</file>