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png" ContentType="image/png"/>
  <Override PartName="/ppt/media/image1.png" ContentType="image/png"/>
  <Override PartName="/ppt/media/CAMERA.WAV" ContentType="audio/x-wav"/>
  <Override PartName="/ppt/media/image5.png" ContentType="image/png"/>
  <Override PartName="/ppt/media/image10.png" ContentType="image/png"/>
  <Override PartName="/ppt/media/image6.png" ContentType="image/png"/>
  <Override PartName="/ppt/media/LASER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7.png" ContentType="image/png"/>
  <Override PartName="/ppt/media/WHOOSH.WAV" ContentType="audio/x-wav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64FE-6F46-48E1-A2C0-12581CFCB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tain carbon, hydrogen, oxygen, nitrogen, and sulf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structural components of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control molecules (enzym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transport and messenger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ic building block is the amino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carbon, hydrogen, oxygen, nitrogen, and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structural components of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control molecules (enzym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transport and messenge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building block is the amin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ino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ine group acts like a base, tends to be posi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xyl group acts like an acid, tends to be neg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” group is variable, from 1 atom to 2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amino acids join together to form a dipept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acent carboxyl and amino groups bon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e group acts like a base, tends to be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 acts like an acid, tends to be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” group is variable, from 1 atom to 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amino acids join together to form a dipept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acent carboxyl and amino groups bon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or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r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ill Mor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Mor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a D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 D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+ Amino Acid --&gt; D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+ Dipeptide --&gt; Tr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.A. + A.A. + …..+ Tripeptide --&gt; Poly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 + Amino Acid --&gt; D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 + Dipeptide --&gt; Tr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A. + A.A. + …..+ Tripeptide --&gt; Poly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tein consists of one or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peptide ch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tein consists of one or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eptide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C561-ADC8-4659-9D1D-5B61E286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2181-5081-45A1-92F3-1F693F54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EFE4-F7DC-4B36-9F90-FDB1CFFC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9790-377C-4E4E-8193-E6FA5390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68E6-D93E-4CB5-A10C-E34093A0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BD69-12F5-4624-A572-A3B6F9B7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0009-2C27-443C-B1FD-846EF828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C3EF-BE2A-457F-BB6B-008E47BA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90DA-585B-4BB8-B423-18FABC14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A6F-A8E7-416B-AEFE-08CBC7C3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2D36-EC3D-40FC-9D27-5B361573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ECD6-9CB8-4A21-9721-DC63CA96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03F1-6E77-4F69-9526-9C558F583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45d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2057400"/>
            <a:ext cx="7848360" cy="1828800"/>
          </a:xfrm>
          <a:prstGeom prst="rect">
            <a:avLst/>
          </a:prstGeom>
          <a:gradFill rotWithShape="0">
            <a:gsLst>
              <a:gs pos="0">
                <a:srgbClr val="62a382"/>
              </a:gs>
              <a:gs pos="100000">
                <a:srgbClr val="99ffcc"/>
              </a:gs>
            </a:gsLst>
            <a:lin ang="189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3399"/>
                </a:solidFill>
                <a:latin typeface="Palatia"/>
              </a:rPr>
              <a:t>PROTEINS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ffff99"/>
            </a:gs>
            <a:gs pos="100000">
              <a:srgbClr val="99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Palatia"/>
              </a:rPr>
              <a:t>Characteristics of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Contain carbon, hydrogen, oxygen, nitrogen, and sulf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structural components of 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control molecules (enzym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transport and messenger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Basic building block is the amino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Palatia"/>
              </a:rPr>
              <a:t>Amino Aci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5"/>
          <p:cNvGraphicFramePr/>
          <p:nvPr/>
        </p:nvGraphicFramePr>
        <p:xfrm>
          <a:off x="2819520" y="1752480"/>
          <a:ext cx="352404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752480"/>
                    <a:ext cx="352404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7"/>
          <p:cNvSpPr/>
          <p:nvPr/>
        </p:nvSpPr>
        <p:spPr>
          <a:xfrm>
            <a:off x="669960" y="4092480"/>
            <a:ext cx="7719840" cy="265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Amine group acts like a base, tends to be posi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Carboxyl group acts like an acid, tends to be neg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“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R” group is variable, from 1 atom to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Two amino acids join together to form a dipepti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Adjacent carboxyl and amino groups bond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75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75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579132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Palatia"/>
              </a:rPr>
              <a:t>Som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3_19A"/>
          <p:cNvPicPr/>
          <p:nvPr/>
        </p:nvPicPr>
        <p:blipFill>
          <a:blip r:embed="rId1"/>
          <a:stretch/>
        </p:blipFill>
        <p:spPr>
          <a:xfrm>
            <a:off x="533520" y="1143000"/>
            <a:ext cx="8001000" cy="51436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6553080" cy="6858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a"/>
              </a:rPr>
              <a:t>Some Mor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3_19B"/>
          <p:cNvPicPr/>
          <p:nvPr/>
        </p:nvPicPr>
        <p:blipFill>
          <a:blip r:embed="rId1"/>
          <a:stretch/>
        </p:blipFill>
        <p:spPr>
          <a:xfrm>
            <a:off x="1143000" y="1219320"/>
            <a:ext cx="6654960" cy="51624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Palatia"/>
              </a:rPr>
              <a:t>Still Mor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3_19C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49672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1676520" y="1219320"/>
          <a:ext cx="5943600" cy="19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594360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3"/>
          <p:cNvSpPr/>
          <p:nvPr/>
        </p:nvSpPr>
        <p:spPr>
          <a:xfrm>
            <a:off x="1068120" y="380880"/>
            <a:ext cx="6749280" cy="764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Palatia"/>
              </a:rPr>
              <a:t>Formation of a Dipept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4343400" y="3124080"/>
          <a:ext cx="43812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124080"/>
                    <a:ext cx="4381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5"/>
          <p:cNvGraphicFramePr/>
          <p:nvPr/>
        </p:nvGraphicFramePr>
        <p:xfrm>
          <a:off x="1676520" y="3733920"/>
          <a:ext cx="5943600" cy="22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3733920"/>
                    <a:ext cx="594360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6"/>
          <p:cNvSpPr/>
          <p:nvPr/>
        </p:nvSpPr>
        <p:spPr>
          <a:xfrm>
            <a:off x="2252880" y="6216480"/>
            <a:ext cx="496908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Palatia"/>
              </a:rPr>
              <a:t>Dehydration 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595800" y="492120"/>
            <a:ext cx="751572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mino Acid + Amino Acid --&gt; Di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698040" y="1711440"/>
            <a:ext cx="731448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mino Acid + Dipeptide --&gt; Tri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.A. + A.A. + …..+ Tripeptide --&gt; Poly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3_20"/>
          <p:cNvPicPr/>
          <p:nvPr/>
        </p:nvPicPr>
        <p:blipFill>
          <a:blip r:embed="rId1"/>
          <a:stretch/>
        </p:blipFill>
        <p:spPr>
          <a:xfrm>
            <a:off x="2743200" y="3733920"/>
            <a:ext cx="4000680" cy="2571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002240" y="263520"/>
            <a:ext cx="655560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Palatia"/>
              </a:rPr>
              <a:t>A protein consists of one or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Palatia"/>
              </a:rPr>
              <a:t>polypeptide ch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3_22"/>
          <p:cNvPicPr/>
          <p:nvPr/>
        </p:nvPicPr>
        <p:blipFill>
          <a:blip r:embed="rId1"/>
          <a:stretch/>
        </p:blipFill>
        <p:spPr>
          <a:xfrm>
            <a:off x="380880" y="1447920"/>
            <a:ext cx="2971800" cy="244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3_26"/>
          <p:cNvPicPr/>
          <p:nvPr/>
        </p:nvPicPr>
        <p:blipFill>
          <a:blip r:embed="rId2"/>
          <a:stretch/>
        </p:blipFill>
        <p:spPr>
          <a:xfrm>
            <a:off x="6450120" y="1447920"/>
            <a:ext cx="2313000" cy="3504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3_30"/>
          <p:cNvPicPr/>
          <p:nvPr/>
        </p:nvPicPr>
        <p:blipFill>
          <a:blip r:embed="rId3"/>
          <a:stretch/>
        </p:blipFill>
        <p:spPr>
          <a:xfrm>
            <a:off x="2895480" y="3581280"/>
            <a:ext cx="3606840" cy="2799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17:37:10Z</dcterms:created>
  <dc:creator>Cheryl Massengale</dc:creator>
  <dc:description/>
  <dc:language>en-US</dc:language>
  <cp:lastModifiedBy>LEGION</cp:lastModifiedBy>
  <dcterms:modified xsi:type="dcterms:W3CDTF">2016-12-07T09:19:45Z</dcterms:modified>
  <cp:revision>8</cp:revision>
  <dc:subject/>
  <dc:title>PROTEINS</dc:title>
</cp:coreProperties>
</file>