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WHOOSH.WAV" ContentType="audio/x-wav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4F36-2852-420E-A882-650517F23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9E4-C221-41CA-AFAB-EF0A2C92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4F7-DD20-46BB-BFF1-C5B0A41D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57C-3222-4EC9-9A23-2260AF7B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D45-0906-4664-9EF1-6262AC77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54F-9DC2-48A4-8EFE-FB18EF8A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467-19E1-47FE-AB5E-8D3E58BA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FF7-AF6C-4142-9BEE-4582AB92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A3B-FFCF-4323-9B44-11091CBE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909-C789-4CF3-97D4-315166DE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47F-9B6C-4BFC-AAB8-C5ED69B2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D9B-81F5-4377-9038-4D48C9BB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A60-93EB-4B0E-9D51-5F57E00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77D6-6869-486E-8548-FFE17C89C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45d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828800"/>
          </a:xfrm>
          <a:prstGeom prst="rect">
            <a:avLst/>
          </a:prstGeom>
          <a:gradFill rotWithShape="0">
            <a:gsLst>
              <a:gs pos="0">
                <a:srgbClr val="62a382"/>
              </a:gs>
              <a:gs pos="100000">
                <a:srgbClr val="99ffcc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99"/>
                </a:solidFill>
                <a:latin typeface="Palatia"/>
              </a:rPr>
              <a:t>PROTEIN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ffff99"/>
            </a:gs>
            <a:gs pos="100000">
              <a:srgbClr val="99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Palatia"/>
              </a:rPr>
              <a:t>Characteristics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Contain carbon, hydrogen, oxygen, nitrogen, and 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structural components of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control molecules (enzy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transport and messen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Basic building block is the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Palatia"/>
              </a:rPr>
              <a:t>Amino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2819520" y="1752480"/>
          <a:ext cx="35240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5240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669960" y="4092480"/>
            <a:ext cx="771984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mine group acts like a base, tends to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Carboxyl group acts like an acid, tends to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R” group is variable, from 1 atom to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Two amino acids join together to form a dipept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djacent carboxyl and amino groups bon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Som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9A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a"/>
              </a:rPr>
              <a:t>Some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3_19B"/>
          <p:cNvPicPr/>
          <p:nvPr/>
        </p:nvPicPr>
        <p:blipFill>
          <a:blip r:embed="rId1"/>
          <a:stretch/>
        </p:blipFill>
        <p:spPr>
          <a:xfrm>
            <a:off x="1143000" y="1219320"/>
            <a:ext cx="6654960" cy="5162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a"/>
              </a:rPr>
              <a:t>Still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3_19C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676520" y="1219320"/>
          <a:ext cx="594360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9436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3"/>
          <p:cNvSpPr/>
          <p:nvPr/>
        </p:nvSpPr>
        <p:spPr>
          <a:xfrm>
            <a:off x="1068120" y="380880"/>
            <a:ext cx="674928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Palatia"/>
              </a:rPr>
              <a:t>Formation of a Dipept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4343400" y="3124080"/>
          <a:ext cx="4381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1240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676520" y="3733920"/>
          <a:ext cx="5943600" cy="22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733920"/>
                    <a:ext cx="5943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2252880" y="6216480"/>
            <a:ext cx="49690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Palatia"/>
              </a:rPr>
              <a:t>Dehydration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95800" y="492120"/>
            <a:ext cx="751572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Amino Acid --&gt; D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98040" y="1711440"/>
            <a:ext cx="731448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Dipeptide --&gt; Tr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.A. + A.A. + …..+ Tripeptide --&gt;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3_20"/>
          <p:cNvPicPr/>
          <p:nvPr/>
        </p:nvPicPr>
        <p:blipFill>
          <a:blip r:embed="rId1"/>
          <a:stretch/>
        </p:blipFill>
        <p:spPr>
          <a:xfrm>
            <a:off x="2743200" y="3733920"/>
            <a:ext cx="40006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02240" y="263520"/>
            <a:ext cx="65556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A protein consists of 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polypeptide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3_22"/>
          <p:cNvPicPr/>
          <p:nvPr/>
        </p:nvPicPr>
        <p:blipFill>
          <a:blip r:embed="rId1"/>
          <a:stretch/>
        </p:blipFill>
        <p:spPr>
          <a:xfrm>
            <a:off x="380880" y="14479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_26"/>
          <p:cNvPicPr/>
          <p:nvPr/>
        </p:nvPicPr>
        <p:blipFill>
          <a:blip r:embed="rId2"/>
          <a:stretch/>
        </p:blipFill>
        <p:spPr>
          <a:xfrm>
            <a:off x="6450120" y="1447920"/>
            <a:ext cx="2313000" cy="350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_30"/>
          <p:cNvPicPr/>
          <p:nvPr/>
        </p:nvPicPr>
        <p:blipFill>
          <a:blip r:embed="rId3"/>
          <a:stretch/>
        </p:blipFill>
        <p:spPr>
          <a:xfrm>
            <a:off x="2895480" y="3581280"/>
            <a:ext cx="3606840" cy="2799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7:37:10Z</dcterms:created>
  <dc:creator>Cheryl Massengale</dc:creator>
  <dc:description/>
  <dc:language>en-US</dc:language>
  <cp:lastModifiedBy>LEGION</cp:lastModifiedBy>
  <dcterms:modified xsi:type="dcterms:W3CDTF">2016-12-07T09:19:45Z</dcterms:modified>
  <cp:revision>8</cp:revision>
  <dc:subject/>
  <dc:title>PROTEINS</dc:title>
</cp:coreProperties>
</file>