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C2B-698A-4B25-B000-9A7A4228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mall sugar molecules to large sugar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nosaccharide:  one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(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u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lact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accharide: two sugar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crose (glucose+fru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ctose (glucose+galact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ltose (glucose+gluco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lysaccharide: many sugar 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arch (bread, potato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gen (beef musc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ose (lettuce, cor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term for compounds which are not soluble in wa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 are soluble in hydrophobic solven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:  “stores the most energy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F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Phospho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O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Wax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  Steroid 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  Triglyce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lipid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term energy sto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heat loss (insul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physical sho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ction against water lo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messengers (hormon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jor component of membran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spholipid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iglycerid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1 glycerol and 3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tty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are two kinds of fatty acids you may see these on food label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turated fatty acids:  no double bonds (ba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nsaturated fatty acids:  double bonds (goo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unds that contain CARBON are called organ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 are 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(20 different kinds of aa) bonded together by peptide bonds (polypeptid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functions of protei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orag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bumin (egg whit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port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moglob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gulatory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vement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al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mbranes, hair, nai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(Polypeptid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levels of protein structu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ino acids bonded together by peptide bonds (straight chai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-dimensional folding arrangement of a primary structure into coils and pleats held together by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rti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condary structures bent and folded into a more complex 3-D arrangement of linked polypep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nds:  H-bonds, ionic, disulfide bridges (S-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 a “subunit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aternary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sed of 2 or more “subunits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obular in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 in Aqueous environ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 enzymes (hemoglob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Deoxyribonucleic acid (DNA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ouble heli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 Ribonucleic acid (RNA-single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stran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 are composed of long chains of nucleotide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inked by dehydration synthesi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 includ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 (5-carb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(T) D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acil (U) RNA on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has 4 electrons in outer shel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 can form covalent bonds with as many as 4 other atoms (elemen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ually with C, H, O or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4(metha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-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ro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rge organic molecu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POLY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MONOM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 Lip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  Prote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.  Nucleic acids (DNA and R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Macromolecules Form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called “condensation reaction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ms polymers by combining monomers by “removing water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How are Macromolecules separated or diges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  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parates monomers by “adding water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8E4-F3A5-4391-8AFE-8B1244A6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44D-8468-4D85-BB63-F08EDC11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3E7-2F96-4EC2-BB4E-F8E36146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BA4-18D5-45F9-8458-87CDCE40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16EC-A4E1-485A-81C2-CB3FC8A3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CC6B-CA15-443B-B9A5-84C946B9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1E88-F2FD-4789-A4CE-1A70860F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2979-5CD6-41DA-BA35-BAFE719A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42D-901C-4E99-8591-68063C95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FFE2-FD58-4739-9166-0244AF8E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00E1-B58F-44D3-8C85-64B45D1D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667-7F5C-414D-BD5A-D8737985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5C65-561A-4654-81BF-F1A0C3F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4220-B624-41BF-AEA9-0570CA5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F2A-3605-461E-AB6D-5B6BC189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8B75-0A68-4620-859B-2F1DCD07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9E2F-A3A0-4E8A-88EE-5071B9A3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A7D-D57D-4694-9D24-698C0F3E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799-3B11-4C1F-9377-8C49ADCC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6C0-F89A-4561-A840-C7FEDC6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208-64B7-4475-8A79-9F9C83E5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72E-589A-4513-A37A-2F269EC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E59-043B-4E1A-8533-AFE4726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487-403F-4A5F-873D-D05EEBD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3719-BC08-4B59-A867-9C93FC3AB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BD70-0893-4887-8492-FDEDDE74B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Comic Sans MS"/>
              </a:rPr>
              <a:t>Macromolecules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mall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arge sugar molecul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saccharide:  one sugar uni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lucose 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oxy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rib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Fru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Galactos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1219320" y="3733920"/>
            <a:ext cx="2209680" cy="1523880"/>
            <a:chOff x="1219320" y="3733920"/>
            <a:chExt cx="2209680" cy="1523880"/>
          </a:xfrm>
        </p:grpSpPr>
        <p:sp>
          <p:nvSpPr>
            <p:cNvPr id="171" name="AutoShape 5"/>
            <p:cNvSpPr/>
            <p:nvPr/>
          </p:nvSpPr>
          <p:spPr>
            <a:xfrm>
              <a:off x="1219320" y="3733920"/>
              <a:ext cx="2209680" cy="1523880"/>
            </a:xfrm>
            <a:prstGeom prst="hexagon">
              <a:avLst>
                <a:gd name="adj" fmla="val 36251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1678320" y="426744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Disaccharide: two sugar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crose (glucose+fru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Lactose (glucose+galact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–"/>
              <a:tabLst>
                <a:tab algn="l" pos="18288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Maltose (glucose+glucos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1981080" y="4724280"/>
            <a:ext cx="4876560" cy="1523880"/>
            <a:chOff x="1981080" y="4724280"/>
            <a:chExt cx="4876560" cy="1523880"/>
          </a:xfrm>
        </p:grpSpPr>
        <p:grpSp>
          <p:nvGrpSpPr>
            <p:cNvPr id="177" name="Group 5"/>
            <p:cNvGrpSpPr/>
            <p:nvPr/>
          </p:nvGrpSpPr>
          <p:grpSpPr>
            <a:xfrm>
              <a:off x="4647960" y="4724280"/>
              <a:ext cx="2209680" cy="1523880"/>
              <a:chOff x="4647960" y="4724280"/>
              <a:chExt cx="2209680" cy="1523880"/>
            </a:xfrm>
          </p:grpSpPr>
          <p:sp>
            <p:nvSpPr>
              <p:cNvPr id="178" name="AutoShape 6"/>
              <p:cNvSpPr/>
              <p:nvPr/>
            </p:nvSpPr>
            <p:spPr>
              <a:xfrm>
                <a:off x="464796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Text Box 7"/>
              <p:cNvSpPr/>
              <p:nvPr/>
            </p:nvSpPr>
            <p:spPr>
              <a:xfrm>
                <a:off x="510696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8"/>
            <p:cNvGrpSpPr/>
            <p:nvPr/>
          </p:nvGrpSpPr>
          <p:grpSpPr>
            <a:xfrm>
              <a:off x="1981080" y="4724280"/>
              <a:ext cx="2209680" cy="1523880"/>
              <a:chOff x="1981080" y="4724280"/>
              <a:chExt cx="2209680" cy="1523880"/>
            </a:xfrm>
          </p:grpSpPr>
          <p:sp>
            <p:nvSpPr>
              <p:cNvPr id="181" name="AutoShape 9"/>
              <p:cNvSpPr/>
              <p:nvPr/>
            </p:nvSpPr>
            <p:spPr>
              <a:xfrm>
                <a:off x="1981080" y="4724280"/>
                <a:ext cx="2209680" cy="1523880"/>
              </a:xfrm>
              <a:prstGeom prst="hexagon">
                <a:avLst>
                  <a:gd name="adj" fmla="val 36251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Text Box 10"/>
              <p:cNvSpPr/>
              <p:nvPr/>
            </p:nvSpPr>
            <p:spPr>
              <a:xfrm>
                <a:off x="2440080" y="5257800"/>
                <a:ext cx="133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4190760" y="54864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arbohydrate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olysaccharide: many sugar un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tarch (bread, potatoe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glycogen (beef muscl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ellulose (lettuce, cor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762120" y="4038480"/>
            <a:ext cx="7870680" cy="2209680"/>
            <a:chOff x="762120" y="4038480"/>
            <a:chExt cx="7870680" cy="2209680"/>
          </a:xfrm>
        </p:grpSpPr>
        <p:sp>
          <p:nvSpPr>
            <p:cNvPr id="188" name="AutoShape 5"/>
            <p:cNvSpPr/>
            <p:nvPr/>
          </p:nvSpPr>
          <p:spPr>
            <a:xfrm>
              <a:off x="2325600" y="4038480"/>
              <a:ext cx="1296360" cy="990360"/>
            </a:xfrm>
            <a:prstGeom prst="hexagon">
              <a:avLst>
                <a:gd name="adj" fmla="val 3272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6"/>
            <p:cNvSpPr/>
            <p:nvPr/>
          </p:nvSpPr>
          <p:spPr>
            <a:xfrm>
              <a:off x="25167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62120" y="4038480"/>
              <a:ext cx="1296720" cy="990360"/>
            </a:xfrm>
            <a:prstGeom prst="hexagon">
              <a:avLst>
                <a:gd name="adj" fmla="val 32734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916560" y="4343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2058840" y="453384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20004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33915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16365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179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14"/>
            <p:cNvSpPr/>
            <p:nvPr/>
          </p:nvSpPr>
          <p:spPr>
            <a:xfrm>
              <a:off x="2933640" y="5752800"/>
              <a:ext cx="266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8" name="Group 15"/>
            <p:cNvGrpSpPr/>
            <p:nvPr/>
          </p:nvGrpSpPr>
          <p:grpSpPr>
            <a:xfrm>
              <a:off x="4114440" y="4038480"/>
              <a:ext cx="2860200" cy="990360"/>
              <a:chOff x="4114440" y="4038480"/>
              <a:chExt cx="2860200" cy="990360"/>
            </a:xfrm>
          </p:grpSpPr>
          <p:sp>
            <p:nvSpPr>
              <p:cNvPr id="199" name="AutoShape 16"/>
              <p:cNvSpPr/>
              <p:nvPr/>
            </p:nvSpPr>
            <p:spPr>
              <a:xfrm>
                <a:off x="567792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Text Box 17"/>
              <p:cNvSpPr/>
              <p:nvPr/>
            </p:nvSpPr>
            <p:spPr>
              <a:xfrm>
                <a:off x="58690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8"/>
              <p:cNvSpPr/>
              <p:nvPr/>
            </p:nvSpPr>
            <p:spPr>
              <a:xfrm>
                <a:off x="4114440" y="4038480"/>
                <a:ext cx="1296720" cy="990360"/>
              </a:xfrm>
              <a:prstGeom prst="hexagon">
                <a:avLst>
                  <a:gd name="adj" fmla="val 32734"/>
                  <a:gd name="vf" fmla="val 115470"/>
                </a:avLst>
              </a:prstGeom>
              <a:solidFill>
                <a:srgbClr val="cc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Text Box 19"/>
              <p:cNvSpPr/>
              <p:nvPr/>
            </p:nvSpPr>
            <p:spPr>
              <a:xfrm>
                <a:off x="4268880" y="4343040"/>
                <a:ext cx="94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Arial"/>
                  </a:rPr>
                  <a:t>glucos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5411160" y="4533840"/>
                <a:ext cx="266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4" name="AutoShape 21"/>
            <p:cNvSpPr/>
            <p:nvPr/>
          </p:nvSpPr>
          <p:spPr>
            <a:xfrm>
              <a:off x="647676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2"/>
            <p:cNvSpPr/>
            <p:nvPr/>
          </p:nvSpPr>
          <p:spPr>
            <a:xfrm>
              <a:off x="666792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23"/>
            <p:cNvSpPr/>
            <p:nvPr/>
          </p:nvSpPr>
          <p:spPr>
            <a:xfrm>
              <a:off x="4912920" y="5257440"/>
              <a:ext cx="1296720" cy="990720"/>
            </a:xfrm>
            <a:prstGeom prst="hexagon">
              <a:avLst>
                <a:gd name="adj" fmla="val 32722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5031360" y="556236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6210000" y="5752800"/>
              <a:ext cx="26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Line 26"/>
            <p:cNvSpPr/>
            <p:nvPr/>
          </p:nvSpPr>
          <p:spPr>
            <a:xfrm>
              <a:off x="3581280" y="4571640"/>
              <a:ext cx="532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>
              <a:off x="4495680" y="579096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28"/>
            <p:cNvSpPr/>
            <p:nvPr/>
          </p:nvSpPr>
          <p:spPr>
            <a:xfrm flipV="1">
              <a:off x="2590560" y="5028480"/>
              <a:ext cx="7596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29"/>
            <p:cNvSpPr/>
            <p:nvPr/>
          </p:nvSpPr>
          <p:spPr>
            <a:xfrm flipV="1">
              <a:off x="5867280" y="5028480"/>
              <a:ext cx="151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7147440" y="4535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cellulo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Lip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erm for compounds which are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t soluble in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pid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re soluble in hydrophobic solv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Remember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“stores the most energy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Fa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Phospho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  Oil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Wax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5.  Steroid hormon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6.  Triglycer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ix functions of lipid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ng term 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heat loss (insulati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physical shoc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otection against water los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hemical messengers (hormone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6.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ajor component of membrane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phospholipi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Triglycerides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mposed of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1 glycer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762120" y="2895480"/>
            <a:ext cx="1447560" cy="3547440"/>
            <a:chOff x="762120" y="2895480"/>
            <a:chExt cx="1447560" cy="3547440"/>
          </a:xfrm>
        </p:grpSpPr>
        <p:grpSp>
          <p:nvGrpSpPr>
            <p:cNvPr id="226" name="Group 5"/>
            <p:cNvGrpSpPr/>
            <p:nvPr/>
          </p:nvGrpSpPr>
          <p:grpSpPr>
            <a:xfrm>
              <a:off x="762120" y="2895480"/>
              <a:ext cx="1447560" cy="3048120"/>
              <a:chOff x="762120" y="2895480"/>
              <a:chExt cx="1447560" cy="3048120"/>
            </a:xfrm>
          </p:grpSpPr>
          <p:sp>
            <p:nvSpPr>
              <p:cNvPr id="227" name="Rectangle 6"/>
              <p:cNvSpPr/>
              <p:nvPr/>
            </p:nvSpPr>
            <p:spPr>
              <a:xfrm>
                <a:off x="762120" y="2895480"/>
                <a:ext cx="1447560" cy="3048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Text Box 7"/>
              <p:cNvSpPr/>
              <p:nvPr/>
            </p:nvSpPr>
            <p:spPr>
              <a:xfrm>
                <a:off x="988560" y="2971800"/>
                <a:ext cx="1174320" cy="27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-C----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8"/>
              <p:cNvSpPr/>
              <p:nvPr/>
            </p:nvSpPr>
            <p:spPr>
              <a:xfrm>
                <a:off x="1447920" y="32767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Line 9"/>
              <p:cNvSpPr/>
              <p:nvPr/>
            </p:nvSpPr>
            <p:spPr>
              <a:xfrm flipV="1">
                <a:off x="1447920" y="3733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Line 10"/>
              <p:cNvSpPr/>
              <p:nvPr/>
            </p:nvSpPr>
            <p:spPr>
              <a:xfrm>
                <a:off x="1447920" y="4495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Line 11"/>
              <p:cNvSpPr/>
              <p:nvPr/>
            </p:nvSpPr>
            <p:spPr>
              <a:xfrm>
                <a:off x="1447920" y="5181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" name="Text Box 12"/>
            <p:cNvSpPr/>
            <p:nvPr/>
          </p:nvSpPr>
          <p:spPr>
            <a:xfrm>
              <a:off x="823680" y="59832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glycero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057400" y="3809880"/>
            <a:ext cx="5901840" cy="1261440"/>
            <a:chOff x="2057400" y="3809880"/>
            <a:chExt cx="5901840" cy="1261440"/>
          </a:xfrm>
        </p:grpSpPr>
        <p:grpSp>
          <p:nvGrpSpPr>
            <p:cNvPr id="235" name="Group 14"/>
            <p:cNvGrpSpPr/>
            <p:nvPr/>
          </p:nvGrpSpPr>
          <p:grpSpPr>
            <a:xfrm>
              <a:off x="2057400" y="3809880"/>
              <a:ext cx="5901840" cy="816840"/>
              <a:chOff x="2057400" y="3809880"/>
              <a:chExt cx="5901840" cy="816840"/>
            </a:xfrm>
          </p:grpSpPr>
          <p:sp>
            <p:nvSpPr>
              <p:cNvPr id="236" name="Text Box 15"/>
              <p:cNvSpPr/>
              <p:nvPr/>
            </p:nvSpPr>
            <p:spPr>
              <a:xfrm>
                <a:off x="2273400" y="380988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Text Box 16"/>
              <p:cNvSpPr/>
              <p:nvPr/>
            </p:nvSpPr>
            <p:spPr>
              <a:xfrm rot="5320800">
                <a:off x="2257200" y="39135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057400" y="434340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" name="Text Box 18"/>
            <p:cNvSpPr/>
            <p:nvPr/>
          </p:nvSpPr>
          <p:spPr>
            <a:xfrm>
              <a:off x="5319360" y="46116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fatty aci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19"/>
          <p:cNvGrpSpPr/>
          <p:nvPr/>
        </p:nvGrpSpPr>
        <p:grpSpPr>
          <a:xfrm>
            <a:off x="2057040" y="3048120"/>
            <a:ext cx="5902200" cy="816840"/>
            <a:chOff x="2057040" y="3048120"/>
            <a:chExt cx="5902200" cy="816840"/>
          </a:xfrm>
        </p:grpSpPr>
        <p:sp>
          <p:nvSpPr>
            <p:cNvPr id="241" name="Text Box 20"/>
            <p:cNvSpPr/>
            <p:nvPr/>
          </p:nvSpPr>
          <p:spPr>
            <a:xfrm>
              <a:off x="2273400" y="3048120"/>
              <a:ext cx="568584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Text Box 21"/>
            <p:cNvSpPr/>
            <p:nvPr/>
          </p:nvSpPr>
          <p:spPr>
            <a:xfrm rot="5320800">
              <a:off x="2257200" y="315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H="1">
              <a:off x="2057040" y="365760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Group 23"/>
          <p:cNvGrpSpPr/>
          <p:nvPr/>
        </p:nvGrpSpPr>
        <p:grpSpPr>
          <a:xfrm>
            <a:off x="2057040" y="4572000"/>
            <a:ext cx="5805360" cy="2170080"/>
            <a:chOff x="2057040" y="4572000"/>
            <a:chExt cx="5805360" cy="2170080"/>
          </a:xfrm>
        </p:grpSpPr>
        <p:sp>
          <p:nvSpPr>
            <p:cNvPr id="245" name="Text Box 24"/>
            <p:cNvSpPr/>
            <p:nvPr/>
          </p:nvSpPr>
          <p:spPr>
            <a:xfrm>
              <a:off x="2229120" y="4572000"/>
              <a:ext cx="2415600" cy="8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C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25"/>
            <p:cNvSpPr/>
            <p:nvPr/>
          </p:nvSpPr>
          <p:spPr>
            <a:xfrm rot="1383600">
              <a:off x="4411800" y="5636880"/>
              <a:ext cx="350496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=CH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-CH</a:t>
              </a:r>
              <a:r>
                <a:rPr b="1" lang="en-US" sz="1900" spc="-1" strike="noStrike" baseline="-25000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 rot="5320800">
              <a:off x="2257200" y="469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H="1">
              <a:off x="2057040" y="510552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9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two kinds of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fatty aci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may see these on food label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Saturated fatty acids: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 no double bonds (ba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538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Unsaturated fatty acids: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double bonds (good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688320" y="3200400"/>
            <a:ext cx="7423200" cy="840600"/>
            <a:chOff x="688320" y="3200400"/>
            <a:chExt cx="7423200" cy="840600"/>
          </a:xfrm>
        </p:grpSpPr>
        <p:grpSp>
          <p:nvGrpSpPr>
            <p:cNvPr id="253" name="Group 5"/>
            <p:cNvGrpSpPr/>
            <p:nvPr/>
          </p:nvGrpSpPr>
          <p:grpSpPr>
            <a:xfrm>
              <a:off x="2210040" y="3200400"/>
              <a:ext cx="5901480" cy="816840"/>
              <a:chOff x="2210040" y="3200400"/>
              <a:chExt cx="5901480" cy="816840"/>
            </a:xfrm>
          </p:grpSpPr>
          <p:sp>
            <p:nvSpPr>
              <p:cNvPr id="254" name="Text Box 6"/>
              <p:cNvSpPr/>
              <p:nvPr/>
            </p:nvSpPr>
            <p:spPr>
              <a:xfrm>
                <a:off x="2425680" y="3200400"/>
                <a:ext cx="568584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Text Box 7"/>
              <p:cNvSpPr/>
              <p:nvPr/>
            </p:nvSpPr>
            <p:spPr>
              <a:xfrm rot="5320800">
                <a:off x="2408760" y="33037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Line 8"/>
              <p:cNvSpPr/>
              <p:nvPr/>
            </p:nvSpPr>
            <p:spPr>
              <a:xfrm flipH="1">
                <a:off x="2210040" y="3809880"/>
                <a:ext cx="22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" name="Text Box 9"/>
            <p:cNvSpPr/>
            <p:nvPr/>
          </p:nvSpPr>
          <p:spPr>
            <a:xfrm>
              <a:off x="688320" y="358128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992880" y="4724280"/>
            <a:ext cx="7477200" cy="2082960"/>
            <a:chOff x="992880" y="4724280"/>
            <a:chExt cx="7477200" cy="2082960"/>
          </a:xfrm>
        </p:grpSpPr>
        <p:grpSp>
          <p:nvGrpSpPr>
            <p:cNvPr id="259" name="Group 11"/>
            <p:cNvGrpSpPr/>
            <p:nvPr/>
          </p:nvGrpSpPr>
          <p:grpSpPr>
            <a:xfrm>
              <a:off x="2839320" y="4724280"/>
              <a:ext cx="5630760" cy="2082960"/>
              <a:chOff x="2839320" y="4724280"/>
              <a:chExt cx="5630760" cy="2082960"/>
            </a:xfrm>
          </p:grpSpPr>
          <p:sp>
            <p:nvSpPr>
              <p:cNvPr id="260" name="Text Box 12"/>
              <p:cNvSpPr/>
              <p:nvPr/>
            </p:nvSpPr>
            <p:spPr>
              <a:xfrm>
                <a:off x="3006000" y="4724280"/>
                <a:ext cx="2415600" cy="81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C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13"/>
              <p:cNvSpPr/>
              <p:nvPr/>
            </p:nvSpPr>
            <p:spPr>
              <a:xfrm rot="1383600">
                <a:off x="5118840" y="5722560"/>
                <a:ext cx="34016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=CH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Arial"/>
                  </a:rPr>
                  <a:t>-CH</a:t>
                </a:r>
                <a:r>
                  <a:rPr b="1" lang="en-US" sz="1900" spc="-1" strike="noStrike" baseline="-25000">
                    <a:solidFill>
                      <a:srgbClr val="006600"/>
                    </a:solidFill>
                    <a:latin typeface="Arial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Text Box 14"/>
              <p:cNvSpPr/>
              <p:nvPr/>
            </p:nvSpPr>
            <p:spPr>
              <a:xfrm rot="5320800">
                <a:off x="3020760" y="48340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Line 15"/>
              <p:cNvSpPr/>
              <p:nvPr/>
            </p:nvSpPr>
            <p:spPr>
              <a:xfrm flipH="1">
                <a:off x="2839320" y="5224320"/>
                <a:ext cx="221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4" name="Text Box 16"/>
            <p:cNvSpPr/>
            <p:nvPr/>
          </p:nvSpPr>
          <p:spPr>
            <a:xfrm>
              <a:off x="992880" y="5010120"/>
              <a:ext cx="192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unsaturate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Protein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Organic Compound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ompoun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contain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called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acro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larg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organic molecu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mino acids (20 different kinds of aa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ptide bo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peptid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ix functions of protein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Storage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albumin (egg white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ransport: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emoglob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Regulatory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ovement: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Structural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membranes, hair, nai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Enzymes: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6f10d"/>
                </a:solidFill>
                <a:latin typeface="Comic Sans MS"/>
              </a:rPr>
              <a:t>cellular reac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Proteins (Polypeptides)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Four levels of protein structur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econd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Terti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D.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Quaternary Structur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mino acids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gether by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peptide bonds (straight chain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838080" y="3048120"/>
            <a:ext cx="6997680" cy="2359440"/>
            <a:chOff x="838080" y="3048120"/>
            <a:chExt cx="6997680" cy="2359440"/>
          </a:xfrm>
        </p:grpSpPr>
        <p:sp>
          <p:nvSpPr>
            <p:cNvPr id="277" name="Oval 5"/>
            <p:cNvSpPr/>
            <p:nvPr/>
          </p:nvSpPr>
          <p:spPr>
            <a:xfrm>
              <a:off x="8380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20574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3276360" y="3836880"/>
              <a:ext cx="74952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45720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86728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7086600" y="3836880"/>
              <a:ext cx="749160" cy="673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8881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21070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332640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46216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591732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7136280" y="3962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a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838240" y="421164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16192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4057560" y="421164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5352840" y="4211640"/>
              <a:ext cx="482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6648480" y="4211640"/>
              <a:ext cx="40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Rectangle 22"/>
            <p:cNvSpPr/>
            <p:nvPr/>
          </p:nvSpPr>
          <p:spPr>
            <a:xfrm>
              <a:off x="1268280" y="4952880"/>
              <a:ext cx="231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Peptide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1784160" y="4383000"/>
              <a:ext cx="115920" cy="515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3" h="325">
                  <a:moveTo>
                    <a:pt x="72" y="324"/>
                  </a:moveTo>
                  <a:lnTo>
                    <a:pt x="60" y="288"/>
                  </a:lnTo>
                  <a:lnTo>
                    <a:pt x="48" y="252"/>
                  </a:lnTo>
                  <a:lnTo>
                    <a:pt x="36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0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Freeform 24"/>
            <p:cNvSpPr/>
            <p:nvPr/>
          </p:nvSpPr>
          <p:spPr>
            <a:xfrm>
              <a:off x="2889000" y="4516560"/>
              <a:ext cx="115920" cy="45864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3" h="289">
                  <a:moveTo>
                    <a:pt x="0" y="288"/>
                  </a:moveTo>
                  <a:lnTo>
                    <a:pt x="24" y="252"/>
                  </a:lnTo>
                  <a:lnTo>
                    <a:pt x="36" y="216"/>
                  </a:lnTo>
                  <a:lnTo>
                    <a:pt x="48" y="180"/>
                  </a:lnTo>
                  <a:lnTo>
                    <a:pt x="60" y="144"/>
                  </a:lnTo>
                  <a:lnTo>
                    <a:pt x="60" y="108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Rectangle 25"/>
            <p:cNvSpPr/>
            <p:nvPr/>
          </p:nvSpPr>
          <p:spPr>
            <a:xfrm>
              <a:off x="1877040" y="3048120"/>
              <a:ext cx="267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mino Acids (aa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Line 26"/>
            <p:cNvSpPr/>
            <p:nvPr/>
          </p:nvSpPr>
          <p:spPr>
            <a:xfrm flipV="1">
              <a:off x="1466640" y="3424320"/>
              <a:ext cx="40644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>
              <a:off x="4468680" y="3429000"/>
              <a:ext cx="30492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0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-dimensional folding arrangement of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rimary structu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oi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plea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eld together by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ydrogen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-360" y="3657600"/>
            <a:ext cx="3505680" cy="2666880"/>
            <a:chOff x="-360" y="3657600"/>
            <a:chExt cx="3505680" cy="2666880"/>
          </a:xfrm>
        </p:grpSpPr>
        <p:sp>
          <p:nvSpPr>
            <p:cNvPr id="304" name="Rectangle 5"/>
            <p:cNvSpPr/>
            <p:nvPr/>
          </p:nvSpPr>
          <p:spPr>
            <a:xfrm>
              <a:off x="-360" y="449568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1676520" y="3657600"/>
              <a:ext cx="1828800" cy="26668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1128" h="1912">
                  <a:moveTo>
                    <a:pt x="952" y="40"/>
                  </a:moveTo>
                  <a:cubicBezTo>
                    <a:pt x="704" y="20"/>
                    <a:pt x="456" y="0"/>
                    <a:pt x="328" y="40"/>
                  </a:cubicBezTo>
                  <a:cubicBezTo>
                    <a:pt x="200" y="80"/>
                    <a:pt x="88" y="208"/>
                    <a:pt x="184" y="280"/>
                  </a:cubicBezTo>
                  <a:cubicBezTo>
                    <a:pt x="280" y="352"/>
                    <a:pt x="776" y="472"/>
                    <a:pt x="904" y="472"/>
                  </a:cubicBezTo>
                  <a:cubicBezTo>
                    <a:pt x="1032" y="472"/>
                    <a:pt x="1072" y="272"/>
                    <a:pt x="952" y="280"/>
                  </a:cubicBezTo>
                  <a:cubicBezTo>
                    <a:pt x="832" y="288"/>
                    <a:pt x="312" y="448"/>
                    <a:pt x="184" y="520"/>
                  </a:cubicBezTo>
                  <a:cubicBezTo>
                    <a:pt x="56" y="592"/>
                    <a:pt x="64" y="648"/>
                    <a:pt x="184" y="712"/>
                  </a:cubicBezTo>
                  <a:cubicBezTo>
                    <a:pt x="304" y="776"/>
                    <a:pt x="776" y="904"/>
                    <a:pt x="904" y="904"/>
                  </a:cubicBezTo>
                  <a:cubicBezTo>
                    <a:pt x="1032" y="904"/>
                    <a:pt x="1072" y="704"/>
                    <a:pt x="952" y="712"/>
                  </a:cubicBezTo>
                  <a:cubicBezTo>
                    <a:pt x="832" y="720"/>
                    <a:pt x="312" y="872"/>
                    <a:pt x="184" y="952"/>
                  </a:cubicBezTo>
                  <a:cubicBezTo>
                    <a:pt x="56" y="1032"/>
                    <a:pt x="56" y="1128"/>
                    <a:pt x="184" y="1192"/>
                  </a:cubicBezTo>
                  <a:cubicBezTo>
                    <a:pt x="312" y="1256"/>
                    <a:pt x="816" y="1352"/>
                    <a:pt x="952" y="1336"/>
                  </a:cubicBezTo>
                  <a:cubicBezTo>
                    <a:pt x="1088" y="1320"/>
                    <a:pt x="1128" y="1080"/>
                    <a:pt x="1000" y="1096"/>
                  </a:cubicBezTo>
                  <a:cubicBezTo>
                    <a:pt x="872" y="1112"/>
                    <a:pt x="328" y="1328"/>
                    <a:pt x="184" y="1432"/>
                  </a:cubicBezTo>
                  <a:cubicBezTo>
                    <a:pt x="40" y="1536"/>
                    <a:pt x="0" y="1672"/>
                    <a:pt x="136" y="1720"/>
                  </a:cubicBezTo>
                  <a:cubicBezTo>
                    <a:pt x="272" y="1768"/>
                    <a:pt x="872" y="1752"/>
                    <a:pt x="1000" y="1720"/>
                  </a:cubicBezTo>
                  <a:cubicBezTo>
                    <a:pt x="1128" y="1688"/>
                    <a:pt x="1056" y="1496"/>
                    <a:pt x="904" y="1528"/>
                  </a:cubicBezTo>
                  <a:cubicBezTo>
                    <a:pt x="752" y="1560"/>
                    <a:pt x="420" y="1736"/>
                    <a:pt x="88" y="19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 flipV="1">
              <a:off x="3352680" y="54864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3352680" y="4800600"/>
              <a:ext cx="0" cy="38088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3352680" y="4191120"/>
              <a:ext cx="0" cy="5331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9" name="Group 10"/>
          <p:cNvGrpSpPr/>
          <p:nvPr/>
        </p:nvGrpSpPr>
        <p:grpSpPr>
          <a:xfrm>
            <a:off x="4343400" y="3657600"/>
            <a:ext cx="4448880" cy="2054880"/>
            <a:chOff x="4343400" y="3657600"/>
            <a:chExt cx="4448880" cy="2054880"/>
          </a:xfrm>
        </p:grpSpPr>
        <p:sp>
          <p:nvSpPr>
            <p:cNvPr id="310" name="Rectangle 11"/>
            <p:cNvSpPr/>
            <p:nvPr/>
          </p:nvSpPr>
          <p:spPr>
            <a:xfrm>
              <a:off x="5867640" y="52578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Freeform 12"/>
            <p:cNvSpPr/>
            <p:nvPr/>
          </p:nvSpPr>
          <p:spPr>
            <a:xfrm>
              <a:off x="4343400" y="365760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13"/>
            <p:cNvSpPr/>
            <p:nvPr/>
          </p:nvSpPr>
          <p:spPr>
            <a:xfrm>
              <a:off x="4343400" y="4419720"/>
              <a:ext cx="3886200" cy="685800"/>
            </a:xfrm>
            <a:custGeom>
              <a:avLst/>
              <a:gdLst>
                <a:gd name="textAreaLeft" fmla="*/ 0 w 3886200"/>
                <a:gd name="textAreaRight" fmla="*/ 3886560 w 3886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448" h="432">
                  <a:moveTo>
                    <a:pt x="0" y="432"/>
                  </a:moveTo>
                  <a:cubicBezTo>
                    <a:pt x="24" y="408"/>
                    <a:pt x="44" y="379"/>
                    <a:pt x="72" y="360"/>
                  </a:cubicBezTo>
                  <a:cubicBezTo>
                    <a:pt x="84" y="352"/>
                    <a:pt x="97" y="346"/>
                    <a:pt x="108" y="336"/>
                  </a:cubicBezTo>
                  <a:cubicBezTo>
                    <a:pt x="231" y="226"/>
                    <a:pt x="134" y="294"/>
                    <a:pt x="216" y="240"/>
                  </a:cubicBezTo>
                  <a:cubicBezTo>
                    <a:pt x="280" y="144"/>
                    <a:pt x="196" y="260"/>
                    <a:pt x="276" y="180"/>
                  </a:cubicBezTo>
                  <a:cubicBezTo>
                    <a:pt x="286" y="170"/>
                    <a:pt x="290" y="154"/>
                    <a:pt x="300" y="144"/>
                  </a:cubicBezTo>
                  <a:cubicBezTo>
                    <a:pt x="310" y="134"/>
                    <a:pt x="325" y="129"/>
                    <a:pt x="336" y="120"/>
                  </a:cubicBezTo>
                  <a:cubicBezTo>
                    <a:pt x="349" y="109"/>
                    <a:pt x="361" y="97"/>
                    <a:pt x="372" y="84"/>
                  </a:cubicBezTo>
                  <a:cubicBezTo>
                    <a:pt x="381" y="73"/>
                    <a:pt x="396" y="48"/>
                    <a:pt x="396" y="48"/>
                  </a:cubicBezTo>
                  <a:lnTo>
                    <a:pt x="864" y="432"/>
                  </a:lnTo>
                  <a:lnTo>
                    <a:pt x="1248" y="48"/>
                  </a:lnTo>
                  <a:lnTo>
                    <a:pt x="1680" y="432"/>
                  </a:lnTo>
                  <a:lnTo>
                    <a:pt x="2016" y="0"/>
                  </a:lnTo>
                  <a:lnTo>
                    <a:pt x="2448" y="432"/>
                  </a:lnTo>
                </a:path>
              </a:pathLst>
            </a:custGeom>
            <a:noFill/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43434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4952880" y="380988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>
              <a:off x="57150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>
              <a:off x="6324480" y="3733920"/>
              <a:ext cx="0" cy="76176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701028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7543800" y="36576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8229600" y="4343400"/>
              <a:ext cx="0" cy="76212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0" name="Group 21"/>
          <p:cNvGrpSpPr/>
          <p:nvPr/>
        </p:nvGrpSpPr>
        <p:grpSpPr>
          <a:xfrm>
            <a:off x="3505320" y="4648320"/>
            <a:ext cx="3548520" cy="1749960"/>
            <a:chOff x="3505320" y="4648320"/>
            <a:chExt cx="3548520" cy="1749960"/>
          </a:xfrm>
        </p:grpSpPr>
        <p:sp>
          <p:nvSpPr>
            <p:cNvPr id="321" name="Rectangle 22"/>
            <p:cNvSpPr/>
            <p:nvPr/>
          </p:nvSpPr>
          <p:spPr>
            <a:xfrm>
              <a:off x="4420440" y="5943600"/>
              <a:ext cx="2633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ydrogen Bond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 flipH="1" flipV="1">
              <a:off x="3505320" y="5638320"/>
              <a:ext cx="838080" cy="38124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 flipV="1">
              <a:off x="4724280" y="4648320"/>
              <a:ext cx="914400" cy="12952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erti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econdary structur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to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more complex 3-D arrangem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linked polypeptid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Bonds:  H-bonds, ionic, disulfide bridges (S-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a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subunit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7" name="Freeform 4"/>
          <p:cNvSpPr/>
          <p:nvPr/>
        </p:nvSpPr>
        <p:spPr>
          <a:xfrm>
            <a:off x="3809880" y="3124080"/>
            <a:ext cx="5031000" cy="3468960"/>
          </a:xfrm>
          <a:custGeom>
            <a:avLst/>
            <a:gdLst>
              <a:gd name="textAreaLeft" fmla="*/ 0 w 5031000"/>
              <a:gd name="textAreaRight" fmla="*/ 5031360 w 5031000"/>
              <a:gd name="textAreaTop" fmla="*/ 0 h 3468960"/>
              <a:gd name="textAreaBottom" fmla="*/ 3469320 h 3468960"/>
            </a:gdLst>
            <a:ahLst/>
            <a:rect l="textAreaLeft" t="textAreaTop" r="textAreaRight" b="textAreaBottom"/>
            <a:pathLst>
              <a:path w="3169" h="2185">
                <a:moveTo>
                  <a:pt x="1908" y="0"/>
                </a:moveTo>
                <a:lnTo>
                  <a:pt x="1872" y="24"/>
                </a:lnTo>
                <a:lnTo>
                  <a:pt x="1824" y="24"/>
                </a:lnTo>
                <a:lnTo>
                  <a:pt x="1752" y="12"/>
                </a:lnTo>
                <a:lnTo>
                  <a:pt x="1680" y="12"/>
                </a:lnTo>
                <a:lnTo>
                  <a:pt x="1644" y="12"/>
                </a:lnTo>
                <a:lnTo>
                  <a:pt x="1608" y="0"/>
                </a:lnTo>
                <a:lnTo>
                  <a:pt x="1572" y="0"/>
                </a:lnTo>
                <a:lnTo>
                  <a:pt x="1536" y="0"/>
                </a:lnTo>
                <a:lnTo>
                  <a:pt x="1500" y="0"/>
                </a:lnTo>
                <a:lnTo>
                  <a:pt x="1404" y="0"/>
                </a:lnTo>
                <a:lnTo>
                  <a:pt x="1332" y="0"/>
                </a:lnTo>
                <a:lnTo>
                  <a:pt x="1260" y="0"/>
                </a:lnTo>
                <a:lnTo>
                  <a:pt x="1188" y="12"/>
                </a:lnTo>
                <a:lnTo>
                  <a:pt x="1116" y="12"/>
                </a:lnTo>
                <a:lnTo>
                  <a:pt x="1044" y="12"/>
                </a:lnTo>
                <a:lnTo>
                  <a:pt x="972" y="12"/>
                </a:lnTo>
                <a:lnTo>
                  <a:pt x="900" y="12"/>
                </a:lnTo>
                <a:lnTo>
                  <a:pt x="828" y="24"/>
                </a:lnTo>
                <a:lnTo>
                  <a:pt x="756" y="24"/>
                </a:lnTo>
                <a:lnTo>
                  <a:pt x="684" y="24"/>
                </a:lnTo>
                <a:lnTo>
                  <a:pt x="588" y="24"/>
                </a:lnTo>
                <a:lnTo>
                  <a:pt x="516" y="36"/>
                </a:lnTo>
                <a:lnTo>
                  <a:pt x="396" y="48"/>
                </a:lnTo>
                <a:lnTo>
                  <a:pt x="324" y="60"/>
                </a:lnTo>
                <a:lnTo>
                  <a:pt x="228" y="84"/>
                </a:lnTo>
                <a:lnTo>
                  <a:pt x="180" y="96"/>
                </a:lnTo>
                <a:lnTo>
                  <a:pt x="132" y="132"/>
                </a:lnTo>
                <a:lnTo>
                  <a:pt x="84" y="180"/>
                </a:lnTo>
                <a:lnTo>
                  <a:pt x="48" y="216"/>
                </a:lnTo>
                <a:lnTo>
                  <a:pt x="36" y="252"/>
                </a:lnTo>
                <a:lnTo>
                  <a:pt x="24" y="288"/>
                </a:lnTo>
                <a:lnTo>
                  <a:pt x="12" y="336"/>
                </a:lnTo>
                <a:lnTo>
                  <a:pt x="0" y="408"/>
                </a:lnTo>
                <a:lnTo>
                  <a:pt x="0" y="456"/>
                </a:lnTo>
                <a:lnTo>
                  <a:pt x="0" y="492"/>
                </a:lnTo>
                <a:lnTo>
                  <a:pt x="0" y="528"/>
                </a:lnTo>
                <a:lnTo>
                  <a:pt x="0" y="564"/>
                </a:lnTo>
                <a:lnTo>
                  <a:pt x="0" y="636"/>
                </a:lnTo>
                <a:lnTo>
                  <a:pt x="0" y="708"/>
                </a:lnTo>
                <a:lnTo>
                  <a:pt x="0" y="804"/>
                </a:lnTo>
                <a:lnTo>
                  <a:pt x="0" y="876"/>
                </a:lnTo>
                <a:lnTo>
                  <a:pt x="0" y="948"/>
                </a:lnTo>
                <a:lnTo>
                  <a:pt x="0" y="984"/>
                </a:lnTo>
                <a:lnTo>
                  <a:pt x="0" y="1032"/>
                </a:lnTo>
                <a:lnTo>
                  <a:pt x="0" y="1080"/>
                </a:lnTo>
                <a:lnTo>
                  <a:pt x="0" y="1128"/>
                </a:lnTo>
                <a:lnTo>
                  <a:pt x="0" y="1224"/>
                </a:lnTo>
                <a:lnTo>
                  <a:pt x="0" y="1320"/>
                </a:lnTo>
                <a:lnTo>
                  <a:pt x="12" y="1356"/>
                </a:lnTo>
                <a:lnTo>
                  <a:pt x="24" y="1404"/>
                </a:lnTo>
                <a:lnTo>
                  <a:pt x="48" y="1452"/>
                </a:lnTo>
                <a:lnTo>
                  <a:pt x="60" y="1488"/>
                </a:lnTo>
                <a:lnTo>
                  <a:pt x="96" y="1512"/>
                </a:lnTo>
                <a:lnTo>
                  <a:pt x="108" y="1584"/>
                </a:lnTo>
                <a:lnTo>
                  <a:pt x="132" y="1656"/>
                </a:lnTo>
                <a:lnTo>
                  <a:pt x="204" y="1752"/>
                </a:lnTo>
                <a:lnTo>
                  <a:pt x="240" y="1800"/>
                </a:lnTo>
                <a:lnTo>
                  <a:pt x="276" y="1848"/>
                </a:lnTo>
                <a:lnTo>
                  <a:pt x="312" y="1872"/>
                </a:lnTo>
                <a:lnTo>
                  <a:pt x="360" y="1920"/>
                </a:lnTo>
                <a:lnTo>
                  <a:pt x="432" y="1944"/>
                </a:lnTo>
                <a:lnTo>
                  <a:pt x="504" y="1956"/>
                </a:lnTo>
                <a:lnTo>
                  <a:pt x="624" y="1992"/>
                </a:lnTo>
                <a:lnTo>
                  <a:pt x="696" y="2016"/>
                </a:lnTo>
                <a:lnTo>
                  <a:pt x="768" y="2016"/>
                </a:lnTo>
                <a:lnTo>
                  <a:pt x="864" y="2028"/>
                </a:lnTo>
                <a:lnTo>
                  <a:pt x="936" y="2028"/>
                </a:lnTo>
                <a:lnTo>
                  <a:pt x="1008" y="2028"/>
                </a:lnTo>
                <a:lnTo>
                  <a:pt x="1104" y="2040"/>
                </a:lnTo>
                <a:lnTo>
                  <a:pt x="1176" y="2040"/>
                </a:lnTo>
                <a:lnTo>
                  <a:pt x="1248" y="2040"/>
                </a:lnTo>
                <a:lnTo>
                  <a:pt x="1368" y="2064"/>
                </a:lnTo>
                <a:lnTo>
                  <a:pt x="1464" y="2076"/>
                </a:lnTo>
                <a:lnTo>
                  <a:pt x="1560" y="2088"/>
                </a:lnTo>
                <a:lnTo>
                  <a:pt x="1656" y="2112"/>
                </a:lnTo>
                <a:lnTo>
                  <a:pt x="1728" y="2136"/>
                </a:lnTo>
                <a:lnTo>
                  <a:pt x="1800" y="2148"/>
                </a:lnTo>
                <a:lnTo>
                  <a:pt x="1848" y="2160"/>
                </a:lnTo>
                <a:lnTo>
                  <a:pt x="1920" y="2172"/>
                </a:lnTo>
                <a:lnTo>
                  <a:pt x="1992" y="2172"/>
                </a:lnTo>
                <a:lnTo>
                  <a:pt x="2088" y="2184"/>
                </a:lnTo>
                <a:lnTo>
                  <a:pt x="2184" y="2184"/>
                </a:lnTo>
                <a:lnTo>
                  <a:pt x="2328" y="2184"/>
                </a:lnTo>
                <a:lnTo>
                  <a:pt x="2472" y="2172"/>
                </a:lnTo>
                <a:lnTo>
                  <a:pt x="2592" y="2160"/>
                </a:lnTo>
                <a:lnTo>
                  <a:pt x="2688" y="2148"/>
                </a:lnTo>
                <a:lnTo>
                  <a:pt x="2724" y="2136"/>
                </a:lnTo>
                <a:lnTo>
                  <a:pt x="2820" y="2112"/>
                </a:lnTo>
                <a:lnTo>
                  <a:pt x="2916" y="2040"/>
                </a:lnTo>
                <a:lnTo>
                  <a:pt x="2988" y="2016"/>
                </a:lnTo>
                <a:lnTo>
                  <a:pt x="3060" y="1944"/>
                </a:lnTo>
                <a:lnTo>
                  <a:pt x="3132" y="1848"/>
                </a:lnTo>
                <a:lnTo>
                  <a:pt x="3144" y="1728"/>
                </a:lnTo>
                <a:lnTo>
                  <a:pt x="3156" y="1656"/>
                </a:lnTo>
                <a:lnTo>
                  <a:pt x="3168" y="1560"/>
                </a:lnTo>
                <a:lnTo>
                  <a:pt x="3168" y="1464"/>
                </a:lnTo>
                <a:lnTo>
                  <a:pt x="3168" y="1392"/>
                </a:lnTo>
                <a:lnTo>
                  <a:pt x="3168" y="1272"/>
                </a:lnTo>
                <a:lnTo>
                  <a:pt x="3156" y="1176"/>
                </a:lnTo>
                <a:lnTo>
                  <a:pt x="3156" y="1080"/>
                </a:lnTo>
                <a:lnTo>
                  <a:pt x="3144" y="984"/>
                </a:lnTo>
                <a:lnTo>
                  <a:pt x="3120" y="864"/>
                </a:lnTo>
                <a:lnTo>
                  <a:pt x="3096" y="768"/>
                </a:lnTo>
                <a:lnTo>
                  <a:pt x="3072" y="696"/>
                </a:lnTo>
                <a:lnTo>
                  <a:pt x="3048" y="624"/>
                </a:lnTo>
                <a:lnTo>
                  <a:pt x="2976" y="528"/>
                </a:lnTo>
                <a:lnTo>
                  <a:pt x="2904" y="456"/>
                </a:lnTo>
                <a:lnTo>
                  <a:pt x="2832" y="384"/>
                </a:lnTo>
                <a:lnTo>
                  <a:pt x="2808" y="288"/>
                </a:lnTo>
                <a:lnTo>
                  <a:pt x="2760" y="240"/>
                </a:lnTo>
                <a:lnTo>
                  <a:pt x="2664" y="204"/>
                </a:lnTo>
                <a:lnTo>
                  <a:pt x="2628" y="168"/>
                </a:lnTo>
                <a:lnTo>
                  <a:pt x="2580" y="144"/>
                </a:lnTo>
                <a:lnTo>
                  <a:pt x="2484" y="108"/>
                </a:lnTo>
                <a:lnTo>
                  <a:pt x="2412" y="96"/>
                </a:lnTo>
                <a:lnTo>
                  <a:pt x="2292" y="60"/>
                </a:lnTo>
                <a:lnTo>
                  <a:pt x="2196" y="48"/>
                </a:lnTo>
                <a:lnTo>
                  <a:pt x="2148" y="36"/>
                </a:lnTo>
                <a:lnTo>
                  <a:pt x="2112" y="24"/>
                </a:lnTo>
                <a:lnTo>
                  <a:pt x="2076" y="24"/>
                </a:lnTo>
                <a:lnTo>
                  <a:pt x="2040" y="12"/>
                </a:lnTo>
                <a:lnTo>
                  <a:pt x="2004" y="12"/>
                </a:lnTo>
                <a:lnTo>
                  <a:pt x="1968" y="12"/>
                </a:lnTo>
                <a:lnTo>
                  <a:pt x="1932" y="12"/>
                </a:lnTo>
                <a:lnTo>
                  <a:pt x="1896" y="12"/>
                </a:lnTo>
                <a:lnTo>
                  <a:pt x="1860" y="36"/>
                </a:lnTo>
                <a:lnTo>
                  <a:pt x="1788" y="48"/>
                </a:lnTo>
                <a:lnTo>
                  <a:pt x="1716" y="72"/>
                </a:lnTo>
                <a:lnTo>
                  <a:pt x="1680" y="84"/>
                </a:lnTo>
                <a:lnTo>
                  <a:pt x="1644" y="108"/>
                </a:lnTo>
                <a:lnTo>
                  <a:pt x="1608" y="120"/>
                </a:lnTo>
                <a:lnTo>
                  <a:pt x="1560" y="132"/>
                </a:lnTo>
                <a:lnTo>
                  <a:pt x="1524" y="132"/>
                </a:lnTo>
                <a:lnTo>
                  <a:pt x="1488" y="132"/>
                </a:lnTo>
                <a:lnTo>
                  <a:pt x="1452" y="120"/>
                </a:lnTo>
                <a:lnTo>
                  <a:pt x="1356" y="108"/>
                </a:lnTo>
                <a:lnTo>
                  <a:pt x="1308" y="108"/>
                </a:lnTo>
                <a:lnTo>
                  <a:pt x="1188" y="96"/>
                </a:lnTo>
                <a:lnTo>
                  <a:pt x="1092" y="96"/>
                </a:lnTo>
                <a:lnTo>
                  <a:pt x="1020" y="96"/>
                </a:lnTo>
                <a:lnTo>
                  <a:pt x="924" y="96"/>
                </a:lnTo>
                <a:lnTo>
                  <a:pt x="852" y="96"/>
                </a:lnTo>
                <a:lnTo>
                  <a:pt x="780" y="96"/>
                </a:lnTo>
                <a:lnTo>
                  <a:pt x="744" y="96"/>
                </a:lnTo>
                <a:lnTo>
                  <a:pt x="708" y="96"/>
                </a:lnTo>
                <a:lnTo>
                  <a:pt x="612" y="108"/>
                </a:lnTo>
                <a:lnTo>
                  <a:pt x="516" y="108"/>
                </a:lnTo>
                <a:lnTo>
                  <a:pt x="444" y="120"/>
                </a:lnTo>
                <a:lnTo>
                  <a:pt x="372" y="132"/>
                </a:lnTo>
                <a:lnTo>
                  <a:pt x="276" y="144"/>
                </a:lnTo>
                <a:lnTo>
                  <a:pt x="240" y="144"/>
                </a:lnTo>
                <a:lnTo>
                  <a:pt x="204" y="180"/>
                </a:lnTo>
                <a:lnTo>
                  <a:pt x="204" y="228"/>
                </a:lnTo>
                <a:lnTo>
                  <a:pt x="204" y="300"/>
                </a:lnTo>
                <a:lnTo>
                  <a:pt x="204" y="336"/>
                </a:lnTo>
                <a:lnTo>
                  <a:pt x="228" y="372"/>
                </a:lnTo>
                <a:lnTo>
                  <a:pt x="264" y="396"/>
                </a:lnTo>
                <a:lnTo>
                  <a:pt x="360" y="420"/>
                </a:lnTo>
                <a:lnTo>
                  <a:pt x="456" y="444"/>
                </a:lnTo>
                <a:lnTo>
                  <a:pt x="552" y="456"/>
                </a:lnTo>
                <a:lnTo>
                  <a:pt x="648" y="468"/>
                </a:lnTo>
                <a:lnTo>
                  <a:pt x="744" y="480"/>
                </a:lnTo>
                <a:lnTo>
                  <a:pt x="864" y="492"/>
                </a:lnTo>
                <a:lnTo>
                  <a:pt x="912" y="492"/>
                </a:lnTo>
                <a:lnTo>
                  <a:pt x="1008" y="468"/>
                </a:lnTo>
                <a:lnTo>
                  <a:pt x="1044" y="432"/>
                </a:lnTo>
                <a:lnTo>
                  <a:pt x="1044" y="396"/>
                </a:lnTo>
                <a:lnTo>
                  <a:pt x="1008" y="372"/>
                </a:lnTo>
                <a:lnTo>
                  <a:pt x="972" y="372"/>
                </a:lnTo>
                <a:lnTo>
                  <a:pt x="936" y="360"/>
                </a:lnTo>
                <a:lnTo>
                  <a:pt x="888" y="348"/>
                </a:lnTo>
                <a:lnTo>
                  <a:pt x="792" y="336"/>
                </a:lnTo>
                <a:lnTo>
                  <a:pt x="696" y="336"/>
                </a:lnTo>
                <a:lnTo>
                  <a:pt x="600" y="324"/>
                </a:lnTo>
                <a:lnTo>
                  <a:pt x="504" y="324"/>
                </a:lnTo>
                <a:lnTo>
                  <a:pt x="432" y="324"/>
                </a:lnTo>
                <a:lnTo>
                  <a:pt x="360" y="324"/>
                </a:lnTo>
                <a:lnTo>
                  <a:pt x="288" y="324"/>
                </a:lnTo>
                <a:lnTo>
                  <a:pt x="252" y="324"/>
                </a:lnTo>
                <a:lnTo>
                  <a:pt x="204" y="348"/>
                </a:lnTo>
                <a:lnTo>
                  <a:pt x="168" y="396"/>
                </a:lnTo>
                <a:lnTo>
                  <a:pt x="144" y="432"/>
                </a:lnTo>
                <a:lnTo>
                  <a:pt x="144" y="480"/>
                </a:lnTo>
                <a:lnTo>
                  <a:pt x="144" y="516"/>
                </a:lnTo>
                <a:lnTo>
                  <a:pt x="144" y="564"/>
                </a:lnTo>
                <a:lnTo>
                  <a:pt x="168" y="660"/>
                </a:lnTo>
                <a:lnTo>
                  <a:pt x="180" y="732"/>
                </a:lnTo>
                <a:lnTo>
                  <a:pt x="228" y="768"/>
                </a:lnTo>
                <a:lnTo>
                  <a:pt x="324" y="792"/>
                </a:lnTo>
                <a:lnTo>
                  <a:pt x="420" y="816"/>
                </a:lnTo>
                <a:lnTo>
                  <a:pt x="540" y="828"/>
                </a:lnTo>
                <a:lnTo>
                  <a:pt x="636" y="840"/>
                </a:lnTo>
                <a:lnTo>
                  <a:pt x="732" y="840"/>
                </a:lnTo>
                <a:lnTo>
                  <a:pt x="804" y="840"/>
                </a:lnTo>
                <a:lnTo>
                  <a:pt x="876" y="840"/>
                </a:lnTo>
                <a:lnTo>
                  <a:pt x="912" y="840"/>
                </a:lnTo>
                <a:lnTo>
                  <a:pt x="960" y="828"/>
                </a:lnTo>
                <a:lnTo>
                  <a:pt x="1032" y="816"/>
                </a:lnTo>
                <a:lnTo>
                  <a:pt x="1104" y="804"/>
                </a:lnTo>
                <a:lnTo>
                  <a:pt x="1140" y="780"/>
                </a:lnTo>
                <a:lnTo>
                  <a:pt x="1140" y="744"/>
                </a:lnTo>
                <a:lnTo>
                  <a:pt x="1092" y="720"/>
                </a:lnTo>
                <a:lnTo>
                  <a:pt x="1056" y="696"/>
                </a:lnTo>
                <a:lnTo>
                  <a:pt x="960" y="684"/>
                </a:lnTo>
                <a:lnTo>
                  <a:pt x="864" y="672"/>
                </a:lnTo>
                <a:lnTo>
                  <a:pt x="792" y="660"/>
                </a:lnTo>
                <a:lnTo>
                  <a:pt x="720" y="660"/>
                </a:lnTo>
                <a:lnTo>
                  <a:pt x="600" y="660"/>
                </a:lnTo>
                <a:lnTo>
                  <a:pt x="504" y="660"/>
                </a:lnTo>
                <a:lnTo>
                  <a:pt x="432" y="660"/>
                </a:lnTo>
                <a:lnTo>
                  <a:pt x="360" y="660"/>
                </a:lnTo>
                <a:lnTo>
                  <a:pt x="312" y="660"/>
                </a:lnTo>
                <a:lnTo>
                  <a:pt x="276" y="672"/>
                </a:lnTo>
                <a:lnTo>
                  <a:pt x="240" y="696"/>
                </a:lnTo>
                <a:lnTo>
                  <a:pt x="204" y="732"/>
                </a:lnTo>
                <a:lnTo>
                  <a:pt x="180" y="768"/>
                </a:lnTo>
                <a:lnTo>
                  <a:pt x="168" y="804"/>
                </a:lnTo>
                <a:lnTo>
                  <a:pt x="168" y="852"/>
                </a:lnTo>
                <a:lnTo>
                  <a:pt x="192" y="888"/>
                </a:lnTo>
                <a:lnTo>
                  <a:pt x="204" y="924"/>
                </a:lnTo>
                <a:lnTo>
                  <a:pt x="228" y="972"/>
                </a:lnTo>
                <a:lnTo>
                  <a:pt x="324" y="1068"/>
                </a:lnTo>
                <a:lnTo>
                  <a:pt x="420" y="1164"/>
                </a:lnTo>
                <a:lnTo>
                  <a:pt x="492" y="1188"/>
                </a:lnTo>
                <a:lnTo>
                  <a:pt x="564" y="1212"/>
                </a:lnTo>
                <a:lnTo>
                  <a:pt x="636" y="1224"/>
                </a:lnTo>
                <a:lnTo>
                  <a:pt x="684" y="1224"/>
                </a:lnTo>
                <a:lnTo>
                  <a:pt x="732" y="1224"/>
                </a:lnTo>
                <a:lnTo>
                  <a:pt x="768" y="1224"/>
                </a:lnTo>
                <a:lnTo>
                  <a:pt x="864" y="1212"/>
                </a:lnTo>
                <a:lnTo>
                  <a:pt x="912" y="1200"/>
                </a:lnTo>
                <a:lnTo>
                  <a:pt x="948" y="1176"/>
                </a:lnTo>
                <a:lnTo>
                  <a:pt x="996" y="1152"/>
                </a:lnTo>
                <a:lnTo>
                  <a:pt x="1008" y="1116"/>
                </a:lnTo>
                <a:lnTo>
                  <a:pt x="1032" y="1080"/>
                </a:lnTo>
                <a:lnTo>
                  <a:pt x="1020" y="1044"/>
                </a:lnTo>
                <a:lnTo>
                  <a:pt x="972" y="1020"/>
                </a:lnTo>
                <a:lnTo>
                  <a:pt x="876" y="1020"/>
                </a:lnTo>
                <a:lnTo>
                  <a:pt x="780" y="1020"/>
                </a:lnTo>
                <a:lnTo>
                  <a:pt x="684" y="1020"/>
                </a:lnTo>
                <a:lnTo>
                  <a:pt x="564" y="1020"/>
                </a:lnTo>
                <a:lnTo>
                  <a:pt x="444" y="1020"/>
                </a:lnTo>
                <a:lnTo>
                  <a:pt x="348" y="1020"/>
                </a:lnTo>
                <a:lnTo>
                  <a:pt x="276" y="1020"/>
                </a:lnTo>
                <a:lnTo>
                  <a:pt x="204" y="1020"/>
                </a:lnTo>
                <a:lnTo>
                  <a:pt x="156" y="1032"/>
                </a:lnTo>
                <a:lnTo>
                  <a:pt x="120" y="1056"/>
                </a:lnTo>
                <a:lnTo>
                  <a:pt x="84" y="1092"/>
                </a:lnTo>
                <a:lnTo>
                  <a:pt x="72" y="1128"/>
                </a:lnTo>
                <a:lnTo>
                  <a:pt x="60" y="1176"/>
                </a:lnTo>
                <a:lnTo>
                  <a:pt x="60" y="1212"/>
                </a:lnTo>
                <a:lnTo>
                  <a:pt x="84" y="1248"/>
                </a:lnTo>
                <a:lnTo>
                  <a:pt x="120" y="1284"/>
                </a:lnTo>
                <a:lnTo>
                  <a:pt x="156" y="1332"/>
                </a:lnTo>
                <a:lnTo>
                  <a:pt x="228" y="1356"/>
                </a:lnTo>
                <a:lnTo>
                  <a:pt x="324" y="1380"/>
                </a:lnTo>
                <a:lnTo>
                  <a:pt x="420" y="1452"/>
                </a:lnTo>
                <a:lnTo>
                  <a:pt x="468" y="1488"/>
                </a:lnTo>
                <a:lnTo>
                  <a:pt x="540" y="1500"/>
                </a:lnTo>
                <a:lnTo>
                  <a:pt x="636" y="1500"/>
                </a:lnTo>
                <a:lnTo>
                  <a:pt x="708" y="1500"/>
                </a:lnTo>
                <a:lnTo>
                  <a:pt x="780" y="1500"/>
                </a:lnTo>
                <a:lnTo>
                  <a:pt x="852" y="1500"/>
                </a:lnTo>
                <a:lnTo>
                  <a:pt x="924" y="1500"/>
                </a:lnTo>
                <a:lnTo>
                  <a:pt x="972" y="1500"/>
                </a:lnTo>
                <a:lnTo>
                  <a:pt x="1008" y="1476"/>
                </a:lnTo>
                <a:lnTo>
                  <a:pt x="1032" y="1428"/>
                </a:lnTo>
                <a:lnTo>
                  <a:pt x="1020" y="1380"/>
                </a:lnTo>
                <a:lnTo>
                  <a:pt x="984" y="1368"/>
                </a:lnTo>
                <a:lnTo>
                  <a:pt x="936" y="1368"/>
                </a:lnTo>
                <a:lnTo>
                  <a:pt x="840" y="1368"/>
                </a:lnTo>
                <a:lnTo>
                  <a:pt x="768" y="1368"/>
                </a:lnTo>
                <a:lnTo>
                  <a:pt x="672" y="1368"/>
                </a:lnTo>
                <a:lnTo>
                  <a:pt x="576" y="1368"/>
                </a:lnTo>
                <a:lnTo>
                  <a:pt x="504" y="1368"/>
                </a:lnTo>
                <a:lnTo>
                  <a:pt x="456" y="1380"/>
                </a:lnTo>
                <a:lnTo>
                  <a:pt x="408" y="1392"/>
                </a:lnTo>
                <a:lnTo>
                  <a:pt x="372" y="1404"/>
                </a:lnTo>
                <a:lnTo>
                  <a:pt x="336" y="1428"/>
                </a:lnTo>
                <a:lnTo>
                  <a:pt x="312" y="1464"/>
                </a:lnTo>
                <a:lnTo>
                  <a:pt x="276" y="1500"/>
                </a:lnTo>
                <a:lnTo>
                  <a:pt x="264" y="1536"/>
                </a:lnTo>
                <a:lnTo>
                  <a:pt x="252" y="1572"/>
                </a:lnTo>
                <a:lnTo>
                  <a:pt x="252" y="1608"/>
                </a:lnTo>
                <a:lnTo>
                  <a:pt x="252" y="1644"/>
                </a:lnTo>
                <a:lnTo>
                  <a:pt x="252" y="1680"/>
                </a:lnTo>
                <a:lnTo>
                  <a:pt x="264" y="1716"/>
                </a:lnTo>
                <a:lnTo>
                  <a:pt x="300" y="1740"/>
                </a:lnTo>
                <a:lnTo>
                  <a:pt x="396" y="1776"/>
                </a:lnTo>
                <a:lnTo>
                  <a:pt x="468" y="1788"/>
                </a:lnTo>
                <a:lnTo>
                  <a:pt x="540" y="1800"/>
                </a:lnTo>
                <a:lnTo>
                  <a:pt x="636" y="1812"/>
                </a:lnTo>
                <a:lnTo>
                  <a:pt x="684" y="1812"/>
                </a:lnTo>
                <a:lnTo>
                  <a:pt x="720" y="1812"/>
                </a:lnTo>
                <a:lnTo>
                  <a:pt x="768" y="1800"/>
                </a:lnTo>
                <a:lnTo>
                  <a:pt x="804" y="1788"/>
                </a:lnTo>
                <a:lnTo>
                  <a:pt x="888" y="1788"/>
                </a:lnTo>
                <a:lnTo>
                  <a:pt x="924" y="1788"/>
                </a:lnTo>
                <a:lnTo>
                  <a:pt x="1008" y="1776"/>
                </a:lnTo>
                <a:lnTo>
                  <a:pt x="1044" y="1776"/>
                </a:lnTo>
                <a:lnTo>
                  <a:pt x="1092" y="1740"/>
                </a:lnTo>
                <a:lnTo>
                  <a:pt x="1128" y="1692"/>
                </a:lnTo>
                <a:lnTo>
                  <a:pt x="1152" y="1656"/>
                </a:lnTo>
                <a:lnTo>
                  <a:pt x="1164" y="1584"/>
                </a:lnTo>
                <a:lnTo>
                  <a:pt x="1188" y="1536"/>
                </a:lnTo>
                <a:lnTo>
                  <a:pt x="1188" y="1464"/>
                </a:lnTo>
                <a:lnTo>
                  <a:pt x="1188" y="1368"/>
                </a:lnTo>
                <a:lnTo>
                  <a:pt x="1188" y="1320"/>
                </a:lnTo>
                <a:lnTo>
                  <a:pt x="1188" y="1224"/>
                </a:lnTo>
                <a:lnTo>
                  <a:pt x="1188" y="1128"/>
                </a:lnTo>
                <a:lnTo>
                  <a:pt x="1188" y="1056"/>
                </a:lnTo>
                <a:lnTo>
                  <a:pt x="1188" y="984"/>
                </a:lnTo>
                <a:lnTo>
                  <a:pt x="1200" y="1032"/>
                </a:lnTo>
                <a:lnTo>
                  <a:pt x="1212" y="1068"/>
                </a:lnTo>
                <a:lnTo>
                  <a:pt x="1248" y="1092"/>
                </a:lnTo>
                <a:lnTo>
                  <a:pt x="1296" y="1140"/>
                </a:lnTo>
                <a:lnTo>
                  <a:pt x="1332" y="1176"/>
                </a:lnTo>
                <a:lnTo>
                  <a:pt x="1368" y="1200"/>
                </a:lnTo>
                <a:lnTo>
                  <a:pt x="1452" y="1296"/>
                </a:lnTo>
                <a:lnTo>
                  <a:pt x="1524" y="1320"/>
                </a:lnTo>
                <a:lnTo>
                  <a:pt x="1536" y="1224"/>
                </a:lnTo>
                <a:lnTo>
                  <a:pt x="1548" y="1104"/>
                </a:lnTo>
                <a:lnTo>
                  <a:pt x="1548" y="984"/>
                </a:lnTo>
                <a:lnTo>
                  <a:pt x="1548" y="888"/>
                </a:lnTo>
                <a:lnTo>
                  <a:pt x="1548" y="816"/>
                </a:lnTo>
                <a:lnTo>
                  <a:pt x="1524" y="780"/>
                </a:lnTo>
                <a:lnTo>
                  <a:pt x="1512" y="744"/>
                </a:lnTo>
                <a:lnTo>
                  <a:pt x="1548" y="792"/>
                </a:lnTo>
                <a:lnTo>
                  <a:pt x="1584" y="816"/>
                </a:lnTo>
                <a:lnTo>
                  <a:pt x="1632" y="852"/>
                </a:lnTo>
                <a:lnTo>
                  <a:pt x="1680" y="900"/>
                </a:lnTo>
                <a:lnTo>
                  <a:pt x="1752" y="924"/>
                </a:lnTo>
                <a:lnTo>
                  <a:pt x="1788" y="960"/>
                </a:lnTo>
                <a:lnTo>
                  <a:pt x="1836" y="984"/>
                </a:lnTo>
                <a:lnTo>
                  <a:pt x="1872" y="1008"/>
                </a:lnTo>
                <a:lnTo>
                  <a:pt x="1908" y="1032"/>
                </a:lnTo>
                <a:lnTo>
                  <a:pt x="1896" y="912"/>
                </a:lnTo>
                <a:lnTo>
                  <a:pt x="1884" y="816"/>
                </a:lnTo>
                <a:lnTo>
                  <a:pt x="1884" y="720"/>
                </a:lnTo>
                <a:lnTo>
                  <a:pt x="1860" y="684"/>
                </a:lnTo>
                <a:lnTo>
                  <a:pt x="1860" y="648"/>
                </a:lnTo>
                <a:lnTo>
                  <a:pt x="1848" y="552"/>
                </a:lnTo>
                <a:lnTo>
                  <a:pt x="1836" y="516"/>
                </a:lnTo>
                <a:lnTo>
                  <a:pt x="1872" y="540"/>
                </a:lnTo>
                <a:lnTo>
                  <a:pt x="1908" y="564"/>
                </a:lnTo>
                <a:lnTo>
                  <a:pt x="2004" y="612"/>
                </a:lnTo>
                <a:lnTo>
                  <a:pt x="2076" y="636"/>
                </a:lnTo>
                <a:lnTo>
                  <a:pt x="2172" y="660"/>
                </a:lnTo>
                <a:lnTo>
                  <a:pt x="2208" y="684"/>
                </a:lnTo>
                <a:lnTo>
                  <a:pt x="2244" y="708"/>
                </a:lnTo>
                <a:lnTo>
                  <a:pt x="2280" y="732"/>
                </a:lnTo>
                <a:lnTo>
                  <a:pt x="2316" y="756"/>
                </a:lnTo>
                <a:lnTo>
                  <a:pt x="2328" y="720"/>
                </a:lnTo>
                <a:lnTo>
                  <a:pt x="2304" y="624"/>
                </a:lnTo>
                <a:lnTo>
                  <a:pt x="2292" y="552"/>
                </a:lnTo>
                <a:lnTo>
                  <a:pt x="2268" y="504"/>
                </a:lnTo>
                <a:lnTo>
                  <a:pt x="2256" y="468"/>
                </a:lnTo>
                <a:lnTo>
                  <a:pt x="2232" y="420"/>
                </a:lnTo>
                <a:lnTo>
                  <a:pt x="2220" y="372"/>
                </a:lnTo>
                <a:lnTo>
                  <a:pt x="2196" y="324"/>
                </a:lnTo>
                <a:lnTo>
                  <a:pt x="2184" y="288"/>
                </a:lnTo>
                <a:lnTo>
                  <a:pt x="2220" y="300"/>
                </a:lnTo>
                <a:lnTo>
                  <a:pt x="2292" y="312"/>
                </a:lnTo>
                <a:lnTo>
                  <a:pt x="2364" y="324"/>
                </a:lnTo>
                <a:lnTo>
                  <a:pt x="2460" y="360"/>
                </a:lnTo>
                <a:lnTo>
                  <a:pt x="2508" y="372"/>
                </a:lnTo>
                <a:lnTo>
                  <a:pt x="2604" y="408"/>
                </a:lnTo>
                <a:lnTo>
                  <a:pt x="2676" y="432"/>
                </a:lnTo>
                <a:lnTo>
                  <a:pt x="2712" y="456"/>
                </a:lnTo>
                <a:lnTo>
                  <a:pt x="2748" y="576"/>
                </a:lnTo>
                <a:lnTo>
                  <a:pt x="2772" y="648"/>
                </a:lnTo>
                <a:lnTo>
                  <a:pt x="2784" y="720"/>
                </a:lnTo>
                <a:lnTo>
                  <a:pt x="2796" y="816"/>
                </a:lnTo>
                <a:lnTo>
                  <a:pt x="2796" y="912"/>
                </a:lnTo>
                <a:lnTo>
                  <a:pt x="2796" y="1008"/>
                </a:lnTo>
                <a:lnTo>
                  <a:pt x="2772" y="1056"/>
                </a:lnTo>
                <a:lnTo>
                  <a:pt x="2760" y="1128"/>
                </a:lnTo>
                <a:lnTo>
                  <a:pt x="2748" y="1200"/>
                </a:lnTo>
                <a:lnTo>
                  <a:pt x="2712" y="1248"/>
                </a:lnTo>
                <a:lnTo>
                  <a:pt x="2688" y="1296"/>
                </a:lnTo>
                <a:lnTo>
                  <a:pt x="2652" y="1176"/>
                </a:lnTo>
                <a:lnTo>
                  <a:pt x="2580" y="1104"/>
                </a:lnTo>
                <a:lnTo>
                  <a:pt x="2568" y="1032"/>
                </a:lnTo>
                <a:lnTo>
                  <a:pt x="2520" y="984"/>
                </a:lnTo>
                <a:lnTo>
                  <a:pt x="2484" y="960"/>
                </a:lnTo>
                <a:lnTo>
                  <a:pt x="2448" y="960"/>
                </a:lnTo>
                <a:lnTo>
                  <a:pt x="2400" y="960"/>
                </a:lnTo>
                <a:lnTo>
                  <a:pt x="2352" y="984"/>
                </a:lnTo>
                <a:lnTo>
                  <a:pt x="2256" y="1032"/>
                </a:lnTo>
                <a:lnTo>
                  <a:pt x="2244" y="1104"/>
                </a:lnTo>
                <a:lnTo>
                  <a:pt x="2208" y="1200"/>
                </a:lnTo>
                <a:lnTo>
                  <a:pt x="2196" y="1272"/>
                </a:lnTo>
                <a:lnTo>
                  <a:pt x="2172" y="1308"/>
                </a:lnTo>
                <a:lnTo>
                  <a:pt x="2172" y="1344"/>
                </a:lnTo>
                <a:lnTo>
                  <a:pt x="2220" y="1392"/>
                </a:lnTo>
                <a:lnTo>
                  <a:pt x="2256" y="1416"/>
                </a:lnTo>
                <a:lnTo>
                  <a:pt x="2292" y="1392"/>
                </a:lnTo>
                <a:lnTo>
                  <a:pt x="2328" y="1296"/>
                </a:lnTo>
                <a:lnTo>
                  <a:pt x="2328" y="1248"/>
                </a:lnTo>
                <a:lnTo>
                  <a:pt x="2304" y="1200"/>
                </a:lnTo>
                <a:lnTo>
                  <a:pt x="2268" y="1176"/>
                </a:lnTo>
                <a:lnTo>
                  <a:pt x="2232" y="1164"/>
                </a:lnTo>
                <a:lnTo>
                  <a:pt x="2160" y="1164"/>
                </a:lnTo>
                <a:lnTo>
                  <a:pt x="2088" y="1188"/>
                </a:lnTo>
                <a:lnTo>
                  <a:pt x="2040" y="1200"/>
                </a:lnTo>
                <a:lnTo>
                  <a:pt x="1968" y="1212"/>
                </a:lnTo>
                <a:lnTo>
                  <a:pt x="1872" y="1260"/>
                </a:lnTo>
                <a:lnTo>
                  <a:pt x="1836" y="1296"/>
                </a:lnTo>
                <a:lnTo>
                  <a:pt x="1824" y="1332"/>
                </a:lnTo>
                <a:lnTo>
                  <a:pt x="1812" y="1368"/>
                </a:lnTo>
                <a:lnTo>
                  <a:pt x="1800" y="1416"/>
                </a:lnTo>
                <a:lnTo>
                  <a:pt x="1800" y="1452"/>
                </a:lnTo>
                <a:lnTo>
                  <a:pt x="1800" y="1488"/>
                </a:lnTo>
                <a:lnTo>
                  <a:pt x="1836" y="1512"/>
                </a:lnTo>
                <a:lnTo>
                  <a:pt x="1872" y="1524"/>
                </a:lnTo>
                <a:lnTo>
                  <a:pt x="1908" y="1536"/>
                </a:lnTo>
                <a:lnTo>
                  <a:pt x="1944" y="1500"/>
                </a:lnTo>
                <a:lnTo>
                  <a:pt x="1968" y="1464"/>
                </a:lnTo>
                <a:lnTo>
                  <a:pt x="1968" y="1428"/>
                </a:lnTo>
                <a:lnTo>
                  <a:pt x="1944" y="1392"/>
                </a:lnTo>
                <a:lnTo>
                  <a:pt x="1908" y="1356"/>
                </a:lnTo>
                <a:lnTo>
                  <a:pt x="1860" y="1344"/>
                </a:lnTo>
                <a:lnTo>
                  <a:pt x="1812" y="1356"/>
                </a:lnTo>
                <a:lnTo>
                  <a:pt x="1764" y="1380"/>
                </a:lnTo>
                <a:lnTo>
                  <a:pt x="1728" y="1404"/>
                </a:lnTo>
                <a:lnTo>
                  <a:pt x="1692" y="1428"/>
                </a:lnTo>
                <a:lnTo>
                  <a:pt x="1656" y="1464"/>
                </a:lnTo>
                <a:lnTo>
                  <a:pt x="1620" y="1512"/>
                </a:lnTo>
                <a:lnTo>
                  <a:pt x="1596" y="1548"/>
                </a:lnTo>
                <a:lnTo>
                  <a:pt x="1572" y="1596"/>
                </a:lnTo>
                <a:lnTo>
                  <a:pt x="1560" y="1680"/>
                </a:lnTo>
                <a:lnTo>
                  <a:pt x="1560" y="1716"/>
                </a:lnTo>
                <a:lnTo>
                  <a:pt x="1596" y="1752"/>
                </a:lnTo>
                <a:lnTo>
                  <a:pt x="1644" y="1764"/>
                </a:lnTo>
                <a:lnTo>
                  <a:pt x="1680" y="1764"/>
                </a:lnTo>
                <a:lnTo>
                  <a:pt x="1716" y="1740"/>
                </a:lnTo>
                <a:lnTo>
                  <a:pt x="1740" y="1704"/>
                </a:lnTo>
                <a:lnTo>
                  <a:pt x="1740" y="1656"/>
                </a:lnTo>
                <a:lnTo>
                  <a:pt x="1716" y="1620"/>
                </a:lnTo>
                <a:lnTo>
                  <a:pt x="1680" y="1596"/>
                </a:lnTo>
                <a:lnTo>
                  <a:pt x="1644" y="1584"/>
                </a:lnTo>
                <a:lnTo>
                  <a:pt x="1548" y="1584"/>
                </a:lnTo>
                <a:lnTo>
                  <a:pt x="1476" y="1572"/>
                </a:lnTo>
                <a:lnTo>
                  <a:pt x="1428" y="1572"/>
                </a:lnTo>
                <a:lnTo>
                  <a:pt x="1356" y="1572"/>
                </a:lnTo>
                <a:lnTo>
                  <a:pt x="1308" y="1584"/>
                </a:lnTo>
                <a:lnTo>
                  <a:pt x="1236" y="1596"/>
                </a:lnTo>
                <a:lnTo>
                  <a:pt x="1200" y="1608"/>
                </a:lnTo>
                <a:lnTo>
                  <a:pt x="1164" y="1632"/>
                </a:lnTo>
                <a:lnTo>
                  <a:pt x="1140" y="1668"/>
                </a:lnTo>
                <a:lnTo>
                  <a:pt x="1140" y="1704"/>
                </a:lnTo>
                <a:lnTo>
                  <a:pt x="1128" y="1740"/>
                </a:lnTo>
                <a:lnTo>
                  <a:pt x="1128" y="1776"/>
                </a:lnTo>
                <a:lnTo>
                  <a:pt x="1128" y="1812"/>
                </a:lnTo>
                <a:lnTo>
                  <a:pt x="1164" y="1860"/>
                </a:lnTo>
                <a:lnTo>
                  <a:pt x="1200" y="1884"/>
                </a:lnTo>
                <a:lnTo>
                  <a:pt x="1248" y="1920"/>
                </a:lnTo>
                <a:lnTo>
                  <a:pt x="1296" y="1944"/>
                </a:lnTo>
                <a:lnTo>
                  <a:pt x="1344" y="1956"/>
                </a:lnTo>
                <a:lnTo>
                  <a:pt x="1380" y="1956"/>
                </a:lnTo>
                <a:lnTo>
                  <a:pt x="1428" y="1956"/>
                </a:lnTo>
                <a:lnTo>
                  <a:pt x="1512" y="1956"/>
                </a:lnTo>
                <a:lnTo>
                  <a:pt x="1584" y="1956"/>
                </a:lnTo>
                <a:lnTo>
                  <a:pt x="1656" y="1956"/>
                </a:lnTo>
                <a:lnTo>
                  <a:pt x="1728" y="1956"/>
                </a:lnTo>
                <a:lnTo>
                  <a:pt x="1800" y="1956"/>
                </a:lnTo>
                <a:lnTo>
                  <a:pt x="1836" y="1956"/>
                </a:lnTo>
                <a:lnTo>
                  <a:pt x="1872" y="1932"/>
                </a:lnTo>
                <a:lnTo>
                  <a:pt x="1908" y="1908"/>
                </a:lnTo>
                <a:lnTo>
                  <a:pt x="1944" y="1872"/>
                </a:lnTo>
                <a:lnTo>
                  <a:pt x="1980" y="1848"/>
                </a:lnTo>
                <a:lnTo>
                  <a:pt x="2004" y="1812"/>
                </a:lnTo>
                <a:lnTo>
                  <a:pt x="2040" y="1788"/>
                </a:lnTo>
                <a:lnTo>
                  <a:pt x="2088" y="1764"/>
                </a:lnTo>
                <a:lnTo>
                  <a:pt x="2136" y="1728"/>
                </a:lnTo>
                <a:lnTo>
                  <a:pt x="2184" y="1704"/>
                </a:lnTo>
                <a:lnTo>
                  <a:pt x="2220" y="1704"/>
                </a:lnTo>
                <a:lnTo>
                  <a:pt x="2256" y="1716"/>
                </a:lnTo>
                <a:lnTo>
                  <a:pt x="2292" y="1752"/>
                </a:lnTo>
                <a:lnTo>
                  <a:pt x="2304" y="1788"/>
                </a:lnTo>
                <a:lnTo>
                  <a:pt x="2316" y="1824"/>
                </a:lnTo>
                <a:lnTo>
                  <a:pt x="2328" y="1860"/>
                </a:lnTo>
                <a:lnTo>
                  <a:pt x="2364" y="1884"/>
                </a:lnTo>
                <a:lnTo>
                  <a:pt x="2448" y="1920"/>
                </a:lnTo>
                <a:lnTo>
                  <a:pt x="2544" y="1944"/>
                </a:lnTo>
                <a:lnTo>
                  <a:pt x="2592" y="1956"/>
                </a:lnTo>
                <a:lnTo>
                  <a:pt x="2664" y="1956"/>
                </a:lnTo>
                <a:lnTo>
                  <a:pt x="2736" y="1956"/>
                </a:lnTo>
                <a:lnTo>
                  <a:pt x="2784" y="1944"/>
                </a:lnTo>
                <a:lnTo>
                  <a:pt x="2856" y="1932"/>
                </a:lnTo>
                <a:lnTo>
                  <a:pt x="2904" y="1884"/>
                </a:lnTo>
                <a:lnTo>
                  <a:pt x="2916" y="1812"/>
                </a:lnTo>
                <a:lnTo>
                  <a:pt x="2940" y="1764"/>
                </a:lnTo>
                <a:lnTo>
                  <a:pt x="2940" y="1668"/>
                </a:lnTo>
                <a:lnTo>
                  <a:pt x="2928" y="1632"/>
                </a:lnTo>
                <a:lnTo>
                  <a:pt x="2892" y="1608"/>
                </a:lnTo>
                <a:lnTo>
                  <a:pt x="2856" y="1584"/>
                </a:lnTo>
                <a:lnTo>
                  <a:pt x="2784" y="1584"/>
                </a:lnTo>
                <a:lnTo>
                  <a:pt x="2712" y="1584"/>
                </a:lnTo>
                <a:lnTo>
                  <a:pt x="2664" y="1584"/>
                </a:lnTo>
                <a:lnTo>
                  <a:pt x="2592" y="1584"/>
                </a:lnTo>
                <a:lnTo>
                  <a:pt x="2496" y="1584"/>
                </a:lnTo>
                <a:lnTo>
                  <a:pt x="2424" y="1596"/>
                </a:lnTo>
                <a:lnTo>
                  <a:pt x="2328" y="1608"/>
                </a:lnTo>
                <a:lnTo>
                  <a:pt x="2256" y="1620"/>
                </a:lnTo>
                <a:lnTo>
                  <a:pt x="2208" y="1644"/>
                </a:lnTo>
                <a:lnTo>
                  <a:pt x="2184" y="1680"/>
                </a:lnTo>
                <a:lnTo>
                  <a:pt x="2172" y="1716"/>
                </a:lnTo>
                <a:lnTo>
                  <a:pt x="2220" y="1752"/>
                </a:lnTo>
                <a:lnTo>
                  <a:pt x="2340" y="1776"/>
                </a:lnTo>
                <a:lnTo>
                  <a:pt x="2376" y="1788"/>
                </a:lnTo>
                <a:lnTo>
                  <a:pt x="2472" y="1764"/>
                </a:lnTo>
                <a:lnTo>
                  <a:pt x="2544" y="1740"/>
                </a:lnTo>
                <a:lnTo>
                  <a:pt x="2616" y="1716"/>
                </a:lnTo>
                <a:lnTo>
                  <a:pt x="2712" y="1620"/>
                </a:lnTo>
                <a:lnTo>
                  <a:pt x="2784" y="1548"/>
                </a:lnTo>
                <a:lnTo>
                  <a:pt x="2808" y="1476"/>
                </a:lnTo>
                <a:lnTo>
                  <a:pt x="2820" y="1404"/>
                </a:lnTo>
                <a:lnTo>
                  <a:pt x="2832" y="1332"/>
                </a:lnTo>
                <a:lnTo>
                  <a:pt x="2832" y="1260"/>
                </a:lnTo>
                <a:lnTo>
                  <a:pt x="2796" y="1224"/>
                </a:lnTo>
                <a:lnTo>
                  <a:pt x="2724" y="1212"/>
                </a:lnTo>
                <a:lnTo>
                  <a:pt x="2604" y="1200"/>
                </a:lnTo>
                <a:lnTo>
                  <a:pt x="2508" y="1188"/>
                </a:lnTo>
                <a:lnTo>
                  <a:pt x="2364" y="1188"/>
                </a:lnTo>
                <a:lnTo>
                  <a:pt x="2268" y="1188"/>
                </a:lnTo>
                <a:lnTo>
                  <a:pt x="2172" y="1188"/>
                </a:lnTo>
                <a:lnTo>
                  <a:pt x="2076" y="1212"/>
                </a:lnTo>
                <a:lnTo>
                  <a:pt x="1980" y="1224"/>
                </a:lnTo>
                <a:lnTo>
                  <a:pt x="1884" y="1236"/>
                </a:lnTo>
                <a:lnTo>
                  <a:pt x="1812" y="1248"/>
                </a:lnTo>
                <a:lnTo>
                  <a:pt x="1776" y="1272"/>
                </a:lnTo>
                <a:lnTo>
                  <a:pt x="1728" y="1320"/>
                </a:lnTo>
                <a:lnTo>
                  <a:pt x="1728" y="1368"/>
                </a:lnTo>
                <a:lnTo>
                  <a:pt x="1716" y="1404"/>
                </a:lnTo>
                <a:lnTo>
                  <a:pt x="1752" y="1440"/>
                </a:lnTo>
                <a:lnTo>
                  <a:pt x="1848" y="1464"/>
                </a:lnTo>
                <a:lnTo>
                  <a:pt x="1968" y="1476"/>
                </a:lnTo>
                <a:lnTo>
                  <a:pt x="2040" y="1476"/>
                </a:lnTo>
                <a:lnTo>
                  <a:pt x="2088" y="1464"/>
                </a:lnTo>
                <a:lnTo>
                  <a:pt x="2160" y="1452"/>
                </a:lnTo>
                <a:lnTo>
                  <a:pt x="2256" y="1428"/>
                </a:lnTo>
                <a:lnTo>
                  <a:pt x="2328" y="1404"/>
                </a:lnTo>
                <a:lnTo>
                  <a:pt x="2400" y="1392"/>
                </a:lnTo>
                <a:lnTo>
                  <a:pt x="2424" y="1320"/>
                </a:lnTo>
                <a:lnTo>
                  <a:pt x="2448" y="1248"/>
                </a:lnTo>
                <a:lnTo>
                  <a:pt x="2484" y="1200"/>
                </a:lnTo>
                <a:lnTo>
                  <a:pt x="2484" y="1152"/>
                </a:lnTo>
                <a:lnTo>
                  <a:pt x="2460" y="1116"/>
                </a:lnTo>
                <a:lnTo>
                  <a:pt x="2388" y="1104"/>
                </a:lnTo>
                <a:lnTo>
                  <a:pt x="2316" y="1092"/>
                </a:lnTo>
                <a:lnTo>
                  <a:pt x="2220" y="1080"/>
                </a:lnTo>
                <a:lnTo>
                  <a:pt x="2076" y="1056"/>
                </a:lnTo>
                <a:lnTo>
                  <a:pt x="1908" y="1044"/>
                </a:lnTo>
                <a:lnTo>
                  <a:pt x="1764" y="1032"/>
                </a:lnTo>
                <a:lnTo>
                  <a:pt x="1644" y="1032"/>
                </a:lnTo>
                <a:lnTo>
                  <a:pt x="1572" y="1032"/>
                </a:lnTo>
                <a:lnTo>
                  <a:pt x="1500" y="1044"/>
                </a:lnTo>
                <a:lnTo>
                  <a:pt x="1428" y="1056"/>
                </a:lnTo>
                <a:lnTo>
                  <a:pt x="1356" y="1080"/>
                </a:lnTo>
                <a:lnTo>
                  <a:pt x="1284" y="1104"/>
                </a:lnTo>
                <a:lnTo>
                  <a:pt x="1248" y="1140"/>
                </a:lnTo>
                <a:lnTo>
                  <a:pt x="1236" y="1176"/>
                </a:lnTo>
                <a:lnTo>
                  <a:pt x="1356" y="1224"/>
                </a:lnTo>
                <a:lnTo>
                  <a:pt x="1452" y="1248"/>
                </a:lnTo>
                <a:lnTo>
                  <a:pt x="1524" y="1260"/>
                </a:lnTo>
                <a:lnTo>
                  <a:pt x="1620" y="1224"/>
                </a:lnTo>
                <a:lnTo>
                  <a:pt x="1668" y="1188"/>
                </a:lnTo>
                <a:lnTo>
                  <a:pt x="1716" y="1140"/>
                </a:lnTo>
                <a:lnTo>
                  <a:pt x="1740" y="1068"/>
                </a:lnTo>
                <a:lnTo>
                  <a:pt x="1812" y="996"/>
                </a:lnTo>
                <a:lnTo>
                  <a:pt x="1836" y="924"/>
                </a:lnTo>
                <a:lnTo>
                  <a:pt x="1860" y="852"/>
                </a:lnTo>
                <a:lnTo>
                  <a:pt x="1872" y="780"/>
                </a:lnTo>
                <a:lnTo>
                  <a:pt x="1872" y="732"/>
                </a:lnTo>
                <a:lnTo>
                  <a:pt x="1848" y="696"/>
                </a:lnTo>
                <a:lnTo>
                  <a:pt x="1776" y="672"/>
                </a:lnTo>
                <a:lnTo>
                  <a:pt x="1704" y="660"/>
                </a:lnTo>
                <a:lnTo>
                  <a:pt x="1608" y="648"/>
                </a:lnTo>
                <a:lnTo>
                  <a:pt x="1536" y="636"/>
                </a:lnTo>
                <a:lnTo>
                  <a:pt x="1440" y="636"/>
                </a:lnTo>
                <a:lnTo>
                  <a:pt x="1344" y="624"/>
                </a:lnTo>
                <a:lnTo>
                  <a:pt x="1248" y="624"/>
                </a:lnTo>
                <a:lnTo>
                  <a:pt x="1176" y="624"/>
                </a:lnTo>
                <a:lnTo>
                  <a:pt x="1104" y="624"/>
                </a:lnTo>
                <a:lnTo>
                  <a:pt x="1032" y="636"/>
                </a:lnTo>
                <a:lnTo>
                  <a:pt x="960" y="648"/>
                </a:lnTo>
                <a:lnTo>
                  <a:pt x="924" y="684"/>
                </a:lnTo>
                <a:lnTo>
                  <a:pt x="912" y="720"/>
                </a:lnTo>
                <a:lnTo>
                  <a:pt x="900" y="768"/>
                </a:lnTo>
                <a:lnTo>
                  <a:pt x="936" y="816"/>
                </a:lnTo>
                <a:lnTo>
                  <a:pt x="1008" y="840"/>
                </a:lnTo>
                <a:lnTo>
                  <a:pt x="1128" y="852"/>
                </a:lnTo>
                <a:lnTo>
                  <a:pt x="1224" y="864"/>
                </a:lnTo>
                <a:lnTo>
                  <a:pt x="1296" y="876"/>
                </a:lnTo>
                <a:lnTo>
                  <a:pt x="1392" y="876"/>
                </a:lnTo>
                <a:lnTo>
                  <a:pt x="1488" y="864"/>
                </a:lnTo>
                <a:lnTo>
                  <a:pt x="1584" y="852"/>
                </a:lnTo>
                <a:lnTo>
                  <a:pt x="1680" y="840"/>
                </a:lnTo>
                <a:lnTo>
                  <a:pt x="1776" y="816"/>
                </a:lnTo>
                <a:lnTo>
                  <a:pt x="1872" y="792"/>
                </a:lnTo>
                <a:lnTo>
                  <a:pt x="1896" y="720"/>
                </a:lnTo>
                <a:lnTo>
                  <a:pt x="1920" y="672"/>
                </a:lnTo>
                <a:lnTo>
                  <a:pt x="1920" y="624"/>
                </a:lnTo>
                <a:lnTo>
                  <a:pt x="1908" y="552"/>
                </a:lnTo>
                <a:lnTo>
                  <a:pt x="1884" y="480"/>
                </a:lnTo>
                <a:lnTo>
                  <a:pt x="1812" y="408"/>
                </a:lnTo>
                <a:lnTo>
                  <a:pt x="1716" y="384"/>
                </a:lnTo>
                <a:lnTo>
                  <a:pt x="1680" y="360"/>
                </a:lnTo>
                <a:lnTo>
                  <a:pt x="1608" y="348"/>
                </a:lnTo>
                <a:lnTo>
                  <a:pt x="1488" y="336"/>
                </a:lnTo>
                <a:lnTo>
                  <a:pt x="1368" y="324"/>
                </a:lnTo>
                <a:lnTo>
                  <a:pt x="1224" y="300"/>
                </a:lnTo>
                <a:lnTo>
                  <a:pt x="1128" y="300"/>
                </a:lnTo>
                <a:lnTo>
                  <a:pt x="1056" y="300"/>
                </a:lnTo>
                <a:lnTo>
                  <a:pt x="1008" y="300"/>
                </a:lnTo>
                <a:lnTo>
                  <a:pt x="960" y="324"/>
                </a:lnTo>
                <a:lnTo>
                  <a:pt x="888" y="336"/>
                </a:lnTo>
                <a:lnTo>
                  <a:pt x="852" y="372"/>
                </a:lnTo>
                <a:lnTo>
                  <a:pt x="852" y="408"/>
                </a:lnTo>
                <a:lnTo>
                  <a:pt x="840" y="456"/>
                </a:lnTo>
                <a:lnTo>
                  <a:pt x="888" y="504"/>
                </a:lnTo>
                <a:lnTo>
                  <a:pt x="960" y="516"/>
                </a:lnTo>
                <a:lnTo>
                  <a:pt x="1032" y="516"/>
                </a:lnTo>
                <a:lnTo>
                  <a:pt x="1080" y="516"/>
                </a:lnTo>
                <a:lnTo>
                  <a:pt x="1152" y="516"/>
                </a:lnTo>
                <a:lnTo>
                  <a:pt x="1188" y="516"/>
                </a:lnTo>
                <a:lnTo>
                  <a:pt x="1284" y="504"/>
                </a:lnTo>
                <a:lnTo>
                  <a:pt x="1332" y="492"/>
                </a:lnTo>
                <a:lnTo>
                  <a:pt x="1380" y="468"/>
                </a:lnTo>
                <a:lnTo>
                  <a:pt x="1416" y="444"/>
                </a:lnTo>
                <a:lnTo>
                  <a:pt x="1440" y="396"/>
                </a:lnTo>
                <a:lnTo>
                  <a:pt x="1464" y="360"/>
                </a:lnTo>
                <a:lnTo>
                  <a:pt x="1464" y="324"/>
                </a:lnTo>
                <a:lnTo>
                  <a:pt x="1464" y="288"/>
                </a:lnTo>
                <a:lnTo>
                  <a:pt x="1440" y="252"/>
                </a:lnTo>
                <a:lnTo>
                  <a:pt x="1404" y="216"/>
                </a:lnTo>
                <a:lnTo>
                  <a:pt x="1380" y="180"/>
                </a:lnTo>
                <a:lnTo>
                  <a:pt x="1344" y="156"/>
                </a:lnTo>
                <a:lnTo>
                  <a:pt x="1308" y="144"/>
                </a:lnTo>
                <a:lnTo>
                  <a:pt x="1272" y="120"/>
                </a:lnTo>
                <a:lnTo>
                  <a:pt x="1236" y="120"/>
                </a:lnTo>
                <a:lnTo>
                  <a:pt x="1200" y="108"/>
                </a:lnTo>
                <a:lnTo>
                  <a:pt x="1164" y="108"/>
                </a:lnTo>
                <a:lnTo>
                  <a:pt x="1128" y="96"/>
                </a:lnTo>
              </a:path>
            </a:pathLst>
          </a:custGeom>
          <a:noFill/>
          <a:ln cap="rnd" w="507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1142640" y="3276720"/>
            <a:ext cx="4455000" cy="2628720"/>
            <a:chOff x="1142640" y="3276720"/>
            <a:chExt cx="4455000" cy="2628720"/>
          </a:xfrm>
        </p:grpSpPr>
        <p:sp>
          <p:nvSpPr>
            <p:cNvPr id="329" name="Rectangle 6"/>
            <p:cNvSpPr/>
            <p:nvPr/>
          </p:nvSpPr>
          <p:spPr>
            <a:xfrm>
              <a:off x="1142640" y="5029200"/>
              <a:ext cx="184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lpha Helix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7"/>
            <p:cNvSpPr/>
            <p:nvPr/>
          </p:nvSpPr>
          <p:spPr>
            <a:xfrm flipV="1">
              <a:off x="3048120" y="4088880"/>
              <a:ext cx="94608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8"/>
            <p:cNvSpPr/>
            <p:nvPr/>
          </p:nvSpPr>
          <p:spPr>
            <a:xfrm>
              <a:off x="3962520" y="3276720"/>
              <a:ext cx="1635120" cy="262872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2628720"/>
                <a:gd name="textAreaBottom" fmla="*/ 2629080 h 2628720"/>
              </a:gdLst>
              <a:ahLst/>
              <a:rect l="textAreaLeft" t="textAreaTop" r="textAreaRight" b="textAreaBottom"/>
              <a:pathLst>
                <a:path w="1030" h="1656">
                  <a:moveTo>
                    <a:pt x="156" y="1656"/>
                  </a:moveTo>
                  <a:cubicBezTo>
                    <a:pt x="164" y="1564"/>
                    <a:pt x="158" y="1427"/>
                    <a:pt x="264" y="1380"/>
                  </a:cubicBezTo>
                  <a:cubicBezTo>
                    <a:pt x="287" y="1370"/>
                    <a:pt x="312" y="1364"/>
                    <a:pt x="336" y="1356"/>
                  </a:cubicBezTo>
                  <a:cubicBezTo>
                    <a:pt x="372" y="1344"/>
                    <a:pt x="409" y="1312"/>
                    <a:pt x="444" y="1296"/>
                  </a:cubicBezTo>
                  <a:cubicBezTo>
                    <a:pt x="467" y="1286"/>
                    <a:pt x="492" y="1280"/>
                    <a:pt x="516" y="1272"/>
                  </a:cubicBezTo>
                  <a:cubicBezTo>
                    <a:pt x="528" y="1268"/>
                    <a:pt x="552" y="1260"/>
                    <a:pt x="552" y="1260"/>
                  </a:cubicBezTo>
                  <a:cubicBezTo>
                    <a:pt x="636" y="1264"/>
                    <a:pt x="720" y="1265"/>
                    <a:pt x="804" y="1272"/>
                  </a:cubicBezTo>
                  <a:cubicBezTo>
                    <a:pt x="842" y="1275"/>
                    <a:pt x="876" y="1308"/>
                    <a:pt x="912" y="1320"/>
                  </a:cubicBezTo>
                  <a:cubicBezTo>
                    <a:pt x="924" y="1337"/>
                    <a:pt x="968" y="1379"/>
                    <a:pt x="900" y="1380"/>
                  </a:cubicBezTo>
                  <a:cubicBezTo>
                    <a:pt x="704" y="1384"/>
                    <a:pt x="508" y="1372"/>
                    <a:pt x="312" y="1368"/>
                  </a:cubicBezTo>
                  <a:cubicBezTo>
                    <a:pt x="227" y="1351"/>
                    <a:pt x="271" y="1362"/>
                    <a:pt x="180" y="1332"/>
                  </a:cubicBezTo>
                  <a:cubicBezTo>
                    <a:pt x="168" y="1328"/>
                    <a:pt x="144" y="1320"/>
                    <a:pt x="144" y="1320"/>
                  </a:cubicBezTo>
                  <a:cubicBezTo>
                    <a:pt x="112" y="1272"/>
                    <a:pt x="80" y="1224"/>
                    <a:pt x="48" y="1176"/>
                  </a:cubicBezTo>
                  <a:cubicBezTo>
                    <a:pt x="27" y="1144"/>
                    <a:pt x="24" y="1104"/>
                    <a:pt x="12" y="1068"/>
                  </a:cubicBezTo>
                  <a:cubicBezTo>
                    <a:pt x="8" y="1056"/>
                    <a:pt x="0" y="1032"/>
                    <a:pt x="0" y="1032"/>
                  </a:cubicBezTo>
                  <a:cubicBezTo>
                    <a:pt x="20" y="972"/>
                    <a:pt x="37" y="975"/>
                    <a:pt x="96" y="960"/>
                  </a:cubicBezTo>
                  <a:cubicBezTo>
                    <a:pt x="328" y="964"/>
                    <a:pt x="560" y="961"/>
                    <a:pt x="792" y="972"/>
                  </a:cubicBezTo>
                  <a:cubicBezTo>
                    <a:pt x="830" y="974"/>
                    <a:pt x="900" y="1008"/>
                    <a:pt x="900" y="1008"/>
                  </a:cubicBezTo>
                  <a:cubicBezTo>
                    <a:pt x="904" y="1020"/>
                    <a:pt x="916" y="1032"/>
                    <a:pt x="912" y="1044"/>
                  </a:cubicBezTo>
                  <a:cubicBezTo>
                    <a:pt x="881" y="1136"/>
                    <a:pt x="834" y="1121"/>
                    <a:pt x="756" y="1140"/>
                  </a:cubicBezTo>
                  <a:cubicBezTo>
                    <a:pt x="639" y="1132"/>
                    <a:pt x="588" y="1133"/>
                    <a:pt x="492" y="1104"/>
                  </a:cubicBezTo>
                  <a:cubicBezTo>
                    <a:pt x="492" y="1104"/>
                    <a:pt x="402" y="1074"/>
                    <a:pt x="384" y="1068"/>
                  </a:cubicBezTo>
                  <a:cubicBezTo>
                    <a:pt x="372" y="1064"/>
                    <a:pt x="348" y="1056"/>
                    <a:pt x="348" y="1056"/>
                  </a:cubicBezTo>
                  <a:cubicBezTo>
                    <a:pt x="307" y="1025"/>
                    <a:pt x="270" y="1012"/>
                    <a:pt x="228" y="984"/>
                  </a:cubicBezTo>
                  <a:cubicBezTo>
                    <a:pt x="220" y="972"/>
                    <a:pt x="214" y="958"/>
                    <a:pt x="204" y="948"/>
                  </a:cubicBezTo>
                  <a:cubicBezTo>
                    <a:pt x="194" y="938"/>
                    <a:pt x="177" y="935"/>
                    <a:pt x="168" y="924"/>
                  </a:cubicBezTo>
                  <a:cubicBezTo>
                    <a:pt x="122" y="871"/>
                    <a:pt x="112" y="832"/>
                    <a:pt x="96" y="768"/>
                  </a:cubicBezTo>
                  <a:cubicBezTo>
                    <a:pt x="96" y="767"/>
                    <a:pt x="108" y="676"/>
                    <a:pt x="120" y="660"/>
                  </a:cubicBezTo>
                  <a:cubicBezTo>
                    <a:pt x="167" y="601"/>
                    <a:pt x="322" y="592"/>
                    <a:pt x="372" y="588"/>
                  </a:cubicBezTo>
                  <a:cubicBezTo>
                    <a:pt x="528" y="592"/>
                    <a:pt x="684" y="590"/>
                    <a:pt x="840" y="600"/>
                  </a:cubicBezTo>
                  <a:cubicBezTo>
                    <a:pt x="873" y="602"/>
                    <a:pt x="936" y="624"/>
                    <a:pt x="936" y="624"/>
                  </a:cubicBezTo>
                  <a:cubicBezTo>
                    <a:pt x="958" y="639"/>
                    <a:pt x="1030" y="683"/>
                    <a:pt x="984" y="720"/>
                  </a:cubicBezTo>
                  <a:cubicBezTo>
                    <a:pt x="971" y="730"/>
                    <a:pt x="952" y="728"/>
                    <a:pt x="936" y="732"/>
                  </a:cubicBezTo>
                  <a:cubicBezTo>
                    <a:pt x="676" y="728"/>
                    <a:pt x="416" y="728"/>
                    <a:pt x="156" y="720"/>
                  </a:cubicBezTo>
                  <a:cubicBezTo>
                    <a:pt x="100" y="718"/>
                    <a:pt x="73" y="604"/>
                    <a:pt x="60" y="564"/>
                  </a:cubicBezTo>
                  <a:cubicBezTo>
                    <a:pt x="52" y="540"/>
                    <a:pt x="36" y="492"/>
                    <a:pt x="36" y="492"/>
                  </a:cubicBezTo>
                  <a:cubicBezTo>
                    <a:pt x="40" y="448"/>
                    <a:pt x="42" y="404"/>
                    <a:pt x="48" y="360"/>
                  </a:cubicBezTo>
                  <a:cubicBezTo>
                    <a:pt x="50" y="347"/>
                    <a:pt x="51" y="333"/>
                    <a:pt x="60" y="324"/>
                  </a:cubicBezTo>
                  <a:cubicBezTo>
                    <a:pt x="80" y="304"/>
                    <a:pt x="108" y="292"/>
                    <a:pt x="132" y="276"/>
                  </a:cubicBezTo>
                  <a:cubicBezTo>
                    <a:pt x="153" y="262"/>
                    <a:pt x="204" y="252"/>
                    <a:pt x="204" y="252"/>
                  </a:cubicBezTo>
                  <a:cubicBezTo>
                    <a:pt x="375" y="260"/>
                    <a:pt x="538" y="274"/>
                    <a:pt x="708" y="288"/>
                  </a:cubicBezTo>
                  <a:cubicBezTo>
                    <a:pt x="732" y="296"/>
                    <a:pt x="755" y="307"/>
                    <a:pt x="780" y="312"/>
                  </a:cubicBezTo>
                  <a:cubicBezTo>
                    <a:pt x="800" y="316"/>
                    <a:pt x="820" y="319"/>
                    <a:pt x="840" y="324"/>
                  </a:cubicBezTo>
                  <a:cubicBezTo>
                    <a:pt x="864" y="331"/>
                    <a:pt x="912" y="348"/>
                    <a:pt x="912" y="348"/>
                  </a:cubicBezTo>
                  <a:cubicBezTo>
                    <a:pt x="864" y="492"/>
                    <a:pt x="475" y="386"/>
                    <a:pt x="408" y="384"/>
                  </a:cubicBezTo>
                  <a:cubicBezTo>
                    <a:pt x="313" y="365"/>
                    <a:pt x="247" y="341"/>
                    <a:pt x="168" y="288"/>
                  </a:cubicBezTo>
                  <a:cubicBezTo>
                    <a:pt x="156" y="280"/>
                    <a:pt x="144" y="272"/>
                    <a:pt x="132" y="264"/>
                  </a:cubicBezTo>
                  <a:cubicBezTo>
                    <a:pt x="120" y="256"/>
                    <a:pt x="96" y="240"/>
                    <a:pt x="96" y="240"/>
                  </a:cubicBezTo>
                  <a:cubicBezTo>
                    <a:pt x="80" y="192"/>
                    <a:pt x="61" y="151"/>
                    <a:pt x="96" y="96"/>
                  </a:cubicBezTo>
                  <a:cubicBezTo>
                    <a:pt x="110" y="75"/>
                    <a:pt x="144" y="80"/>
                    <a:pt x="168" y="72"/>
                  </a:cubicBezTo>
                  <a:cubicBezTo>
                    <a:pt x="235" y="50"/>
                    <a:pt x="301" y="44"/>
                    <a:pt x="372" y="36"/>
                  </a:cubicBezTo>
                  <a:cubicBezTo>
                    <a:pt x="465" y="5"/>
                    <a:pt x="574" y="10"/>
                    <a:pt x="672" y="0"/>
                  </a:cubicBezTo>
                  <a:cubicBezTo>
                    <a:pt x="784" y="4"/>
                    <a:pt x="1008" y="12"/>
                    <a:pt x="1008" y="12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2" name="Group 9"/>
          <p:cNvGrpSpPr/>
          <p:nvPr/>
        </p:nvGrpSpPr>
        <p:grpSpPr>
          <a:xfrm>
            <a:off x="686160" y="3581280"/>
            <a:ext cx="6883200" cy="2817000"/>
            <a:chOff x="686160" y="3581280"/>
            <a:chExt cx="6883200" cy="2817000"/>
          </a:xfrm>
        </p:grpSpPr>
        <p:sp>
          <p:nvSpPr>
            <p:cNvPr id="333" name="Rectangle 10"/>
            <p:cNvSpPr/>
            <p:nvPr/>
          </p:nvSpPr>
          <p:spPr>
            <a:xfrm>
              <a:off x="686160" y="5943600"/>
              <a:ext cx="292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Beta Pleated Shee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>
              <a:off x="5638680" y="3581280"/>
              <a:ext cx="1930680" cy="2019600"/>
            </a:xfrm>
            <a:custGeom>
              <a:avLst/>
              <a:gdLst>
                <a:gd name="textAreaLeft" fmla="*/ 0 w 1930680"/>
                <a:gd name="textAreaRight" fmla="*/ 1931040 w 1930680"/>
                <a:gd name="textAreaTop" fmla="*/ 0 h 2019600"/>
                <a:gd name="textAreaBottom" fmla="*/ 2019600 h 2019600"/>
              </a:gdLst>
              <a:ahLst/>
              <a:rect l="textAreaLeft" t="textAreaTop" r="textAreaRight" b="textAreaBottom"/>
              <a:pathLst>
                <a:path w="1216" h="1272">
                  <a:moveTo>
                    <a:pt x="28" y="1272"/>
                  </a:moveTo>
                  <a:cubicBezTo>
                    <a:pt x="23" y="1185"/>
                    <a:pt x="0" y="817"/>
                    <a:pt x="4" y="768"/>
                  </a:cubicBezTo>
                  <a:cubicBezTo>
                    <a:pt x="5" y="755"/>
                    <a:pt x="29" y="774"/>
                    <a:pt x="40" y="780"/>
                  </a:cubicBezTo>
                  <a:cubicBezTo>
                    <a:pt x="65" y="794"/>
                    <a:pt x="88" y="812"/>
                    <a:pt x="112" y="828"/>
                  </a:cubicBezTo>
                  <a:cubicBezTo>
                    <a:pt x="124" y="836"/>
                    <a:pt x="148" y="852"/>
                    <a:pt x="148" y="852"/>
                  </a:cubicBezTo>
                  <a:cubicBezTo>
                    <a:pt x="191" y="916"/>
                    <a:pt x="162" y="878"/>
                    <a:pt x="244" y="960"/>
                  </a:cubicBezTo>
                  <a:cubicBezTo>
                    <a:pt x="264" y="980"/>
                    <a:pt x="292" y="992"/>
                    <a:pt x="316" y="1008"/>
                  </a:cubicBezTo>
                  <a:cubicBezTo>
                    <a:pt x="328" y="1016"/>
                    <a:pt x="352" y="1032"/>
                    <a:pt x="352" y="1032"/>
                  </a:cubicBezTo>
                  <a:cubicBezTo>
                    <a:pt x="548" y="967"/>
                    <a:pt x="333" y="1051"/>
                    <a:pt x="400" y="528"/>
                  </a:cubicBezTo>
                  <a:cubicBezTo>
                    <a:pt x="402" y="510"/>
                    <a:pt x="433" y="543"/>
                    <a:pt x="448" y="552"/>
                  </a:cubicBezTo>
                  <a:cubicBezTo>
                    <a:pt x="473" y="567"/>
                    <a:pt x="496" y="584"/>
                    <a:pt x="520" y="600"/>
                  </a:cubicBezTo>
                  <a:cubicBezTo>
                    <a:pt x="578" y="639"/>
                    <a:pt x="633" y="686"/>
                    <a:pt x="700" y="708"/>
                  </a:cubicBezTo>
                  <a:cubicBezTo>
                    <a:pt x="712" y="720"/>
                    <a:pt x="719" y="744"/>
                    <a:pt x="736" y="744"/>
                  </a:cubicBezTo>
                  <a:cubicBezTo>
                    <a:pt x="750" y="744"/>
                    <a:pt x="758" y="722"/>
                    <a:pt x="760" y="708"/>
                  </a:cubicBezTo>
                  <a:cubicBezTo>
                    <a:pt x="770" y="649"/>
                    <a:pt x="768" y="588"/>
                    <a:pt x="772" y="528"/>
                  </a:cubicBezTo>
                  <a:cubicBezTo>
                    <a:pt x="759" y="437"/>
                    <a:pt x="740" y="341"/>
                    <a:pt x="688" y="264"/>
                  </a:cubicBezTo>
                  <a:cubicBezTo>
                    <a:pt x="720" y="260"/>
                    <a:pt x="752" y="246"/>
                    <a:pt x="784" y="252"/>
                  </a:cubicBezTo>
                  <a:cubicBezTo>
                    <a:pt x="801" y="255"/>
                    <a:pt x="807" y="278"/>
                    <a:pt x="820" y="288"/>
                  </a:cubicBezTo>
                  <a:cubicBezTo>
                    <a:pt x="854" y="315"/>
                    <a:pt x="892" y="336"/>
                    <a:pt x="928" y="360"/>
                  </a:cubicBezTo>
                  <a:cubicBezTo>
                    <a:pt x="939" y="367"/>
                    <a:pt x="953" y="366"/>
                    <a:pt x="964" y="372"/>
                  </a:cubicBezTo>
                  <a:cubicBezTo>
                    <a:pt x="1044" y="412"/>
                    <a:pt x="1128" y="434"/>
                    <a:pt x="1216" y="456"/>
                  </a:cubicBezTo>
                  <a:cubicBezTo>
                    <a:pt x="1189" y="349"/>
                    <a:pt x="1142" y="259"/>
                    <a:pt x="1108" y="156"/>
                  </a:cubicBezTo>
                  <a:cubicBezTo>
                    <a:pt x="1096" y="120"/>
                    <a:pt x="1084" y="84"/>
                    <a:pt x="1072" y="48"/>
                  </a:cubicBezTo>
                  <a:cubicBezTo>
                    <a:pt x="1067" y="32"/>
                    <a:pt x="1060" y="0"/>
                    <a:pt x="1060" y="0"/>
                  </a:cubicBezTo>
                </a:path>
              </a:pathLst>
            </a:custGeom>
            <a:noFill/>
            <a:ln w="507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 flipV="1">
              <a:off x="3657600" y="5105160"/>
              <a:ext cx="1905120" cy="99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Quaternary Structur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osed of 2 or more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“subunits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269e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9e0a"/>
                </a:solidFill>
                <a:latin typeface="Comic Sans MS"/>
              </a:rPr>
              <a:t>Globular in sha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Form in Aqueous environ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enzymes (hemoglobi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4952880" y="4495680"/>
            <a:ext cx="2135880" cy="1371600"/>
            <a:chOff x="4952880" y="4495680"/>
            <a:chExt cx="2135880" cy="1371600"/>
          </a:xfrm>
        </p:grpSpPr>
        <p:sp>
          <p:nvSpPr>
            <p:cNvPr id="340" name="Rectangle 5"/>
            <p:cNvSpPr/>
            <p:nvPr/>
          </p:nvSpPr>
          <p:spPr>
            <a:xfrm>
              <a:off x="5637960" y="4952880"/>
              <a:ext cx="1450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ubuni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 flipV="1">
              <a:off x="4952880" y="5435280"/>
              <a:ext cx="787320" cy="432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4952880" y="4495680"/>
              <a:ext cx="7113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3" name="Group 8"/>
          <p:cNvGrpSpPr/>
          <p:nvPr/>
        </p:nvGrpSpPr>
        <p:grpSpPr>
          <a:xfrm>
            <a:off x="1981080" y="4114800"/>
            <a:ext cx="2971440" cy="2437920"/>
            <a:chOff x="1981080" y="4114800"/>
            <a:chExt cx="2971440" cy="2437920"/>
          </a:xfrm>
        </p:grpSpPr>
        <p:grpSp>
          <p:nvGrpSpPr>
            <p:cNvPr id="344" name="Group 9"/>
            <p:cNvGrpSpPr/>
            <p:nvPr/>
          </p:nvGrpSpPr>
          <p:grpSpPr>
            <a:xfrm>
              <a:off x="1981080" y="5308920"/>
              <a:ext cx="1511640" cy="1243800"/>
              <a:chOff x="1981080" y="5308920"/>
              <a:chExt cx="1511640" cy="1243800"/>
            </a:xfrm>
          </p:grpSpPr>
          <p:sp>
            <p:nvSpPr>
              <p:cNvPr id="345" name="Freeform 10"/>
              <p:cNvSpPr/>
              <p:nvPr/>
            </p:nvSpPr>
            <p:spPr>
              <a:xfrm>
                <a:off x="1981080" y="530892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Freeform 11"/>
              <p:cNvSpPr/>
              <p:nvPr/>
            </p:nvSpPr>
            <p:spPr>
              <a:xfrm>
                <a:off x="2004840" y="535860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Freeform 12"/>
              <p:cNvSpPr/>
              <p:nvPr/>
            </p:nvSpPr>
            <p:spPr>
              <a:xfrm>
                <a:off x="2554200" y="545796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8" name="Group 13"/>
            <p:cNvGrpSpPr/>
            <p:nvPr/>
          </p:nvGrpSpPr>
          <p:grpSpPr>
            <a:xfrm>
              <a:off x="3440880" y="4114800"/>
              <a:ext cx="1511640" cy="1243800"/>
              <a:chOff x="3440880" y="4114800"/>
              <a:chExt cx="1511640" cy="1243800"/>
            </a:xfrm>
          </p:grpSpPr>
          <p:sp>
            <p:nvSpPr>
              <p:cNvPr id="349" name="Freeform 14"/>
              <p:cNvSpPr/>
              <p:nvPr/>
            </p:nvSpPr>
            <p:spPr>
              <a:xfrm>
                <a:off x="3440880" y="411480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0" name="Freeform 15"/>
              <p:cNvSpPr/>
              <p:nvPr/>
            </p:nvSpPr>
            <p:spPr>
              <a:xfrm>
                <a:off x="3464640" y="416448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Freeform 16"/>
              <p:cNvSpPr/>
              <p:nvPr/>
            </p:nvSpPr>
            <p:spPr>
              <a:xfrm>
                <a:off x="4014000" y="426384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2085120" y="4164480"/>
              <a:ext cx="1512000" cy="1243800"/>
              <a:chOff x="2085120" y="4164480"/>
              <a:chExt cx="1512000" cy="1243800"/>
            </a:xfrm>
          </p:grpSpPr>
          <p:sp>
            <p:nvSpPr>
              <p:cNvPr id="353" name="Freeform 18"/>
              <p:cNvSpPr/>
              <p:nvPr/>
            </p:nvSpPr>
            <p:spPr>
              <a:xfrm>
                <a:off x="2085120" y="4164480"/>
                <a:ext cx="1512000" cy="1243800"/>
              </a:xfrm>
              <a:custGeom>
                <a:avLst/>
                <a:gdLst>
                  <a:gd name="textAreaLeft" fmla="*/ 0 w 1512000"/>
                  <a:gd name="textAreaRight" fmla="*/ 1512360 w 151200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4" name="Freeform 19"/>
              <p:cNvSpPr/>
              <p:nvPr/>
            </p:nvSpPr>
            <p:spPr>
              <a:xfrm>
                <a:off x="2108880" y="421416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Freeform 20"/>
              <p:cNvSpPr/>
              <p:nvPr/>
            </p:nvSpPr>
            <p:spPr>
              <a:xfrm>
                <a:off x="2658600" y="4313520"/>
                <a:ext cx="677880" cy="708840"/>
              </a:xfrm>
              <a:custGeom>
                <a:avLst/>
                <a:gdLst>
                  <a:gd name="textAreaLeft" fmla="*/ 0 w 677880"/>
                  <a:gd name="textAreaRight" fmla="*/ 678240 w 67788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6" name="Group 21"/>
            <p:cNvGrpSpPr/>
            <p:nvPr/>
          </p:nvGrpSpPr>
          <p:grpSpPr>
            <a:xfrm>
              <a:off x="3440880" y="5259240"/>
              <a:ext cx="1511640" cy="1243800"/>
              <a:chOff x="3440880" y="5259240"/>
              <a:chExt cx="1511640" cy="1243800"/>
            </a:xfrm>
          </p:grpSpPr>
          <p:sp>
            <p:nvSpPr>
              <p:cNvPr id="357" name="Freeform 22"/>
              <p:cNvSpPr/>
              <p:nvPr/>
            </p:nvSpPr>
            <p:spPr>
              <a:xfrm>
                <a:off x="3440880" y="5259240"/>
                <a:ext cx="1511640" cy="124380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1243800"/>
                  <a:gd name="textAreaBottom" fmla="*/ 1244160 h 1243800"/>
                </a:gdLst>
                <a:ahLst/>
                <a:rect l="textAreaLeft" t="textAreaTop" r="textAreaRight" b="textAreaBottom"/>
                <a:pathLst>
                  <a:path w="3169" h="2185">
                    <a:moveTo>
                      <a:pt x="1908" y="0"/>
                    </a:moveTo>
                    <a:lnTo>
                      <a:pt x="1872" y="24"/>
                    </a:lnTo>
                    <a:lnTo>
                      <a:pt x="1824" y="24"/>
                    </a:lnTo>
                    <a:lnTo>
                      <a:pt x="1752" y="12"/>
                    </a:lnTo>
                    <a:lnTo>
                      <a:pt x="1680" y="12"/>
                    </a:lnTo>
                    <a:lnTo>
                      <a:pt x="1644" y="12"/>
                    </a:lnTo>
                    <a:lnTo>
                      <a:pt x="1608" y="0"/>
                    </a:lnTo>
                    <a:lnTo>
                      <a:pt x="1572" y="0"/>
                    </a:lnTo>
                    <a:lnTo>
                      <a:pt x="1536" y="0"/>
                    </a:lnTo>
                    <a:lnTo>
                      <a:pt x="1500" y="0"/>
                    </a:lnTo>
                    <a:lnTo>
                      <a:pt x="1404" y="0"/>
                    </a:lnTo>
                    <a:lnTo>
                      <a:pt x="1332" y="0"/>
                    </a:lnTo>
                    <a:lnTo>
                      <a:pt x="1260" y="0"/>
                    </a:lnTo>
                    <a:lnTo>
                      <a:pt x="1188" y="12"/>
                    </a:lnTo>
                    <a:lnTo>
                      <a:pt x="1116" y="12"/>
                    </a:lnTo>
                    <a:lnTo>
                      <a:pt x="1044" y="12"/>
                    </a:lnTo>
                    <a:lnTo>
                      <a:pt x="972" y="12"/>
                    </a:lnTo>
                    <a:lnTo>
                      <a:pt x="900" y="12"/>
                    </a:lnTo>
                    <a:lnTo>
                      <a:pt x="828" y="24"/>
                    </a:lnTo>
                    <a:lnTo>
                      <a:pt x="756" y="24"/>
                    </a:lnTo>
                    <a:lnTo>
                      <a:pt x="684" y="24"/>
                    </a:lnTo>
                    <a:lnTo>
                      <a:pt x="588" y="24"/>
                    </a:lnTo>
                    <a:lnTo>
                      <a:pt x="516" y="36"/>
                    </a:lnTo>
                    <a:lnTo>
                      <a:pt x="396" y="48"/>
                    </a:lnTo>
                    <a:lnTo>
                      <a:pt x="324" y="60"/>
                    </a:lnTo>
                    <a:lnTo>
                      <a:pt x="228" y="84"/>
                    </a:lnTo>
                    <a:lnTo>
                      <a:pt x="180" y="96"/>
                    </a:lnTo>
                    <a:lnTo>
                      <a:pt x="132" y="132"/>
                    </a:lnTo>
                    <a:lnTo>
                      <a:pt x="84" y="180"/>
                    </a:lnTo>
                    <a:lnTo>
                      <a:pt x="48" y="216"/>
                    </a:lnTo>
                    <a:lnTo>
                      <a:pt x="36" y="252"/>
                    </a:lnTo>
                    <a:lnTo>
                      <a:pt x="24" y="288"/>
                    </a:lnTo>
                    <a:lnTo>
                      <a:pt x="12" y="336"/>
                    </a:lnTo>
                    <a:lnTo>
                      <a:pt x="0" y="408"/>
                    </a:lnTo>
                    <a:lnTo>
                      <a:pt x="0" y="456"/>
                    </a:lnTo>
                    <a:lnTo>
                      <a:pt x="0" y="492"/>
                    </a:lnTo>
                    <a:lnTo>
                      <a:pt x="0" y="528"/>
                    </a:lnTo>
                    <a:lnTo>
                      <a:pt x="0" y="564"/>
                    </a:lnTo>
                    <a:lnTo>
                      <a:pt x="0" y="636"/>
                    </a:lnTo>
                    <a:lnTo>
                      <a:pt x="0" y="708"/>
                    </a:lnTo>
                    <a:lnTo>
                      <a:pt x="0" y="804"/>
                    </a:lnTo>
                    <a:lnTo>
                      <a:pt x="0" y="876"/>
                    </a:lnTo>
                    <a:lnTo>
                      <a:pt x="0" y="948"/>
                    </a:lnTo>
                    <a:lnTo>
                      <a:pt x="0" y="984"/>
                    </a:lnTo>
                    <a:lnTo>
                      <a:pt x="0" y="1032"/>
                    </a:lnTo>
                    <a:lnTo>
                      <a:pt x="0" y="1080"/>
                    </a:lnTo>
                    <a:lnTo>
                      <a:pt x="0" y="1128"/>
                    </a:lnTo>
                    <a:lnTo>
                      <a:pt x="0" y="1224"/>
                    </a:lnTo>
                    <a:lnTo>
                      <a:pt x="0" y="1320"/>
                    </a:lnTo>
                    <a:lnTo>
                      <a:pt x="12" y="1356"/>
                    </a:lnTo>
                    <a:lnTo>
                      <a:pt x="24" y="1404"/>
                    </a:lnTo>
                    <a:lnTo>
                      <a:pt x="48" y="1452"/>
                    </a:lnTo>
                    <a:lnTo>
                      <a:pt x="60" y="1488"/>
                    </a:lnTo>
                    <a:lnTo>
                      <a:pt x="96" y="1512"/>
                    </a:lnTo>
                    <a:lnTo>
                      <a:pt x="108" y="1584"/>
                    </a:lnTo>
                    <a:lnTo>
                      <a:pt x="132" y="1656"/>
                    </a:lnTo>
                    <a:lnTo>
                      <a:pt x="204" y="1752"/>
                    </a:lnTo>
                    <a:lnTo>
                      <a:pt x="240" y="1800"/>
                    </a:lnTo>
                    <a:lnTo>
                      <a:pt x="276" y="1848"/>
                    </a:lnTo>
                    <a:lnTo>
                      <a:pt x="312" y="1872"/>
                    </a:lnTo>
                    <a:lnTo>
                      <a:pt x="360" y="1920"/>
                    </a:lnTo>
                    <a:lnTo>
                      <a:pt x="432" y="1944"/>
                    </a:lnTo>
                    <a:lnTo>
                      <a:pt x="504" y="1956"/>
                    </a:lnTo>
                    <a:lnTo>
                      <a:pt x="624" y="1992"/>
                    </a:lnTo>
                    <a:lnTo>
                      <a:pt x="696" y="2016"/>
                    </a:lnTo>
                    <a:lnTo>
                      <a:pt x="768" y="2016"/>
                    </a:lnTo>
                    <a:lnTo>
                      <a:pt x="864" y="2028"/>
                    </a:lnTo>
                    <a:lnTo>
                      <a:pt x="936" y="2028"/>
                    </a:lnTo>
                    <a:lnTo>
                      <a:pt x="1008" y="2028"/>
                    </a:lnTo>
                    <a:lnTo>
                      <a:pt x="1104" y="2040"/>
                    </a:lnTo>
                    <a:lnTo>
                      <a:pt x="1176" y="2040"/>
                    </a:lnTo>
                    <a:lnTo>
                      <a:pt x="1248" y="2040"/>
                    </a:lnTo>
                    <a:lnTo>
                      <a:pt x="1368" y="2064"/>
                    </a:lnTo>
                    <a:lnTo>
                      <a:pt x="1464" y="2076"/>
                    </a:lnTo>
                    <a:lnTo>
                      <a:pt x="1560" y="2088"/>
                    </a:lnTo>
                    <a:lnTo>
                      <a:pt x="1656" y="2112"/>
                    </a:lnTo>
                    <a:lnTo>
                      <a:pt x="1728" y="2136"/>
                    </a:lnTo>
                    <a:lnTo>
                      <a:pt x="1800" y="2148"/>
                    </a:lnTo>
                    <a:lnTo>
                      <a:pt x="1848" y="2160"/>
                    </a:lnTo>
                    <a:lnTo>
                      <a:pt x="1920" y="2172"/>
                    </a:lnTo>
                    <a:lnTo>
                      <a:pt x="1992" y="2172"/>
                    </a:lnTo>
                    <a:lnTo>
                      <a:pt x="2088" y="2184"/>
                    </a:lnTo>
                    <a:lnTo>
                      <a:pt x="2184" y="2184"/>
                    </a:lnTo>
                    <a:lnTo>
                      <a:pt x="2328" y="2184"/>
                    </a:lnTo>
                    <a:lnTo>
                      <a:pt x="2472" y="2172"/>
                    </a:lnTo>
                    <a:lnTo>
                      <a:pt x="2592" y="2160"/>
                    </a:lnTo>
                    <a:lnTo>
                      <a:pt x="2688" y="2148"/>
                    </a:lnTo>
                    <a:lnTo>
                      <a:pt x="2724" y="2136"/>
                    </a:lnTo>
                    <a:lnTo>
                      <a:pt x="2820" y="2112"/>
                    </a:lnTo>
                    <a:lnTo>
                      <a:pt x="2916" y="2040"/>
                    </a:lnTo>
                    <a:lnTo>
                      <a:pt x="2988" y="2016"/>
                    </a:lnTo>
                    <a:lnTo>
                      <a:pt x="3060" y="1944"/>
                    </a:lnTo>
                    <a:lnTo>
                      <a:pt x="3132" y="1848"/>
                    </a:lnTo>
                    <a:lnTo>
                      <a:pt x="3144" y="1728"/>
                    </a:lnTo>
                    <a:lnTo>
                      <a:pt x="3156" y="1656"/>
                    </a:lnTo>
                    <a:lnTo>
                      <a:pt x="3168" y="1560"/>
                    </a:lnTo>
                    <a:lnTo>
                      <a:pt x="3168" y="1464"/>
                    </a:lnTo>
                    <a:lnTo>
                      <a:pt x="3168" y="1392"/>
                    </a:lnTo>
                    <a:lnTo>
                      <a:pt x="3168" y="1272"/>
                    </a:lnTo>
                    <a:lnTo>
                      <a:pt x="3156" y="1176"/>
                    </a:lnTo>
                    <a:lnTo>
                      <a:pt x="3156" y="1080"/>
                    </a:lnTo>
                    <a:lnTo>
                      <a:pt x="3144" y="984"/>
                    </a:lnTo>
                    <a:lnTo>
                      <a:pt x="3120" y="864"/>
                    </a:lnTo>
                    <a:lnTo>
                      <a:pt x="3096" y="768"/>
                    </a:lnTo>
                    <a:lnTo>
                      <a:pt x="3072" y="696"/>
                    </a:lnTo>
                    <a:lnTo>
                      <a:pt x="3048" y="624"/>
                    </a:lnTo>
                    <a:lnTo>
                      <a:pt x="2976" y="528"/>
                    </a:lnTo>
                    <a:lnTo>
                      <a:pt x="2904" y="456"/>
                    </a:lnTo>
                    <a:lnTo>
                      <a:pt x="2832" y="384"/>
                    </a:lnTo>
                    <a:lnTo>
                      <a:pt x="2808" y="288"/>
                    </a:lnTo>
                    <a:lnTo>
                      <a:pt x="2760" y="240"/>
                    </a:lnTo>
                    <a:lnTo>
                      <a:pt x="2664" y="204"/>
                    </a:lnTo>
                    <a:lnTo>
                      <a:pt x="2628" y="168"/>
                    </a:lnTo>
                    <a:lnTo>
                      <a:pt x="2580" y="144"/>
                    </a:lnTo>
                    <a:lnTo>
                      <a:pt x="2484" y="108"/>
                    </a:lnTo>
                    <a:lnTo>
                      <a:pt x="2412" y="96"/>
                    </a:lnTo>
                    <a:lnTo>
                      <a:pt x="2292" y="60"/>
                    </a:lnTo>
                    <a:lnTo>
                      <a:pt x="2196" y="48"/>
                    </a:lnTo>
                    <a:lnTo>
                      <a:pt x="2148" y="36"/>
                    </a:lnTo>
                    <a:lnTo>
                      <a:pt x="2112" y="24"/>
                    </a:lnTo>
                    <a:lnTo>
                      <a:pt x="2076" y="24"/>
                    </a:lnTo>
                    <a:lnTo>
                      <a:pt x="2040" y="12"/>
                    </a:lnTo>
                    <a:lnTo>
                      <a:pt x="2004" y="12"/>
                    </a:lnTo>
                    <a:lnTo>
                      <a:pt x="1968" y="12"/>
                    </a:lnTo>
                    <a:lnTo>
                      <a:pt x="1932" y="12"/>
                    </a:lnTo>
                    <a:lnTo>
                      <a:pt x="1896" y="12"/>
                    </a:lnTo>
                    <a:lnTo>
                      <a:pt x="1860" y="36"/>
                    </a:lnTo>
                    <a:lnTo>
                      <a:pt x="1788" y="48"/>
                    </a:lnTo>
                    <a:lnTo>
                      <a:pt x="1716" y="72"/>
                    </a:lnTo>
                    <a:lnTo>
                      <a:pt x="1680" y="84"/>
                    </a:lnTo>
                    <a:lnTo>
                      <a:pt x="1644" y="108"/>
                    </a:lnTo>
                    <a:lnTo>
                      <a:pt x="1608" y="120"/>
                    </a:lnTo>
                    <a:lnTo>
                      <a:pt x="1560" y="132"/>
                    </a:lnTo>
                    <a:lnTo>
                      <a:pt x="1524" y="132"/>
                    </a:lnTo>
                    <a:lnTo>
                      <a:pt x="1488" y="132"/>
                    </a:lnTo>
                    <a:lnTo>
                      <a:pt x="1452" y="120"/>
                    </a:lnTo>
                    <a:lnTo>
                      <a:pt x="1356" y="108"/>
                    </a:lnTo>
                    <a:lnTo>
                      <a:pt x="1308" y="108"/>
                    </a:lnTo>
                    <a:lnTo>
                      <a:pt x="1188" y="96"/>
                    </a:lnTo>
                    <a:lnTo>
                      <a:pt x="1092" y="96"/>
                    </a:lnTo>
                    <a:lnTo>
                      <a:pt x="1020" y="96"/>
                    </a:lnTo>
                    <a:lnTo>
                      <a:pt x="924" y="96"/>
                    </a:lnTo>
                    <a:lnTo>
                      <a:pt x="852" y="96"/>
                    </a:lnTo>
                    <a:lnTo>
                      <a:pt x="780" y="96"/>
                    </a:lnTo>
                    <a:lnTo>
                      <a:pt x="744" y="96"/>
                    </a:lnTo>
                    <a:lnTo>
                      <a:pt x="708" y="96"/>
                    </a:lnTo>
                    <a:lnTo>
                      <a:pt x="612" y="108"/>
                    </a:lnTo>
                    <a:lnTo>
                      <a:pt x="516" y="108"/>
                    </a:lnTo>
                    <a:lnTo>
                      <a:pt x="444" y="120"/>
                    </a:lnTo>
                    <a:lnTo>
                      <a:pt x="372" y="132"/>
                    </a:lnTo>
                    <a:lnTo>
                      <a:pt x="276" y="144"/>
                    </a:lnTo>
                    <a:lnTo>
                      <a:pt x="240" y="144"/>
                    </a:lnTo>
                    <a:lnTo>
                      <a:pt x="204" y="180"/>
                    </a:lnTo>
                    <a:lnTo>
                      <a:pt x="204" y="228"/>
                    </a:lnTo>
                    <a:lnTo>
                      <a:pt x="204" y="300"/>
                    </a:lnTo>
                    <a:lnTo>
                      <a:pt x="204" y="336"/>
                    </a:lnTo>
                    <a:lnTo>
                      <a:pt x="228" y="372"/>
                    </a:lnTo>
                    <a:lnTo>
                      <a:pt x="264" y="396"/>
                    </a:lnTo>
                    <a:lnTo>
                      <a:pt x="360" y="420"/>
                    </a:lnTo>
                    <a:lnTo>
                      <a:pt x="456" y="444"/>
                    </a:lnTo>
                    <a:lnTo>
                      <a:pt x="552" y="456"/>
                    </a:lnTo>
                    <a:lnTo>
                      <a:pt x="648" y="468"/>
                    </a:lnTo>
                    <a:lnTo>
                      <a:pt x="744" y="480"/>
                    </a:lnTo>
                    <a:lnTo>
                      <a:pt x="864" y="492"/>
                    </a:lnTo>
                    <a:lnTo>
                      <a:pt x="912" y="492"/>
                    </a:lnTo>
                    <a:lnTo>
                      <a:pt x="1008" y="468"/>
                    </a:lnTo>
                    <a:lnTo>
                      <a:pt x="1044" y="432"/>
                    </a:lnTo>
                    <a:lnTo>
                      <a:pt x="1044" y="396"/>
                    </a:lnTo>
                    <a:lnTo>
                      <a:pt x="1008" y="372"/>
                    </a:lnTo>
                    <a:lnTo>
                      <a:pt x="972" y="372"/>
                    </a:lnTo>
                    <a:lnTo>
                      <a:pt x="936" y="360"/>
                    </a:lnTo>
                    <a:lnTo>
                      <a:pt x="888" y="348"/>
                    </a:lnTo>
                    <a:lnTo>
                      <a:pt x="792" y="336"/>
                    </a:lnTo>
                    <a:lnTo>
                      <a:pt x="696" y="336"/>
                    </a:lnTo>
                    <a:lnTo>
                      <a:pt x="600" y="324"/>
                    </a:lnTo>
                    <a:lnTo>
                      <a:pt x="504" y="324"/>
                    </a:lnTo>
                    <a:lnTo>
                      <a:pt x="432" y="324"/>
                    </a:lnTo>
                    <a:lnTo>
                      <a:pt x="360" y="324"/>
                    </a:lnTo>
                    <a:lnTo>
                      <a:pt x="288" y="324"/>
                    </a:lnTo>
                    <a:lnTo>
                      <a:pt x="252" y="324"/>
                    </a:lnTo>
                    <a:lnTo>
                      <a:pt x="204" y="348"/>
                    </a:lnTo>
                    <a:lnTo>
                      <a:pt x="168" y="396"/>
                    </a:lnTo>
                    <a:lnTo>
                      <a:pt x="144" y="432"/>
                    </a:lnTo>
                    <a:lnTo>
                      <a:pt x="144" y="480"/>
                    </a:lnTo>
                    <a:lnTo>
                      <a:pt x="144" y="516"/>
                    </a:lnTo>
                    <a:lnTo>
                      <a:pt x="144" y="564"/>
                    </a:lnTo>
                    <a:lnTo>
                      <a:pt x="168" y="660"/>
                    </a:lnTo>
                    <a:lnTo>
                      <a:pt x="180" y="732"/>
                    </a:lnTo>
                    <a:lnTo>
                      <a:pt x="228" y="768"/>
                    </a:lnTo>
                    <a:lnTo>
                      <a:pt x="324" y="792"/>
                    </a:lnTo>
                    <a:lnTo>
                      <a:pt x="420" y="816"/>
                    </a:lnTo>
                    <a:lnTo>
                      <a:pt x="540" y="828"/>
                    </a:lnTo>
                    <a:lnTo>
                      <a:pt x="636" y="840"/>
                    </a:lnTo>
                    <a:lnTo>
                      <a:pt x="732" y="840"/>
                    </a:lnTo>
                    <a:lnTo>
                      <a:pt x="804" y="840"/>
                    </a:lnTo>
                    <a:lnTo>
                      <a:pt x="876" y="840"/>
                    </a:lnTo>
                    <a:lnTo>
                      <a:pt x="912" y="840"/>
                    </a:lnTo>
                    <a:lnTo>
                      <a:pt x="960" y="828"/>
                    </a:lnTo>
                    <a:lnTo>
                      <a:pt x="1032" y="816"/>
                    </a:lnTo>
                    <a:lnTo>
                      <a:pt x="1104" y="804"/>
                    </a:lnTo>
                    <a:lnTo>
                      <a:pt x="1140" y="780"/>
                    </a:lnTo>
                    <a:lnTo>
                      <a:pt x="1140" y="744"/>
                    </a:lnTo>
                    <a:lnTo>
                      <a:pt x="1092" y="720"/>
                    </a:lnTo>
                    <a:lnTo>
                      <a:pt x="1056" y="696"/>
                    </a:lnTo>
                    <a:lnTo>
                      <a:pt x="960" y="684"/>
                    </a:lnTo>
                    <a:lnTo>
                      <a:pt x="864" y="672"/>
                    </a:lnTo>
                    <a:lnTo>
                      <a:pt x="792" y="660"/>
                    </a:lnTo>
                    <a:lnTo>
                      <a:pt x="720" y="660"/>
                    </a:lnTo>
                    <a:lnTo>
                      <a:pt x="600" y="660"/>
                    </a:lnTo>
                    <a:lnTo>
                      <a:pt x="504" y="660"/>
                    </a:lnTo>
                    <a:lnTo>
                      <a:pt x="432" y="660"/>
                    </a:lnTo>
                    <a:lnTo>
                      <a:pt x="360" y="660"/>
                    </a:lnTo>
                    <a:lnTo>
                      <a:pt x="312" y="660"/>
                    </a:lnTo>
                    <a:lnTo>
                      <a:pt x="276" y="672"/>
                    </a:lnTo>
                    <a:lnTo>
                      <a:pt x="240" y="696"/>
                    </a:lnTo>
                    <a:lnTo>
                      <a:pt x="204" y="732"/>
                    </a:lnTo>
                    <a:lnTo>
                      <a:pt x="180" y="768"/>
                    </a:lnTo>
                    <a:lnTo>
                      <a:pt x="168" y="804"/>
                    </a:lnTo>
                    <a:lnTo>
                      <a:pt x="168" y="852"/>
                    </a:lnTo>
                    <a:lnTo>
                      <a:pt x="192" y="888"/>
                    </a:lnTo>
                    <a:lnTo>
                      <a:pt x="204" y="924"/>
                    </a:lnTo>
                    <a:lnTo>
                      <a:pt x="228" y="972"/>
                    </a:lnTo>
                    <a:lnTo>
                      <a:pt x="324" y="1068"/>
                    </a:lnTo>
                    <a:lnTo>
                      <a:pt x="420" y="1164"/>
                    </a:lnTo>
                    <a:lnTo>
                      <a:pt x="492" y="1188"/>
                    </a:lnTo>
                    <a:lnTo>
                      <a:pt x="564" y="1212"/>
                    </a:lnTo>
                    <a:lnTo>
                      <a:pt x="636" y="1224"/>
                    </a:lnTo>
                    <a:lnTo>
                      <a:pt x="684" y="1224"/>
                    </a:lnTo>
                    <a:lnTo>
                      <a:pt x="732" y="1224"/>
                    </a:lnTo>
                    <a:lnTo>
                      <a:pt x="768" y="1224"/>
                    </a:lnTo>
                    <a:lnTo>
                      <a:pt x="864" y="1212"/>
                    </a:lnTo>
                    <a:lnTo>
                      <a:pt x="912" y="1200"/>
                    </a:lnTo>
                    <a:lnTo>
                      <a:pt x="948" y="1176"/>
                    </a:lnTo>
                    <a:lnTo>
                      <a:pt x="996" y="1152"/>
                    </a:lnTo>
                    <a:lnTo>
                      <a:pt x="1008" y="1116"/>
                    </a:lnTo>
                    <a:lnTo>
                      <a:pt x="1032" y="1080"/>
                    </a:lnTo>
                    <a:lnTo>
                      <a:pt x="1020" y="1044"/>
                    </a:lnTo>
                    <a:lnTo>
                      <a:pt x="972" y="1020"/>
                    </a:lnTo>
                    <a:lnTo>
                      <a:pt x="876" y="1020"/>
                    </a:lnTo>
                    <a:lnTo>
                      <a:pt x="780" y="1020"/>
                    </a:lnTo>
                    <a:lnTo>
                      <a:pt x="684" y="1020"/>
                    </a:lnTo>
                    <a:lnTo>
                      <a:pt x="564" y="1020"/>
                    </a:lnTo>
                    <a:lnTo>
                      <a:pt x="444" y="1020"/>
                    </a:lnTo>
                    <a:lnTo>
                      <a:pt x="348" y="1020"/>
                    </a:lnTo>
                    <a:lnTo>
                      <a:pt x="276" y="1020"/>
                    </a:lnTo>
                    <a:lnTo>
                      <a:pt x="204" y="1020"/>
                    </a:lnTo>
                    <a:lnTo>
                      <a:pt x="156" y="1032"/>
                    </a:lnTo>
                    <a:lnTo>
                      <a:pt x="120" y="1056"/>
                    </a:lnTo>
                    <a:lnTo>
                      <a:pt x="84" y="1092"/>
                    </a:lnTo>
                    <a:lnTo>
                      <a:pt x="72" y="1128"/>
                    </a:lnTo>
                    <a:lnTo>
                      <a:pt x="60" y="1176"/>
                    </a:lnTo>
                    <a:lnTo>
                      <a:pt x="60" y="1212"/>
                    </a:lnTo>
                    <a:lnTo>
                      <a:pt x="84" y="1248"/>
                    </a:lnTo>
                    <a:lnTo>
                      <a:pt x="120" y="1284"/>
                    </a:lnTo>
                    <a:lnTo>
                      <a:pt x="156" y="1332"/>
                    </a:lnTo>
                    <a:lnTo>
                      <a:pt x="228" y="1356"/>
                    </a:lnTo>
                    <a:lnTo>
                      <a:pt x="324" y="1380"/>
                    </a:lnTo>
                    <a:lnTo>
                      <a:pt x="420" y="1452"/>
                    </a:lnTo>
                    <a:lnTo>
                      <a:pt x="468" y="1488"/>
                    </a:lnTo>
                    <a:lnTo>
                      <a:pt x="540" y="1500"/>
                    </a:lnTo>
                    <a:lnTo>
                      <a:pt x="636" y="1500"/>
                    </a:lnTo>
                    <a:lnTo>
                      <a:pt x="708" y="1500"/>
                    </a:lnTo>
                    <a:lnTo>
                      <a:pt x="780" y="1500"/>
                    </a:lnTo>
                    <a:lnTo>
                      <a:pt x="852" y="1500"/>
                    </a:lnTo>
                    <a:lnTo>
                      <a:pt x="924" y="1500"/>
                    </a:lnTo>
                    <a:lnTo>
                      <a:pt x="972" y="1500"/>
                    </a:lnTo>
                    <a:lnTo>
                      <a:pt x="1008" y="1476"/>
                    </a:lnTo>
                    <a:lnTo>
                      <a:pt x="1032" y="1428"/>
                    </a:lnTo>
                    <a:lnTo>
                      <a:pt x="1020" y="1380"/>
                    </a:lnTo>
                    <a:lnTo>
                      <a:pt x="984" y="1368"/>
                    </a:lnTo>
                    <a:lnTo>
                      <a:pt x="936" y="1368"/>
                    </a:lnTo>
                    <a:lnTo>
                      <a:pt x="840" y="1368"/>
                    </a:lnTo>
                    <a:lnTo>
                      <a:pt x="768" y="1368"/>
                    </a:lnTo>
                    <a:lnTo>
                      <a:pt x="672" y="1368"/>
                    </a:lnTo>
                    <a:lnTo>
                      <a:pt x="576" y="1368"/>
                    </a:lnTo>
                    <a:lnTo>
                      <a:pt x="504" y="1368"/>
                    </a:lnTo>
                    <a:lnTo>
                      <a:pt x="456" y="1380"/>
                    </a:lnTo>
                    <a:lnTo>
                      <a:pt x="408" y="1392"/>
                    </a:lnTo>
                    <a:lnTo>
                      <a:pt x="372" y="1404"/>
                    </a:lnTo>
                    <a:lnTo>
                      <a:pt x="336" y="1428"/>
                    </a:lnTo>
                    <a:lnTo>
                      <a:pt x="312" y="1464"/>
                    </a:lnTo>
                    <a:lnTo>
                      <a:pt x="276" y="1500"/>
                    </a:lnTo>
                    <a:lnTo>
                      <a:pt x="264" y="1536"/>
                    </a:lnTo>
                    <a:lnTo>
                      <a:pt x="252" y="1572"/>
                    </a:lnTo>
                    <a:lnTo>
                      <a:pt x="252" y="1608"/>
                    </a:lnTo>
                    <a:lnTo>
                      <a:pt x="252" y="1644"/>
                    </a:lnTo>
                    <a:lnTo>
                      <a:pt x="252" y="1680"/>
                    </a:lnTo>
                    <a:lnTo>
                      <a:pt x="264" y="1716"/>
                    </a:lnTo>
                    <a:lnTo>
                      <a:pt x="300" y="1740"/>
                    </a:lnTo>
                    <a:lnTo>
                      <a:pt x="396" y="1776"/>
                    </a:lnTo>
                    <a:lnTo>
                      <a:pt x="468" y="1788"/>
                    </a:lnTo>
                    <a:lnTo>
                      <a:pt x="540" y="1800"/>
                    </a:lnTo>
                    <a:lnTo>
                      <a:pt x="636" y="1812"/>
                    </a:lnTo>
                    <a:lnTo>
                      <a:pt x="684" y="1812"/>
                    </a:lnTo>
                    <a:lnTo>
                      <a:pt x="720" y="1812"/>
                    </a:lnTo>
                    <a:lnTo>
                      <a:pt x="768" y="1800"/>
                    </a:lnTo>
                    <a:lnTo>
                      <a:pt x="804" y="1788"/>
                    </a:lnTo>
                    <a:lnTo>
                      <a:pt x="888" y="1788"/>
                    </a:lnTo>
                    <a:lnTo>
                      <a:pt x="924" y="1788"/>
                    </a:lnTo>
                    <a:lnTo>
                      <a:pt x="1008" y="1776"/>
                    </a:lnTo>
                    <a:lnTo>
                      <a:pt x="1044" y="1776"/>
                    </a:lnTo>
                    <a:lnTo>
                      <a:pt x="1092" y="1740"/>
                    </a:lnTo>
                    <a:lnTo>
                      <a:pt x="1128" y="1692"/>
                    </a:lnTo>
                    <a:lnTo>
                      <a:pt x="1152" y="1656"/>
                    </a:lnTo>
                    <a:lnTo>
                      <a:pt x="1164" y="1584"/>
                    </a:lnTo>
                    <a:lnTo>
                      <a:pt x="1188" y="1536"/>
                    </a:lnTo>
                    <a:lnTo>
                      <a:pt x="1188" y="1464"/>
                    </a:lnTo>
                    <a:lnTo>
                      <a:pt x="1188" y="1368"/>
                    </a:lnTo>
                    <a:lnTo>
                      <a:pt x="1188" y="1320"/>
                    </a:lnTo>
                    <a:lnTo>
                      <a:pt x="1188" y="1224"/>
                    </a:lnTo>
                    <a:lnTo>
                      <a:pt x="1188" y="1128"/>
                    </a:lnTo>
                    <a:lnTo>
                      <a:pt x="1188" y="1056"/>
                    </a:lnTo>
                    <a:lnTo>
                      <a:pt x="1188" y="984"/>
                    </a:lnTo>
                    <a:lnTo>
                      <a:pt x="1200" y="1032"/>
                    </a:lnTo>
                    <a:lnTo>
                      <a:pt x="1212" y="1068"/>
                    </a:lnTo>
                    <a:lnTo>
                      <a:pt x="1248" y="1092"/>
                    </a:lnTo>
                    <a:lnTo>
                      <a:pt x="1296" y="1140"/>
                    </a:lnTo>
                    <a:lnTo>
                      <a:pt x="1332" y="1176"/>
                    </a:lnTo>
                    <a:lnTo>
                      <a:pt x="1368" y="1200"/>
                    </a:lnTo>
                    <a:lnTo>
                      <a:pt x="1452" y="1296"/>
                    </a:lnTo>
                    <a:lnTo>
                      <a:pt x="1524" y="1320"/>
                    </a:lnTo>
                    <a:lnTo>
                      <a:pt x="1536" y="1224"/>
                    </a:lnTo>
                    <a:lnTo>
                      <a:pt x="1548" y="1104"/>
                    </a:lnTo>
                    <a:lnTo>
                      <a:pt x="1548" y="984"/>
                    </a:lnTo>
                    <a:lnTo>
                      <a:pt x="1548" y="888"/>
                    </a:lnTo>
                    <a:lnTo>
                      <a:pt x="1548" y="816"/>
                    </a:lnTo>
                    <a:lnTo>
                      <a:pt x="1524" y="780"/>
                    </a:lnTo>
                    <a:lnTo>
                      <a:pt x="1512" y="744"/>
                    </a:lnTo>
                    <a:lnTo>
                      <a:pt x="1548" y="792"/>
                    </a:lnTo>
                    <a:lnTo>
                      <a:pt x="1584" y="816"/>
                    </a:lnTo>
                    <a:lnTo>
                      <a:pt x="1632" y="852"/>
                    </a:lnTo>
                    <a:lnTo>
                      <a:pt x="1680" y="900"/>
                    </a:lnTo>
                    <a:lnTo>
                      <a:pt x="1752" y="924"/>
                    </a:lnTo>
                    <a:lnTo>
                      <a:pt x="1788" y="960"/>
                    </a:lnTo>
                    <a:lnTo>
                      <a:pt x="1836" y="984"/>
                    </a:lnTo>
                    <a:lnTo>
                      <a:pt x="1872" y="1008"/>
                    </a:lnTo>
                    <a:lnTo>
                      <a:pt x="1908" y="1032"/>
                    </a:lnTo>
                    <a:lnTo>
                      <a:pt x="1896" y="912"/>
                    </a:lnTo>
                    <a:lnTo>
                      <a:pt x="1884" y="816"/>
                    </a:lnTo>
                    <a:lnTo>
                      <a:pt x="1884" y="720"/>
                    </a:lnTo>
                    <a:lnTo>
                      <a:pt x="1860" y="684"/>
                    </a:lnTo>
                    <a:lnTo>
                      <a:pt x="1860" y="648"/>
                    </a:lnTo>
                    <a:lnTo>
                      <a:pt x="1848" y="552"/>
                    </a:lnTo>
                    <a:lnTo>
                      <a:pt x="1836" y="516"/>
                    </a:lnTo>
                    <a:lnTo>
                      <a:pt x="1872" y="540"/>
                    </a:lnTo>
                    <a:lnTo>
                      <a:pt x="1908" y="564"/>
                    </a:lnTo>
                    <a:lnTo>
                      <a:pt x="2004" y="612"/>
                    </a:lnTo>
                    <a:lnTo>
                      <a:pt x="2076" y="636"/>
                    </a:lnTo>
                    <a:lnTo>
                      <a:pt x="2172" y="660"/>
                    </a:lnTo>
                    <a:lnTo>
                      <a:pt x="2208" y="684"/>
                    </a:lnTo>
                    <a:lnTo>
                      <a:pt x="2244" y="708"/>
                    </a:lnTo>
                    <a:lnTo>
                      <a:pt x="2280" y="732"/>
                    </a:lnTo>
                    <a:lnTo>
                      <a:pt x="2316" y="756"/>
                    </a:lnTo>
                    <a:lnTo>
                      <a:pt x="2328" y="720"/>
                    </a:lnTo>
                    <a:lnTo>
                      <a:pt x="2304" y="624"/>
                    </a:lnTo>
                    <a:lnTo>
                      <a:pt x="2292" y="552"/>
                    </a:lnTo>
                    <a:lnTo>
                      <a:pt x="2268" y="504"/>
                    </a:lnTo>
                    <a:lnTo>
                      <a:pt x="2256" y="468"/>
                    </a:lnTo>
                    <a:lnTo>
                      <a:pt x="2232" y="420"/>
                    </a:lnTo>
                    <a:lnTo>
                      <a:pt x="2220" y="372"/>
                    </a:lnTo>
                    <a:lnTo>
                      <a:pt x="2196" y="324"/>
                    </a:lnTo>
                    <a:lnTo>
                      <a:pt x="2184" y="288"/>
                    </a:lnTo>
                    <a:lnTo>
                      <a:pt x="2220" y="300"/>
                    </a:lnTo>
                    <a:lnTo>
                      <a:pt x="2292" y="312"/>
                    </a:lnTo>
                    <a:lnTo>
                      <a:pt x="2364" y="324"/>
                    </a:lnTo>
                    <a:lnTo>
                      <a:pt x="2460" y="360"/>
                    </a:lnTo>
                    <a:lnTo>
                      <a:pt x="2508" y="372"/>
                    </a:lnTo>
                    <a:lnTo>
                      <a:pt x="2604" y="408"/>
                    </a:lnTo>
                    <a:lnTo>
                      <a:pt x="2676" y="432"/>
                    </a:lnTo>
                    <a:lnTo>
                      <a:pt x="2712" y="456"/>
                    </a:lnTo>
                    <a:lnTo>
                      <a:pt x="2748" y="576"/>
                    </a:lnTo>
                    <a:lnTo>
                      <a:pt x="2772" y="648"/>
                    </a:lnTo>
                    <a:lnTo>
                      <a:pt x="2784" y="720"/>
                    </a:lnTo>
                    <a:lnTo>
                      <a:pt x="2796" y="816"/>
                    </a:lnTo>
                    <a:lnTo>
                      <a:pt x="2796" y="912"/>
                    </a:lnTo>
                    <a:lnTo>
                      <a:pt x="2796" y="1008"/>
                    </a:lnTo>
                    <a:lnTo>
                      <a:pt x="2772" y="1056"/>
                    </a:lnTo>
                    <a:lnTo>
                      <a:pt x="2760" y="1128"/>
                    </a:lnTo>
                    <a:lnTo>
                      <a:pt x="2748" y="1200"/>
                    </a:lnTo>
                    <a:lnTo>
                      <a:pt x="2712" y="1248"/>
                    </a:lnTo>
                    <a:lnTo>
                      <a:pt x="2688" y="1296"/>
                    </a:lnTo>
                    <a:lnTo>
                      <a:pt x="2652" y="1176"/>
                    </a:lnTo>
                    <a:lnTo>
                      <a:pt x="2580" y="1104"/>
                    </a:lnTo>
                    <a:lnTo>
                      <a:pt x="2568" y="1032"/>
                    </a:lnTo>
                    <a:lnTo>
                      <a:pt x="2520" y="984"/>
                    </a:lnTo>
                    <a:lnTo>
                      <a:pt x="2484" y="960"/>
                    </a:lnTo>
                    <a:lnTo>
                      <a:pt x="2448" y="960"/>
                    </a:lnTo>
                    <a:lnTo>
                      <a:pt x="2400" y="960"/>
                    </a:lnTo>
                    <a:lnTo>
                      <a:pt x="2352" y="984"/>
                    </a:lnTo>
                    <a:lnTo>
                      <a:pt x="2256" y="1032"/>
                    </a:lnTo>
                    <a:lnTo>
                      <a:pt x="2244" y="1104"/>
                    </a:lnTo>
                    <a:lnTo>
                      <a:pt x="2208" y="1200"/>
                    </a:lnTo>
                    <a:lnTo>
                      <a:pt x="2196" y="1272"/>
                    </a:lnTo>
                    <a:lnTo>
                      <a:pt x="2172" y="1308"/>
                    </a:lnTo>
                    <a:lnTo>
                      <a:pt x="2172" y="1344"/>
                    </a:lnTo>
                    <a:lnTo>
                      <a:pt x="2220" y="1392"/>
                    </a:lnTo>
                    <a:lnTo>
                      <a:pt x="2256" y="1416"/>
                    </a:lnTo>
                    <a:lnTo>
                      <a:pt x="2292" y="1392"/>
                    </a:lnTo>
                    <a:lnTo>
                      <a:pt x="2328" y="1296"/>
                    </a:lnTo>
                    <a:lnTo>
                      <a:pt x="2328" y="1248"/>
                    </a:lnTo>
                    <a:lnTo>
                      <a:pt x="2304" y="1200"/>
                    </a:lnTo>
                    <a:lnTo>
                      <a:pt x="2268" y="1176"/>
                    </a:lnTo>
                    <a:lnTo>
                      <a:pt x="2232" y="1164"/>
                    </a:lnTo>
                    <a:lnTo>
                      <a:pt x="2160" y="1164"/>
                    </a:lnTo>
                    <a:lnTo>
                      <a:pt x="2088" y="1188"/>
                    </a:lnTo>
                    <a:lnTo>
                      <a:pt x="2040" y="1200"/>
                    </a:lnTo>
                    <a:lnTo>
                      <a:pt x="1968" y="1212"/>
                    </a:lnTo>
                    <a:lnTo>
                      <a:pt x="1872" y="1260"/>
                    </a:lnTo>
                    <a:lnTo>
                      <a:pt x="1836" y="1296"/>
                    </a:lnTo>
                    <a:lnTo>
                      <a:pt x="1824" y="1332"/>
                    </a:lnTo>
                    <a:lnTo>
                      <a:pt x="1812" y="1368"/>
                    </a:lnTo>
                    <a:lnTo>
                      <a:pt x="1800" y="1416"/>
                    </a:lnTo>
                    <a:lnTo>
                      <a:pt x="1800" y="1452"/>
                    </a:lnTo>
                    <a:lnTo>
                      <a:pt x="1800" y="1488"/>
                    </a:lnTo>
                    <a:lnTo>
                      <a:pt x="1836" y="1512"/>
                    </a:lnTo>
                    <a:lnTo>
                      <a:pt x="1872" y="1524"/>
                    </a:lnTo>
                    <a:lnTo>
                      <a:pt x="1908" y="1536"/>
                    </a:lnTo>
                    <a:lnTo>
                      <a:pt x="1944" y="1500"/>
                    </a:lnTo>
                    <a:lnTo>
                      <a:pt x="1968" y="1464"/>
                    </a:lnTo>
                    <a:lnTo>
                      <a:pt x="1968" y="1428"/>
                    </a:lnTo>
                    <a:lnTo>
                      <a:pt x="1944" y="1392"/>
                    </a:lnTo>
                    <a:lnTo>
                      <a:pt x="1908" y="1356"/>
                    </a:lnTo>
                    <a:lnTo>
                      <a:pt x="1860" y="1344"/>
                    </a:lnTo>
                    <a:lnTo>
                      <a:pt x="1812" y="1356"/>
                    </a:lnTo>
                    <a:lnTo>
                      <a:pt x="1764" y="1380"/>
                    </a:lnTo>
                    <a:lnTo>
                      <a:pt x="1728" y="1404"/>
                    </a:lnTo>
                    <a:lnTo>
                      <a:pt x="1692" y="1428"/>
                    </a:lnTo>
                    <a:lnTo>
                      <a:pt x="1656" y="1464"/>
                    </a:lnTo>
                    <a:lnTo>
                      <a:pt x="1620" y="1512"/>
                    </a:lnTo>
                    <a:lnTo>
                      <a:pt x="1596" y="1548"/>
                    </a:lnTo>
                    <a:lnTo>
                      <a:pt x="1572" y="1596"/>
                    </a:lnTo>
                    <a:lnTo>
                      <a:pt x="1560" y="1680"/>
                    </a:lnTo>
                    <a:lnTo>
                      <a:pt x="1560" y="1716"/>
                    </a:lnTo>
                    <a:lnTo>
                      <a:pt x="1596" y="1752"/>
                    </a:lnTo>
                    <a:lnTo>
                      <a:pt x="1644" y="1764"/>
                    </a:lnTo>
                    <a:lnTo>
                      <a:pt x="1680" y="1764"/>
                    </a:lnTo>
                    <a:lnTo>
                      <a:pt x="1716" y="1740"/>
                    </a:lnTo>
                    <a:lnTo>
                      <a:pt x="1740" y="1704"/>
                    </a:lnTo>
                    <a:lnTo>
                      <a:pt x="1740" y="1656"/>
                    </a:lnTo>
                    <a:lnTo>
                      <a:pt x="1716" y="1620"/>
                    </a:lnTo>
                    <a:lnTo>
                      <a:pt x="1680" y="1596"/>
                    </a:lnTo>
                    <a:lnTo>
                      <a:pt x="1644" y="1584"/>
                    </a:lnTo>
                    <a:lnTo>
                      <a:pt x="1548" y="1584"/>
                    </a:lnTo>
                    <a:lnTo>
                      <a:pt x="1476" y="1572"/>
                    </a:lnTo>
                    <a:lnTo>
                      <a:pt x="1428" y="1572"/>
                    </a:lnTo>
                    <a:lnTo>
                      <a:pt x="1356" y="1572"/>
                    </a:lnTo>
                    <a:lnTo>
                      <a:pt x="1308" y="1584"/>
                    </a:lnTo>
                    <a:lnTo>
                      <a:pt x="1236" y="1596"/>
                    </a:lnTo>
                    <a:lnTo>
                      <a:pt x="1200" y="1608"/>
                    </a:lnTo>
                    <a:lnTo>
                      <a:pt x="1164" y="1632"/>
                    </a:lnTo>
                    <a:lnTo>
                      <a:pt x="1140" y="1668"/>
                    </a:lnTo>
                    <a:lnTo>
                      <a:pt x="1140" y="1704"/>
                    </a:lnTo>
                    <a:lnTo>
                      <a:pt x="1128" y="1740"/>
                    </a:lnTo>
                    <a:lnTo>
                      <a:pt x="1128" y="1776"/>
                    </a:lnTo>
                    <a:lnTo>
                      <a:pt x="1128" y="1812"/>
                    </a:lnTo>
                    <a:lnTo>
                      <a:pt x="1164" y="1860"/>
                    </a:lnTo>
                    <a:lnTo>
                      <a:pt x="1200" y="1884"/>
                    </a:lnTo>
                    <a:lnTo>
                      <a:pt x="1248" y="1920"/>
                    </a:lnTo>
                    <a:lnTo>
                      <a:pt x="1296" y="1944"/>
                    </a:lnTo>
                    <a:lnTo>
                      <a:pt x="1344" y="1956"/>
                    </a:lnTo>
                    <a:lnTo>
                      <a:pt x="1380" y="1956"/>
                    </a:lnTo>
                    <a:lnTo>
                      <a:pt x="1428" y="1956"/>
                    </a:lnTo>
                    <a:lnTo>
                      <a:pt x="1512" y="1956"/>
                    </a:lnTo>
                    <a:lnTo>
                      <a:pt x="1584" y="1956"/>
                    </a:lnTo>
                    <a:lnTo>
                      <a:pt x="1656" y="1956"/>
                    </a:lnTo>
                    <a:lnTo>
                      <a:pt x="1728" y="1956"/>
                    </a:lnTo>
                    <a:lnTo>
                      <a:pt x="1800" y="1956"/>
                    </a:lnTo>
                    <a:lnTo>
                      <a:pt x="1836" y="1956"/>
                    </a:lnTo>
                    <a:lnTo>
                      <a:pt x="1872" y="1932"/>
                    </a:lnTo>
                    <a:lnTo>
                      <a:pt x="1908" y="1908"/>
                    </a:lnTo>
                    <a:lnTo>
                      <a:pt x="1944" y="1872"/>
                    </a:lnTo>
                    <a:lnTo>
                      <a:pt x="1980" y="1848"/>
                    </a:lnTo>
                    <a:lnTo>
                      <a:pt x="2004" y="1812"/>
                    </a:lnTo>
                    <a:lnTo>
                      <a:pt x="2040" y="1788"/>
                    </a:lnTo>
                    <a:lnTo>
                      <a:pt x="2088" y="1764"/>
                    </a:lnTo>
                    <a:lnTo>
                      <a:pt x="2136" y="1728"/>
                    </a:lnTo>
                    <a:lnTo>
                      <a:pt x="2184" y="1704"/>
                    </a:lnTo>
                    <a:lnTo>
                      <a:pt x="2220" y="1704"/>
                    </a:lnTo>
                    <a:lnTo>
                      <a:pt x="2256" y="1716"/>
                    </a:lnTo>
                    <a:lnTo>
                      <a:pt x="2292" y="1752"/>
                    </a:lnTo>
                    <a:lnTo>
                      <a:pt x="2304" y="1788"/>
                    </a:lnTo>
                    <a:lnTo>
                      <a:pt x="2316" y="1824"/>
                    </a:lnTo>
                    <a:lnTo>
                      <a:pt x="2328" y="1860"/>
                    </a:lnTo>
                    <a:lnTo>
                      <a:pt x="2364" y="1884"/>
                    </a:lnTo>
                    <a:lnTo>
                      <a:pt x="2448" y="1920"/>
                    </a:lnTo>
                    <a:lnTo>
                      <a:pt x="2544" y="1944"/>
                    </a:lnTo>
                    <a:lnTo>
                      <a:pt x="2592" y="1956"/>
                    </a:lnTo>
                    <a:lnTo>
                      <a:pt x="2664" y="1956"/>
                    </a:lnTo>
                    <a:lnTo>
                      <a:pt x="2736" y="1956"/>
                    </a:lnTo>
                    <a:lnTo>
                      <a:pt x="2784" y="1944"/>
                    </a:lnTo>
                    <a:lnTo>
                      <a:pt x="2856" y="1932"/>
                    </a:lnTo>
                    <a:lnTo>
                      <a:pt x="2904" y="1884"/>
                    </a:lnTo>
                    <a:lnTo>
                      <a:pt x="2916" y="1812"/>
                    </a:lnTo>
                    <a:lnTo>
                      <a:pt x="2940" y="1764"/>
                    </a:lnTo>
                    <a:lnTo>
                      <a:pt x="2940" y="1668"/>
                    </a:lnTo>
                    <a:lnTo>
                      <a:pt x="2928" y="1632"/>
                    </a:lnTo>
                    <a:lnTo>
                      <a:pt x="2892" y="1608"/>
                    </a:lnTo>
                    <a:lnTo>
                      <a:pt x="2856" y="1584"/>
                    </a:lnTo>
                    <a:lnTo>
                      <a:pt x="2784" y="1584"/>
                    </a:lnTo>
                    <a:lnTo>
                      <a:pt x="2712" y="1584"/>
                    </a:lnTo>
                    <a:lnTo>
                      <a:pt x="2664" y="1584"/>
                    </a:lnTo>
                    <a:lnTo>
                      <a:pt x="2592" y="1584"/>
                    </a:lnTo>
                    <a:lnTo>
                      <a:pt x="2496" y="1584"/>
                    </a:lnTo>
                    <a:lnTo>
                      <a:pt x="2424" y="1596"/>
                    </a:lnTo>
                    <a:lnTo>
                      <a:pt x="2328" y="1608"/>
                    </a:lnTo>
                    <a:lnTo>
                      <a:pt x="2256" y="1620"/>
                    </a:lnTo>
                    <a:lnTo>
                      <a:pt x="2208" y="1644"/>
                    </a:lnTo>
                    <a:lnTo>
                      <a:pt x="2184" y="1680"/>
                    </a:lnTo>
                    <a:lnTo>
                      <a:pt x="2172" y="1716"/>
                    </a:lnTo>
                    <a:lnTo>
                      <a:pt x="2220" y="1752"/>
                    </a:lnTo>
                    <a:lnTo>
                      <a:pt x="2340" y="1776"/>
                    </a:lnTo>
                    <a:lnTo>
                      <a:pt x="2376" y="1788"/>
                    </a:lnTo>
                    <a:lnTo>
                      <a:pt x="2472" y="1764"/>
                    </a:lnTo>
                    <a:lnTo>
                      <a:pt x="2544" y="1740"/>
                    </a:lnTo>
                    <a:lnTo>
                      <a:pt x="2616" y="1716"/>
                    </a:lnTo>
                    <a:lnTo>
                      <a:pt x="2712" y="1620"/>
                    </a:lnTo>
                    <a:lnTo>
                      <a:pt x="2784" y="1548"/>
                    </a:lnTo>
                    <a:lnTo>
                      <a:pt x="2808" y="1476"/>
                    </a:lnTo>
                    <a:lnTo>
                      <a:pt x="2820" y="1404"/>
                    </a:lnTo>
                    <a:lnTo>
                      <a:pt x="2832" y="1332"/>
                    </a:lnTo>
                    <a:lnTo>
                      <a:pt x="2832" y="1260"/>
                    </a:lnTo>
                    <a:lnTo>
                      <a:pt x="2796" y="1224"/>
                    </a:lnTo>
                    <a:lnTo>
                      <a:pt x="2724" y="1212"/>
                    </a:lnTo>
                    <a:lnTo>
                      <a:pt x="2604" y="1200"/>
                    </a:lnTo>
                    <a:lnTo>
                      <a:pt x="2508" y="1188"/>
                    </a:lnTo>
                    <a:lnTo>
                      <a:pt x="2364" y="1188"/>
                    </a:lnTo>
                    <a:lnTo>
                      <a:pt x="2268" y="1188"/>
                    </a:lnTo>
                    <a:lnTo>
                      <a:pt x="2172" y="1188"/>
                    </a:lnTo>
                    <a:lnTo>
                      <a:pt x="2076" y="1212"/>
                    </a:lnTo>
                    <a:lnTo>
                      <a:pt x="1980" y="1224"/>
                    </a:lnTo>
                    <a:lnTo>
                      <a:pt x="1884" y="1236"/>
                    </a:lnTo>
                    <a:lnTo>
                      <a:pt x="1812" y="1248"/>
                    </a:lnTo>
                    <a:lnTo>
                      <a:pt x="1776" y="1272"/>
                    </a:lnTo>
                    <a:lnTo>
                      <a:pt x="1728" y="1320"/>
                    </a:lnTo>
                    <a:lnTo>
                      <a:pt x="1728" y="1368"/>
                    </a:lnTo>
                    <a:lnTo>
                      <a:pt x="1716" y="1404"/>
                    </a:lnTo>
                    <a:lnTo>
                      <a:pt x="1752" y="1440"/>
                    </a:lnTo>
                    <a:lnTo>
                      <a:pt x="1848" y="1464"/>
                    </a:lnTo>
                    <a:lnTo>
                      <a:pt x="1968" y="1476"/>
                    </a:lnTo>
                    <a:lnTo>
                      <a:pt x="2040" y="1476"/>
                    </a:lnTo>
                    <a:lnTo>
                      <a:pt x="2088" y="1464"/>
                    </a:lnTo>
                    <a:lnTo>
                      <a:pt x="2160" y="1452"/>
                    </a:lnTo>
                    <a:lnTo>
                      <a:pt x="2256" y="1428"/>
                    </a:lnTo>
                    <a:lnTo>
                      <a:pt x="2328" y="1404"/>
                    </a:lnTo>
                    <a:lnTo>
                      <a:pt x="2400" y="1392"/>
                    </a:lnTo>
                    <a:lnTo>
                      <a:pt x="2424" y="1320"/>
                    </a:lnTo>
                    <a:lnTo>
                      <a:pt x="2448" y="1248"/>
                    </a:lnTo>
                    <a:lnTo>
                      <a:pt x="2484" y="1200"/>
                    </a:lnTo>
                    <a:lnTo>
                      <a:pt x="2484" y="1152"/>
                    </a:lnTo>
                    <a:lnTo>
                      <a:pt x="2460" y="1116"/>
                    </a:lnTo>
                    <a:lnTo>
                      <a:pt x="2388" y="1104"/>
                    </a:lnTo>
                    <a:lnTo>
                      <a:pt x="2316" y="1092"/>
                    </a:lnTo>
                    <a:lnTo>
                      <a:pt x="2220" y="1080"/>
                    </a:lnTo>
                    <a:lnTo>
                      <a:pt x="2076" y="1056"/>
                    </a:lnTo>
                    <a:lnTo>
                      <a:pt x="1908" y="1044"/>
                    </a:lnTo>
                    <a:lnTo>
                      <a:pt x="1764" y="1032"/>
                    </a:lnTo>
                    <a:lnTo>
                      <a:pt x="1644" y="1032"/>
                    </a:lnTo>
                    <a:lnTo>
                      <a:pt x="1572" y="1032"/>
                    </a:lnTo>
                    <a:lnTo>
                      <a:pt x="1500" y="1044"/>
                    </a:lnTo>
                    <a:lnTo>
                      <a:pt x="1428" y="1056"/>
                    </a:lnTo>
                    <a:lnTo>
                      <a:pt x="1356" y="1080"/>
                    </a:lnTo>
                    <a:lnTo>
                      <a:pt x="1284" y="1104"/>
                    </a:lnTo>
                    <a:lnTo>
                      <a:pt x="1248" y="1140"/>
                    </a:lnTo>
                    <a:lnTo>
                      <a:pt x="1236" y="1176"/>
                    </a:lnTo>
                    <a:lnTo>
                      <a:pt x="1356" y="1224"/>
                    </a:lnTo>
                    <a:lnTo>
                      <a:pt x="1452" y="1248"/>
                    </a:lnTo>
                    <a:lnTo>
                      <a:pt x="1524" y="1260"/>
                    </a:lnTo>
                    <a:lnTo>
                      <a:pt x="1620" y="1224"/>
                    </a:lnTo>
                    <a:lnTo>
                      <a:pt x="1668" y="1188"/>
                    </a:lnTo>
                    <a:lnTo>
                      <a:pt x="1716" y="1140"/>
                    </a:lnTo>
                    <a:lnTo>
                      <a:pt x="1740" y="1068"/>
                    </a:lnTo>
                    <a:lnTo>
                      <a:pt x="1812" y="996"/>
                    </a:lnTo>
                    <a:lnTo>
                      <a:pt x="1836" y="924"/>
                    </a:lnTo>
                    <a:lnTo>
                      <a:pt x="1860" y="852"/>
                    </a:lnTo>
                    <a:lnTo>
                      <a:pt x="1872" y="780"/>
                    </a:lnTo>
                    <a:lnTo>
                      <a:pt x="1872" y="732"/>
                    </a:lnTo>
                    <a:lnTo>
                      <a:pt x="1848" y="696"/>
                    </a:lnTo>
                    <a:lnTo>
                      <a:pt x="1776" y="672"/>
                    </a:lnTo>
                    <a:lnTo>
                      <a:pt x="1704" y="660"/>
                    </a:lnTo>
                    <a:lnTo>
                      <a:pt x="1608" y="648"/>
                    </a:lnTo>
                    <a:lnTo>
                      <a:pt x="1536" y="636"/>
                    </a:lnTo>
                    <a:lnTo>
                      <a:pt x="1440" y="636"/>
                    </a:lnTo>
                    <a:lnTo>
                      <a:pt x="1344" y="624"/>
                    </a:lnTo>
                    <a:lnTo>
                      <a:pt x="1248" y="624"/>
                    </a:lnTo>
                    <a:lnTo>
                      <a:pt x="1176" y="624"/>
                    </a:lnTo>
                    <a:lnTo>
                      <a:pt x="1104" y="624"/>
                    </a:lnTo>
                    <a:lnTo>
                      <a:pt x="1032" y="636"/>
                    </a:lnTo>
                    <a:lnTo>
                      <a:pt x="960" y="648"/>
                    </a:lnTo>
                    <a:lnTo>
                      <a:pt x="924" y="684"/>
                    </a:lnTo>
                    <a:lnTo>
                      <a:pt x="912" y="720"/>
                    </a:lnTo>
                    <a:lnTo>
                      <a:pt x="900" y="768"/>
                    </a:lnTo>
                    <a:lnTo>
                      <a:pt x="936" y="816"/>
                    </a:lnTo>
                    <a:lnTo>
                      <a:pt x="1008" y="840"/>
                    </a:lnTo>
                    <a:lnTo>
                      <a:pt x="1128" y="852"/>
                    </a:lnTo>
                    <a:lnTo>
                      <a:pt x="1224" y="864"/>
                    </a:lnTo>
                    <a:lnTo>
                      <a:pt x="1296" y="876"/>
                    </a:lnTo>
                    <a:lnTo>
                      <a:pt x="1392" y="876"/>
                    </a:lnTo>
                    <a:lnTo>
                      <a:pt x="1488" y="864"/>
                    </a:lnTo>
                    <a:lnTo>
                      <a:pt x="1584" y="852"/>
                    </a:lnTo>
                    <a:lnTo>
                      <a:pt x="1680" y="840"/>
                    </a:lnTo>
                    <a:lnTo>
                      <a:pt x="1776" y="816"/>
                    </a:lnTo>
                    <a:lnTo>
                      <a:pt x="1872" y="792"/>
                    </a:lnTo>
                    <a:lnTo>
                      <a:pt x="1896" y="720"/>
                    </a:lnTo>
                    <a:lnTo>
                      <a:pt x="1920" y="672"/>
                    </a:lnTo>
                    <a:lnTo>
                      <a:pt x="1920" y="624"/>
                    </a:lnTo>
                    <a:lnTo>
                      <a:pt x="1908" y="552"/>
                    </a:lnTo>
                    <a:lnTo>
                      <a:pt x="1884" y="480"/>
                    </a:lnTo>
                    <a:lnTo>
                      <a:pt x="1812" y="408"/>
                    </a:lnTo>
                    <a:lnTo>
                      <a:pt x="1716" y="384"/>
                    </a:lnTo>
                    <a:lnTo>
                      <a:pt x="1680" y="360"/>
                    </a:lnTo>
                    <a:lnTo>
                      <a:pt x="1608" y="348"/>
                    </a:lnTo>
                    <a:lnTo>
                      <a:pt x="1488" y="336"/>
                    </a:lnTo>
                    <a:lnTo>
                      <a:pt x="1368" y="324"/>
                    </a:lnTo>
                    <a:lnTo>
                      <a:pt x="1224" y="300"/>
                    </a:lnTo>
                    <a:lnTo>
                      <a:pt x="1128" y="300"/>
                    </a:lnTo>
                    <a:lnTo>
                      <a:pt x="1056" y="300"/>
                    </a:lnTo>
                    <a:lnTo>
                      <a:pt x="1008" y="300"/>
                    </a:lnTo>
                    <a:lnTo>
                      <a:pt x="960" y="324"/>
                    </a:lnTo>
                    <a:lnTo>
                      <a:pt x="888" y="336"/>
                    </a:lnTo>
                    <a:lnTo>
                      <a:pt x="852" y="372"/>
                    </a:lnTo>
                    <a:lnTo>
                      <a:pt x="852" y="408"/>
                    </a:lnTo>
                    <a:lnTo>
                      <a:pt x="840" y="456"/>
                    </a:lnTo>
                    <a:lnTo>
                      <a:pt x="888" y="504"/>
                    </a:lnTo>
                    <a:lnTo>
                      <a:pt x="960" y="516"/>
                    </a:lnTo>
                    <a:lnTo>
                      <a:pt x="1032" y="516"/>
                    </a:lnTo>
                    <a:lnTo>
                      <a:pt x="1080" y="516"/>
                    </a:lnTo>
                    <a:lnTo>
                      <a:pt x="1152" y="516"/>
                    </a:lnTo>
                    <a:lnTo>
                      <a:pt x="1188" y="516"/>
                    </a:lnTo>
                    <a:lnTo>
                      <a:pt x="1284" y="504"/>
                    </a:lnTo>
                    <a:lnTo>
                      <a:pt x="1332" y="492"/>
                    </a:lnTo>
                    <a:lnTo>
                      <a:pt x="1380" y="468"/>
                    </a:lnTo>
                    <a:lnTo>
                      <a:pt x="1416" y="444"/>
                    </a:lnTo>
                    <a:lnTo>
                      <a:pt x="1440" y="396"/>
                    </a:lnTo>
                    <a:lnTo>
                      <a:pt x="1464" y="360"/>
                    </a:lnTo>
                    <a:lnTo>
                      <a:pt x="1464" y="324"/>
                    </a:lnTo>
                    <a:lnTo>
                      <a:pt x="1464" y="288"/>
                    </a:lnTo>
                    <a:lnTo>
                      <a:pt x="1440" y="252"/>
                    </a:lnTo>
                    <a:lnTo>
                      <a:pt x="1404" y="216"/>
                    </a:lnTo>
                    <a:lnTo>
                      <a:pt x="1380" y="180"/>
                    </a:lnTo>
                    <a:lnTo>
                      <a:pt x="1344" y="156"/>
                    </a:lnTo>
                    <a:lnTo>
                      <a:pt x="1308" y="144"/>
                    </a:lnTo>
                    <a:lnTo>
                      <a:pt x="1272" y="120"/>
                    </a:lnTo>
                    <a:lnTo>
                      <a:pt x="1236" y="120"/>
                    </a:lnTo>
                    <a:lnTo>
                      <a:pt x="1200" y="108"/>
                    </a:lnTo>
                    <a:lnTo>
                      <a:pt x="1164" y="108"/>
                    </a:lnTo>
                    <a:lnTo>
                      <a:pt x="1128" y="96"/>
                    </a:lnTo>
                  </a:path>
                </a:pathLst>
              </a:custGeom>
              <a:noFill/>
              <a:ln cap="rnd" w="507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Freeform 23"/>
              <p:cNvSpPr/>
              <p:nvPr/>
            </p:nvSpPr>
            <p:spPr>
              <a:xfrm>
                <a:off x="3464640" y="5308920"/>
                <a:ext cx="532080" cy="92016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20160"/>
                  <a:gd name="textAreaBottom" fmla="*/ 920520 h 920160"/>
                </a:gdLst>
                <a:ahLst/>
                <a:rect l="textAreaLeft" t="textAreaTop" r="textAreaRight" b="textAreaBottom"/>
                <a:pathLst>
                  <a:path w="490" h="888">
                    <a:moveTo>
                      <a:pt x="338" y="0"/>
                    </a:moveTo>
                    <a:cubicBezTo>
                      <a:pt x="239" y="33"/>
                      <a:pt x="291" y="20"/>
                      <a:pt x="182" y="36"/>
                    </a:cubicBezTo>
                    <a:cubicBezTo>
                      <a:pt x="126" y="55"/>
                      <a:pt x="85" y="65"/>
                      <a:pt x="38" y="96"/>
                    </a:cubicBezTo>
                    <a:cubicBezTo>
                      <a:pt x="32" y="114"/>
                      <a:pt x="12" y="150"/>
                      <a:pt x="38" y="168"/>
                    </a:cubicBezTo>
                    <a:cubicBezTo>
                      <a:pt x="59" y="183"/>
                      <a:pt x="86" y="184"/>
                      <a:pt x="110" y="192"/>
                    </a:cubicBezTo>
                    <a:cubicBezTo>
                      <a:pt x="203" y="223"/>
                      <a:pt x="269" y="231"/>
                      <a:pt x="374" y="240"/>
                    </a:cubicBezTo>
                    <a:cubicBezTo>
                      <a:pt x="386" y="238"/>
                      <a:pt x="465" y="240"/>
                      <a:pt x="446" y="192"/>
                    </a:cubicBezTo>
                    <a:cubicBezTo>
                      <a:pt x="437" y="170"/>
                      <a:pt x="339" y="144"/>
                      <a:pt x="338" y="144"/>
                    </a:cubicBezTo>
                    <a:cubicBezTo>
                      <a:pt x="326" y="140"/>
                      <a:pt x="314" y="136"/>
                      <a:pt x="302" y="132"/>
                    </a:cubicBezTo>
                    <a:cubicBezTo>
                      <a:pt x="290" y="128"/>
                      <a:pt x="266" y="120"/>
                      <a:pt x="266" y="120"/>
                    </a:cubicBezTo>
                    <a:cubicBezTo>
                      <a:pt x="214" y="124"/>
                      <a:pt x="162" y="126"/>
                      <a:pt x="110" y="132"/>
                    </a:cubicBezTo>
                    <a:cubicBezTo>
                      <a:pt x="50" y="140"/>
                      <a:pt x="42" y="209"/>
                      <a:pt x="14" y="252"/>
                    </a:cubicBezTo>
                    <a:cubicBezTo>
                      <a:pt x="18" y="276"/>
                      <a:pt x="19" y="340"/>
                      <a:pt x="50" y="360"/>
                    </a:cubicBezTo>
                    <a:cubicBezTo>
                      <a:pt x="50" y="360"/>
                      <a:pt x="140" y="390"/>
                      <a:pt x="158" y="396"/>
                    </a:cubicBezTo>
                    <a:cubicBezTo>
                      <a:pt x="170" y="400"/>
                      <a:pt x="194" y="408"/>
                      <a:pt x="194" y="408"/>
                    </a:cubicBezTo>
                    <a:cubicBezTo>
                      <a:pt x="270" y="404"/>
                      <a:pt x="347" y="406"/>
                      <a:pt x="422" y="396"/>
                    </a:cubicBezTo>
                    <a:cubicBezTo>
                      <a:pt x="462" y="390"/>
                      <a:pt x="468" y="363"/>
                      <a:pt x="446" y="336"/>
                    </a:cubicBezTo>
                    <a:cubicBezTo>
                      <a:pt x="437" y="325"/>
                      <a:pt x="422" y="320"/>
                      <a:pt x="410" y="312"/>
                    </a:cubicBezTo>
                    <a:cubicBezTo>
                      <a:pt x="318" y="316"/>
                      <a:pt x="226" y="317"/>
                      <a:pt x="134" y="324"/>
                    </a:cubicBezTo>
                    <a:cubicBezTo>
                      <a:pt x="121" y="325"/>
                      <a:pt x="107" y="327"/>
                      <a:pt x="98" y="336"/>
                    </a:cubicBezTo>
                    <a:cubicBezTo>
                      <a:pt x="79" y="355"/>
                      <a:pt x="77" y="386"/>
                      <a:pt x="62" y="408"/>
                    </a:cubicBezTo>
                    <a:cubicBezTo>
                      <a:pt x="79" y="493"/>
                      <a:pt x="68" y="449"/>
                      <a:pt x="98" y="540"/>
                    </a:cubicBezTo>
                    <a:cubicBezTo>
                      <a:pt x="102" y="552"/>
                      <a:pt x="123" y="546"/>
                      <a:pt x="134" y="552"/>
                    </a:cubicBezTo>
                    <a:cubicBezTo>
                      <a:pt x="159" y="566"/>
                      <a:pt x="179" y="591"/>
                      <a:pt x="206" y="600"/>
                    </a:cubicBezTo>
                    <a:cubicBezTo>
                      <a:pt x="230" y="608"/>
                      <a:pt x="278" y="624"/>
                      <a:pt x="278" y="624"/>
                    </a:cubicBezTo>
                    <a:cubicBezTo>
                      <a:pt x="355" y="615"/>
                      <a:pt x="410" y="636"/>
                      <a:pt x="434" y="564"/>
                    </a:cubicBezTo>
                    <a:cubicBezTo>
                      <a:pt x="430" y="552"/>
                      <a:pt x="432" y="535"/>
                      <a:pt x="422" y="528"/>
                    </a:cubicBezTo>
                    <a:cubicBezTo>
                      <a:pt x="378" y="496"/>
                      <a:pt x="254" y="495"/>
                      <a:pt x="218" y="492"/>
                    </a:cubicBezTo>
                    <a:cubicBezTo>
                      <a:pt x="120" y="501"/>
                      <a:pt x="86" y="492"/>
                      <a:pt x="14" y="540"/>
                    </a:cubicBezTo>
                    <a:cubicBezTo>
                      <a:pt x="4" y="570"/>
                      <a:pt x="0" y="634"/>
                      <a:pt x="26" y="660"/>
                    </a:cubicBezTo>
                    <a:cubicBezTo>
                      <a:pt x="35" y="669"/>
                      <a:pt x="51" y="666"/>
                      <a:pt x="62" y="672"/>
                    </a:cubicBezTo>
                    <a:cubicBezTo>
                      <a:pt x="98" y="690"/>
                      <a:pt x="133" y="716"/>
                      <a:pt x="170" y="732"/>
                    </a:cubicBezTo>
                    <a:cubicBezTo>
                      <a:pt x="205" y="747"/>
                      <a:pt x="242" y="756"/>
                      <a:pt x="278" y="768"/>
                    </a:cubicBezTo>
                    <a:cubicBezTo>
                      <a:pt x="290" y="772"/>
                      <a:pt x="314" y="780"/>
                      <a:pt x="314" y="780"/>
                    </a:cubicBezTo>
                    <a:cubicBezTo>
                      <a:pt x="346" y="776"/>
                      <a:pt x="380" y="780"/>
                      <a:pt x="410" y="768"/>
                    </a:cubicBezTo>
                    <a:cubicBezTo>
                      <a:pt x="490" y="736"/>
                      <a:pt x="380" y="702"/>
                      <a:pt x="362" y="696"/>
                    </a:cubicBezTo>
                    <a:cubicBezTo>
                      <a:pt x="250" y="705"/>
                      <a:pt x="213" y="692"/>
                      <a:pt x="134" y="744"/>
                    </a:cubicBezTo>
                    <a:cubicBezTo>
                      <a:pt x="102" y="839"/>
                      <a:pt x="110" y="791"/>
                      <a:pt x="110" y="888"/>
                    </a:cubicBezTo>
                  </a:path>
                </a:pathLst>
              </a:custGeom>
              <a:noFill/>
              <a:ln w="572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Freeform 24"/>
              <p:cNvSpPr/>
              <p:nvPr/>
            </p:nvSpPr>
            <p:spPr>
              <a:xfrm>
                <a:off x="4014000" y="5408280"/>
                <a:ext cx="677520" cy="708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624" h="684">
                    <a:moveTo>
                      <a:pt x="0" y="684"/>
                    </a:moveTo>
                    <a:cubicBezTo>
                      <a:pt x="15" y="476"/>
                      <a:pt x="12" y="572"/>
                      <a:pt x="12" y="396"/>
                    </a:cubicBezTo>
                    <a:lnTo>
                      <a:pt x="144" y="528"/>
                    </a:lnTo>
                    <a:lnTo>
                      <a:pt x="144" y="240"/>
                    </a:lnTo>
                    <a:lnTo>
                      <a:pt x="288" y="384"/>
                    </a:lnTo>
                    <a:lnTo>
                      <a:pt x="288" y="144"/>
                    </a:lnTo>
                    <a:lnTo>
                      <a:pt x="480" y="240"/>
                    </a:lnTo>
                    <a:lnTo>
                      <a:pt x="432" y="0"/>
                    </a:lnTo>
                    <a:lnTo>
                      <a:pt x="624" y="96"/>
                    </a:lnTo>
                  </a:path>
                </a:pathLst>
              </a:custGeom>
              <a:noFill/>
              <a:ln w="5724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60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2666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Comic Sans MS"/>
              </a:rPr>
              <a:t>Nucleic Acids</a:t>
            </a:r>
            <a:endParaRPr b="0" lang="en-US" sz="8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a. Deoxyribonucleic acid (DNA-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double helix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b. Ribonucleic acid (RNA-single      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stran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ucleic acid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composed of long chains of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dehydration synthes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ic acid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ucleotides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pentose sugar (5-carbon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nitrogenous bas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ymine (T) D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uracil (U) RNA onl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Nucleotide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558720" y="1433520"/>
            <a:ext cx="2235240" cy="2732040"/>
            <a:chOff x="558720" y="1433520"/>
            <a:chExt cx="2235240" cy="2732040"/>
          </a:xfrm>
        </p:grpSpPr>
        <p:sp>
          <p:nvSpPr>
            <p:cNvPr id="372" name="Oval 5"/>
            <p:cNvSpPr/>
            <p:nvPr/>
          </p:nvSpPr>
          <p:spPr>
            <a:xfrm>
              <a:off x="558720" y="231156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746280" y="2486160"/>
              <a:ext cx="14601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595800" y="1433520"/>
              <a:ext cx="17373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Line 8"/>
            <p:cNvSpPr/>
            <p:nvPr/>
          </p:nvSpPr>
          <p:spPr>
            <a:xfrm flipV="1">
              <a:off x="1600200" y="33274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Line 9"/>
            <p:cNvSpPr/>
            <p:nvPr/>
          </p:nvSpPr>
          <p:spPr>
            <a:xfrm flipV="1">
              <a:off x="1600200" y="28702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Line 10"/>
            <p:cNvSpPr/>
            <p:nvPr/>
          </p:nvSpPr>
          <p:spPr>
            <a:xfrm>
              <a:off x="2158920" y="327672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8" name="Group 11"/>
          <p:cNvGrpSpPr/>
          <p:nvPr/>
        </p:nvGrpSpPr>
        <p:grpSpPr>
          <a:xfrm>
            <a:off x="4984200" y="1535400"/>
            <a:ext cx="4156200" cy="4071240"/>
            <a:chOff x="4984200" y="1535400"/>
            <a:chExt cx="4156200" cy="4071240"/>
          </a:xfrm>
        </p:grpSpPr>
        <p:sp>
          <p:nvSpPr>
            <p:cNvPr id="379" name="AutoShape 12"/>
            <p:cNvSpPr/>
            <p:nvPr/>
          </p:nvSpPr>
          <p:spPr>
            <a:xfrm rot="1800000">
              <a:off x="5358960" y="200664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6386760" y="435924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 flipV="1">
              <a:off x="5562720" y="434304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6386400" y="4786200"/>
              <a:ext cx="2754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Arial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16"/>
          <p:cNvGrpSpPr/>
          <p:nvPr/>
        </p:nvGrpSpPr>
        <p:grpSpPr>
          <a:xfrm>
            <a:off x="900000" y="2797200"/>
            <a:ext cx="5148720" cy="4020840"/>
            <a:chOff x="900000" y="2797200"/>
            <a:chExt cx="5148720" cy="4020840"/>
          </a:xfrm>
        </p:grpSpPr>
        <p:sp>
          <p:nvSpPr>
            <p:cNvPr id="384" name="Rectangle 17"/>
            <p:cNvSpPr/>
            <p:nvPr/>
          </p:nvSpPr>
          <p:spPr>
            <a:xfrm>
              <a:off x="2806200" y="2987640"/>
              <a:ext cx="891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4100400" y="382572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5496840" y="502920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2677320" y="5105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22"/>
            <p:cNvSpPr/>
            <p:nvPr/>
          </p:nvSpPr>
          <p:spPr>
            <a:xfrm>
              <a:off x="31964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Rectangle 23"/>
            <p:cNvSpPr/>
            <p:nvPr/>
          </p:nvSpPr>
          <p:spPr>
            <a:xfrm>
              <a:off x="4796640" y="6302520"/>
              <a:ext cx="551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30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24"/>
            <p:cNvSpPr/>
            <p:nvPr/>
          </p:nvSpPr>
          <p:spPr>
            <a:xfrm>
              <a:off x="2957400" y="2797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25"/>
            <p:cNvSpPr/>
            <p:nvPr/>
          </p:nvSpPr>
          <p:spPr>
            <a:xfrm>
              <a:off x="900000" y="5624640"/>
              <a:ext cx="2179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Arial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Місце для нижнього колонтитула 4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Comic Sans MS"/>
              </a:rPr>
              <a:t>Carbon (C)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4 electr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outer shell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Carb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form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valent bo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as many a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ther atoms (elements)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ually with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, H, O or 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CH</a:t>
            </a:r>
            <a:r>
              <a:rPr b="1" lang="en-US" sz="3200" spc="-1" strike="noStrike" baseline="-25000">
                <a:solidFill>
                  <a:srgbClr val="e6f10d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(metha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NA - double helix</a:t>
            </a:r>
            <a:endParaRPr b="0" lang="en-US" sz="4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39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Rectangle 17"/>
            <p:cNvSpPr/>
            <p:nvPr/>
          </p:nvSpPr>
          <p:spPr>
            <a:xfrm>
              <a:off x="519120" y="42829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Rectangle 18"/>
            <p:cNvSpPr/>
            <p:nvPr/>
          </p:nvSpPr>
          <p:spPr>
            <a:xfrm>
              <a:off x="5191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Rectangle 19"/>
            <p:cNvSpPr/>
            <p:nvPr/>
          </p:nvSpPr>
          <p:spPr>
            <a:xfrm>
              <a:off x="442800" y="611172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21"/>
            <p:cNvSpPr/>
            <p:nvPr/>
          </p:nvSpPr>
          <p:spPr>
            <a:xfrm>
              <a:off x="1980720" y="10666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22"/>
            <p:cNvSpPr/>
            <p:nvPr/>
          </p:nvSpPr>
          <p:spPr>
            <a:xfrm>
              <a:off x="1980720" y="2971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Rectangle 23"/>
            <p:cNvSpPr/>
            <p:nvPr/>
          </p:nvSpPr>
          <p:spPr>
            <a:xfrm>
              <a:off x="1980720" y="51055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24"/>
            <p:cNvSpPr/>
            <p:nvPr/>
          </p:nvSpPr>
          <p:spPr>
            <a:xfrm>
              <a:off x="242388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Rectangle 25"/>
            <p:cNvSpPr/>
            <p:nvPr/>
          </p:nvSpPr>
          <p:spPr>
            <a:xfrm>
              <a:off x="25002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26"/>
            <p:cNvSpPr/>
            <p:nvPr/>
          </p:nvSpPr>
          <p:spPr>
            <a:xfrm>
              <a:off x="1738080" y="41148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Rectangle 27"/>
            <p:cNvSpPr/>
            <p:nvPr/>
          </p:nvSpPr>
          <p:spPr>
            <a:xfrm>
              <a:off x="1433520" y="3581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Rectangle 28"/>
            <p:cNvSpPr/>
            <p:nvPr/>
          </p:nvSpPr>
          <p:spPr>
            <a:xfrm>
              <a:off x="1433520" y="28954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Rectangle 29"/>
            <p:cNvSpPr/>
            <p:nvPr/>
          </p:nvSpPr>
          <p:spPr>
            <a:xfrm>
              <a:off x="1509480" y="49528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Rectangle 30"/>
            <p:cNvSpPr/>
            <p:nvPr/>
          </p:nvSpPr>
          <p:spPr>
            <a:xfrm>
              <a:off x="1738080" y="6248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Rectangle 31"/>
            <p:cNvSpPr/>
            <p:nvPr/>
          </p:nvSpPr>
          <p:spPr>
            <a:xfrm>
              <a:off x="1662120" y="22096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34"/>
            <p:cNvSpPr/>
            <p:nvPr/>
          </p:nvSpPr>
          <p:spPr>
            <a:xfrm>
              <a:off x="1509480" y="990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43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Rectangle 51"/>
            <p:cNvSpPr/>
            <p:nvPr/>
          </p:nvSpPr>
          <p:spPr>
            <a:xfrm>
              <a:off x="8062920" y="23781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52"/>
            <p:cNvSpPr/>
            <p:nvPr/>
          </p:nvSpPr>
          <p:spPr>
            <a:xfrm>
              <a:off x="8215200" y="44355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Rectangle 53"/>
            <p:cNvSpPr/>
            <p:nvPr/>
          </p:nvSpPr>
          <p:spPr>
            <a:xfrm>
              <a:off x="8139240" y="6035760"/>
              <a:ext cx="41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Rectangle 56"/>
            <p:cNvSpPr/>
            <p:nvPr/>
          </p:nvSpPr>
          <p:spPr>
            <a:xfrm>
              <a:off x="6933960" y="579132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Rectangle 57"/>
            <p:cNvSpPr/>
            <p:nvPr/>
          </p:nvSpPr>
          <p:spPr>
            <a:xfrm>
              <a:off x="7009920" y="426708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Rectangle 58"/>
            <p:cNvSpPr/>
            <p:nvPr/>
          </p:nvSpPr>
          <p:spPr>
            <a:xfrm>
              <a:off x="6857640" y="22860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Rectangle 59"/>
            <p:cNvSpPr/>
            <p:nvPr/>
          </p:nvSpPr>
          <p:spPr>
            <a:xfrm>
              <a:off x="6386400" y="39625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Rectangle 60"/>
            <p:cNvSpPr/>
            <p:nvPr/>
          </p:nvSpPr>
          <p:spPr>
            <a:xfrm>
              <a:off x="6462720" y="32767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7148520" y="32004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7529400" y="3657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7529400" y="41911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7377120" y="59436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7148520" y="4724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7224480" y="243828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995880" y="114300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46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Rectangle 78"/>
            <p:cNvSpPr/>
            <p:nvPr/>
          </p:nvSpPr>
          <p:spPr>
            <a:xfrm>
              <a:off x="3871800" y="2987640"/>
              <a:ext cx="457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Rectangle 79"/>
            <p:cNvSpPr/>
            <p:nvPr/>
          </p:nvSpPr>
          <p:spPr>
            <a:xfrm>
              <a:off x="5396400" y="291132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47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Rectangle 86"/>
            <p:cNvSpPr/>
            <p:nvPr/>
          </p:nvSpPr>
          <p:spPr>
            <a:xfrm>
              <a:off x="3262680" y="4664160"/>
              <a:ext cx="397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Rectangle 87"/>
            <p:cNvSpPr/>
            <p:nvPr/>
          </p:nvSpPr>
          <p:spPr>
            <a:xfrm>
              <a:off x="4710600" y="4664160"/>
              <a:ext cx="437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800" spc="-1" strike="noStrike">
              <a:solidFill>
                <a:srgbClr val="0099cc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5960" y="34290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acromolecules</a:t>
            </a:r>
            <a:endParaRPr b="0" lang="en-US" sz="54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Large organic molecule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de up of smaller “building blocks” called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  Carbohydrat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  Lipid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3.  Prote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e6f10d"/>
                </a:solidFill>
                <a:latin typeface="Comic Sans MS"/>
              </a:rPr>
              <a:t>4.  Nucleic acids (DNA and RNA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8000"/>
            </a:br>
            <a:r>
              <a:rPr b="1" i="1" lang="en-US" sz="8000" spc="-1" strike="noStrike">
                <a:solidFill>
                  <a:srgbClr val="cc0000"/>
                </a:solidFill>
                <a:latin typeface="Comic Sans MS"/>
              </a:rPr>
              <a:t>How Are Macromolecules Formed?</a:t>
            </a:r>
            <a:endParaRPr b="0" lang="en-US" sz="8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nswer: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Dehydration Synthesis</a:t>
            </a:r>
            <a:endParaRPr b="0" lang="en-US" sz="4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“condensation reaction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s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ly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combining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“removing water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11280" y="5791320"/>
            <a:ext cx="7563600" cy="685800"/>
            <a:chOff x="611280" y="5791320"/>
            <a:chExt cx="7563600" cy="685800"/>
          </a:xfrm>
        </p:grpSpPr>
        <p:sp>
          <p:nvSpPr>
            <p:cNvPr id="105" name="Rectangle 5"/>
            <p:cNvSpPr/>
            <p:nvPr/>
          </p:nvSpPr>
          <p:spPr>
            <a:xfrm>
              <a:off x="160020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73392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5867280" y="57913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200400" y="6095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9"/>
            <p:cNvSpPr/>
            <p:nvPr/>
          </p:nvSpPr>
          <p:spPr>
            <a:xfrm>
              <a:off x="5334120" y="6095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10"/>
            <p:cNvSpPr/>
            <p:nvPr/>
          </p:nvSpPr>
          <p:spPr>
            <a:xfrm>
              <a:off x="7467480" y="6095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Line 11"/>
            <p:cNvSpPr/>
            <p:nvPr/>
          </p:nvSpPr>
          <p:spPr>
            <a:xfrm>
              <a:off x="1143000" y="6095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611280" y="5867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7774560" y="5867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230400" y="3962520"/>
            <a:ext cx="8630280" cy="1676160"/>
            <a:chOff x="230400" y="3962520"/>
            <a:chExt cx="8630280" cy="1676160"/>
          </a:xfrm>
        </p:grpSpPr>
        <p:sp>
          <p:nvSpPr>
            <p:cNvPr id="115" name="Rectangle 15"/>
            <p:cNvSpPr/>
            <p:nvPr/>
          </p:nvSpPr>
          <p:spPr>
            <a:xfrm>
              <a:off x="12952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320040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6553080" y="3962520"/>
              <a:ext cx="16002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191120" y="48769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>
              <a:off x="2895480" y="4267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838080" y="42670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23040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564048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846036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8153280" y="42670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61722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4800600" y="4267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5107680" y="4038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5952240" y="5105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334120" y="4495680"/>
              <a:ext cx="685800" cy="6098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5867280" y="4495680"/>
              <a:ext cx="304920" cy="5335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3619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Question:</a:t>
            </a: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Comic Sans MS"/>
              </a:rPr>
              <a:t>How are Macromolecules separated or digested?</a:t>
            </a:r>
            <a:endParaRPr b="0" lang="en-US" sz="60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Answer: 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Hydrolysis</a:t>
            </a:r>
            <a:endParaRPr b="0" lang="en-US" sz="48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parates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ono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“adding water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6360" y="5638680"/>
            <a:ext cx="8630640" cy="685800"/>
            <a:chOff x="306360" y="5638680"/>
            <a:chExt cx="8630640" cy="685800"/>
          </a:xfrm>
        </p:grpSpPr>
        <p:sp>
          <p:nvSpPr>
            <p:cNvPr id="137" name="Rectangle 5"/>
            <p:cNvSpPr/>
            <p:nvPr/>
          </p:nvSpPr>
          <p:spPr>
            <a:xfrm>
              <a:off x="137160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276720" y="563868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6629400" y="563868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2971800" y="5943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914400" y="5943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30636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57168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853668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822960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62485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4876920" y="594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83640" y="571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11280" y="3505320"/>
            <a:ext cx="7563600" cy="1904760"/>
            <a:chOff x="611280" y="3505320"/>
            <a:chExt cx="7563600" cy="1904760"/>
          </a:xfrm>
        </p:grpSpPr>
        <p:sp>
          <p:nvSpPr>
            <p:cNvPr id="150" name="Rectangle 18"/>
            <p:cNvSpPr/>
            <p:nvPr/>
          </p:nvSpPr>
          <p:spPr>
            <a:xfrm>
              <a:off x="160020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3733920" y="3505320"/>
              <a:ext cx="1600200" cy="68580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867280" y="3505320"/>
              <a:ext cx="1600200" cy="68580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3200400" y="3809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>
              <a:off x="5334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7467480" y="38098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11280" y="35812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Text Box 26"/>
            <p:cNvSpPr/>
            <p:nvPr/>
          </p:nvSpPr>
          <p:spPr>
            <a:xfrm>
              <a:off x="7774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4495680" y="4648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5875920" y="48769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9"/>
            <p:cNvSpPr/>
            <p:nvPr/>
          </p:nvSpPr>
          <p:spPr>
            <a:xfrm>
              <a:off x="5614920" y="4019400"/>
              <a:ext cx="233280" cy="1009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009800"/>
                <a:gd name="textAreaBottom" fmla="*/ 1009800 h 1009800"/>
              </a:gdLst>
              <a:ahLst/>
              <a:rect l="textAreaLeft" t="textAreaTop" r="textAreaRight" b="textAreaBottom"/>
              <a:pathLst>
                <a:path w="147" h="636">
                  <a:moveTo>
                    <a:pt x="147" y="636"/>
                  </a:moveTo>
                  <a:cubicBezTo>
                    <a:pt x="85" y="543"/>
                    <a:pt x="7" y="443"/>
                    <a:pt x="3" y="324"/>
                  </a:cubicBezTo>
                  <a:cubicBezTo>
                    <a:pt x="0" y="216"/>
                    <a:pt x="3" y="108"/>
                    <a:pt x="3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2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5d7e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00:47:49Z</dcterms:created>
  <dc:creator>Cheryl Massengale</dc:creator>
  <dc:description/>
  <dc:language>en-US</dc:language>
  <cp:lastModifiedBy>LEGION</cp:lastModifiedBy>
  <dcterms:modified xsi:type="dcterms:W3CDTF">2016-12-07T09:19:30Z</dcterms:modified>
  <cp:revision>7</cp:revision>
  <dc:subject/>
  <dc:title>Macromolecules</dc:title>
</cp:coreProperties>
</file>