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1149-7CBF-4117-87B8-674785D70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5B5-B18E-4A2D-B261-505C497F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884-5107-41C2-8510-630164F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EFA-2561-45C5-9F9C-2D2A0655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7AC-028E-47CC-B927-24CD2E83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E91B-CFE8-46C9-9C4A-28E20C7B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F932-D753-4C5D-8450-73D31193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90A6-4199-41C7-9F48-5FC97079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3983-FA67-4E6C-8D9C-59BFBA9B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4CB7-D828-466C-A5FF-760ECD19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00DE-9209-4013-BE1B-B858EAB9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38BD-13E7-402A-AE46-A2A7E244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F9D-5E93-432E-BCB4-55CFA991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B458-B755-4EB4-B822-70F72593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B199-23A6-4CF1-8A53-200EC374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5E35-5270-40E0-B99F-71805F07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683-692A-408A-9769-342B72B6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E442-108D-4D34-A5C7-278EC454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229-6883-4C1B-9938-E75C75E8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89C-9863-4893-813F-11A64212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2EC-71DE-4267-89D6-91F39A63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091-870F-430B-8674-6E2F3E05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3C6-29F9-4E75-84BC-94C29D58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479-4A66-48B5-BFED-B6096BBB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0FD-1E3D-4FD8-AA2D-67C38DFA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806F-4D8B-4EFA-88DF-77E7CC061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F2A7-13AD-4F0C-B54A-AB175330C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Macromolecules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all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arge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saccharide:  one sugar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lucose 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oxy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u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ala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219320" y="3733920"/>
            <a:ext cx="2209680" cy="1523880"/>
            <a:chOff x="1219320" y="3733920"/>
            <a:chExt cx="2209680" cy="1523880"/>
          </a:xfrm>
        </p:grpSpPr>
        <p:sp>
          <p:nvSpPr>
            <p:cNvPr id="171" name="AutoShape 5"/>
            <p:cNvSpPr/>
            <p:nvPr/>
          </p:nvSpPr>
          <p:spPr>
            <a:xfrm>
              <a:off x="1219320" y="3733920"/>
              <a:ext cx="2209680" cy="1523880"/>
            </a:xfrm>
            <a:prstGeom prst="hexagon">
              <a:avLst>
                <a:gd name="adj" fmla="val 36251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1678320" y="42674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: two suga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crose (glucose+fru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Lactose (glucose+gala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altose (glucose+gluc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981080" y="4724280"/>
            <a:ext cx="4876560" cy="1523880"/>
            <a:chOff x="1981080" y="4724280"/>
            <a:chExt cx="4876560" cy="1523880"/>
          </a:xfrm>
        </p:grpSpPr>
        <p:grpSp>
          <p:nvGrpSpPr>
            <p:cNvPr id="177" name="Group 5"/>
            <p:cNvGrpSpPr/>
            <p:nvPr/>
          </p:nvGrpSpPr>
          <p:grpSpPr>
            <a:xfrm>
              <a:off x="4647960" y="4724280"/>
              <a:ext cx="2209680" cy="1523880"/>
              <a:chOff x="4647960" y="4724280"/>
              <a:chExt cx="2209680" cy="1523880"/>
            </a:xfrm>
          </p:grpSpPr>
          <p:sp>
            <p:nvSpPr>
              <p:cNvPr id="178" name="AutoShape 6"/>
              <p:cNvSpPr/>
              <p:nvPr/>
            </p:nvSpPr>
            <p:spPr>
              <a:xfrm>
                <a:off x="464796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Text Box 7"/>
              <p:cNvSpPr/>
              <p:nvPr/>
            </p:nvSpPr>
            <p:spPr>
              <a:xfrm>
                <a:off x="510696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1981080" y="4724280"/>
              <a:ext cx="2209680" cy="1523880"/>
              <a:chOff x="1981080" y="4724280"/>
              <a:chExt cx="2209680" cy="1523880"/>
            </a:xfrm>
          </p:grpSpPr>
          <p:sp>
            <p:nvSpPr>
              <p:cNvPr id="181" name="AutoShape 9"/>
              <p:cNvSpPr/>
              <p:nvPr/>
            </p:nvSpPr>
            <p:spPr>
              <a:xfrm>
                <a:off x="198108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10"/>
              <p:cNvSpPr/>
              <p:nvPr/>
            </p:nvSpPr>
            <p:spPr>
              <a:xfrm>
                <a:off x="244008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4190760" y="5486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: many sugar un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tarch (bread, potatoe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lycogen (beef muscl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ellulose (lettuce, cor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62120" y="4038480"/>
            <a:ext cx="7870680" cy="2209680"/>
            <a:chOff x="762120" y="4038480"/>
            <a:chExt cx="7870680" cy="2209680"/>
          </a:xfrm>
        </p:grpSpPr>
        <p:sp>
          <p:nvSpPr>
            <p:cNvPr id="188" name="AutoShape 5"/>
            <p:cNvSpPr/>
            <p:nvPr/>
          </p:nvSpPr>
          <p:spPr>
            <a:xfrm>
              <a:off x="2325600" y="4038480"/>
              <a:ext cx="1296360" cy="990360"/>
            </a:xfrm>
            <a:prstGeom prst="hexagon">
              <a:avLst>
                <a:gd name="adj" fmla="val 3272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25167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62120" y="4038480"/>
              <a:ext cx="1296720" cy="990360"/>
            </a:xfrm>
            <a:prstGeom prst="hexagon">
              <a:avLst>
                <a:gd name="adj" fmla="val 3273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9165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2058840" y="453384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20004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3915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6365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79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2933640" y="5752800"/>
              <a:ext cx="26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4114440" y="4038480"/>
              <a:ext cx="2860200" cy="990360"/>
              <a:chOff x="4114440" y="4038480"/>
              <a:chExt cx="2860200" cy="990360"/>
            </a:xfrm>
          </p:grpSpPr>
          <p:sp>
            <p:nvSpPr>
              <p:cNvPr id="199" name="AutoShape 16"/>
              <p:cNvSpPr/>
              <p:nvPr/>
            </p:nvSpPr>
            <p:spPr>
              <a:xfrm>
                <a:off x="567792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58690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8"/>
              <p:cNvSpPr/>
              <p:nvPr/>
            </p:nvSpPr>
            <p:spPr>
              <a:xfrm>
                <a:off x="411444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Text Box 19"/>
              <p:cNvSpPr/>
              <p:nvPr/>
            </p:nvSpPr>
            <p:spPr>
              <a:xfrm>
                <a:off x="42688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5411160" y="4533840"/>
                <a:ext cx="266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AutoShape 21"/>
            <p:cNvSpPr/>
            <p:nvPr/>
          </p:nvSpPr>
          <p:spPr>
            <a:xfrm>
              <a:off x="64767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792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23"/>
            <p:cNvSpPr/>
            <p:nvPr/>
          </p:nvSpPr>
          <p:spPr>
            <a:xfrm>
              <a:off x="491292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503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6210000" y="575280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>
              <a:off x="3581280" y="4571640"/>
              <a:ext cx="53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4495680" y="579096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2590560" y="5028480"/>
              <a:ext cx="759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 flipV="1">
              <a:off x="5867280" y="502848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7147440" y="4535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ellul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Lip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erm for compounds which ar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t soluble in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pid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e soluble in hydrophobic solv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member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“stores the most energ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F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Phospho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  Oi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Wax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5.  Steroid horm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6.  Triglycer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ix functions of lipid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ng term 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heat loss (insulati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physical sho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water lo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hemical messengers (hormon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6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jor component of membrane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phospholipi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Triglyceride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mposed of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1 glycer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95480"/>
            <a:ext cx="1447560" cy="3547440"/>
            <a:chOff x="762120" y="2895480"/>
            <a:chExt cx="1447560" cy="3547440"/>
          </a:xfrm>
        </p:grpSpPr>
        <p:grpSp>
          <p:nvGrpSpPr>
            <p:cNvPr id="226" name="Group 5"/>
            <p:cNvGrpSpPr/>
            <p:nvPr/>
          </p:nvGrpSpPr>
          <p:grpSpPr>
            <a:xfrm>
              <a:off x="762120" y="2895480"/>
              <a:ext cx="1447560" cy="3048120"/>
              <a:chOff x="762120" y="2895480"/>
              <a:chExt cx="1447560" cy="3048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762120" y="2895480"/>
                <a:ext cx="1447560" cy="3048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Text Box 7"/>
              <p:cNvSpPr/>
              <p:nvPr/>
            </p:nvSpPr>
            <p:spPr>
              <a:xfrm>
                <a:off x="988560" y="2971800"/>
                <a:ext cx="117432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>
                <a:off x="1447920" y="3276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1447920" y="3733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447920" y="4495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144792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823680" y="59832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glycero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057400" y="3809880"/>
            <a:ext cx="5901840" cy="1261440"/>
            <a:chOff x="2057400" y="3809880"/>
            <a:chExt cx="5901840" cy="1261440"/>
          </a:xfrm>
        </p:grpSpPr>
        <p:grpSp>
          <p:nvGrpSpPr>
            <p:cNvPr id="235" name="Group 14"/>
            <p:cNvGrpSpPr/>
            <p:nvPr/>
          </p:nvGrpSpPr>
          <p:grpSpPr>
            <a:xfrm>
              <a:off x="2057400" y="3809880"/>
              <a:ext cx="5901840" cy="816840"/>
              <a:chOff x="2057400" y="3809880"/>
              <a:chExt cx="5901840" cy="816840"/>
            </a:xfrm>
          </p:grpSpPr>
          <p:sp>
            <p:nvSpPr>
              <p:cNvPr id="236" name="Text Box 15"/>
              <p:cNvSpPr/>
              <p:nvPr/>
            </p:nvSpPr>
            <p:spPr>
              <a:xfrm>
                <a:off x="2273400" y="380988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 rot="5320800">
                <a:off x="2257200" y="3913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057400" y="43434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5319360" y="46116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fatty aci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2057040" y="3048120"/>
            <a:ext cx="5902200" cy="816840"/>
            <a:chOff x="2057040" y="3048120"/>
            <a:chExt cx="5902200" cy="816840"/>
          </a:xfrm>
        </p:grpSpPr>
        <p:sp>
          <p:nvSpPr>
            <p:cNvPr id="241" name="Text Box 20"/>
            <p:cNvSpPr/>
            <p:nvPr/>
          </p:nvSpPr>
          <p:spPr>
            <a:xfrm>
              <a:off x="2273400" y="3048120"/>
              <a:ext cx="568584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 rot="5320800">
              <a:off x="2257200" y="31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H="1">
              <a:off x="2057040" y="3657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2057040" y="4572000"/>
            <a:ext cx="5805360" cy="2170080"/>
            <a:chOff x="2057040" y="4572000"/>
            <a:chExt cx="5805360" cy="2170080"/>
          </a:xfrm>
        </p:grpSpPr>
        <p:sp>
          <p:nvSpPr>
            <p:cNvPr id="245" name="Text Box 24"/>
            <p:cNvSpPr/>
            <p:nvPr/>
          </p:nvSpPr>
          <p:spPr>
            <a:xfrm>
              <a:off x="2229120" y="4572000"/>
              <a:ext cx="241560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 rot="1383600">
              <a:off x="4411800" y="5636880"/>
              <a:ext cx="35049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=CH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 rot="5320800">
              <a:off x="2257200" y="469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2057040" y="51055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9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kinds of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may see these on food label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Saturated fatty acids: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 no double bonds (ba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Unsaturated fatty acids: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double bonds (goo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688320" y="3200400"/>
            <a:ext cx="7423200" cy="840600"/>
            <a:chOff x="688320" y="3200400"/>
            <a:chExt cx="7423200" cy="840600"/>
          </a:xfrm>
        </p:grpSpPr>
        <p:grpSp>
          <p:nvGrpSpPr>
            <p:cNvPr id="253" name="Group 5"/>
            <p:cNvGrpSpPr/>
            <p:nvPr/>
          </p:nvGrpSpPr>
          <p:grpSpPr>
            <a:xfrm>
              <a:off x="2210040" y="3200400"/>
              <a:ext cx="5901480" cy="816840"/>
              <a:chOff x="2210040" y="3200400"/>
              <a:chExt cx="5901480" cy="816840"/>
            </a:xfrm>
          </p:grpSpPr>
          <p:sp>
            <p:nvSpPr>
              <p:cNvPr id="254" name="Text Box 6"/>
              <p:cNvSpPr/>
              <p:nvPr/>
            </p:nvSpPr>
            <p:spPr>
              <a:xfrm>
                <a:off x="2425680" y="320040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Text Box 7"/>
              <p:cNvSpPr/>
              <p:nvPr/>
            </p:nvSpPr>
            <p:spPr>
              <a:xfrm rot="5320800">
                <a:off x="2408760" y="3303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 flipH="1">
                <a:off x="2210040" y="3809880"/>
                <a:ext cx="22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" name="Text Box 9"/>
            <p:cNvSpPr/>
            <p:nvPr/>
          </p:nvSpPr>
          <p:spPr>
            <a:xfrm>
              <a:off x="688320" y="35812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992880" y="4724280"/>
            <a:ext cx="7477200" cy="2082960"/>
            <a:chOff x="992880" y="4724280"/>
            <a:chExt cx="7477200" cy="2082960"/>
          </a:xfrm>
        </p:grpSpPr>
        <p:grpSp>
          <p:nvGrpSpPr>
            <p:cNvPr id="259" name="Group 11"/>
            <p:cNvGrpSpPr/>
            <p:nvPr/>
          </p:nvGrpSpPr>
          <p:grpSpPr>
            <a:xfrm>
              <a:off x="2839320" y="4724280"/>
              <a:ext cx="5630760" cy="2082960"/>
              <a:chOff x="2839320" y="4724280"/>
              <a:chExt cx="5630760" cy="2082960"/>
            </a:xfrm>
          </p:grpSpPr>
          <p:sp>
            <p:nvSpPr>
              <p:cNvPr id="260" name="Text Box 12"/>
              <p:cNvSpPr/>
              <p:nvPr/>
            </p:nvSpPr>
            <p:spPr>
              <a:xfrm>
                <a:off x="3006000" y="4724280"/>
                <a:ext cx="241560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 rot="1383600">
                <a:off x="5118840" y="5722560"/>
                <a:ext cx="34016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=CH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Text Box 14"/>
              <p:cNvSpPr/>
              <p:nvPr/>
            </p:nvSpPr>
            <p:spPr>
              <a:xfrm rot="5320800">
                <a:off x="3020760" y="4834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H="1">
                <a:off x="2839320" y="5224320"/>
                <a:ext cx="22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4" name="Text Box 16"/>
            <p:cNvSpPr/>
            <p:nvPr/>
          </p:nvSpPr>
          <p:spPr>
            <a:xfrm>
              <a:off x="992880" y="5010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un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Organic Compound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ou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contain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cro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larg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 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mino acids (20 different kinds of a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ptide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peptid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ix functions of protei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torage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lbumin (egg whit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nsport: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Regulatory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ovement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Structural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membranes, hair, nai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Enzymes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cellular rea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our levels of protein structur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cond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erti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Quatern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mino acid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gether by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ptide bonds (straight chain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838080" y="3048120"/>
            <a:ext cx="6997680" cy="2359440"/>
            <a:chOff x="838080" y="3048120"/>
            <a:chExt cx="6997680" cy="2359440"/>
          </a:xfrm>
        </p:grpSpPr>
        <p:sp>
          <p:nvSpPr>
            <p:cNvPr id="277" name="Oval 5"/>
            <p:cNvSpPr/>
            <p:nvPr/>
          </p:nvSpPr>
          <p:spPr>
            <a:xfrm>
              <a:off x="8380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0574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3276360" y="3836880"/>
              <a:ext cx="74952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45720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8672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866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8881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21070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32640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6216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59173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71362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838240" y="421164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16192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4057560" y="421164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352840" y="4211640"/>
              <a:ext cx="482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66484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22"/>
            <p:cNvSpPr/>
            <p:nvPr/>
          </p:nvSpPr>
          <p:spPr>
            <a:xfrm>
              <a:off x="1268280" y="4952880"/>
              <a:ext cx="231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1784160" y="4383000"/>
              <a:ext cx="115920" cy="515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3" h="325">
                  <a:moveTo>
                    <a:pt x="72" y="324"/>
                  </a:moveTo>
                  <a:lnTo>
                    <a:pt x="60" y="288"/>
                  </a:lnTo>
                  <a:lnTo>
                    <a:pt x="48" y="252"/>
                  </a:lnTo>
                  <a:lnTo>
                    <a:pt x="36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2889000" y="4516560"/>
              <a:ext cx="115920" cy="458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3" h="289">
                  <a:moveTo>
                    <a:pt x="0" y="288"/>
                  </a:moveTo>
                  <a:lnTo>
                    <a:pt x="24" y="252"/>
                  </a:lnTo>
                  <a:lnTo>
                    <a:pt x="36" y="216"/>
                  </a:lnTo>
                  <a:lnTo>
                    <a:pt x="48" y="180"/>
                  </a:lnTo>
                  <a:lnTo>
                    <a:pt x="60" y="144"/>
                  </a:lnTo>
                  <a:lnTo>
                    <a:pt x="60" y="108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25"/>
            <p:cNvSpPr/>
            <p:nvPr/>
          </p:nvSpPr>
          <p:spPr>
            <a:xfrm>
              <a:off x="1877040" y="3048120"/>
              <a:ext cx="267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mino Acids (aa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 flipV="1">
              <a:off x="1466640" y="3424320"/>
              <a:ext cx="40644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>
              <a:off x="4468680" y="34290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-dimensional folding arrangement of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oi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lea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ld together by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ydrogen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-360" y="3657600"/>
            <a:ext cx="3505680" cy="2666880"/>
            <a:chOff x="-360" y="3657600"/>
            <a:chExt cx="3505680" cy="2666880"/>
          </a:xfrm>
        </p:grpSpPr>
        <p:sp>
          <p:nvSpPr>
            <p:cNvPr id="304" name="Rectangle 5"/>
            <p:cNvSpPr/>
            <p:nvPr/>
          </p:nvSpPr>
          <p:spPr>
            <a:xfrm>
              <a:off x="-360" y="44956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1676520" y="3657600"/>
              <a:ext cx="1828800" cy="26668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1128" h="1912">
                  <a:moveTo>
                    <a:pt x="952" y="40"/>
                  </a:moveTo>
                  <a:cubicBezTo>
                    <a:pt x="704" y="20"/>
                    <a:pt x="456" y="0"/>
                    <a:pt x="328" y="40"/>
                  </a:cubicBezTo>
                  <a:cubicBezTo>
                    <a:pt x="200" y="80"/>
                    <a:pt x="88" y="208"/>
                    <a:pt x="184" y="280"/>
                  </a:cubicBezTo>
                  <a:cubicBezTo>
                    <a:pt x="280" y="352"/>
                    <a:pt x="776" y="472"/>
                    <a:pt x="904" y="472"/>
                  </a:cubicBezTo>
                  <a:cubicBezTo>
                    <a:pt x="1032" y="472"/>
                    <a:pt x="1072" y="272"/>
                    <a:pt x="952" y="280"/>
                  </a:cubicBezTo>
                  <a:cubicBezTo>
                    <a:pt x="832" y="288"/>
                    <a:pt x="312" y="448"/>
                    <a:pt x="184" y="520"/>
                  </a:cubicBezTo>
                  <a:cubicBezTo>
                    <a:pt x="56" y="592"/>
                    <a:pt x="64" y="648"/>
                    <a:pt x="184" y="712"/>
                  </a:cubicBezTo>
                  <a:cubicBezTo>
                    <a:pt x="304" y="776"/>
                    <a:pt x="776" y="904"/>
                    <a:pt x="904" y="904"/>
                  </a:cubicBezTo>
                  <a:cubicBezTo>
                    <a:pt x="1032" y="904"/>
                    <a:pt x="1072" y="704"/>
                    <a:pt x="952" y="712"/>
                  </a:cubicBezTo>
                  <a:cubicBezTo>
                    <a:pt x="832" y="720"/>
                    <a:pt x="312" y="872"/>
                    <a:pt x="184" y="952"/>
                  </a:cubicBezTo>
                  <a:cubicBezTo>
                    <a:pt x="56" y="1032"/>
                    <a:pt x="56" y="1128"/>
                    <a:pt x="184" y="1192"/>
                  </a:cubicBezTo>
                  <a:cubicBezTo>
                    <a:pt x="312" y="1256"/>
                    <a:pt x="816" y="1352"/>
                    <a:pt x="952" y="1336"/>
                  </a:cubicBezTo>
                  <a:cubicBezTo>
                    <a:pt x="1088" y="1320"/>
                    <a:pt x="1128" y="1080"/>
                    <a:pt x="1000" y="1096"/>
                  </a:cubicBezTo>
                  <a:cubicBezTo>
                    <a:pt x="872" y="1112"/>
                    <a:pt x="328" y="1328"/>
                    <a:pt x="184" y="1432"/>
                  </a:cubicBezTo>
                  <a:cubicBezTo>
                    <a:pt x="40" y="1536"/>
                    <a:pt x="0" y="1672"/>
                    <a:pt x="136" y="1720"/>
                  </a:cubicBezTo>
                  <a:cubicBezTo>
                    <a:pt x="272" y="1768"/>
                    <a:pt x="872" y="1752"/>
                    <a:pt x="1000" y="1720"/>
                  </a:cubicBezTo>
                  <a:cubicBezTo>
                    <a:pt x="1128" y="1688"/>
                    <a:pt x="1056" y="1496"/>
                    <a:pt x="904" y="1528"/>
                  </a:cubicBezTo>
                  <a:cubicBezTo>
                    <a:pt x="752" y="1560"/>
                    <a:pt x="420" y="1736"/>
                    <a:pt x="88" y="19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 flipV="1">
              <a:off x="3352680" y="54864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352680" y="48006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352680" y="4191120"/>
              <a:ext cx="0" cy="533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4343400" y="3657600"/>
            <a:ext cx="4448880" cy="2054880"/>
            <a:chOff x="4343400" y="3657600"/>
            <a:chExt cx="4448880" cy="2054880"/>
          </a:xfrm>
        </p:grpSpPr>
        <p:sp>
          <p:nvSpPr>
            <p:cNvPr id="310" name="Rectangle 11"/>
            <p:cNvSpPr/>
            <p:nvPr/>
          </p:nvSpPr>
          <p:spPr>
            <a:xfrm>
              <a:off x="5867640" y="52578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343400" y="365760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4343400" y="441972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3434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952880" y="380988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57150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6324480" y="3733920"/>
              <a:ext cx="0" cy="7617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7543800" y="36576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82296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1"/>
          <p:cNvGrpSpPr/>
          <p:nvPr/>
        </p:nvGrpSpPr>
        <p:grpSpPr>
          <a:xfrm>
            <a:off x="3505320" y="4648320"/>
            <a:ext cx="3548520" cy="1749960"/>
            <a:chOff x="3505320" y="4648320"/>
            <a:chExt cx="3548520" cy="1749960"/>
          </a:xfrm>
        </p:grpSpPr>
        <p:sp>
          <p:nvSpPr>
            <p:cNvPr id="321" name="Rectangle 22"/>
            <p:cNvSpPr/>
            <p:nvPr/>
          </p:nvSpPr>
          <p:spPr>
            <a:xfrm>
              <a:off x="4420440" y="5943600"/>
              <a:ext cx="263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ydrogen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 flipH="1" flipV="1">
              <a:off x="3505320" y="5638320"/>
              <a:ext cx="838080" cy="3812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 flipV="1">
              <a:off x="4724280" y="4648320"/>
              <a:ext cx="914400" cy="1295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erti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ondary structur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re complex 3-D arrang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linked polypept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Bonds:  H-bonds, ionic, disulfide bridges (S-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subunit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Freeform 4"/>
          <p:cNvSpPr/>
          <p:nvPr/>
        </p:nvSpPr>
        <p:spPr>
          <a:xfrm>
            <a:off x="3809880" y="3124080"/>
            <a:ext cx="5031000" cy="346896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3169" h="2185">
                <a:moveTo>
                  <a:pt x="1908" y="0"/>
                </a:moveTo>
                <a:lnTo>
                  <a:pt x="1872" y="24"/>
                </a:lnTo>
                <a:lnTo>
                  <a:pt x="1824" y="24"/>
                </a:lnTo>
                <a:lnTo>
                  <a:pt x="1752" y="12"/>
                </a:lnTo>
                <a:lnTo>
                  <a:pt x="1680" y="12"/>
                </a:lnTo>
                <a:lnTo>
                  <a:pt x="1644" y="12"/>
                </a:lnTo>
                <a:lnTo>
                  <a:pt x="1608" y="0"/>
                </a:lnTo>
                <a:lnTo>
                  <a:pt x="1572" y="0"/>
                </a:lnTo>
                <a:lnTo>
                  <a:pt x="1536" y="0"/>
                </a:lnTo>
                <a:lnTo>
                  <a:pt x="1500" y="0"/>
                </a:lnTo>
                <a:lnTo>
                  <a:pt x="1404" y="0"/>
                </a:lnTo>
                <a:lnTo>
                  <a:pt x="1332" y="0"/>
                </a:lnTo>
                <a:lnTo>
                  <a:pt x="1260" y="0"/>
                </a:lnTo>
                <a:lnTo>
                  <a:pt x="1188" y="12"/>
                </a:lnTo>
                <a:lnTo>
                  <a:pt x="1116" y="12"/>
                </a:lnTo>
                <a:lnTo>
                  <a:pt x="1044" y="12"/>
                </a:lnTo>
                <a:lnTo>
                  <a:pt x="972" y="12"/>
                </a:lnTo>
                <a:lnTo>
                  <a:pt x="900" y="12"/>
                </a:lnTo>
                <a:lnTo>
                  <a:pt x="828" y="24"/>
                </a:lnTo>
                <a:lnTo>
                  <a:pt x="756" y="24"/>
                </a:lnTo>
                <a:lnTo>
                  <a:pt x="684" y="24"/>
                </a:lnTo>
                <a:lnTo>
                  <a:pt x="588" y="24"/>
                </a:lnTo>
                <a:lnTo>
                  <a:pt x="516" y="36"/>
                </a:lnTo>
                <a:lnTo>
                  <a:pt x="396" y="48"/>
                </a:lnTo>
                <a:lnTo>
                  <a:pt x="324" y="60"/>
                </a:lnTo>
                <a:lnTo>
                  <a:pt x="228" y="84"/>
                </a:lnTo>
                <a:lnTo>
                  <a:pt x="180" y="96"/>
                </a:lnTo>
                <a:lnTo>
                  <a:pt x="132" y="132"/>
                </a:lnTo>
                <a:lnTo>
                  <a:pt x="84" y="180"/>
                </a:lnTo>
                <a:lnTo>
                  <a:pt x="48" y="216"/>
                </a:lnTo>
                <a:lnTo>
                  <a:pt x="36" y="252"/>
                </a:lnTo>
                <a:lnTo>
                  <a:pt x="24" y="288"/>
                </a:lnTo>
                <a:lnTo>
                  <a:pt x="12" y="336"/>
                </a:lnTo>
                <a:lnTo>
                  <a:pt x="0" y="408"/>
                </a:lnTo>
                <a:lnTo>
                  <a:pt x="0" y="456"/>
                </a:lnTo>
                <a:lnTo>
                  <a:pt x="0" y="492"/>
                </a:lnTo>
                <a:lnTo>
                  <a:pt x="0" y="528"/>
                </a:lnTo>
                <a:lnTo>
                  <a:pt x="0" y="564"/>
                </a:lnTo>
                <a:lnTo>
                  <a:pt x="0" y="636"/>
                </a:lnTo>
                <a:lnTo>
                  <a:pt x="0" y="708"/>
                </a:lnTo>
                <a:lnTo>
                  <a:pt x="0" y="804"/>
                </a:lnTo>
                <a:lnTo>
                  <a:pt x="0" y="876"/>
                </a:lnTo>
                <a:lnTo>
                  <a:pt x="0" y="948"/>
                </a:lnTo>
                <a:lnTo>
                  <a:pt x="0" y="984"/>
                </a:lnTo>
                <a:lnTo>
                  <a:pt x="0" y="1032"/>
                </a:lnTo>
                <a:lnTo>
                  <a:pt x="0" y="1080"/>
                </a:lnTo>
                <a:lnTo>
                  <a:pt x="0" y="1128"/>
                </a:lnTo>
                <a:lnTo>
                  <a:pt x="0" y="1224"/>
                </a:lnTo>
                <a:lnTo>
                  <a:pt x="0" y="1320"/>
                </a:lnTo>
                <a:lnTo>
                  <a:pt x="12" y="1356"/>
                </a:lnTo>
                <a:lnTo>
                  <a:pt x="24" y="1404"/>
                </a:lnTo>
                <a:lnTo>
                  <a:pt x="48" y="1452"/>
                </a:lnTo>
                <a:lnTo>
                  <a:pt x="60" y="1488"/>
                </a:lnTo>
                <a:lnTo>
                  <a:pt x="96" y="1512"/>
                </a:lnTo>
                <a:lnTo>
                  <a:pt x="108" y="1584"/>
                </a:lnTo>
                <a:lnTo>
                  <a:pt x="132" y="1656"/>
                </a:lnTo>
                <a:lnTo>
                  <a:pt x="204" y="1752"/>
                </a:lnTo>
                <a:lnTo>
                  <a:pt x="240" y="1800"/>
                </a:lnTo>
                <a:lnTo>
                  <a:pt x="276" y="1848"/>
                </a:lnTo>
                <a:lnTo>
                  <a:pt x="312" y="1872"/>
                </a:lnTo>
                <a:lnTo>
                  <a:pt x="360" y="1920"/>
                </a:lnTo>
                <a:lnTo>
                  <a:pt x="432" y="1944"/>
                </a:lnTo>
                <a:lnTo>
                  <a:pt x="504" y="1956"/>
                </a:lnTo>
                <a:lnTo>
                  <a:pt x="624" y="1992"/>
                </a:lnTo>
                <a:lnTo>
                  <a:pt x="696" y="2016"/>
                </a:lnTo>
                <a:lnTo>
                  <a:pt x="768" y="2016"/>
                </a:lnTo>
                <a:lnTo>
                  <a:pt x="864" y="2028"/>
                </a:lnTo>
                <a:lnTo>
                  <a:pt x="936" y="2028"/>
                </a:lnTo>
                <a:lnTo>
                  <a:pt x="1008" y="2028"/>
                </a:lnTo>
                <a:lnTo>
                  <a:pt x="1104" y="2040"/>
                </a:lnTo>
                <a:lnTo>
                  <a:pt x="1176" y="2040"/>
                </a:lnTo>
                <a:lnTo>
                  <a:pt x="1248" y="2040"/>
                </a:lnTo>
                <a:lnTo>
                  <a:pt x="1368" y="2064"/>
                </a:lnTo>
                <a:lnTo>
                  <a:pt x="1464" y="2076"/>
                </a:lnTo>
                <a:lnTo>
                  <a:pt x="1560" y="2088"/>
                </a:lnTo>
                <a:lnTo>
                  <a:pt x="1656" y="2112"/>
                </a:lnTo>
                <a:lnTo>
                  <a:pt x="1728" y="2136"/>
                </a:lnTo>
                <a:lnTo>
                  <a:pt x="1800" y="2148"/>
                </a:lnTo>
                <a:lnTo>
                  <a:pt x="1848" y="2160"/>
                </a:lnTo>
                <a:lnTo>
                  <a:pt x="1920" y="2172"/>
                </a:lnTo>
                <a:lnTo>
                  <a:pt x="1992" y="2172"/>
                </a:lnTo>
                <a:lnTo>
                  <a:pt x="2088" y="2184"/>
                </a:lnTo>
                <a:lnTo>
                  <a:pt x="2184" y="2184"/>
                </a:lnTo>
                <a:lnTo>
                  <a:pt x="2328" y="2184"/>
                </a:lnTo>
                <a:lnTo>
                  <a:pt x="2472" y="2172"/>
                </a:lnTo>
                <a:lnTo>
                  <a:pt x="2592" y="2160"/>
                </a:lnTo>
                <a:lnTo>
                  <a:pt x="2688" y="2148"/>
                </a:lnTo>
                <a:lnTo>
                  <a:pt x="2724" y="2136"/>
                </a:lnTo>
                <a:lnTo>
                  <a:pt x="2820" y="2112"/>
                </a:lnTo>
                <a:lnTo>
                  <a:pt x="2916" y="2040"/>
                </a:lnTo>
                <a:lnTo>
                  <a:pt x="2988" y="2016"/>
                </a:lnTo>
                <a:lnTo>
                  <a:pt x="3060" y="1944"/>
                </a:lnTo>
                <a:lnTo>
                  <a:pt x="3132" y="1848"/>
                </a:lnTo>
                <a:lnTo>
                  <a:pt x="3144" y="1728"/>
                </a:lnTo>
                <a:lnTo>
                  <a:pt x="3156" y="1656"/>
                </a:lnTo>
                <a:lnTo>
                  <a:pt x="3168" y="1560"/>
                </a:lnTo>
                <a:lnTo>
                  <a:pt x="3168" y="1464"/>
                </a:lnTo>
                <a:lnTo>
                  <a:pt x="3168" y="1392"/>
                </a:lnTo>
                <a:lnTo>
                  <a:pt x="3168" y="1272"/>
                </a:lnTo>
                <a:lnTo>
                  <a:pt x="3156" y="1176"/>
                </a:lnTo>
                <a:lnTo>
                  <a:pt x="3156" y="1080"/>
                </a:lnTo>
                <a:lnTo>
                  <a:pt x="3144" y="984"/>
                </a:lnTo>
                <a:lnTo>
                  <a:pt x="3120" y="864"/>
                </a:lnTo>
                <a:lnTo>
                  <a:pt x="3096" y="768"/>
                </a:lnTo>
                <a:lnTo>
                  <a:pt x="3072" y="696"/>
                </a:lnTo>
                <a:lnTo>
                  <a:pt x="3048" y="624"/>
                </a:lnTo>
                <a:lnTo>
                  <a:pt x="2976" y="528"/>
                </a:lnTo>
                <a:lnTo>
                  <a:pt x="2904" y="456"/>
                </a:lnTo>
                <a:lnTo>
                  <a:pt x="2832" y="384"/>
                </a:lnTo>
                <a:lnTo>
                  <a:pt x="2808" y="288"/>
                </a:lnTo>
                <a:lnTo>
                  <a:pt x="2760" y="240"/>
                </a:lnTo>
                <a:lnTo>
                  <a:pt x="2664" y="204"/>
                </a:lnTo>
                <a:lnTo>
                  <a:pt x="2628" y="168"/>
                </a:lnTo>
                <a:lnTo>
                  <a:pt x="2580" y="144"/>
                </a:lnTo>
                <a:lnTo>
                  <a:pt x="2484" y="108"/>
                </a:lnTo>
                <a:lnTo>
                  <a:pt x="2412" y="96"/>
                </a:lnTo>
                <a:lnTo>
                  <a:pt x="2292" y="60"/>
                </a:lnTo>
                <a:lnTo>
                  <a:pt x="2196" y="48"/>
                </a:lnTo>
                <a:lnTo>
                  <a:pt x="2148" y="36"/>
                </a:lnTo>
                <a:lnTo>
                  <a:pt x="2112" y="24"/>
                </a:lnTo>
                <a:lnTo>
                  <a:pt x="2076" y="24"/>
                </a:lnTo>
                <a:lnTo>
                  <a:pt x="2040" y="12"/>
                </a:lnTo>
                <a:lnTo>
                  <a:pt x="2004" y="12"/>
                </a:lnTo>
                <a:lnTo>
                  <a:pt x="1968" y="12"/>
                </a:lnTo>
                <a:lnTo>
                  <a:pt x="1932" y="12"/>
                </a:lnTo>
                <a:lnTo>
                  <a:pt x="1896" y="12"/>
                </a:lnTo>
                <a:lnTo>
                  <a:pt x="1860" y="36"/>
                </a:lnTo>
                <a:lnTo>
                  <a:pt x="1788" y="48"/>
                </a:lnTo>
                <a:lnTo>
                  <a:pt x="1716" y="72"/>
                </a:lnTo>
                <a:lnTo>
                  <a:pt x="1680" y="84"/>
                </a:lnTo>
                <a:lnTo>
                  <a:pt x="1644" y="108"/>
                </a:lnTo>
                <a:lnTo>
                  <a:pt x="1608" y="120"/>
                </a:lnTo>
                <a:lnTo>
                  <a:pt x="1560" y="132"/>
                </a:lnTo>
                <a:lnTo>
                  <a:pt x="1524" y="132"/>
                </a:lnTo>
                <a:lnTo>
                  <a:pt x="1488" y="132"/>
                </a:lnTo>
                <a:lnTo>
                  <a:pt x="1452" y="120"/>
                </a:lnTo>
                <a:lnTo>
                  <a:pt x="1356" y="108"/>
                </a:lnTo>
                <a:lnTo>
                  <a:pt x="1308" y="108"/>
                </a:lnTo>
                <a:lnTo>
                  <a:pt x="1188" y="96"/>
                </a:lnTo>
                <a:lnTo>
                  <a:pt x="1092" y="96"/>
                </a:lnTo>
                <a:lnTo>
                  <a:pt x="1020" y="96"/>
                </a:lnTo>
                <a:lnTo>
                  <a:pt x="924" y="96"/>
                </a:lnTo>
                <a:lnTo>
                  <a:pt x="852" y="96"/>
                </a:lnTo>
                <a:lnTo>
                  <a:pt x="780" y="96"/>
                </a:lnTo>
                <a:lnTo>
                  <a:pt x="744" y="96"/>
                </a:lnTo>
                <a:lnTo>
                  <a:pt x="708" y="96"/>
                </a:lnTo>
                <a:lnTo>
                  <a:pt x="612" y="108"/>
                </a:lnTo>
                <a:lnTo>
                  <a:pt x="516" y="108"/>
                </a:lnTo>
                <a:lnTo>
                  <a:pt x="444" y="120"/>
                </a:lnTo>
                <a:lnTo>
                  <a:pt x="372" y="132"/>
                </a:lnTo>
                <a:lnTo>
                  <a:pt x="276" y="144"/>
                </a:lnTo>
                <a:lnTo>
                  <a:pt x="240" y="144"/>
                </a:lnTo>
                <a:lnTo>
                  <a:pt x="204" y="180"/>
                </a:lnTo>
                <a:lnTo>
                  <a:pt x="204" y="228"/>
                </a:lnTo>
                <a:lnTo>
                  <a:pt x="204" y="300"/>
                </a:lnTo>
                <a:lnTo>
                  <a:pt x="204" y="336"/>
                </a:lnTo>
                <a:lnTo>
                  <a:pt x="228" y="372"/>
                </a:lnTo>
                <a:lnTo>
                  <a:pt x="264" y="396"/>
                </a:lnTo>
                <a:lnTo>
                  <a:pt x="360" y="420"/>
                </a:lnTo>
                <a:lnTo>
                  <a:pt x="456" y="444"/>
                </a:lnTo>
                <a:lnTo>
                  <a:pt x="552" y="456"/>
                </a:lnTo>
                <a:lnTo>
                  <a:pt x="648" y="468"/>
                </a:lnTo>
                <a:lnTo>
                  <a:pt x="744" y="480"/>
                </a:lnTo>
                <a:lnTo>
                  <a:pt x="864" y="492"/>
                </a:lnTo>
                <a:lnTo>
                  <a:pt x="912" y="492"/>
                </a:lnTo>
                <a:lnTo>
                  <a:pt x="1008" y="468"/>
                </a:lnTo>
                <a:lnTo>
                  <a:pt x="1044" y="432"/>
                </a:lnTo>
                <a:lnTo>
                  <a:pt x="1044" y="396"/>
                </a:lnTo>
                <a:lnTo>
                  <a:pt x="1008" y="372"/>
                </a:lnTo>
                <a:lnTo>
                  <a:pt x="972" y="372"/>
                </a:lnTo>
                <a:lnTo>
                  <a:pt x="936" y="360"/>
                </a:lnTo>
                <a:lnTo>
                  <a:pt x="888" y="348"/>
                </a:lnTo>
                <a:lnTo>
                  <a:pt x="792" y="336"/>
                </a:lnTo>
                <a:lnTo>
                  <a:pt x="696" y="336"/>
                </a:lnTo>
                <a:lnTo>
                  <a:pt x="600" y="324"/>
                </a:lnTo>
                <a:lnTo>
                  <a:pt x="504" y="324"/>
                </a:lnTo>
                <a:lnTo>
                  <a:pt x="432" y="324"/>
                </a:lnTo>
                <a:lnTo>
                  <a:pt x="360" y="324"/>
                </a:lnTo>
                <a:lnTo>
                  <a:pt x="288" y="324"/>
                </a:lnTo>
                <a:lnTo>
                  <a:pt x="252" y="324"/>
                </a:lnTo>
                <a:lnTo>
                  <a:pt x="204" y="348"/>
                </a:lnTo>
                <a:lnTo>
                  <a:pt x="168" y="396"/>
                </a:lnTo>
                <a:lnTo>
                  <a:pt x="144" y="432"/>
                </a:lnTo>
                <a:lnTo>
                  <a:pt x="144" y="480"/>
                </a:lnTo>
                <a:lnTo>
                  <a:pt x="144" y="516"/>
                </a:lnTo>
                <a:lnTo>
                  <a:pt x="144" y="564"/>
                </a:lnTo>
                <a:lnTo>
                  <a:pt x="168" y="660"/>
                </a:lnTo>
                <a:lnTo>
                  <a:pt x="180" y="732"/>
                </a:lnTo>
                <a:lnTo>
                  <a:pt x="228" y="768"/>
                </a:lnTo>
                <a:lnTo>
                  <a:pt x="324" y="792"/>
                </a:lnTo>
                <a:lnTo>
                  <a:pt x="420" y="816"/>
                </a:lnTo>
                <a:lnTo>
                  <a:pt x="540" y="828"/>
                </a:lnTo>
                <a:lnTo>
                  <a:pt x="636" y="840"/>
                </a:lnTo>
                <a:lnTo>
                  <a:pt x="732" y="840"/>
                </a:lnTo>
                <a:lnTo>
                  <a:pt x="804" y="840"/>
                </a:lnTo>
                <a:lnTo>
                  <a:pt x="876" y="840"/>
                </a:lnTo>
                <a:lnTo>
                  <a:pt x="912" y="840"/>
                </a:lnTo>
                <a:lnTo>
                  <a:pt x="960" y="828"/>
                </a:lnTo>
                <a:lnTo>
                  <a:pt x="1032" y="816"/>
                </a:lnTo>
                <a:lnTo>
                  <a:pt x="1104" y="804"/>
                </a:lnTo>
                <a:lnTo>
                  <a:pt x="1140" y="780"/>
                </a:lnTo>
                <a:lnTo>
                  <a:pt x="1140" y="744"/>
                </a:lnTo>
                <a:lnTo>
                  <a:pt x="1092" y="720"/>
                </a:lnTo>
                <a:lnTo>
                  <a:pt x="1056" y="696"/>
                </a:lnTo>
                <a:lnTo>
                  <a:pt x="960" y="684"/>
                </a:lnTo>
                <a:lnTo>
                  <a:pt x="864" y="672"/>
                </a:lnTo>
                <a:lnTo>
                  <a:pt x="792" y="660"/>
                </a:lnTo>
                <a:lnTo>
                  <a:pt x="720" y="660"/>
                </a:lnTo>
                <a:lnTo>
                  <a:pt x="600" y="660"/>
                </a:lnTo>
                <a:lnTo>
                  <a:pt x="504" y="660"/>
                </a:lnTo>
                <a:lnTo>
                  <a:pt x="432" y="660"/>
                </a:lnTo>
                <a:lnTo>
                  <a:pt x="360" y="660"/>
                </a:lnTo>
                <a:lnTo>
                  <a:pt x="312" y="660"/>
                </a:lnTo>
                <a:lnTo>
                  <a:pt x="276" y="672"/>
                </a:lnTo>
                <a:lnTo>
                  <a:pt x="240" y="696"/>
                </a:lnTo>
                <a:lnTo>
                  <a:pt x="204" y="732"/>
                </a:lnTo>
                <a:lnTo>
                  <a:pt x="180" y="768"/>
                </a:lnTo>
                <a:lnTo>
                  <a:pt x="168" y="804"/>
                </a:lnTo>
                <a:lnTo>
                  <a:pt x="168" y="852"/>
                </a:lnTo>
                <a:lnTo>
                  <a:pt x="192" y="888"/>
                </a:lnTo>
                <a:lnTo>
                  <a:pt x="204" y="924"/>
                </a:lnTo>
                <a:lnTo>
                  <a:pt x="228" y="972"/>
                </a:lnTo>
                <a:lnTo>
                  <a:pt x="324" y="1068"/>
                </a:lnTo>
                <a:lnTo>
                  <a:pt x="420" y="1164"/>
                </a:lnTo>
                <a:lnTo>
                  <a:pt x="492" y="1188"/>
                </a:lnTo>
                <a:lnTo>
                  <a:pt x="564" y="1212"/>
                </a:lnTo>
                <a:lnTo>
                  <a:pt x="636" y="1224"/>
                </a:lnTo>
                <a:lnTo>
                  <a:pt x="684" y="1224"/>
                </a:lnTo>
                <a:lnTo>
                  <a:pt x="732" y="1224"/>
                </a:lnTo>
                <a:lnTo>
                  <a:pt x="768" y="1224"/>
                </a:lnTo>
                <a:lnTo>
                  <a:pt x="864" y="1212"/>
                </a:lnTo>
                <a:lnTo>
                  <a:pt x="912" y="1200"/>
                </a:lnTo>
                <a:lnTo>
                  <a:pt x="948" y="1176"/>
                </a:lnTo>
                <a:lnTo>
                  <a:pt x="996" y="1152"/>
                </a:lnTo>
                <a:lnTo>
                  <a:pt x="1008" y="1116"/>
                </a:lnTo>
                <a:lnTo>
                  <a:pt x="1032" y="1080"/>
                </a:lnTo>
                <a:lnTo>
                  <a:pt x="1020" y="1044"/>
                </a:lnTo>
                <a:lnTo>
                  <a:pt x="972" y="1020"/>
                </a:lnTo>
                <a:lnTo>
                  <a:pt x="876" y="1020"/>
                </a:lnTo>
                <a:lnTo>
                  <a:pt x="780" y="1020"/>
                </a:lnTo>
                <a:lnTo>
                  <a:pt x="684" y="1020"/>
                </a:lnTo>
                <a:lnTo>
                  <a:pt x="564" y="1020"/>
                </a:lnTo>
                <a:lnTo>
                  <a:pt x="444" y="1020"/>
                </a:lnTo>
                <a:lnTo>
                  <a:pt x="348" y="1020"/>
                </a:lnTo>
                <a:lnTo>
                  <a:pt x="276" y="1020"/>
                </a:lnTo>
                <a:lnTo>
                  <a:pt x="204" y="1020"/>
                </a:lnTo>
                <a:lnTo>
                  <a:pt x="156" y="1032"/>
                </a:lnTo>
                <a:lnTo>
                  <a:pt x="120" y="1056"/>
                </a:lnTo>
                <a:lnTo>
                  <a:pt x="84" y="1092"/>
                </a:lnTo>
                <a:lnTo>
                  <a:pt x="72" y="1128"/>
                </a:lnTo>
                <a:lnTo>
                  <a:pt x="60" y="1176"/>
                </a:lnTo>
                <a:lnTo>
                  <a:pt x="60" y="1212"/>
                </a:lnTo>
                <a:lnTo>
                  <a:pt x="84" y="1248"/>
                </a:lnTo>
                <a:lnTo>
                  <a:pt x="120" y="1284"/>
                </a:lnTo>
                <a:lnTo>
                  <a:pt x="156" y="1332"/>
                </a:lnTo>
                <a:lnTo>
                  <a:pt x="228" y="1356"/>
                </a:lnTo>
                <a:lnTo>
                  <a:pt x="324" y="1380"/>
                </a:lnTo>
                <a:lnTo>
                  <a:pt x="420" y="1452"/>
                </a:lnTo>
                <a:lnTo>
                  <a:pt x="468" y="1488"/>
                </a:lnTo>
                <a:lnTo>
                  <a:pt x="540" y="1500"/>
                </a:lnTo>
                <a:lnTo>
                  <a:pt x="636" y="1500"/>
                </a:lnTo>
                <a:lnTo>
                  <a:pt x="708" y="1500"/>
                </a:lnTo>
                <a:lnTo>
                  <a:pt x="780" y="1500"/>
                </a:lnTo>
                <a:lnTo>
                  <a:pt x="852" y="1500"/>
                </a:lnTo>
                <a:lnTo>
                  <a:pt x="924" y="1500"/>
                </a:lnTo>
                <a:lnTo>
                  <a:pt x="972" y="1500"/>
                </a:lnTo>
                <a:lnTo>
                  <a:pt x="1008" y="1476"/>
                </a:lnTo>
                <a:lnTo>
                  <a:pt x="1032" y="1428"/>
                </a:lnTo>
                <a:lnTo>
                  <a:pt x="1020" y="1380"/>
                </a:lnTo>
                <a:lnTo>
                  <a:pt x="984" y="1368"/>
                </a:lnTo>
                <a:lnTo>
                  <a:pt x="936" y="1368"/>
                </a:lnTo>
                <a:lnTo>
                  <a:pt x="840" y="1368"/>
                </a:lnTo>
                <a:lnTo>
                  <a:pt x="768" y="1368"/>
                </a:lnTo>
                <a:lnTo>
                  <a:pt x="672" y="1368"/>
                </a:lnTo>
                <a:lnTo>
                  <a:pt x="576" y="1368"/>
                </a:lnTo>
                <a:lnTo>
                  <a:pt x="504" y="1368"/>
                </a:lnTo>
                <a:lnTo>
                  <a:pt x="456" y="1380"/>
                </a:lnTo>
                <a:lnTo>
                  <a:pt x="408" y="1392"/>
                </a:lnTo>
                <a:lnTo>
                  <a:pt x="372" y="1404"/>
                </a:lnTo>
                <a:lnTo>
                  <a:pt x="336" y="1428"/>
                </a:lnTo>
                <a:lnTo>
                  <a:pt x="312" y="1464"/>
                </a:lnTo>
                <a:lnTo>
                  <a:pt x="276" y="1500"/>
                </a:lnTo>
                <a:lnTo>
                  <a:pt x="264" y="1536"/>
                </a:lnTo>
                <a:lnTo>
                  <a:pt x="252" y="1572"/>
                </a:lnTo>
                <a:lnTo>
                  <a:pt x="252" y="1608"/>
                </a:lnTo>
                <a:lnTo>
                  <a:pt x="252" y="1644"/>
                </a:lnTo>
                <a:lnTo>
                  <a:pt x="252" y="1680"/>
                </a:lnTo>
                <a:lnTo>
                  <a:pt x="264" y="1716"/>
                </a:lnTo>
                <a:lnTo>
                  <a:pt x="300" y="1740"/>
                </a:lnTo>
                <a:lnTo>
                  <a:pt x="396" y="1776"/>
                </a:lnTo>
                <a:lnTo>
                  <a:pt x="468" y="1788"/>
                </a:lnTo>
                <a:lnTo>
                  <a:pt x="540" y="1800"/>
                </a:lnTo>
                <a:lnTo>
                  <a:pt x="636" y="1812"/>
                </a:lnTo>
                <a:lnTo>
                  <a:pt x="684" y="1812"/>
                </a:lnTo>
                <a:lnTo>
                  <a:pt x="720" y="1812"/>
                </a:lnTo>
                <a:lnTo>
                  <a:pt x="768" y="1800"/>
                </a:lnTo>
                <a:lnTo>
                  <a:pt x="804" y="1788"/>
                </a:lnTo>
                <a:lnTo>
                  <a:pt x="888" y="1788"/>
                </a:lnTo>
                <a:lnTo>
                  <a:pt x="924" y="1788"/>
                </a:lnTo>
                <a:lnTo>
                  <a:pt x="1008" y="1776"/>
                </a:lnTo>
                <a:lnTo>
                  <a:pt x="1044" y="1776"/>
                </a:lnTo>
                <a:lnTo>
                  <a:pt x="1092" y="1740"/>
                </a:lnTo>
                <a:lnTo>
                  <a:pt x="1128" y="1692"/>
                </a:lnTo>
                <a:lnTo>
                  <a:pt x="1152" y="1656"/>
                </a:lnTo>
                <a:lnTo>
                  <a:pt x="1164" y="1584"/>
                </a:lnTo>
                <a:lnTo>
                  <a:pt x="1188" y="1536"/>
                </a:lnTo>
                <a:lnTo>
                  <a:pt x="1188" y="1464"/>
                </a:lnTo>
                <a:lnTo>
                  <a:pt x="1188" y="1368"/>
                </a:lnTo>
                <a:lnTo>
                  <a:pt x="1188" y="1320"/>
                </a:lnTo>
                <a:lnTo>
                  <a:pt x="1188" y="1224"/>
                </a:lnTo>
                <a:lnTo>
                  <a:pt x="1188" y="1128"/>
                </a:lnTo>
                <a:lnTo>
                  <a:pt x="1188" y="1056"/>
                </a:lnTo>
                <a:lnTo>
                  <a:pt x="1188" y="984"/>
                </a:lnTo>
                <a:lnTo>
                  <a:pt x="1200" y="1032"/>
                </a:lnTo>
                <a:lnTo>
                  <a:pt x="1212" y="1068"/>
                </a:lnTo>
                <a:lnTo>
                  <a:pt x="1248" y="1092"/>
                </a:lnTo>
                <a:lnTo>
                  <a:pt x="1296" y="1140"/>
                </a:lnTo>
                <a:lnTo>
                  <a:pt x="1332" y="1176"/>
                </a:lnTo>
                <a:lnTo>
                  <a:pt x="1368" y="1200"/>
                </a:lnTo>
                <a:lnTo>
                  <a:pt x="1452" y="1296"/>
                </a:lnTo>
                <a:lnTo>
                  <a:pt x="1524" y="1320"/>
                </a:lnTo>
                <a:lnTo>
                  <a:pt x="1536" y="1224"/>
                </a:lnTo>
                <a:lnTo>
                  <a:pt x="1548" y="1104"/>
                </a:lnTo>
                <a:lnTo>
                  <a:pt x="1548" y="984"/>
                </a:lnTo>
                <a:lnTo>
                  <a:pt x="1548" y="888"/>
                </a:lnTo>
                <a:lnTo>
                  <a:pt x="1548" y="816"/>
                </a:lnTo>
                <a:lnTo>
                  <a:pt x="1524" y="780"/>
                </a:lnTo>
                <a:lnTo>
                  <a:pt x="1512" y="744"/>
                </a:lnTo>
                <a:lnTo>
                  <a:pt x="1548" y="792"/>
                </a:lnTo>
                <a:lnTo>
                  <a:pt x="1584" y="816"/>
                </a:lnTo>
                <a:lnTo>
                  <a:pt x="1632" y="852"/>
                </a:lnTo>
                <a:lnTo>
                  <a:pt x="1680" y="900"/>
                </a:lnTo>
                <a:lnTo>
                  <a:pt x="1752" y="924"/>
                </a:lnTo>
                <a:lnTo>
                  <a:pt x="1788" y="960"/>
                </a:lnTo>
                <a:lnTo>
                  <a:pt x="1836" y="984"/>
                </a:lnTo>
                <a:lnTo>
                  <a:pt x="1872" y="1008"/>
                </a:lnTo>
                <a:lnTo>
                  <a:pt x="1908" y="1032"/>
                </a:lnTo>
                <a:lnTo>
                  <a:pt x="1896" y="912"/>
                </a:lnTo>
                <a:lnTo>
                  <a:pt x="1884" y="816"/>
                </a:lnTo>
                <a:lnTo>
                  <a:pt x="1884" y="720"/>
                </a:lnTo>
                <a:lnTo>
                  <a:pt x="1860" y="684"/>
                </a:lnTo>
                <a:lnTo>
                  <a:pt x="1860" y="648"/>
                </a:lnTo>
                <a:lnTo>
                  <a:pt x="1848" y="552"/>
                </a:lnTo>
                <a:lnTo>
                  <a:pt x="1836" y="516"/>
                </a:lnTo>
                <a:lnTo>
                  <a:pt x="1872" y="540"/>
                </a:lnTo>
                <a:lnTo>
                  <a:pt x="1908" y="564"/>
                </a:lnTo>
                <a:lnTo>
                  <a:pt x="2004" y="612"/>
                </a:lnTo>
                <a:lnTo>
                  <a:pt x="2076" y="636"/>
                </a:lnTo>
                <a:lnTo>
                  <a:pt x="2172" y="660"/>
                </a:lnTo>
                <a:lnTo>
                  <a:pt x="2208" y="684"/>
                </a:lnTo>
                <a:lnTo>
                  <a:pt x="2244" y="708"/>
                </a:lnTo>
                <a:lnTo>
                  <a:pt x="2280" y="732"/>
                </a:lnTo>
                <a:lnTo>
                  <a:pt x="2316" y="756"/>
                </a:lnTo>
                <a:lnTo>
                  <a:pt x="2328" y="720"/>
                </a:lnTo>
                <a:lnTo>
                  <a:pt x="2304" y="624"/>
                </a:lnTo>
                <a:lnTo>
                  <a:pt x="2292" y="552"/>
                </a:lnTo>
                <a:lnTo>
                  <a:pt x="2268" y="504"/>
                </a:lnTo>
                <a:lnTo>
                  <a:pt x="2256" y="468"/>
                </a:lnTo>
                <a:lnTo>
                  <a:pt x="2232" y="420"/>
                </a:lnTo>
                <a:lnTo>
                  <a:pt x="2220" y="372"/>
                </a:lnTo>
                <a:lnTo>
                  <a:pt x="2196" y="324"/>
                </a:lnTo>
                <a:lnTo>
                  <a:pt x="2184" y="288"/>
                </a:lnTo>
                <a:lnTo>
                  <a:pt x="2220" y="300"/>
                </a:lnTo>
                <a:lnTo>
                  <a:pt x="2292" y="312"/>
                </a:lnTo>
                <a:lnTo>
                  <a:pt x="2364" y="324"/>
                </a:lnTo>
                <a:lnTo>
                  <a:pt x="2460" y="360"/>
                </a:lnTo>
                <a:lnTo>
                  <a:pt x="2508" y="372"/>
                </a:lnTo>
                <a:lnTo>
                  <a:pt x="2604" y="408"/>
                </a:lnTo>
                <a:lnTo>
                  <a:pt x="2676" y="432"/>
                </a:lnTo>
                <a:lnTo>
                  <a:pt x="2712" y="456"/>
                </a:lnTo>
                <a:lnTo>
                  <a:pt x="2748" y="576"/>
                </a:lnTo>
                <a:lnTo>
                  <a:pt x="2772" y="648"/>
                </a:lnTo>
                <a:lnTo>
                  <a:pt x="2784" y="720"/>
                </a:lnTo>
                <a:lnTo>
                  <a:pt x="2796" y="816"/>
                </a:lnTo>
                <a:lnTo>
                  <a:pt x="2796" y="912"/>
                </a:lnTo>
                <a:lnTo>
                  <a:pt x="2796" y="1008"/>
                </a:lnTo>
                <a:lnTo>
                  <a:pt x="2772" y="1056"/>
                </a:lnTo>
                <a:lnTo>
                  <a:pt x="2760" y="1128"/>
                </a:lnTo>
                <a:lnTo>
                  <a:pt x="2748" y="1200"/>
                </a:lnTo>
                <a:lnTo>
                  <a:pt x="2712" y="1248"/>
                </a:lnTo>
                <a:lnTo>
                  <a:pt x="2688" y="1296"/>
                </a:lnTo>
                <a:lnTo>
                  <a:pt x="2652" y="1176"/>
                </a:lnTo>
                <a:lnTo>
                  <a:pt x="2580" y="1104"/>
                </a:lnTo>
                <a:lnTo>
                  <a:pt x="2568" y="1032"/>
                </a:lnTo>
                <a:lnTo>
                  <a:pt x="2520" y="984"/>
                </a:lnTo>
                <a:lnTo>
                  <a:pt x="2484" y="960"/>
                </a:lnTo>
                <a:lnTo>
                  <a:pt x="2448" y="960"/>
                </a:lnTo>
                <a:lnTo>
                  <a:pt x="2400" y="960"/>
                </a:lnTo>
                <a:lnTo>
                  <a:pt x="2352" y="984"/>
                </a:lnTo>
                <a:lnTo>
                  <a:pt x="2256" y="1032"/>
                </a:lnTo>
                <a:lnTo>
                  <a:pt x="2244" y="1104"/>
                </a:lnTo>
                <a:lnTo>
                  <a:pt x="2208" y="1200"/>
                </a:lnTo>
                <a:lnTo>
                  <a:pt x="2196" y="1272"/>
                </a:lnTo>
                <a:lnTo>
                  <a:pt x="2172" y="1308"/>
                </a:lnTo>
                <a:lnTo>
                  <a:pt x="2172" y="1344"/>
                </a:lnTo>
                <a:lnTo>
                  <a:pt x="2220" y="1392"/>
                </a:lnTo>
                <a:lnTo>
                  <a:pt x="2256" y="1416"/>
                </a:lnTo>
                <a:lnTo>
                  <a:pt x="2292" y="1392"/>
                </a:lnTo>
                <a:lnTo>
                  <a:pt x="2328" y="1296"/>
                </a:lnTo>
                <a:lnTo>
                  <a:pt x="2328" y="1248"/>
                </a:lnTo>
                <a:lnTo>
                  <a:pt x="2304" y="1200"/>
                </a:lnTo>
                <a:lnTo>
                  <a:pt x="2268" y="1176"/>
                </a:lnTo>
                <a:lnTo>
                  <a:pt x="2232" y="1164"/>
                </a:lnTo>
                <a:lnTo>
                  <a:pt x="2160" y="1164"/>
                </a:lnTo>
                <a:lnTo>
                  <a:pt x="2088" y="1188"/>
                </a:lnTo>
                <a:lnTo>
                  <a:pt x="2040" y="1200"/>
                </a:lnTo>
                <a:lnTo>
                  <a:pt x="1968" y="1212"/>
                </a:lnTo>
                <a:lnTo>
                  <a:pt x="1872" y="1260"/>
                </a:lnTo>
                <a:lnTo>
                  <a:pt x="1836" y="1296"/>
                </a:lnTo>
                <a:lnTo>
                  <a:pt x="1824" y="1332"/>
                </a:lnTo>
                <a:lnTo>
                  <a:pt x="1812" y="1368"/>
                </a:lnTo>
                <a:lnTo>
                  <a:pt x="1800" y="1416"/>
                </a:lnTo>
                <a:lnTo>
                  <a:pt x="1800" y="1452"/>
                </a:lnTo>
                <a:lnTo>
                  <a:pt x="1800" y="1488"/>
                </a:lnTo>
                <a:lnTo>
                  <a:pt x="1836" y="1512"/>
                </a:lnTo>
                <a:lnTo>
                  <a:pt x="1872" y="1524"/>
                </a:lnTo>
                <a:lnTo>
                  <a:pt x="1908" y="1536"/>
                </a:lnTo>
                <a:lnTo>
                  <a:pt x="1944" y="1500"/>
                </a:lnTo>
                <a:lnTo>
                  <a:pt x="1968" y="1464"/>
                </a:lnTo>
                <a:lnTo>
                  <a:pt x="1968" y="1428"/>
                </a:lnTo>
                <a:lnTo>
                  <a:pt x="1944" y="1392"/>
                </a:lnTo>
                <a:lnTo>
                  <a:pt x="1908" y="1356"/>
                </a:lnTo>
                <a:lnTo>
                  <a:pt x="1860" y="1344"/>
                </a:lnTo>
                <a:lnTo>
                  <a:pt x="1812" y="1356"/>
                </a:lnTo>
                <a:lnTo>
                  <a:pt x="1764" y="1380"/>
                </a:lnTo>
                <a:lnTo>
                  <a:pt x="1728" y="1404"/>
                </a:lnTo>
                <a:lnTo>
                  <a:pt x="1692" y="1428"/>
                </a:lnTo>
                <a:lnTo>
                  <a:pt x="1656" y="1464"/>
                </a:lnTo>
                <a:lnTo>
                  <a:pt x="1620" y="1512"/>
                </a:lnTo>
                <a:lnTo>
                  <a:pt x="1596" y="1548"/>
                </a:lnTo>
                <a:lnTo>
                  <a:pt x="1572" y="1596"/>
                </a:lnTo>
                <a:lnTo>
                  <a:pt x="1560" y="1680"/>
                </a:lnTo>
                <a:lnTo>
                  <a:pt x="1560" y="1716"/>
                </a:lnTo>
                <a:lnTo>
                  <a:pt x="1596" y="1752"/>
                </a:lnTo>
                <a:lnTo>
                  <a:pt x="1644" y="1764"/>
                </a:lnTo>
                <a:lnTo>
                  <a:pt x="1680" y="1764"/>
                </a:lnTo>
                <a:lnTo>
                  <a:pt x="1716" y="1740"/>
                </a:lnTo>
                <a:lnTo>
                  <a:pt x="1740" y="1704"/>
                </a:lnTo>
                <a:lnTo>
                  <a:pt x="1740" y="1656"/>
                </a:lnTo>
                <a:lnTo>
                  <a:pt x="1716" y="1620"/>
                </a:lnTo>
                <a:lnTo>
                  <a:pt x="1680" y="1596"/>
                </a:lnTo>
                <a:lnTo>
                  <a:pt x="1644" y="1584"/>
                </a:lnTo>
                <a:lnTo>
                  <a:pt x="1548" y="1584"/>
                </a:lnTo>
                <a:lnTo>
                  <a:pt x="1476" y="1572"/>
                </a:lnTo>
                <a:lnTo>
                  <a:pt x="1428" y="1572"/>
                </a:lnTo>
                <a:lnTo>
                  <a:pt x="1356" y="1572"/>
                </a:lnTo>
                <a:lnTo>
                  <a:pt x="1308" y="1584"/>
                </a:lnTo>
                <a:lnTo>
                  <a:pt x="1236" y="1596"/>
                </a:lnTo>
                <a:lnTo>
                  <a:pt x="1200" y="1608"/>
                </a:lnTo>
                <a:lnTo>
                  <a:pt x="1164" y="1632"/>
                </a:lnTo>
                <a:lnTo>
                  <a:pt x="1140" y="1668"/>
                </a:lnTo>
                <a:lnTo>
                  <a:pt x="1140" y="1704"/>
                </a:lnTo>
                <a:lnTo>
                  <a:pt x="1128" y="1740"/>
                </a:lnTo>
                <a:lnTo>
                  <a:pt x="1128" y="1776"/>
                </a:lnTo>
                <a:lnTo>
                  <a:pt x="1128" y="1812"/>
                </a:lnTo>
                <a:lnTo>
                  <a:pt x="1164" y="1860"/>
                </a:lnTo>
                <a:lnTo>
                  <a:pt x="1200" y="1884"/>
                </a:lnTo>
                <a:lnTo>
                  <a:pt x="1248" y="1920"/>
                </a:lnTo>
                <a:lnTo>
                  <a:pt x="1296" y="1944"/>
                </a:lnTo>
                <a:lnTo>
                  <a:pt x="1344" y="1956"/>
                </a:lnTo>
                <a:lnTo>
                  <a:pt x="1380" y="1956"/>
                </a:lnTo>
                <a:lnTo>
                  <a:pt x="1428" y="1956"/>
                </a:lnTo>
                <a:lnTo>
                  <a:pt x="1512" y="1956"/>
                </a:lnTo>
                <a:lnTo>
                  <a:pt x="1584" y="1956"/>
                </a:lnTo>
                <a:lnTo>
                  <a:pt x="1656" y="1956"/>
                </a:lnTo>
                <a:lnTo>
                  <a:pt x="1728" y="1956"/>
                </a:lnTo>
                <a:lnTo>
                  <a:pt x="1800" y="1956"/>
                </a:lnTo>
                <a:lnTo>
                  <a:pt x="1836" y="1956"/>
                </a:lnTo>
                <a:lnTo>
                  <a:pt x="1872" y="1932"/>
                </a:lnTo>
                <a:lnTo>
                  <a:pt x="1908" y="1908"/>
                </a:lnTo>
                <a:lnTo>
                  <a:pt x="1944" y="1872"/>
                </a:lnTo>
                <a:lnTo>
                  <a:pt x="1980" y="1848"/>
                </a:lnTo>
                <a:lnTo>
                  <a:pt x="2004" y="1812"/>
                </a:lnTo>
                <a:lnTo>
                  <a:pt x="2040" y="1788"/>
                </a:lnTo>
                <a:lnTo>
                  <a:pt x="2088" y="1764"/>
                </a:lnTo>
                <a:lnTo>
                  <a:pt x="2136" y="1728"/>
                </a:lnTo>
                <a:lnTo>
                  <a:pt x="2184" y="1704"/>
                </a:lnTo>
                <a:lnTo>
                  <a:pt x="2220" y="1704"/>
                </a:lnTo>
                <a:lnTo>
                  <a:pt x="2256" y="1716"/>
                </a:lnTo>
                <a:lnTo>
                  <a:pt x="2292" y="1752"/>
                </a:lnTo>
                <a:lnTo>
                  <a:pt x="2304" y="1788"/>
                </a:lnTo>
                <a:lnTo>
                  <a:pt x="2316" y="1824"/>
                </a:lnTo>
                <a:lnTo>
                  <a:pt x="2328" y="1860"/>
                </a:lnTo>
                <a:lnTo>
                  <a:pt x="2364" y="1884"/>
                </a:lnTo>
                <a:lnTo>
                  <a:pt x="2448" y="1920"/>
                </a:lnTo>
                <a:lnTo>
                  <a:pt x="2544" y="1944"/>
                </a:lnTo>
                <a:lnTo>
                  <a:pt x="2592" y="1956"/>
                </a:lnTo>
                <a:lnTo>
                  <a:pt x="2664" y="1956"/>
                </a:lnTo>
                <a:lnTo>
                  <a:pt x="2736" y="1956"/>
                </a:lnTo>
                <a:lnTo>
                  <a:pt x="2784" y="1944"/>
                </a:lnTo>
                <a:lnTo>
                  <a:pt x="2856" y="1932"/>
                </a:lnTo>
                <a:lnTo>
                  <a:pt x="2904" y="1884"/>
                </a:lnTo>
                <a:lnTo>
                  <a:pt x="2916" y="1812"/>
                </a:lnTo>
                <a:lnTo>
                  <a:pt x="2940" y="1764"/>
                </a:lnTo>
                <a:lnTo>
                  <a:pt x="2940" y="1668"/>
                </a:lnTo>
                <a:lnTo>
                  <a:pt x="2928" y="1632"/>
                </a:lnTo>
                <a:lnTo>
                  <a:pt x="2892" y="1608"/>
                </a:lnTo>
                <a:lnTo>
                  <a:pt x="2856" y="1584"/>
                </a:lnTo>
                <a:lnTo>
                  <a:pt x="2784" y="1584"/>
                </a:lnTo>
                <a:lnTo>
                  <a:pt x="2712" y="1584"/>
                </a:lnTo>
                <a:lnTo>
                  <a:pt x="2664" y="1584"/>
                </a:lnTo>
                <a:lnTo>
                  <a:pt x="2592" y="1584"/>
                </a:lnTo>
                <a:lnTo>
                  <a:pt x="2496" y="1584"/>
                </a:lnTo>
                <a:lnTo>
                  <a:pt x="2424" y="1596"/>
                </a:lnTo>
                <a:lnTo>
                  <a:pt x="2328" y="1608"/>
                </a:lnTo>
                <a:lnTo>
                  <a:pt x="2256" y="1620"/>
                </a:lnTo>
                <a:lnTo>
                  <a:pt x="2208" y="1644"/>
                </a:lnTo>
                <a:lnTo>
                  <a:pt x="2184" y="1680"/>
                </a:lnTo>
                <a:lnTo>
                  <a:pt x="2172" y="1716"/>
                </a:lnTo>
                <a:lnTo>
                  <a:pt x="2220" y="1752"/>
                </a:lnTo>
                <a:lnTo>
                  <a:pt x="2340" y="1776"/>
                </a:lnTo>
                <a:lnTo>
                  <a:pt x="2376" y="1788"/>
                </a:lnTo>
                <a:lnTo>
                  <a:pt x="2472" y="1764"/>
                </a:lnTo>
                <a:lnTo>
                  <a:pt x="2544" y="1740"/>
                </a:lnTo>
                <a:lnTo>
                  <a:pt x="2616" y="1716"/>
                </a:lnTo>
                <a:lnTo>
                  <a:pt x="2712" y="1620"/>
                </a:lnTo>
                <a:lnTo>
                  <a:pt x="2784" y="1548"/>
                </a:lnTo>
                <a:lnTo>
                  <a:pt x="2808" y="1476"/>
                </a:lnTo>
                <a:lnTo>
                  <a:pt x="2820" y="1404"/>
                </a:lnTo>
                <a:lnTo>
                  <a:pt x="2832" y="1332"/>
                </a:lnTo>
                <a:lnTo>
                  <a:pt x="2832" y="1260"/>
                </a:lnTo>
                <a:lnTo>
                  <a:pt x="2796" y="1224"/>
                </a:lnTo>
                <a:lnTo>
                  <a:pt x="2724" y="1212"/>
                </a:lnTo>
                <a:lnTo>
                  <a:pt x="2604" y="1200"/>
                </a:lnTo>
                <a:lnTo>
                  <a:pt x="2508" y="1188"/>
                </a:lnTo>
                <a:lnTo>
                  <a:pt x="2364" y="1188"/>
                </a:lnTo>
                <a:lnTo>
                  <a:pt x="2268" y="1188"/>
                </a:lnTo>
                <a:lnTo>
                  <a:pt x="2172" y="1188"/>
                </a:lnTo>
                <a:lnTo>
                  <a:pt x="2076" y="1212"/>
                </a:lnTo>
                <a:lnTo>
                  <a:pt x="1980" y="1224"/>
                </a:lnTo>
                <a:lnTo>
                  <a:pt x="1884" y="1236"/>
                </a:lnTo>
                <a:lnTo>
                  <a:pt x="1812" y="1248"/>
                </a:lnTo>
                <a:lnTo>
                  <a:pt x="1776" y="1272"/>
                </a:lnTo>
                <a:lnTo>
                  <a:pt x="1728" y="1320"/>
                </a:lnTo>
                <a:lnTo>
                  <a:pt x="1728" y="1368"/>
                </a:lnTo>
                <a:lnTo>
                  <a:pt x="1716" y="1404"/>
                </a:lnTo>
                <a:lnTo>
                  <a:pt x="1752" y="1440"/>
                </a:lnTo>
                <a:lnTo>
                  <a:pt x="1848" y="1464"/>
                </a:lnTo>
                <a:lnTo>
                  <a:pt x="1968" y="1476"/>
                </a:lnTo>
                <a:lnTo>
                  <a:pt x="2040" y="1476"/>
                </a:lnTo>
                <a:lnTo>
                  <a:pt x="2088" y="1464"/>
                </a:lnTo>
                <a:lnTo>
                  <a:pt x="2160" y="1452"/>
                </a:lnTo>
                <a:lnTo>
                  <a:pt x="2256" y="1428"/>
                </a:lnTo>
                <a:lnTo>
                  <a:pt x="2328" y="1404"/>
                </a:lnTo>
                <a:lnTo>
                  <a:pt x="2400" y="1392"/>
                </a:lnTo>
                <a:lnTo>
                  <a:pt x="2424" y="1320"/>
                </a:lnTo>
                <a:lnTo>
                  <a:pt x="2448" y="1248"/>
                </a:lnTo>
                <a:lnTo>
                  <a:pt x="2484" y="1200"/>
                </a:lnTo>
                <a:lnTo>
                  <a:pt x="2484" y="1152"/>
                </a:lnTo>
                <a:lnTo>
                  <a:pt x="2460" y="1116"/>
                </a:lnTo>
                <a:lnTo>
                  <a:pt x="2388" y="1104"/>
                </a:lnTo>
                <a:lnTo>
                  <a:pt x="2316" y="1092"/>
                </a:lnTo>
                <a:lnTo>
                  <a:pt x="2220" y="1080"/>
                </a:lnTo>
                <a:lnTo>
                  <a:pt x="2076" y="1056"/>
                </a:lnTo>
                <a:lnTo>
                  <a:pt x="1908" y="1044"/>
                </a:lnTo>
                <a:lnTo>
                  <a:pt x="1764" y="1032"/>
                </a:lnTo>
                <a:lnTo>
                  <a:pt x="1644" y="1032"/>
                </a:lnTo>
                <a:lnTo>
                  <a:pt x="1572" y="1032"/>
                </a:lnTo>
                <a:lnTo>
                  <a:pt x="1500" y="1044"/>
                </a:lnTo>
                <a:lnTo>
                  <a:pt x="1428" y="1056"/>
                </a:lnTo>
                <a:lnTo>
                  <a:pt x="1356" y="1080"/>
                </a:lnTo>
                <a:lnTo>
                  <a:pt x="1284" y="1104"/>
                </a:lnTo>
                <a:lnTo>
                  <a:pt x="1248" y="1140"/>
                </a:lnTo>
                <a:lnTo>
                  <a:pt x="1236" y="1176"/>
                </a:lnTo>
                <a:lnTo>
                  <a:pt x="1356" y="1224"/>
                </a:lnTo>
                <a:lnTo>
                  <a:pt x="1452" y="1248"/>
                </a:lnTo>
                <a:lnTo>
                  <a:pt x="1524" y="1260"/>
                </a:lnTo>
                <a:lnTo>
                  <a:pt x="1620" y="1224"/>
                </a:lnTo>
                <a:lnTo>
                  <a:pt x="1668" y="1188"/>
                </a:lnTo>
                <a:lnTo>
                  <a:pt x="1716" y="1140"/>
                </a:lnTo>
                <a:lnTo>
                  <a:pt x="1740" y="1068"/>
                </a:lnTo>
                <a:lnTo>
                  <a:pt x="1812" y="996"/>
                </a:lnTo>
                <a:lnTo>
                  <a:pt x="1836" y="924"/>
                </a:lnTo>
                <a:lnTo>
                  <a:pt x="1860" y="852"/>
                </a:lnTo>
                <a:lnTo>
                  <a:pt x="1872" y="780"/>
                </a:lnTo>
                <a:lnTo>
                  <a:pt x="1872" y="732"/>
                </a:lnTo>
                <a:lnTo>
                  <a:pt x="1848" y="696"/>
                </a:lnTo>
                <a:lnTo>
                  <a:pt x="1776" y="672"/>
                </a:lnTo>
                <a:lnTo>
                  <a:pt x="1704" y="660"/>
                </a:lnTo>
                <a:lnTo>
                  <a:pt x="1608" y="648"/>
                </a:lnTo>
                <a:lnTo>
                  <a:pt x="1536" y="636"/>
                </a:lnTo>
                <a:lnTo>
                  <a:pt x="1440" y="636"/>
                </a:lnTo>
                <a:lnTo>
                  <a:pt x="1344" y="624"/>
                </a:lnTo>
                <a:lnTo>
                  <a:pt x="1248" y="624"/>
                </a:lnTo>
                <a:lnTo>
                  <a:pt x="1176" y="624"/>
                </a:lnTo>
                <a:lnTo>
                  <a:pt x="1104" y="624"/>
                </a:lnTo>
                <a:lnTo>
                  <a:pt x="1032" y="636"/>
                </a:lnTo>
                <a:lnTo>
                  <a:pt x="960" y="648"/>
                </a:lnTo>
                <a:lnTo>
                  <a:pt x="924" y="684"/>
                </a:lnTo>
                <a:lnTo>
                  <a:pt x="912" y="720"/>
                </a:lnTo>
                <a:lnTo>
                  <a:pt x="900" y="768"/>
                </a:lnTo>
                <a:lnTo>
                  <a:pt x="936" y="816"/>
                </a:lnTo>
                <a:lnTo>
                  <a:pt x="1008" y="840"/>
                </a:lnTo>
                <a:lnTo>
                  <a:pt x="1128" y="852"/>
                </a:lnTo>
                <a:lnTo>
                  <a:pt x="1224" y="864"/>
                </a:lnTo>
                <a:lnTo>
                  <a:pt x="1296" y="876"/>
                </a:lnTo>
                <a:lnTo>
                  <a:pt x="1392" y="876"/>
                </a:lnTo>
                <a:lnTo>
                  <a:pt x="1488" y="864"/>
                </a:lnTo>
                <a:lnTo>
                  <a:pt x="1584" y="852"/>
                </a:lnTo>
                <a:lnTo>
                  <a:pt x="1680" y="840"/>
                </a:lnTo>
                <a:lnTo>
                  <a:pt x="1776" y="816"/>
                </a:lnTo>
                <a:lnTo>
                  <a:pt x="1872" y="792"/>
                </a:lnTo>
                <a:lnTo>
                  <a:pt x="1896" y="720"/>
                </a:lnTo>
                <a:lnTo>
                  <a:pt x="1920" y="672"/>
                </a:lnTo>
                <a:lnTo>
                  <a:pt x="1920" y="624"/>
                </a:lnTo>
                <a:lnTo>
                  <a:pt x="1908" y="552"/>
                </a:lnTo>
                <a:lnTo>
                  <a:pt x="1884" y="480"/>
                </a:lnTo>
                <a:lnTo>
                  <a:pt x="1812" y="408"/>
                </a:lnTo>
                <a:lnTo>
                  <a:pt x="1716" y="384"/>
                </a:lnTo>
                <a:lnTo>
                  <a:pt x="1680" y="360"/>
                </a:lnTo>
                <a:lnTo>
                  <a:pt x="1608" y="348"/>
                </a:lnTo>
                <a:lnTo>
                  <a:pt x="1488" y="336"/>
                </a:lnTo>
                <a:lnTo>
                  <a:pt x="1368" y="324"/>
                </a:lnTo>
                <a:lnTo>
                  <a:pt x="1224" y="300"/>
                </a:lnTo>
                <a:lnTo>
                  <a:pt x="1128" y="300"/>
                </a:lnTo>
                <a:lnTo>
                  <a:pt x="1056" y="300"/>
                </a:lnTo>
                <a:lnTo>
                  <a:pt x="1008" y="300"/>
                </a:lnTo>
                <a:lnTo>
                  <a:pt x="960" y="324"/>
                </a:lnTo>
                <a:lnTo>
                  <a:pt x="888" y="336"/>
                </a:lnTo>
                <a:lnTo>
                  <a:pt x="852" y="372"/>
                </a:lnTo>
                <a:lnTo>
                  <a:pt x="852" y="408"/>
                </a:lnTo>
                <a:lnTo>
                  <a:pt x="840" y="456"/>
                </a:lnTo>
                <a:lnTo>
                  <a:pt x="888" y="504"/>
                </a:lnTo>
                <a:lnTo>
                  <a:pt x="960" y="516"/>
                </a:lnTo>
                <a:lnTo>
                  <a:pt x="1032" y="516"/>
                </a:lnTo>
                <a:lnTo>
                  <a:pt x="1080" y="516"/>
                </a:lnTo>
                <a:lnTo>
                  <a:pt x="1152" y="516"/>
                </a:lnTo>
                <a:lnTo>
                  <a:pt x="1188" y="516"/>
                </a:lnTo>
                <a:lnTo>
                  <a:pt x="1284" y="504"/>
                </a:lnTo>
                <a:lnTo>
                  <a:pt x="1332" y="492"/>
                </a:lnTo>
                <a:lnTo>
                  <a:pt x="1380" y="468"/>
                </a:lnTo>
                <a:lnTo>
                  <a:pt x="1416" y="444"/>
                </a:lnTo>
                <a:lnTo>
                  <a:pt x="1440" y="396"/>
                </a:lnTo>
                <a:lnTo>
                  <a:pt x="1464" y="360"/>
                </a:lnTo>
                <a:lnTo>
                  <a:pt x="1464" y="324"/>
                </a:lnTo>
                <a:lnTo>
                  <a:pt x="1464" y="288"/>
                </a:lnTo>
                <a:lnTo>
                  <a:pt x="1440" y="252"/>
                </a:lnTo>
                <a:lnTo>
                  <a:pt x="1404" y="216"/>
                </a:lnTo>
                <a:lnTo>
                  <a:pt x="1380" y="180"/>
                </a:lnTo>
                <a:lnTo>
                  <a:pt x="1344" y="156"/>
                </a:lnTo>
                <a:lnTo>
                  <a:pt x="1308" y="144"/>
                </a:lnTo>
                <a:lnTo>
                  <a:pt x="1272" y="120"/>
                </a:lnTo>
                <a:lnTo>
                  <a:pt x="1236" y="120"/>
                </a:lnTo>
                <a:lnTo>
                  <a:pt x="1200" y="108"/>
                </a:lnTo>
                <a:lnTo>
                  <a:pt x="1164" y="108"/>
                </a:lnTo>
                <a:lnTo>
                  <a:pt x="1128" y="9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142640" y="3276720"/>
            <a:ext cx="4455000" cy="2628720"/>
            <a:chOff x="1142640" y="3276720"/>
            <a:chExt cx="4455000" cy="2628720"/>
          </a:xfrm>
        </p:grpSpPr>
        <p:sp>
          <p:nvSpPr>
            <p:cNvPr id="329" name="Rectangle 6"/>
            <p:cNvSpPr/>
            <p:nvPr/>
          </p:nvSpPr>
          <p:spPr>
            <a:xfrm>
              <a:off x="1142640" y="502920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 flipV="1">
              <a:off x="3048120" y="4088880"/>
              <a:ext cx="94608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3962520" y="3276720"/>
              <a:ext cx="1635120" cy="26287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1030" h="1656">
                  <a:moveTo>
                    <a:pt x="156" y="1656"/>
                  </a:moveTo>
                  <a:cubicBezTo>
                    <a:pt x="164" y="1564"/>
                    <a:pt x="158" y="1427"/>
                    <a:pt x="264" y="1380"/>
                  </a:cubicBezTo>
                  <a:cubicBezTo>
                    <a:pt x="287" y="1370"/>
                    <a:pt x="312" y="1364"/>
                    <a:pt x="336" y="1356"/>
                  </a:cubicBezTo>
                  <a:cubicBezTo>
                    <a:pt x="372" y="1344"/>
                    <a:pt x="409" y="1312"/>
                    <a:pt x="444" y="1296"/>
                  </a:cubicBezTo>
                  <a:cubicBezTo>
                    <a:pt x="467" y="1286"/>
                    <a:pt x="492" y="1280"/>
                    <a:pt x="516" y="1272"/>
                  </a:cubicBezTo>
                  <a:cubicBezTo>
                    <a:pt x="528" y="1268"/>
                    <a:pt x="552" y="1260"/>
                    <a:pt x="552" y="1260"/>
                  </a:cubicBezTo>
                  <a:cubicBezTo>
                    <a:pt x="636" y="1264"/>
                    <a:pt x="720" y="1265"/>
                    <a:pt x="804" y="1272"/>
                  </a:cubicBezTo>
                  <a:cubicBezTo>
                    <a:pt x="842" y="1275"/>
                    <a:pt x="876" y="1308"/>
                    <a:pt x="912" y="1320"/>
                  </a:cubicBezTo>
                  <a:cubicBezTo>
                    <a:pt x="924" y="1337"/>
                    <a:pt x="968" y="1379"/>
                    <a:pt x="900" y="1380"/>
                  </a:cubicBezTo>
                  <a:cubicBezTo>
                    <a:pt x="704" y="1384"/>
                    <a:pt x="508" y="1372"/>
                    <a:pt x="312" y="1368"/>
                  </a:cubicBezTo>
                  <a:cubicBezTo>
                    <a:pt x="227" y="1351"/>
                    <a:pt x="271" y="1362"/>
                    <a:pt x="180" y="1332"/>
                  </a:cubicBezTo>
                  <a:cubicBezTo>
                    <a:pt x="168" y="1328"/>
                    <a:pt x="144" y="1320"/>
                    <a:pt x="144" y="1320"/>
                  </a:cubicBezTo>
                  <a:cubicBezTo>
                    <a:pt x="112" y="1272"/>
                    <a:pt x="80" y="1224"/>
                    <a:pt x="48" y="1176"/>
                  </a:cubicBezTo>
                  <a:cubicBezTo>
                    <a:pt x="27" y="1144"/>
                    <a:pt x="24" y="1104"/>
                    <a:pt x="12" y="1068"/>
                  </a:cubicBezTo>
                  <a:cubicBezTo>
                    <a:pt x="8" y="1056"/>
                    <a:pt x="0" y="1032"/>
                    <a:pt x="0" y="1032"/>
                  </a:cubicBezTo>
                  <a:cubicBezTo>
                    <a:pt x="20" y="972"/>
                    <a:pt x="37" y="975"/>
                    <a:pt x="96" y="960"/>
                  </a:cubicBezTo>
                  <a:cubicBezTo>
                    <a:pt x="328" y="964"/>
                    <a:pt x="560" y="961"/>
                    <a:pt x="792" y="972"/>
                  </a:cubicBezTo>
                  <a:cubicBezTo>
                    <a:pt x="830" y="974"/>
                    <a:pt x="900" y="1008"/>
                    <a:pt x="900" y="1008"/>
                  </a:cubicBezTo>
                  <a:cubicBezTo>
                    <a:pt x="904" y="1020"/>
                    <a:pt x="916" y="1032"/>
                    <a:pt x="912" y="1044"/>
                  </a:cubicBezTo>
                  <a:cubicBezTo>
                    <a:pt x="881" y="1136"/>
                    <a:pt x="834" y="1121"/>
                    <a:pt x="756" y="1140"/>
                  </a:cubicBezTo>
                  <a:cubicBezTo>
                    <a:pt x="639" y="1132"/>
                    <a:pt x="588" y="1133"/>
                    <a:pt x="492" y="1104"/>
                  </a:cubicBezTo>
                  <a:cubicBezTo>
                    <a:pt x="492" y="1104"/>
                    <a:pt x="402" y="1074"/>
                    <a:pt x="384" y="1068"/>
                  </a:cubicBezTo>
                  <a:cubicBezTo>
                    <a:pt x="372" y="1064"/>
                    <a:pt x="348" y="1056"/>
                    <a:pt x="348" y="1056"/>
                  </a:cubicBezTo>
                  <a:cubicBezTo>
                    <a:pt x="307" y="1025"/>
                    <a:pt x="270" y="1012"/>
                    <a:pt x="228" y="984"/>
                  </a:cubicBezTo>
                  <a:cubicBezTo>
                    <a:pt x="220" y="972"/>
                    <a:pt x="214" y="958"/>
                    <a:pt x="204" y="948"/>
                  </a:cubicBezTo>
                  <a:cubicBezTo>
                    <a:pt x="194" y="938"/>
                    <a:pt x="177" y="935"/>
                    <a:pt x="168" y="924"/>
                  </a:cubicBezTo>
                  <a:cubicBezTo>
                    <a:pt x="122" y="871"/>
                    <a:pt x="112" y="832"/>
                    <a:pt x="96" y="768"/>
                  </a:cubicBezTo>
                  <a:cubicBezTo>
                    <a:pt x="96" y="767"/>
                    <a:pt x="108" y="676"/>
                    <a:pt x="120" y="660"/>
                  </a:cubicBezTo>
                  <a:cubicBezTo>
                    <a:pt x="167" y="601"/>
                    <a:pt x="322" y="592"/>
                    <a:pt x="372" y="588"/>
                  </a:cubicBezTo>
                  <a:cubicBezTo>
                    <a:pt x="528" y="592"/>
                    <a:pt x="684" y="590"/>
                    <a:pt x="840" y="600"/>
                  </a:cubicBezTo>
                  <a:cubicBezTo>
                    <a:pt x="873" y="602"/>
                    <a:pt x="936" y="624"/>
                    <a:pt x="936" y="624"/>
                  </a:cubicBezTo>
                  <a:cubicBezTo>
                    <a:pt x="958" y="639"/>
                    <a:pt x="1030" y="683"/>
                    <a:pt x="984" y="720"/>
                  </a:cubicBezTo>
                  <a:cubicBezTo>
                    <a:pt x="971" y="730"/>
                    <a:pt x="952" y="728"/>
                    <a:pt x="936" y="732"/>
                  </a:cubicBezTo>
                  <a:cubicBezTo>
                    <a:pt x="676" y="728"/>
                    <a:pt x="416" y="728"/>
                    <a:pt x="156" y="720"/>
                  </a:cubicBezTo>
                  <a:cubicBezTo>
                    <a:pt x="100" y="718"/>
                    <a:pt x="73" y="604"/>
                    <a:pt x="60" y="564"/>
                  </a:cubicBezTo>
                  <a:cubicBezTo>
                    <a:pt x="52" y="540"/>
                    <a:pt x="36" y="492"/>
                    <a:pt x="36" y="492"/>
                  </a:cubicBezTo>
                  <a:cubicBezTo>
                    <a:pt x="40" y="448"/>
                    <a:pt x="42" y="404"/>
                    <a:pt x="48" y="360"/>
                  </a:cubicBezTo>
                  <a:cubicBezTo>
                    <a:pt x="50" y="347"/>
                    <a:pt x="51" y="333"/>
                    <a:pt x="60" y="324"/>
                  </a:cubicBezTo>
                  <a:cubicBezTo>
                    <a:pt x="80" y="304"/>
                    <a:pt x="108" y="292"/>
                    <a:pt x="132" y="276"/>
                  </a:cubicBezTo>
                  <a:cubicBezTo>
                    <a:pt x="153" y="262"/>
                    <a:pt x="204" y="252"/>
                    <a:pt x="204" y="252"/>
                  </a:cubicBezTo>
                  <a:cubicBezTo>
                    <a:pt x="375" y="260"/>
                    <a:pt x="538" y="274"/>
                    <a:pt x="708" y="288"/>
                  </a:cubicBezTo>
                  <a:cubicBezTo>
                    <a:pt x="732" y="296"/>
                    <a:pt x="755" y="307"/>
                    <a:pt x="780" y="312"/>
                  </a:cubicBezTo>
                  <a:cubicBezTo>
                    <a:pt x="800" y="316"/>
                    <a:pt x="820" y="319"/>
                    <a:pt x="840" y="324"/>
                  </a:cubicBezTo>
                  <a:cubicBezTo>
                    <a:pt x="864" y="331"/>
                    <a:pt x="912" y="348"/>
                    <a:pt x="912" y="348"/>
                  </a:cubicBezTo>
                  <a:cubicBezTo>
                    <a:pt x="864" y="492"/>
                    <a:pt x="475" y="386"/>
                    <a:pt x="408" y="384"/>
                  </a:cubicBezTo>
                  <a:cubicBezTo>
                    <a:pt x="313" y="365"/>
                    <a:pt x="247" y="341"/>
                    <a:pt x="168" y="288"/>
                  </a:cubicBezTo>
                  <a:cubicBezTo>
                    <a:pt x="156" y="280"/>
                    <a:pt x="144" y="272"/>
                    <a:pt x="132" y="264"/>
                  </a:cubicBezTo>
                  <a:cubicBezTo>
                    <a:pt x="120" y="256"/>
                    <a:pt x="96" y="240"/>
                    <a:pt x="96" y="240"/>
                  </a:cubicBezTo>
                  <a:cubicBezTo>
                    <a:pt x="80" y="192"/>
                    <a:pt x="61" y="151"/>
                    <a:pt x="96" y="96"/>
                  </a:cubicBezTo>
                  <a:cubicBezTo>
                    <a:pt x="110" y="75"/>
                    <a:pt x="144" y="80"/>
                    <a:pt x="168" y="72"/>
                  </a:cubicBezTo>
                  <a:cubicBezTo>
                    <a:pt x="235" y="50"/>
                    <a:pt x="301" y="44"/>
                    <a:pt x="372" y="36"/>
                  </a:cubicBezTo>
                  <a:cubicBezTo>
                    <a:pt x="465" y="5"/>
                    <a:pt x="574" y="10"/>
                    <a:pt x="672" y="0"/>
                  </a:cubicBezTo>
                  <a:cubicBezTo>
                    <a:pt x="784" y="4"/>
                    <a:pt x="1008" y="12"/>
                    <a:pt x="1008" y="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686160" y="3581280"/>
            <a:ext cx="6883200" cy="2817000"/>
            <a:chOff x="686160" y="3581280"/>
            <a:chExt cx="6883200" cy="2817000"/>
          </a:xfrm>
        </p:grpSpPr>
        <p:sp>
          <p:nvSpPr>
            <p:cNvPr id="333" name="Rectangle 10"/>
            <p:cNvSpPr/>
            <p:nvPr/>
          </p:nvSpPr>
          <p:spPr>
            <a:xfrm>
              <a:off x="686160" y="59436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638680" y="3581280"/>
              <a:ext cx="1930680" cy="201960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2019600"/>
                <a:gd name="textAreaBottom" fmla="*/ 2019600 h 2019600"/>
              </a:gdLst>
              <a:ahLst/>
              <a:rect l="textAreaLeft" t="textAreaTop" r="textAreaRight" b="textAreaBottom"/>
              <a:pathLst>
                <a:path w="1216" h="1272">
                  <a:moveTo>
                    <a:pt x="28" y="1272"/>
                  </a:moveTo>
                  <a:cubicBezTo>
                    <a:pt x="23" y="1185"/>
                    <a:pt x="0" y="817"/>
                    <a:pt x="4" y="768"/>
                  </a:cubicBezTo>
                  <a:cubicBezTo>
                    <a:pt x="5" y="755"/>
                    <a:pt x="29" y="774"/>
                    <a:pt x="40" y="780"/>
                  </a:cubicBezTo>
                  <a:cubicBezTo>
                    <a:pt x="65" y="794"/>
                    <a:pt x="88" y="812"/>
                    <a:pt x="112" y="828"/>
                  </a:cubicBezTo>
                  <a:cubicBezTo>
                    <a:pt x="124" y="836"/>
                    <a:pt x="148" y="852"/>
                    <a:pt x="148" y="852"/>
                  </a:cubicBezTo>
                  <a:cubicBezTo>
                    <a:pt x="191" y="916"/>
                    <a:pt x="162" y="878"/>
                    <a:pt x="244" y="960"/>
                  </a:cubicBezTo>
                  <a:cubicBezTo>
                    <a:pt x="264" y="980"/>
                    <a:pt x="292" y="992"/>
                    <a:pt x="316" y="1008"/>
                  </a:cubicBezTo>
                  <a:cubicBezTo>
                    <a:pt x="328" y="1016"/>
                    <a:pt x="352" y="1032"/>
                    <a:pt x="352" y="1032"/>
                  </a:cubicBezTo>
                  <a:cubicBezTo>
                    <a:pt x="548" y="967"/>
                    <a:pt x="333" y="1051"/>
                    <a:pt x="400" y="528"/>
                  </a:cubicBezTo>
                  <a:cubicBezTo>
                    <a:pt x="402" y="510"/>
                    <a:pt x="433" y="543"/>
                    <a:pt x="448" y="552"/>
                  </a:cubicBezTo>
                  <a:cubicBezTo>
                    <a:pt x="473" y="567"/>
                    <a:pt x="496" y="584"/>
                    <a:pt x="520" y="600"/>
                  </a:cubicBezTo>
                  <a:cubicBezTo>
                    <a:pt x="578" y="639"/>
                    <a:pt x="633" y="686"/>
                    <a:pt x="700" y="708"/>
                  </a:cubicBezTo>
                  <a:cubicBezTo>
                    <a:pt x="712" y="720"/>
                    <a:pt x="719" y="744"/>
                    <a:pt x="736" y="744"/>
                  </a:cubicBezTo>
                  <a:cubicBezTo>
                    <a:pt x="750" y="744"/>
                    <a:pt x="758" y="722"/>
                    <a:pt x="760" y="708"/>
                  </a:cubicBezTo>
                  <a:cubicBezTo>
                    <a:pt x="770" y="649"/>
                    <a:pt x="768" y="588"/>
                    <a:pt x="772" y="528"/>
                  </a:cubicBezTo>
                  <a:cubicBezTo>
                    <a:pt x="759" y="437"/>
                    <a:pt x="740" y="341"/>
                    <a:pt x="688" y="264"/>
                  </a:cubicBezTo>
                  <a:cubicBezTo>
                    <a:pt x="720" y="260"/>
                    <a:pt x="752" y="246"/>
                    <a:pt x="784" y="252"/>
                  </a:cubicBezTo>
                  <a:cubicBezTo>
                    <a:pt x="801" y="255"/>
                    <a:pt x="807" y="278"/>
                    <a:pt x="820" y="288"/>
                  </a:cubicBezTo>
                  <a:cubicBezTo>
                    <a:pt x="854" y="315"/>
                    <a:pt x="892" y="336"/>
                    <a:pt x="928" y="360"/>
                  </a:cubicBezTo>
                  <a:cubicBezTo>
                    <a:pt x="939" y="367"/>
                    <a:pt x="953" y="366"/>
                    <a:pt x="964" y="372"/>
                  </a:cubicBezTo>
                  <a:cubicBezTo>
                    <a:pt x="1044" y="412"/>
                    <a:pt x="1128" y="434"/>
                    <a:pt x="1216" y="456"/>
                  </a:cubicBezTo>
                  <a:cubicBezTo>
                    <a:pt x="1189" y="349"/>
                    <a:pt x="1142" y="259"/>
                    <a:pt x="1108" y="156"/>
                  </a:cubicBezTo>
                  <a:cubicBezTo>
                    <a:pt x="1096" y="120"/>
                    <a:pt x="1084" y="84"/>
                    <a:pt x="1072" y="48"/>
                  </a:cubicBezTo>
                  <a:cubicBezTo>
                    <a:pt x="1067" y="32"/>
                    <a:pt x="1060" y="0"/>
                    <a:pt x="1060" y="0"/>
                  </a:cubicBez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 flipV="1">
              <a:off x="3657600" y="5105160"/>
              <a:ext cx="190512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Quatern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osed of 2 or mor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“subunits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269e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e0a"/>
                </a:solidFill>
                <a:latin typeface="Comic Sans MS"/>
              </a:rPr>
              <a:t>Globular in sha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Form in Aqueous enviro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nzymes (hemoglob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952880" y="4495680"/>
            <a:ext cx="2135880" cy="1371600"/>
            <a:chOff x="4952880" y="4495680"/>
            <a:chExt cx="2135880" cy="1371600"/>
          </a:xfrm>
        </p:grpSpPr>
        <p:sp>
          <p:nvSpPr>
            <p:cNvPr id="340" name="Rectangle 5"/>
            <p:cNvSpPr/>
            <p:nvPr/>
          </p:nvSpPr>
          <p:spPr>
            <a:xfrm>
              <a:off x="5637960" y="4952880"/>
              <a:ext cx="14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ubuni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 flipV="1">
              <a:off x="4952880" y="5435280"/>
              <a:ext cx="78732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4952880" y="4495680"/>
              <a:ext cx="7113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981080" y="4114800"/>
            <a:ext cx="2971440" cy="2437920"/>
            <a:chOff x="1981080" y="4114800"/>
            <a:chExt cx="2971440" cy="2437920"/>
          </a:xfrm>
        </p:grpSpPr>
        <p:grpSp>
          <p:nvGrpSpPr>
            <p:cNvPr id="344" name="Group 9"/>
            <p:cNvGrpSpPr/>
            <p:nvPr/>
          </p:nvGrpSpPr>
          <p:grpSpPr>
            <a:xfrm>
              <a:off x="1981080" y="5308920"/>
              <a:ext cx="1511640" cy="1243800"/>
              <a:chOff x="1981080" y="5308920"/>
              <a:chExt cx="1511640" cy="1243800"/>
            </a:xfrm>
          </p:grpSpPr>
          <p:sp>
            <p:nvSpPr>
              <p:cNvPr id="345" name="Freeform 10"/>
              <p:cNvSpPr/>
              <p:nvPr/>
            </p:nvSpPr>
            <p:spPr>
              <a:xfrm>
                <a:off x="1981080" y="530892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>
                <a:off x="2004840" y="535860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>
                <a:off x="2554200" y="545796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3440880" y="4114800"/>
              <a:ext cx="1511640" cy="1243800"/>
              <a:chOff x="3440880" y="4114800"/>
              <a:chExt cx="1511640" cy="1243800"/>
            </a:xfrm>
          </p:grpSpPr>
          <p:sp>
            <p:nvSpPr>
              <p:cNvPr id="349" name="Freeform 14"/>
              <p:cNvSpPr/>
              <p:nvPr/>
            </p:nvSpPr>
            <p:spPr>
              <a:xfrm>
                <a:off x="3440880" y="411480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15"/>
              <p:cNvSpPr/>
              <p:nvPr/>
            </p:nvSpPr>
            <p:spPr>
              <a:xfrm>
                <a:off x="3464640" y="416448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Freeform 16"/>
              <p:cNvSpPr/>
              <p:nvPr/>
            </p:nvSpPr>
            <p:spPr>
              <a:xfrm>
                <a:off x="4014000" y="426384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085120" y="4164480"/>
              <a:ext cx="1512000" cy="1243800"/>
              <a:chOff x="2085120" y="4164480"/>
              <a:chExt cx="1512000" cy="124380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2085120" y="4164480"/>
                <a:ext cx="1512000" cy="1243800"/>
              </a:xfrm>
              <a:custGeom>
                <a:avLst/>
                <a:gdLst>
                  <a:gd name="textAreaLeft" fmla="*/ 0 w 1512000"/>
                  <a:gd name="textAreaRight" fmla="*/ 1512360 w 151200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2108880" y="421416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>
                <a:off x="2658600" y="4313520"/>
                <a:ext cx="677880" cy="708840"/>
              </a:xfrm>
              <a:custGeom>
                <a:avLst/>
                <a:gdLst>
                  <a:gd name="textAreaLeft" fmla="*/ 0 w 677880"/>
                  <a:gd name="textAreaRight" fmla="*/ 678240 w 67788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" name="Group 21"/>
            <p:cNvGrpSpPr/>
            <p:nvPr/>
          </p:nvGrpSpPr>
          <p:grpSpPr>
            <a:xfrm>
              <a:off x="3440880" y="5259240"/>
              <a:ext cx="1511640" cy="1243800"/>
              <a:chOff x="3440880" y="5259240"/>
              <a:chExt cx="1511640" cy="1243800"/>
            </a:xfrm>
          </p:grpSpPr>
          <p:sp>
            <p:nvSpPr>
              <p:cNvPr id="357" name="Freeform 22"/>
              <p:cNvSpPr/>
              <p:nvPr/>
            </p:nvSpPr>
            <p:spPr>
              <a:xfrm>
                <a:off x="3440880" y="525924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>
                <a:off x="3464640" y="530892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>
                <a:off x="4014000" y="540828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0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Nucleic Ac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. Deoxyribonucleic acid (DNA-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double helix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. Ribonucleic acid (RNA-single    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stran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mposed of long chains of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ehydration synth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pentose sugar (5-carb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nitrogenous bas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ymine (T) D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uracil (U) R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otid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372" name="Oval 5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379" name="AutoShape 12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384" name="Rectangle 17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Carbon (C)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4 elec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outer sh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form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valent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as many a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 atoms (elements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ually with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, H, O or 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e6f10d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metha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NA - double helix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39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Rectangle 25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43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Rectangle 51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Rectangle 56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60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46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47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acromolecule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Large organic molecul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Carbohydra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3.  Prote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Nucleic acids (DNA and RN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8000"/>
            </a:b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How Are Macromolecules Formed?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nswer: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Dehydration Synthesis</a:t>
            </a:r>
            <a:endParaRPr b="0" lang="en-US" sz="4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condensation reaction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combining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“removing water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11280" y="5791320"/>
            <a:ext cx="7563600" cy="685800"/>
            <a:chOff x="611280" y="5791320"/>
            <a:chExt cx="7563600" cy="685800"/>
          </a:xfrm>
        </p:grpSpPr>
        <p:sp>
          <p:nvSpPr>
            <p:cNvPr id="105" name="Rectangle 5"/>
            <p:cNvSpPr/>
            <p:nvPr/>
          </p:nvSpPr>
          <p:spPr>
            <a:xfrm>
              <a:off x="160020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73392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6728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200400" y="6095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34120" y="6095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7467480" y="6095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1143000" y="6095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1128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7774560" y="586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30400" y="3962520"/>
            <a:ext cx="8630280" cy="1676160"/>
            <a:chOff x="230400" y="3962520"/>
            <a:chExt cx="8630280" cy="1676160"/>
          </a:xfrm>
        </p:grpSpPr>
        <p:sp>
          <p:nvSpPr>
            <p:cNvPr id="115" name="Rectangle 15"/>
            <p:cNvSpPr/>
            <p:nvPr/>
          </p:nvSpPr>
          <p:spPr>
            <a:xfrm>
              <a:off x="12952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20040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5530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191120" y="4876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2895480" y="4267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838080" y="42670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3040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564048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84603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8153280" y="4267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61722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107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952240" y="5105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334120" y="4495680"/>
              <a:ext cx="68580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5867280" y="4495680"/>
              <a:ext cx="30492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How are Macromolecules separated or digested?</a:t>
            </a:r>
            <a:endParaRPr b="0" lang="en-US" sz="6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Answer: 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Hydrolysi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parates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“adding water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6360" y="5638680"/>
            <a:ext cx="8630640" cy="685800"/>
            <a:chOff x="306360" y="5638680"/>
            <a:chExt cx="8630640" cy="685800"/>
          </a:xfrm>
        </p:grpSpPr>
        <p:sp>
          <p:nvSpPr>
            <p:cNvPr id="137" name="Rectangle 5"/>
            <p:cNvSpPr/>
            <p:nvPr/>
          </p:nvSpPr>
          <p:spPr>
            <a:xfrm>
              <a:off x="137160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27672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6629400" y="563868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2971800" y="594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914400" y="5943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30636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7168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85366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822960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485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48769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8364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505320"/>
            <a:ext cx="7563600" cy="1904760"/>
            <a:chOff x="611280" y="3505320"/>
            <a:chExt cx="7563600" cy="1904760"/>
          </a:xfrm>
        </p:grpSpPr>
        <p:sp>
          <p:nvSpPr>
            <p:cNvPr id="150" name="Rectangle 18"/>
            <p:cNvSpPr/>
            <p:nvPr/>
          </p:nvSpPr>
          <p:spPr>
            <a:xfrm>
              <a:off x="160020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373392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867280" y="350532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3200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334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7467480" y="3809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1128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7774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449568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875920" y="4876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>
              <a:off x="5614920" y="4019400"/>
              <a:ext cx="233280" cy="1009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147" h="636">
                  <a:moveTo>
                    <a:pt x="147" y="636"/>
                  </a:moveTo>
                  <a:cubicBezTo>
                    <a:pt x="85" y="543"/>
                    <a:pt x="7" y="443"/>
                    <a:pt x="3" y="324"/>
                  </a:cubicBezTo>
                  <a:cubicBezTo>
                    <a:pt x="0" y="216"/>
                    <a:pt x="3" y="108"/>
                    <a:pt x="3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0:47:49Z</dcterms:created>
  <dc:creator>Cheryl Massengale</dc:creator>
  <dc:description/>
  <dc:language>en-US</dc:language>
  <cp:lastModifiedBy>LEGION</cp:lastModifiedBy>
  <dcterms:modified xsi:type="dcterms:W3CDTF">2016-12-07T09:19:30Z</dcterms:modified>
  <cp:revision>7</cp:revision>
  <dc:subject/>
  <dc:title>Macromolecules</dc:title>
</cp:coreProperties>
</file>