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58CA-C717-4A98-9595-F00A818B5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mall sugar molecules to large sugar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no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oly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mall sugar molecules to large sugar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no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ly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nosaccharide:  one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ucose (C6H12O6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ru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ala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nosaccharide:  one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ucose (C6H12O6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u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la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accharide: two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ucrose (glucose+fru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actose (glucose+gala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ltose (glucose+gluc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accharide: two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crose (glucose+fru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ctose (glucose+gala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ltose (glucose+gluc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olysaccharide: many sugar 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arch (bread, potato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ycogen (beef musc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llulose (lettuce, cor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lysaccharide: many sugar 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arch (bread, potato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gen (beef musc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ose (lettuce, cor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eneral term for compounds which are not soluble in wa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pids are soluble in hydrophobic solven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member:  “stores the most energy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  Fa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  Phospho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  O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.  Wax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.  Steroid 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.  Triglyce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term for compounds which are not soluble in wa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 are soluble in hydrophobic solven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:  “stores the most energy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 Fa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 Phospho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  O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  Wax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  Steroid 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  Triglyce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functions of lipid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term energy stor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heat loss (insul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physical sho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water lo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messengers (hormon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jor component of membranes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phospholipid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functions of lipid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term energy stor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heat loss (insul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physical sho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water lo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messengers (hormon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jor component of membranes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phospholipid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iglycerid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1 glycerol and 3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iglycerid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1 glycerol and 3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are two kinds of fatty acids you may see these on food label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turated fatty acids:  no double bonds (ba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nsaturated fatty acids:  double bonds (goo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are two kinds of fatty acids you may see these on food label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turated fatty acids:  no double bonds (ba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nsaturated fatty acids:  double bonds (goo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c Comp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unds that contain CARBON are called organ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 are 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c Comp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unds that contain CARBON are called organ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 are 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mino acids (20 different kinds of aa) bonded together by peptide bonds (polypeptide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ix functions of protei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orage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lbumin (egg whit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ransport: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emoglob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gulatory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vement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uctural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embranes, hair, na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nzym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llular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ino acids (20 different kinds of aa) bonded together by peptide bonds (polypeptide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functions of protei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orag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bumin (egg whit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port: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moglob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gulatory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vement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uctural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mbranes, hair, na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ar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levels of protein structu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levels of protein structu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ino acids bonded together by peptide bonds (straight chai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ino acids bonded together by peptide bonds (straight chai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-dimensional folding arrangement of a primary structure into coils and pleats held together by hydrogen bo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-dimensional folding arrangement of a primary structure into coils and pleats held together by hydrogen bo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s bent and folded into a more complex 3-D arrangement of linked polypep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nds:  H-bonds, ionic, disulfide bridges (S-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 a “subunit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s bent and folded into a more complex 3-D arrangement of linked polypep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nds:  H-bonds, ionic, disulfide bridges (S-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 a “subunit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2 or more “subunits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obular in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 in Aqueous environ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 enzymes (hemoglobi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2 or more “subunits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obular in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 in Aqueous environ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 enzymes (hemoglobi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. Deoxyribonucleic acid (DNA-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double heli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. Ribonucleic acid (RNA-single      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stran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 are composed of long chains of nucleotides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nked by dehydration synthesi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 Deoxyribonucleic acid (DNA-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double heli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 Ribonucleic acid (RNA-single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stran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 are composed of long chains of nucleotides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nked by dehydration synthesi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s includ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entose sugar (5-carb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ymine (T) D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racil (U) R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s includ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entose sugar (5-carb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itrogenous bas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(T) D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acil (U) R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has 4 electrons in outer shel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can form covalent bonds with as many as 4 other atoms (element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ually with C, H, O or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4(methan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has 4 electrons in outer shel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can form covalent bonds with as many as 4 other atoms (element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ually with C, H, O or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4(methan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-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-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lso called POLY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de up of smaller “building blocks” called MONO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 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  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 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.  Nucleic acids (DNA and RN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called POLY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de up of smaller “building blocks” called MONO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 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 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  Nucleic acids (DNA and RN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Macromolecules Form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Macromolecules Form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Dehydratio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called “condensation reaction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s polymers by combining monomers by “removing water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Dehydratio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called “condensation reaction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s polymers by combining monomers by “removing water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How are Macromolecules separated or diges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How are Macromolecules separated or diges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 Hydr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parates monomers by “adding water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 Hydr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parates monomers by “adding water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F267-1624-44BF-8F6D-41A6E50C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D01-A1CA-4E5E-9077-2909B1EB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83C1-4DA0-4190-9DFC-6B29D270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4523-C09A-4C1B-91F4-700F57D6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7A95-78AE-4392-AD2D-6DE247C7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4585-A1A7-4326-A1D4-1BFBC242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43A3-4A9C-481A-BB28-79117F89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B954-50AC-490C-ABAD-C65163E3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94C0-2D2A-4895-92A9-DBA12569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2379-EF97-46ED-B6E7-5DB82AD4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FB4E-FD3C-421E-BB70-4784B555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D57A-4D85-4BF6-ADF4-F0168863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2972-3B7E-430E-AA4B-51326898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F7F9-66B4-4844-BA06-EED8FA27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C2A9-9F6B-475D-9AD5-B2F76525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A75C-21CE-4C16-93FB-793CC934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62F7-D5C6-4C40-9950-965921E2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13CE-1864-4091-9B67-157CFFA3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4EC-F5CA-4A02-80B5-28BFB244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083A-B5C8-4CE9-B005-5863752D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84F1-25C5-4449-A1A3-0D94FBB8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22B3-5F22-4F62-8774-7FE5DB41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7F28-0BF4-4FA1-BEA7-2A91625B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C01A-151D-4FF8-BF0C-E6686AC6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A26D-F7A5-440B-AF8D-B3B86191C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2A3D-8904-43B9-9B6A-1E57C3D9E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ff"/>
                </a:solidFill>
                <a:latin typeface="Comic Sans MS"/>
              </a:rPr>
              <a:t>Macromolecules</a:t>
            </a:r>
            <a:endParaRPr b="0" lang="en-US" sz="8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0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mall sugar molecul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large sugar molecul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monosacchar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B.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disacchar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polysacchar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Monosaccharide:  one sugar uni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glucose (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Comic Sans MS"/>
              </a:rPr>
              <a:t>12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eoxyrib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ib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Fruct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Galact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1219320" y="3733920"/>
            <a:ext cx="2209680" cy="1523880"/>
            <a:chOff x="1219320" y="3733920"/>
            <a:chExt cx="2209680" cy="1523880"/>
          </a:xfrm>
        </p:grpSpPr>
        <p:sp>
          <p:nvSpPr>
            <p:cNvPr id="171" name="AutoShape 5"/>
            <p:cNvSpPr/>
            <p:nvPr/>
          </p:nvSpPr>
          <p:spPr>
            <a:xfrm>
              <a:off x="1219320" y="3733920"/>
              <a:ext cx="2209680" cy="1523880"/>
            </a:xfrm>
            <a:prstGeom prst="hexagon">
              <a:avLst>
                <a:gd name="adj" fmla="val 36251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1678320" y="426744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3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Disaccharide: two sugar un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s: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–"/>
              <a:tabLst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Sucrose (glucose+fructos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–"/>
              <a:tabLst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Lactose (glucose+galactos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–"/>
              <a:tabLst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Maltose (glucose+glucos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1981080" y="4724280"/>
            <a:ext cx="4876560" cy="1523880"/>
            <a:chOff x="1981080" y="4724280"/>
            <a:chExt cx="4876560" cy="1523880"/>
          </a:xfrm>
        </p:grpSpPr>
        <p:grpSp>
          <p:nvGrpSpPr>
            <p:cNvPr id="177" name="Group 5"/>
            <p:cNvGrpSpPr/>
            <p:nvPr/>
          </p:nvGrpSpPr>
          <p:grpSpPr>
            <a:xfrm>
              <a:off x="4647960" y="4724280"/>
              <a:ext cx="2209680" cy="1523880"/>
              <a:chOff x="4647960" y="4724280"/>
              <a:chExt cx="2209680" cy="1523880"/>
            </a:xfrm>
          </p:grpSpPr>
          <p:sp>
            <p:nvSpPr>
              <p:cNvPr id="178" name="AutoShape 6"/>
              <p:cNvSpPr/>
              <p:nvPr/>
            </p:nvSpPr>
            <p:spPr>
              <a:xfrm>
                <a:off x="4647960" y="4724280"/>
                <a:ext cx="2209680" cy="1523880"/>
              </a:xfrm>
              <a:prstGeom prst="hexagon">
                <a:avLst>
                  <a:gd name="adj" fmla="val 36251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Text Box 7"/>
              <p:cNvSpPr/>
              <p:nvPr/>
            </p:nvSpPr>
            <p:spPr>
              <a:xfrm>
                <a:off x="5106960" y="5257800"/>
                <a:ext cx="133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8"/>
            <p:cNvGrpSpPr/>
            <p:nvPr/>
          </p:nvGrpSpPr>
          <p:grpSpPr>
            <a:xfrm>
              <a:off x="1981080" y="4724280"/>
              <a:ext cx="2209680" cy="1523880"/>
              <a:chOff x="1981080" y="4724280"/>
              <a:chExt cx="2209680" cy="1523880"/>
            </a:xfrm>
          </p:grpSpPr>
          <p:sp>
            <p:nvSpPr>
              <p:cNvPr id="181" name="AutoShape 9"/>
              <p:cNvSpPr/>
              <p:nvPr/>
            </p:nvSpPr>
            <p:spPr>
              <a:xfrm>
                <a:off x="1981080" y="4724280"/>
                <a:ext cx="2209680" cy="1523880"/>
              </a:xfrm>
              <a:prstGeom prst="hexagon">
                <a:avLst>
                  <a:gd name="adj" fmla="val 36251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Text Box 10"/>
              <p:cNvSpPr/>
              <p:nvPr/>
            </p:nvSpPr>
            <p:spPr>
              <a:xfrm>
                <a:off x="2440080" y="5257800"/>
                <a:ext cx="133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3" name="Line 11"/>
            <p:cNvSpPr/>
            <p:nvPr/>
          </p:nvSpPr>
          <p:spPr>
            <a:xfrm>
              <a:off x="4190760" y="54864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Polysaccharide: many sugar un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tarch (bread, potatoe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glycogen (beef muscl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ellulose (lettuce, cor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762120" y="4038480"/>
            <a:ext cx="7870680" cy="2209680"/>
            <a:chOff x="762120" y="4038480"/>
            <a:chExt cx="7870680" cy="2209680"/>
          </a:xfrm>
        </p:grpSpPr>
        <p:sp>
          <p:nvSpPr>
            <p:cNvPr id="188" name="AutoShape 5"/>
            <p:cNvSpPr/>
            <p:nvPr/>
          </p:nvSpPr>
          <p:spPr>
            <a:xfrm>
              <a:off x="2325600" y="4038480"/>
              <a:ext cx="1296360" cy="990360"/>
            </a:xfrm>
            <a:prstGeom prst="hexagon">
              <a:avLst>
                <a:gd name="adj" fmla="val 32724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Text Box 6"/>
            <p:cNvSpPr/>
            <p:nvPr/>
          </p:nvSpPr>
          <p:spPr>
            <a:xfrm>
              <a:off x="2516760" y="434304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AutoShape 7"/>
            <p:cNvSpPr/>
            <p:nvPr/>
          </p:nvSpPr>
          <p:spPr>
            <a:xfrm>
              <a:off x="762120" y="4038480"/>
              <a:ext cx="1296720" cy="990360"/>
            </a:xfrm>
            <a:prstGeom prst="hexagon">
              <a:avLst>
                <a:gd name="adj" fmla="val 32734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Text Box 8"/>
            <p:cNvSpPr/>
            <p:nvPr/>
          </p:nvSpPr>
          <p:spPr>
            <a:xfrm>
              <a:off x="916560" y="434304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>
              <a:off x="2058840" y="4533840"/>
              <a:ext cx="266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AutoShape 10"/>
            <p:cNvSpPr/>
            <p:nvPr/>
          </p:nvSpPr>
          <p:spPr>
            <a:xfrm>
              <a:off x="320004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Text Box 11"/>
            <p:cNvSpPr/>
            <p:nvPr/>
          </p:nvSpPr>
          <p:spPr>
            <a:xfrm>
              <a:off x="339156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AutoShape 12"/>
            <p:cNvSpPr/>
            <p:nvPr/>
          </p:nvSpPr>
          <p:spPr>
            <a:xfrm>
              <a:off x="163656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179136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Line 14"/>
            <p:cNvSpPr/>
            <p:nvPr/>
          </p:nvSpPr>
          <p:spPr>
            <a:xfrm>
              <a:off x="2933640" y="5752800"/>
              <a:ext cx="266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8" name="Group 15"/>
            <p:cNvGrpSpPr/>
            <p:nvPr/>
          </p:nvGrpSpPr>
          <p:grpSpPr>
            <a:xfrm>
              <a:off x="4114440" y="4038480"/>
              <a:ext cx="2860200" cy="990360"/>
              <a:chOff x="4114440" y="4038480"/>
              <a:chExt cx="2860200" cy="990360"/>
            </a:xfrm>
          </p:grpSpPr>
          <p:sp>
            <p:nvSpPr>
              <p:cNvPr id="199" name="AutoShape 16"/>
              <p:cNvSpPr/>
              <p:nvPr/>
            </p:nvSpPr>
            <p:spPr>
              <a:xfrm>
                <a:off x="5677920" y="4038480"/>
                <a:ext cx="1296720" cy="990360"/>
              </a:xfrm>
              <a:prstGeom prst="hexagon">
                <a:avLst>
                  <a:gd name="adj" fmla="val 32734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" name="Text Box 17"/>
              <p:cNvSpPr/>
              <p:nvPr/>
            </p:nvSpPr>
            <p:spPr>
              <a:xfrm>
                <a:off x="5869080" y="4343040"/>
                <a:ext cx="94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" name="AutoShape 18"/>
              <p:cNvSpPr/>
              <p:nvPr/>
            </p:nvSpPr>
            <p:spPr>
              <a:xfrm>
                <a:off x="4114440" y="4038480"/>
                <a:ext cx="1296720" cy="990360"/>
              </a:xfrm>
              <a:prstGeom prst="hexagon">
                <a:avLst>
                  <a:gd name="adj" fmla="val 32734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" name="Text Box 19"/>
              <p:cNvSpPr/>
              <p:nvPr/>
            </p:nvSpPr>
            <p:spPr>
              <a:xfrm>
                <a:off x="4268880" y="4343040"/>
                <a:ext cx="94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" name="Line 20"/>
              <p:cNvSpPr/>
              <p:nvPr/>
            </p:nvSpPr>
            <p:spPr>
              <a:xfrm>
                <a:off x="5411160" y="4533840"/>
                <a:ext cx="266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4" name="AutoShape 21"/>
            <p:cNvSpPr/>
            <p:nvPr/>
          </p:nvSpPr>
          <p:spPr>
            <a:xfrm>
              <a:off x="647676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Text Box 22"/>
            <p:cNvSpPr/>
            <p:nvPr/>
          </p:nvSpPr>
          <p:spPr>
            <a:xfrm>
              <a:off x="666792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AutoShape 23"/>
            <p:cNvSpPr/>
            <p:nvPr/>
          </p:nvSpPr>
          <p:spPr>
            <a:xfrm>
              <a:off x="491292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Text Box 24"/>
            <p:cNvSpPr/>
            <p:nvPr/>
          </p:nvSpPr>
          <p:spPr>
            <a:xfrm>
              <a:off x="503136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Line 25"/>
            <p:cNvSpPr/>
            <p:nvPr/>
          </p:nvSpPr>
          <p:spPr>
            <a:xfrm>
              <a:off x="6210000" y="5752800"/>
              <a:ext cx="266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Line 26"/>
            <p:cNvSpPr/>
            <p:nvPr/>
          </p:nvSpPr>
          <p:spPr>
            <a:xfrm>
              <a:off x="3581280" y="4571640"/>
              <a:ext cx="532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Line 27"/>
            <p:cNvSpPr/>
            <p:nvPr/>
          </p:nvSpPr>
          <p:spPr>
            <a:xfrm>
              <a:off x="4495680" y="5790960"/>
              <a:ext cx="456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Line 28"/>
            <p:cNvSpPr/>
            <p:nvPr/>
          </p:nvSpPr>
          <p:spPr>
            <a:xfrm flipV="1">
              <a:off x="2590560" y="5028480"/>
              <a:ext cx="7596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Line 29"/>
            <p:cNvSpPr/>
            <p:nvPr/>
          </p:nvSpPr>
          <p:spPr>
            <a:xfrm flipV="1">
              <a:off x="5867280" y="5028480"/>
              <a:ext cx="151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Text Box 30"/>
            <p:cNvSpPr/>
            <p:nvPr/>
          </p:nvSpPr>
          <p:spPr>
            <a:xfrm>
              <a:off x="7147440" y="453528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cellulos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Comic Sans MS"/>
              </a:rPr>
              <a:t>Lipids</a:t>
            </a:r>
            <a:endParaRPr b="0" lang="en-US" sz="8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Lip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eneral term for compounds which are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not soluble in wat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pid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re soluble in hydrophobic solven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Remember: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“stores the most energy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.  Fa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.  Phospholipi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3.  Oil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4.  Wax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5.  Steroid hormon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6.  Triglycerid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Lip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Six functions of lipid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Long term 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energy storag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otection against heat loss (insulation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otection against physical shock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otection against water los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5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hemical messengers (hormone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6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ajor component of membrane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(phospholipid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Lipids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Triglycerides: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mposed of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1 glycero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3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fatty acid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25" name="Group 4"/>
          <p:cNvGrpSpPr/>
          <p:nvPr/>
        </p:nvGrpSpPr>
        <p:grpSpPr>
          <a:xfrm>
            <a:off x="762120" y="2895480"/>
            <a:ext cx="1447560" cy="3547440"/>
            <a:chOff x="762120" y="2895480"/>
            <a:chExt cx="1447560" cy="3547440"/>
          </a:xfrm>
        </p:grpSpPr>
        <p:grpSp>
          <p:nvGrpSpPr>
            <p:cNvPr id="226" name="Group 5"/>
            <p:cNvGrpSpPr/>
            <p:nvPr/>
          </p:nvGrpSpPr>
          <p:grpSpPr>
            <a:xfrm>
              <a:off x="762120" y="2895480"/>
              <a:ext cx="1447560" cy="3048120"/>
              <a:chOff x="762120" y="2895480"/>
              <a:chExt cx="1447560" cy="3048120"/>
            </a:xfrm>
          </p:grpSpPr>
          <p:sp>
            <p:nvSpPr>
              <p:cNvPr id="227" name="Rectangle 6"/>
              <p:cNvSpPr/>
              <p:nvPr/>
            </p:nvSpPr>
            <p:spPr>
              <a:xfrm>
                <a:off x="762120" y="2895480"/>
                <a:ext cx="1447560" cy="30481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" name="Text Box 7"/>
              <p:cNvSpPr/>
              <p:nvPr/>
            </p:nvSpPr>
            <p:spPr>
              <a:xfrm>
                <a:off x="988560" y="2971800"/>
                <a:ext cx="1174320" cy="27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-C----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-C----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-C----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" name="Line 8"/>
              <p:cNvSpPr/>
              <p:nvPr/>
            </p:nvSpPr>
            <p:spPr>
              <a:xfrm>
                <a:off x="1447920" y="32767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" name="Line 9"/>
              <p:cNvSpPr/>
              <p:nvPr/>
            </p:nvSpPr>
            <p:spPr>
              <a:xfrm flipV="1">
                <a:off x="1447920" y="373392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" name="Line 10"/>
              <p:cNvSpPr/>
              <p:nvPr/>
            </p:nvSpPr>
            <p:spPr>
              <a:xfrm>
                <a:off x="1447920" y="44956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" name="Line 11"/>
              <p:cNvSpPr/>
              <p:nvPr/>
            </p:nvSpPr>
            <p:spPr>
              <a:xfrm>
                <a:off x="1447920" y="5181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3" name="Text Box 12"/>
            <p:cNvSpPr/>
            <p:nvPr/>
          </p:nvSpPr>
          <p:spPr>
            <a:xfrm>
              <a:off x="823680" y="598320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glycerol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4" name="Group 13"/>
          <p:cNvGrpSpPr/>
          <p:nvPr/>
        </p:nvGrpSpPr>
        <p:grpSpPr>
          <a:xfrm>
            <a:off x="2057400" y="3809880"/>
            <a:ext cx="5901840" cy="1261440"/>
            <a:chOff x="2057400" y="3809880"/>
            <a:chExt cx="5901840" cy="1261440"/>
          </a:xfrm>
        </p:grpSpPr>
        <p:grpSp>
          <p:nvGrpSpPr>
            <p:cNvPr id="235" name="Group 14"/>
            <p:cNvGrpSpPr/>
            <p:nvPr/>
          </p:nvGrpSpPr>
          <p:grpSpPr>
            <a:xfrm>
              <a:off x="2057400" y="3809880"/>
              <a:ext cx="5901840" cy="816840"/>
              <a:chOff x="2057400" y="3809880"/>
              <a:chExt cx="5901840" cy="816840"/>
            </a:xfrm>
          </p:grpSpPr>
          <p:sp>
            <p:nvSpPr>
              <p:cNvPr id="236" name="Text Box 15"/>
              <p:cNvSpPr/>
              <p:nvPr/>
            </p:nvSpPr>
            <p:spPr>
              <a:xfrm>
                <a:off x="2273400" y="3809880"/>
                <a:ext cx="5685840" cy="8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C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Text Box 16"/>
              <p:cNvSpPr/>
              <p:nvPr/>
            </p:nvSpPr>
            <p:spPr>
              <a:xfrm rot="5320800">
                <a:off x="2257200" y="39135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Line 17"/>
              <p:cNvSpPr/>
              <p:nvPr/>
            </p:nvSpPr>
            <p:spPr>
              <a:xfrm>
                <a:off x="2057400" y="4343400"/>
                <a:ext cx="228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9" name="Text Box 18"/>
            <p:cNvSpPr/>
            <p:nvPr/>
          </p:nvSpPr>
          <p:spPr>
            <a:xfrm>
              <a:off x="5319360" y="461160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fatty acid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0" name="Group 19"/>
          <p:cNvGrpSpPr/>
          <p:nvPr/>
        </p:nvGrpSpPr>
        <p:grpSpPr>
          <a:xfrm>
            <a:off x="2057040" y="3048120"/>
            <a:ext cx="5902200" cy="816840"/>
            <a:chOff x="2057040" y="3048120"/>
            <a:chExt cx="5902200" cy="816840"/>
          </a:xfrm>
        </p:grpSpPr>
        <p:sp>
          <p:nvSpPr>
            <p:cNvPr id="241" name="Text Box 20"/>
            <p:cNvSpPr/>
            <p:nvPr/>
          </p:nvSpPr>
          <p:spPr>
            <a:xfrm>
              <a:off x="2273400" y="3048120"/>
              <a:ext cx="5685840" cy="81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C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Text Box 21"/>
            <p:cNvSpPr/>
            <p:nvPr/>
          </p:nvSpPr>
          <p:spPr>
            <a:xfrm rot="5320800">
              <a:off x="2257200" y="31514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Line 22"/>
            <p:cNvSpPr/>
            <p:nvPr/>
          </p:nvSpPr>
          <p:spPr>
            <a:xfrm flipH="1">
              <a:off x="2057040" y="365760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4" name="Group 23"/>
          <p:cNvGrpSpPr/>
          <p:nvPr/>
        </p:nvGrpSpPr>
        <p:grpSpPr>
          <a:xfrm>
            <a:off x="2057040" y="4572000"/>
            <a:ext cx="5805360" cy="2170080"/>
            <a:chOff x="2057040" y="4572000"/>
            <a:chExt cx="5805360" cy="2170080"/>
          </a:xfrm>
        </p:grpSpPr>
        <p:sp>
          <p:nvSpPr>
            <p:cNvPr id="245" name="Text Box 24"/>
            <p:cNvSpPr/>
            <p:nvPr/>
          </p:nvSpPr>
          <p:spPr>
            <a:xfrm>
              <a:off x="2229120" y="4572000"/>
              <a:ext cx="2415600" cy="81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C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Rectangle 25"/>
            <p:cNvSpPr/>
            <p:nvPr/>
          </p:nvSpPr>
          <p:spPr>
            <a:xfrm rot="1383600">
              <a:off x="4411800" y="5636880"/>
              <a:ext cx="350496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=CH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Text Box 26"/>
            <p:cNvSpPr/>
            <p:nvPr/>
          </p:nvSpPr>
          <p:spPr>
            <a:xfrm rot="5320800">
              <a:off x="2257200" y="469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Line 27"/>
            <p:cNvSpPr/>
            <p:nvPr/>
          </p:nvSpPr>
          <p:spPr>
            <a:xfrm flipH="1">
              <a:off x="2057040" y="510552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9" name="Місце для нижнього колонтитула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Fatty Acids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two kinds of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fatty aci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ou may see these on food label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Saturated fatty acids: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  no double bonds (bad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Unsaturated fatty acids: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double bonds (good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688320" y="3200400"/>
            <a:ext cx="7423200" cy="840600"/>
            <a:chOff x="688320" y="3200400"/>
            <a:chExt cx="7423200" cy="840600"/>
          </a:xfrm>
        </p:grpSpPr>
        <p:grpSp>
          <p:nvGrpSpPr>
            <p:cNvPr id="253" name="Group 5"/>
            <p:cNvGrpSpPr/>
            <p:nvPr/>
          </p:nvGrpSpPr>
          <p:grpSpPr>
            <a:xfrm>
              <a:off x="2210040" y="3200400"/>
              <a:ext cx="5901480" cy="816840"/>
              <a:chOff x="2210040" y="3200400"/>
              <a:chExt cx="5901480" cy="816840"/>
            </a:xfrm>
          </p:grpSpPr>
          <p:sp>
            <p:nvSpPr>
              <p:cNvPr id="254" name="Text Box 6"/>
              <p:cNvSpPr/>
              <p:nvPr/>
            </p:nvSpPr>
            <p:spPr>
              <a:xfrm>
                <a:off x="2425680" y="3200400"/>
                <a:ext cx="5685840" cy="8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C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Text Box 7"/>
              <p:cNvSpPr/>
              <p:nvPr/>
            </p:nvSpPr>
            <p:spPr>
              <a:xfrm rot="5320800">
                <a:off x="2408760" y="33037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Line 8"/>
              <p:cNvSpPr/>
              <p:nvPr/>
            </p:nvSpPr>
            <p:spPr>
              <a:xfrm flipH="1">
                <a:off x="2210040" y="3809880"/>
                <a:ext cx="228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7" name="Text Box 9"/>
            <p:cNvSpPr/>
            <p:nvPr/>
          </p:nvSpPr>
          <p:spPr>
            <a:xfrm>
              <a:off x="688320" y="358128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saturate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8" name="Group 10"/>
          <p:cNvGrpSpPr/>
          <p:nvPr/>
        </p:nvGrpSpPr>
        <p:grpSpPr>
          <a:xfrm>
            <a:off x="992880" y="4724280"/>
            <a:ext cx="7477200" cy="2082960"/>
            <a:chOff x="992880" y="4724280"/>
            <a:chExt cx="7477200" cy="2082960"/>
          </a:xfrm>
        </p:grpSpPr>
        <p:grpSp>
          <p:nvGrpSpPr>
            <p:cNvPr id="259" name="Group 11"/>
            <p:cNvGrpSpPr/>
            <p:nvPr/>
          </p:nvGrpSpPr>
          <p:grpSpPr>
            <a:xfrm>
              <a:off x="2839320" y="4724280"/>
              <a:ext cx="5630760" cy="2082960"/>
              <a:chOff x="2839320" y="4724280"/>
              <a:chExt cx="5630760" cy="2082960"/>
            </a:xfrm>
          </p:grpSpPr>
          <p:sp>
            <p:nvSpPr>
              <p:cNvPr id="260" name="Text Box 12"/>
              <p:cNvSpPr/>
              <p:nvPr/>
            </p:nvSpPr>
            <p:spPr>
              <a:xfrm>
                <a:off x="3006000" y="4724280"/>
                <a:ext cx="2415600" cy="8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C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Rectangle 13"/>
              <p:cNvSpPr/>
              <p:nvPr/>
            </p:nvSpPr>
            <p:spPr>
              <a:xfrm rot="1383600">
                <a:off x="5118840" y="5722560"/>
                <a:ext cx="3401640" cy="43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=CH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Text Box 14"/>
              <p:cNvSpPr/>
              <p:nvPr/>
            </p:nvSpPr>
            <p:spPr>
              <a:xfrm rot="5320800">
                <a:off x="3020760" y="483408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Line 15"/>
              <p:cNvSpPr/>
              <p:nvPr/>
            </p:nvSpPr>
            <p:spPr>
              <a:xfrm flipH="1">
                <a:off x="2839320" y="5224320"/>
                <a:ext cx="2217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64" name="Text Box 16"/>
            <p:cNvSpPr/>
            <p:nvPr/>
          </p:nvSpPr>
          <p:spPr>
            <a:xfrm>
              <a:off x="992880" y="5010120"/>
              <a:ext cx="192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unsaturate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5" name="Місце для нижнього колонтитула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Comic Sans MS"/>
              </a:rPr>
              <a:t>Proteins</a:t>
            </a:r>
            <a:endParaRPr b="0" lang="en-US" sz="8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Organic Compounds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ompound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hat contain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CARBO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re called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organic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acromolecul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re large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organic molecul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Proteins (Polypeptides)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Amino acids (20 different kinds of a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onded together by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eptide bon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peptid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Six functions of protein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Storage: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albumin (egg white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ransport: 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hemoglobi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3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Regulatory: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Movement: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muscl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Structural: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membranes, hair, nai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6.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Enzymes: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cellular reac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Proteins (Polypeptides)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Four levels of protein structure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rimary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B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econdary Structur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ertiary Structur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D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Quaternary Structur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Primary Structure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mino acids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onded together by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eptide bonds (straight chain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838080" y="3048120"/>
            <a:ext cx="6997680" cy="2359440"/>
            <a:chOff x="838080" y="3048120"/>
            <a:chExt cx="6997680" cy="2359440"/>
          </a:xfrm>
        </p:grpSpPr>
        <p:sp>
          <p:nvSpPr>
            <p:cNvPr id="277" name="Oval 5"/>
            <p:cNvSpPr/>
            <p:nvPr/>
          </p:nvSpPr>
          <p:spPr>
            <a:xfrm>
              <a:off x="83808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Oval 6"/>
            <p:cNvSpPr/>
            <p:nvPr/>
          </p:nvSpPr>
          <p:spPr>
            <a:xfrm>
              <a:off x="205740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Oval 7"/>
            <p:cNvSpPr/>
            <p:nvPr/>
          </p:nvSpPr>
          <p:spPr>
            <a:xfrm>
              <a:off x="3276360" y="3836880"/>
              <a:ext cx="74952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Oval 8"/>
            <p:cNvSpPr/>
            <p:nvPr/>
          </p:nvSpPr>
          <p:spPr>
            <a:xfrm>
              <a:off x="457200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Oval 9"/>
            <p:cNvSpPr/>
            <p:nvPr/>
          </p:nvSpPr>
          <p:spPr>
            <a:xfrm>
              <a:off x="586728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Oval 10"/>
            <p:cNvSpPr/>
            <p:nvPr/>
          </p:nvSpPr>
          <p:spPr>
            <a:xfrm>
              <a:off x="708660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88812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210708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Rectangle 13"/>
            <p:cNvSpPr/>
            <p:nvPr/>
          </p:nvSpPr>
          <p:spPr>
            <a:xfrm>
              <a:off x="332640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Rectangle 14"/>
            <p:cNvSpPr/>
            <p:nvPr/>
          </p:nvSpPr>
          <p:spPr>
            <a:xfrm>
              <a:off x="462168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Rectangle 15"/>
            <p:cNvSpPr/>
            <p:nvPr/>
          </p:nvSpPr>
          <p:spPr>
            <a:xfrm>
              <a:off x="591732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Rectangle 16"/>
            <p:cNvSpPr/>
            <p:nvPr/>
          </p:nvSpPr>
          <p:spPr>
            <a:xfrm>
              <a:off x="713628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6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Line 17"/>
            <p:cNvSpPr/>
            <p:nvPr/>
          </p:nvSpPr>
          <p:spPr>
            <a:xfrm>
              <a:off x="2838240" y="4211640"/>
              <a:ext cx="406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Line 18"/>
            <p:cNvSpPr/>
            <p:nvPr/>
          </p:nvSpPr>
          <p:spPr>
            <a:xfrm>
              <a:off x="1619280" y="4211640"/>
              <a:ext cx="406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Line 19"/>
            <p:cNvSpPr/>
            <p:nvPr/>
          </p:nvSpPr>
          <p:spPr>
            <a:xfrm>
              <a:off x="4057560" y="4211640"/>
              <a:ext cx="48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Line 20"/>
            <p:cNvSpPr/>
            <p:nvPr/>
          </p:nvSpPr>
          <p:spPr>
            <a:xfrm>
              <a:off x="5352840" y="4211640"/>
              <a:ext cx="482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Line 21"/>
            <p:cNvSpPr/>
            <p:nvPr/>
          </p:nvSpPr>
          <p:spPr>
            <a:xfrm>
              <a:off x="6648480" y="4211640"/>
              <a:ext cx="406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Rectangle 22"/>
            <p:cNvSpPr/>
            <p:nvPr/>
          </p:nvSpPr>
          <p:spPr>
            <a:xfrm>
              <a:off x="1268280" y="4952880"/>
              <a:ext cx="2313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Peptide Bond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Freeform 23"/>
            <p:cNvSpPr/>
            <p:nvPr/>
          </p:nvSpPr>
          <p:spPr>
            <a:xfrm>
              <a:off x="1784160" y="4383000"/>
              <a:ext cx="115920" cy="515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73" h="325">
                  <a:moveTo>
                    <a:pt x="72" y="324"/>
                  </a:moveTo>
                  <a:lnTo>
                    <a:pt x="60" y="288"/>
                  </a:lnTo>
                  <a:lnTo>
                    <a:pt x="48" y="252"/>
                  </a:lnTo>
                  <a:lnTo>
                    <a:pt x="36" y="216"/>
                  </a:lnTo>
                  <a:lnTo>
                    <a:pt x="24" y="180"/>
                  </a:lnTo>
                  <a:lnTo>
                    <a:pt x="24" y="144"/>
                  </a:lnTo>
                  <a:lnTo>
                    <a:pt x="12" y="108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Freeform 24"/>
            <p:cNvSpPr/>
            <p:nvPr/>
          </p:nvSpPr>
          <p:spPr>
            <a:xfrm>
              <a:off x="2889000" y="4516560"/>
              <a:ext cx="115920" cy="4586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73" h="289">
                  <a:moveTo>
                    <a:pt x="0" y="288"/>
                  </a:moveTo>
                  <a:lnTo>
                    <a:pt x="24" y="252"/>
                  </a:lnTo>
                  <a:lnTo>
                    <a:pt x="36" y="216"/>
                  </a:lnTo>
                  <a:lnTo>
                    <a:pt x="48" y="180"/>
                  </a:lnTo>
                  <a:lnTo>
                    <a:pt x="60" y="144"/>
                  </a:lnTo>
                  <a:lnTo>
                    <a:pt x="60" y="108"/>
                  </a:lnTo>
                  <a:lnTo>
                    <a:pt x="72" y="72"/>
                  </a:lnTo>
                  <a:lnTo>
                    <a:pt x="72" y="36"/>
                  </a:lnTo>
                  <a:lnTo>
                    <a:pt x="72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Rectangle 25"/>
            <p:cNvSpPr/>
            <p:nvPr/>
          </p:nvSpPr>
          <p:spPr>
            <a:xfrm>
              <a:off x="1877040" y="3048120"/>
              <a:ext cx="2671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mino Acids (aa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Line 26"/>
            <p:cNvSpPr/>
            <p:nvPr/>
          </p:nvSpPr>
          <p:spPr>
            <a:xfrm flipV="1">
              <a:off x="1466640" y="3424320"/>
              <a:ext cx="40644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Line 27"/>
            <p:cNvSpPr/>
            <p:nvPr/>
          </p:nvSpPr>
          <p:spPr>
            <a:xfrm>
              <a:off x="4468680" y="3429000"/>
              <a:ext cx="30492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0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Secondary Structur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-dimensional folding arrangement of a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imary structu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coi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plea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eld together by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ydrogen bo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wo exampl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-360" y="3657600"/>
            <a:ext cx="3505680" cy="2666880"/>
            <a:chOff x="-360" y="3657600"/>
            <a:chExt cx="3505680" cy="2666880"/>
          </a:xfrm>
        </p:grpSpPr>
        <p:sp>
          <p:nvSpPr>
            <p:cNvPr id="304" name="Rectangle 5"/>
            <p:cNvSpPr/>
            <p:nvPr/>
          </p:nvSpPr>
          <p:spPr>
            <a:xfrm>
              <a:off x="-360" y="4495680"/>
              <a:ext cx="184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lpha Helix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1676520" y="3657600"/>
              <a:ext cx="1828800" cy="266688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1128" h="1912">
                  <a:moveTo>
                    <a:pt x="952" y="40"/>
                  </a:moveTo>
                  <a:cubicBezTo>
                    <a:pt x="704" y="20"/>
                    <a:pt x="456" y="0"/>
                    <a:pt x="328" y="40"/>
                  </a:cubicBezTo>
                  <a:cubicBezTo>
                    <a:pt x="200" y="80"/>
                    <a:pt x="88" y="208"/>
                    <a:pt x="184" y="280"/>
                  </a:cubicBezTo>
                  <a:cubicBezTo>
                    <a:pt x="280" y="352"/>
                    <a:pt x="776" y="472"/>
                    <a:pt x="904" y="472"/>
                  </a:cubicBezTo>
                  <a:cubicBezTo>
                    <a:pt x="1032" y="472"/>
                    <a:pt x="1072" y="272"/>
                    <a:pt x="952" y="280"/>
                  </a:cubicBezTo>
                  <a:cubicBezTo>
                    <a:pt x="832" y="288"/>
                    <a:pt x="312" y="448"/>
                    <a:pt x="184" y="520"/>
                  </a:cubicBezTo>
                  <a:cubicBezTo>
                    <a:pt x="56" y="592"/>
                    <a:pt x="64" y="648"/>
                    <a:pt x="184" y="712"/>
                  </a:cubicBezTo>
                  <a:cubicBezTo>
                    <a:pt x="304" y="776"/>
                    <a:pt x="776" y="904"/>
                    <a:pt x="904" y="904"/>
                  </a:cubicBezTo>
                  <a:cubicBezTo>
                    <a:pt x="1032" y="904"/>
                    <a:pt x="1072" y="704"/>
                    <a:pt x="952" y="712"/>
                  </a:cubicBezTo>
                  <a:cubicBezTo>
                    <a:pt x="832" y="720"/>
                    <a:pt x="312" y="872"/>
                    <a:pt x="184" y="952"/>
                  </a:cubicBezTo>
                  <a:cubicBezTo>
                    <a:pt x="56" y="1032"/>
                    <a:pt x="56" y="1128"/>
                    <a:pt x="184" y="1192"/>
                  </a:cubicBezTo>
                  <a:cubicBezTo>
                    <a:pt x="312" y="1256"/>
                    <a:pt x="816" y="1352"/>
                    <a:pt x="952" y="1336"/>
                  </a:cubicBezTo>
                  <a:cubicBezTo>
                    <a:pt x="1088" y="1320"/>
                    <a:pt x="1128" y="1080"/>
                    <a:pt x="1000" y="1096"/>
                  </a:cubicBezTo>
                  <a:cubicBezTo>
                    <a:pt x="872" y="1112"/>
                    <a:pt x="328" y="1328"/>
                    <a:pt x="184" y="1432"/>
                  </a:cubicBezTo>
                  <a:cubicBezTo>
                    <a:pt x="40" y="1536"/>
                    <a:pt x="0" y="1672"/>
                    <a:pt x="136" y="1720"/>
                  </a:cubicBezTo>
                  <a:cubicBezTo>
                    <a:pt x="272" y="1768"/>
                    <a:pt x="872" y="1752"/>
                    <a:pt x="1000" y="1720"/>
                  </a:cubicBezTo>
                  <a:cubicBezTo>
                    <a:pt x="1128" y="1688"/>
                    <a:pt x="1056" y="1496"/>
                    <a:pt x="904" y="1528"/>
                  </a:cubicBezTo>
                  <a:cubicBezTo>
                    <a:pt x="752" y="1560"/>
                    <a:pt x="420" y="1736"/>
                    <a:pt x="88" y="1912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 flipV="1">
              <a:off x="3352680" y="5486400"/>
              <a:ext cx="0" cy="38088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3352680" y="4800600"/>
              <a:ext cx="0" cy="38088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3352680" y="4191120"/>
              <a:ext cx="0" cy="53316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9" name="Group 10"/>
          <p:cNvGrpSpPr/>
          <p:nvPr/>
        </p:nvGrpSpPr>
        <p:grpSpPr>
          <a:xfrm>
            <a:off x="4343400" y="3657600"/>
            <a:ext cx="4448880" cy="2054880"/>
            <a:chOff x="4343400" y="3657600"/>
            <a:chExt cx="4448880" cy="2054880"/>
          </a:xfrm>
        </p:grpSpPr>
        <p:sp>
          <p:nvSpPr>
            <p:cNvPr id="310" name="Rectangle 11"/>
            <p:cNvSpPr/>
            <p:nvPr/>
          </p:nvSpPr>
          <p:spPr>
            <a:xfrm>
              <a:off x="5867640" y="5257800"/>
              <a:ext cx="292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eta Pleated Shee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Freeform 12"/>
            <p:cNvSpPr/>
            <p:nvPr/>
          </p:nvSpPr>
          <p:spPr>
            <a:xfrm>
              <a:off x="4343400" y="3657600"/>
              <a:ext cx="3886200" cy="685800"/>
            </a:xfrm>
            <a:custGeom>
              <a:avLst/>
              <a:gdLst>
                <a:gd name="textAreaLeft" fmla="*/ 0 w 3886200"/>
                <a:gd name="textAreaRight" fmla="*/ 3886560 w 38862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448" h="432">
                  <a:moveTo>
                    <a:pt x="0" y="432"/>
                  </a:moveTo>
                  <a:cubicBezTo>
                    <a:pt x="24" y="408"/>
                    <a:pt x="44" y="379"/>
                    <a:pt x="72" y="360"/>
                  </a:cubicBezTo>
                  <a:cubicBezTo>
                    <a:pt x="84" y="352"/>
                    <a:pt x="97" y="346"/>
                    <a:pt x="108" y="336"/>
                  </a:cubicBezTo>
                  <a:cubicBezTo>
                    <a:pt x="231" y="226"/>
                    <a:pt x="134" y="294"/>
                    <a:pt x="216" y="240"/>
                  </a:cubicBezTo>
                  <a:cubicBezTo>
                    <a:pt x="280" y="144"/>
                    <a:pt x="196" y="260"/>
                    <a:pt x="276" y="180"/>
                  </a:cubicBezTo>
                  <a:cubicBezTo>
                    <a:pt x="286" y="170"/>
                    <a:pt x="290" y="154"/>
                    <a:pt x="300" y="144"/>
                  </a:cubicBezTo>
                  <a:cubicBezTo>
                    <a:pt x="310" y="134"/>
                    <a:pt x="325" y="129"/>
                    <a:pt x="336" y="120"/>
                  </a:cubicBezTo>
                  <a:cubicBezTo>
                    <a:pt x="349" y="109"/>
                    <a:pt x="361" y="97"/>
                    <a:pt x="372" y="84"/>
                  </a:cubicBezTo>
                  <a:cubicBezTo>
                    <a:pt x="381" y="73"/>
                    <a:pt x="396" y="48"/>
                    <a:pt x="396" y="48"/>
                  </a:cubicBezTo>
                  <a:lnTo>
                    <a:pt x="864" y="432"/>
                  </a:lnTo>
                  <a:lnTo>
                    <a:pt x="1248" y="48"/>
                  </a:lnTo>
                  <a:lnTo>
                    <a:pt x="1680" y="432"/>
                  </a:lnTo>
                  <a:lnTo>
                    <a:pt x="2016" y="0"/>
                  </a:lnTo>
                  <a:lnTo>
                    <a:pt x="2448" y="432"/>
                  </a:lnTo>
                </a:path>
              </a:pathLst>
            </a:custGeom>
            <a:noFill/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Freeform 13"/>
            <p:cNvSpPr/>
            <p:nvPr/>
          </p:nvSpPr>
          <p:spPr>
            <a:xfrm>
              <a:off x="4343400" y="4419720"/>
              <a:ext cx="3886200" cy="685800"/>
            </a:xfrm>
            <a:custGeom>
              <a:avLst/>
              <a:gdLst>
                <a:gd name="textAreaLeft" fmla="*/ 0 w 3886200"/>
                <a:gd name="textAreaRight" fmla="*/ 3886560 w 38862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448" h="432">
                  <a:moveTo>
                    <a:pt x="0" y="432"/>
                  </a:moveTo>
                  <a:cubicBezTo>
                    <a:pt x="24" y="408"/>
                    <a:pt x="44" y="379"/>
                    <a:pt x="72" y="360"/>
                  </a:cubicBezTo>
                  <a:cubicBezTo>
                    <a:pt x="84" y="352"/>
                    <a:pt x="97" y="346"/>
                    <a:pt x="108" y="336"/>
                  </a:cubicBezTo>
                  <a:cubicBezTo>
                    <a:pt x="231" y="226"/>
                    <a:pt x="134" y="294"/>
                    <a:pt x="216" y="240"/>
                  </a:cubicBezTo>
                  <a:cubicBezTo>
                    <a:pt x="280" y="144"/>
                    <a:pt x="196" y="260"/>
                    <a:pt x="276" y="180"/>
                  </a:cubicBezTo>
                  <a:cubicBezTo>
                    <a:pt x="286" y="170"/>
                    <a:pt x="290" y="154"/>
                    <a:pt x="300" y="144"/>
                  </a:cubicBezTo>
                  <a:cubicBezTo>
                    <a:pt x="310" y="134"/>
                    <a:pt x="325" y="129"/>
                    <a:pt x="336" y="120"/>
                  </a:cubicBezTo>
                  <a:cubicBezTo>
                    <a:pt x="349" y="109"/>
                    <a:pt x="361" y="97"/>
                    <a:pt x="372" y="84"/>
                  </a:cubicBezTo>
                  <a:cubicBezTo>
                    <a:pt x="381" y="73"/>
                    <a:pt x="396" y="48"/>
                    <a:pt x="396" y="48"/>
                  </a:cubicBezTo>
                  <a:lnTo>
                    <a:pt x="864" y="432"/>
                  </a:lnTo>
                  <a:lnTo>
                    <a:pt x="1248" y="48"/>
                  </a:lnTo>
                  <a:lnTo>
                    <a:pt x="1680" y="432"/>
                  </a:lnTo>
                  <a:lnTo>
                    <a:pt x="2016" y="0"/>
                  </a:lnTo>
                  <a:lnTo>
                    <a:pt x="2448" y="432"/>
                  </a:lnTo>
                </a:path>
              </a:pathLst>
            </a:custGeom>
            <a:noFill/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434340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>
              <a:off x="4952880" y="380988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Line 16"/>
            <p:cNvSpPr/>
            <p:nvPr/>
          </p:nvSpPr>
          <p:spPr>
            <a:xfrm>
              <a:off x="571500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Line 17"/>
            <p:cNvSpPr/>
            <p:nvPr/>
          </p:nvSpPr>
          <p:spPr>
            <a:xfrm>
              <a:off x="6324480" y="3733920"/>
              <a:ext cx="0" cy="76176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Line 18"/>
            <p:cNvSpPr/>
            <p:nvPr/>
          </p:nvSpPr>
          <p:spPr>
            <a:xfrm>
              <a:off x="701028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Line 19"/>
            <p:cNvSpPr/>
            <p:nvPr/>
          </p:nvSpPr>
          <p:spPr>
            <a:xfrm>
              <a:off x="7543800" y="36576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Line 20"/>
            <p:cNvSpPr/>
            <p:nvPr/>
          </p:nvSpPr>
          <p:spPr>
            <a:xfrm>
              <a:off x="822960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0" name="Group 21"/>
          <p:cNvGrpSpPr/>
          <p:nvPr/>
        </p:nvGrpSpPr>
        <p:grpSpPr>
          <a:xfrm>
            <a:off x="3505320" y="4648320"/>
            <a:ext cx="3548520" cy="1749960"/>
            <a:chOff x="3505320" y="4648320"/>
            <a:chExt cx="3548520" cy="1749960"/>
          </a:xfrm>
        </p:grpSpPr>
        <p:sp>
          <p:nvSpPr>
            <p:cNvPr id="321" name="Rectangle 22"/>
            <p:cNvSpPr/>
            <p:nvPr/>
          </p:nvSpPr>
          <p:spPr>
            <a:xfrm>
              <a:off x="4420440" y="5943600"/>
              <a:ext cx="2633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ydrogen Bond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Line 23"/>
            <p:cNvSpPr/>
            <p:nvPr/>
          </p:nvSpPr>
          <p:spPr>
            <a:xfrm flipH="1" flipV="1">
              <a:off x="3505320" y="5638320"/>
              <a:ext cx="838080" cy="3812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Line 24"/>
            <p:cNvSpPr/>
            <p:nvPr/>
          </p:nvSpPr>
          <p:spPr>
            <a:xfrm flipV="1">
              <a:off x="4724280" y="4648320"/>
              <a:ext cx="914400" cy="1295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4" name="Місце для нижнього колонтитула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Tertiary Structur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econdary structur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b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fold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to a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ore complex 3-D arrangem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linked polypeptid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Bonds:  H-bonds, ionic, disulfide bridges (S-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ll a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“subunit”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Freeform 4"/>
          <p:cNvSpPr/>
          <p:nvPr/>
        </p:nvSpPr>
        <p:spPr>
          <a:xfrm>
            <a:off x="3809880" y="3124080"/>
            <a:ext cx="5031000" cy="3468960"/>
          </a:xfrm>
          <a:custGeom>
            <a:avLst/>
            <a:gdLst>
              <a:gd name="textAreaLeft" fmla="*/ 0 w 5031000"/>
              <a:gd name="textAreaRight" fmla="*/ 5031360 w 5031000"/>
              <a:gd name="textAreaTop" fmla="*/ 0 h 3468960"/>
              <a:gd name="textAreaBottom" fmla="*/ 3469320 h 3468960"/>
            </a:gdLst>
            <a:ahLst/>
            <a:rect l="textAreaLeft" t="textAreaTop" r="textAreaRight" b="textAreaBottom"/>
            <a:pathLst>
              <a:path w="3169" h="2185">
                <a:moveTo>
                  <a:pt x="1908" y="0"/>
                </a:moveTo>
                <a:lnTo>
                  <a:pt x="1872" y="24"/>
                </a:lnTo>
                <a:lnTo>
                  <a:pt x="1824" y="24"/>
                </a:lnTo>
                <a:lnTo>
                  <a:pt x="1752" y="12"/>
                </a:lnTo>
                <a:lnTo>
                  <a:pt x="1680" y="12"/>
                </a:lnTo>
                <a:lnTo>
                  <a:pt x="1644" y="12"/>
                </a:lnTo>
                <a:lnTo>
                  <a:pt x="1608" y="0"/>
                </a:lnTo>
                <a:lnTo>
                  <a:pt x="1572" y="0"/>
                </a:lnTo>
                <a:lnTo>
                  <a:pt x="1536" y="0"/>
                </a:lnTo>
                <a:lnTo>
                  <a:pt x="1500" y="0"/>
                </a:lnTo>
                <a:lnTo>
                  <a:pt x="1404" y="0"/>
                </a:lnTo>
                <a:lnTo>
                  <a:pt x="1332" y="0"/>
                </a:lnTo>
                <a:lnTo>
                  <a:pt x="1260" y="0"/>
                </a:lnTo>
                <a:lnTo>
                  <a:pt x="1188" y="12"/>
                </a:lnTo>
                <a:lnTo>
                  <a:pt x="1116" y="12"/>
                </a:lnTo>
                <a:lnTo>
                  <a:pt x="1044" y="12"/>
                </a:lnTo>
                <a:lnTo>
                  <a:pt x="972" y="12"/>
                </a:lnTo>
                <a:lnTo>
                  <a:pt x="900" y="12"/>
                </a:lnTo>
                <a:lnTo>
                  <a:pt x="828" y="24"/>
                </a:lnTo>
                <a:lnTo>
                  <a:pt x="756" y="24"/>
                </a:lnTo>
                <a:lnTo>
                  <a:pt x="684" y="24"/>
                </a:lnTo>
                <a:lnTo>
                  <a:pt x="588" y="24"/>
                </a:lnTo>
                <a:lnTo>
                  <a:pt x="516" y="36"/>
                </a:lnTo>
                <a:lnTo>
                  <a:pt x="396" y="48"/>
                </a:lnTo>
                <a:lnTo>
                  <a:pt x="324" y="60"/>
                </a:lnTo>
                <a:lnTo>
                  <a:pt x="228" y="84"/>
                </a:lnTo>
                <a:lnTo>
                  <a:pt x="180" y="96"/>
                </a:lnTo>
                <a:lnTo>
                  <a:pt x="132" y="132"/>
                </a:lnTo>
                <a:lnTo>
                  <a:pt x="84" y="180"/>
                </a:lnTo>
                <a:lnTo>
                  <a:pt x="48" y="216"/>
                </a:lnTo>
                <a:lnTo>
                  <a:pt x="36" y="252"/>
                </a:lnTo>
                <a:lnTo>
                  <a:pt x="24" y="288"/>
                </a:lnTo>
                <a:lnTo>
                  <a:pt x="12" y="336"/>
                </a:lnTo>
                <a:lnTo>
                  <a:pt x="0" y="408"/>
                </a:lnTo>
                <a:lnTo>
                  <a:pt x="0" y="456"/>
                </a:lnTo>
                <a:lnTo>
                  <a:pt x="0" y="492"/>
                </a:lnTo>
                <a:lnTo>
                  <a:pt x="0" y="528"/>
                </a:lnTo>
                <a:lnTo>
                  <a:pt x="0" y="564"/>
                </a:lnTo>
                <a:lnTo>
                  <a:pt x="0" y="636"/>
                </a:lnTo>
                <a:lnTo>
                  <a:pt x="0" y="708"/>
                </a:lnTo>
                <a:lnTo>
                  <a:pt x="0" y="804"/>
                </a:lnTo>
                <a:lnTo>
                  <a:pt x="0" y="876"/>
                </a:lnTo>
                <a:lnTo>
                  <a:pt x="0" y="948"/>
                </a:lnTo>
                <a:lnTo>
                  <a:pt x="0" y="984"/>
                </a:lnTo>
                <a:lnTo>
                  <a:pt x="0" y="1032"/>
                </a:lnTo>
                <a:lnTo>
                  <a:pt x="0" y="1080"/>
                </a:lnTo>
                <a:lnTo>
                  <a:pt x="0" y="1128"/>
                </a:lnTo>
                <a:lnTo>
                  <a:pt x="0" y="1224"/>
                </a:lnTo>
                <a:lnTo>
                  <a:pt x="0" y="1320"/>
                </a:lnTo>
                <a:lnTo>
                  <a:pt x="12" y="1356"/>
                </a:lnTo>
                <a:lnTo>
                  <a:pt x="24" y="1404"/>
                </a:lnTo>
                <a:lnTo>
                  <a:pt x="48" y="1452"/>
                </a:lnTo>
                <a:lnTo>
                  <a:pt x="60" y="1488"/>
                </a:lnTo>
                <a:lnTo>
                  <a:pt x="96" y="1512"/>
                </a:lnTo>
                <a:lnTo>
                  <a:pt x="108" y="1584"/>
                </a:lnTo>
                <a:lnTo>
                  <a:pt x="132" y="1656"/>
                </a:lnTo>
                <a:lnTo>
                  <a:pt x="204" y="1752"/>
                </a:lnTo>
                <a:lnTo>
                  <a:pt x="240" y="1800"/>
                </a:lnTo>
                <a:lnTo>
                  <a:pt x="276" y="1848"/>
                </a:lnTo>
                <a:lnTo>
                  <a:pt x="312" y="1872"/>
                </a:lnTo>
                <a:lnTo>
                  <a:pt x="360" y="1920"/>
                </a:lnTo>
                <a:lnTo>
                  <a:pt x="432" y="1944"/>
                </a:lnTo>
                <a:lnTo>
                  <a:pt x="504" y="1956"/>
                </a:lnTo>
                <a:lnTo>
                  <a:pt x="624" y="1992"/>
                </a:lnTo>
                <a:lnTo>
                  <a:pt x="696" y="2016"/>
                </a:lnTo>
                <a:lnTo>
                  <a:pt x="768" y="2016"/>
                </a:lnTo>
                <a:lnTo>
                  <a:pt x="864" y="2028"/>
                </a:lnTo>
                <a:lnTo>
                  <a:pt x="936" y="2028"/>
                </a:lnTo>
                <a:lnTo>
                  <a:pt x="1008" y="2028"/>
                </a:lnTo>
                <a:lnTo>
                  <a:pt x="1104" y="2040"/>
                </a:lnTo>
                <a:lnTo>
                  <a:pt x="1176" y="2040"/>
                </a:lnTo>
                <a:lnTo>
                  <a:pt x="1248" y="2040"/>
                </a:lnTo>
                <a:lnTo>
                  <a:pt x="1368" y="2064"/>
                </a:lnTo>
                <a:lnTo>
                  <a:pt x="1464" y="2076"/>
                </a:lnTo>
                <a:lnTo>
                  <a:pt x="1560" y="2088"/>
                </a:lnTo>
                <a:lnTo>
                  <a:pt x="1656" y="2112"/>
                </a:lnTo>
                <a:lnTo>
                  <a:pt x="1728" y="2136"/>
                </a:lnTo>
                <a:lnTo>
                  <a:pt x="1800" y="2148"/>
                </a:lnTo>
                <a:lnTo>
                  <a:pt x="1848" y="2160"/>
                </a:lnTo>
                <a:lnTo>
                  <a:pt x="1920" y="2172"/>
                </a:lnTo>
                <a:lnTo>
                  <a:pt x="1992" y="2172"/>
                </a:lnTo>
                <a:lnTo>
                  <a:pt x="2088" y="2184"/>
                </a:lnTo>
                <a:lnTo>
                  <a:pt x="2184" y="2184"/>
                </a:lnTo>
                <a:lnTo>
                  <a:pt x="2328" y="2184"/>
                </a:lnTo>
                <a:lnTo>
                  <a:pt x="2472" y="2172"/>
                </a:lnTo>
                <a:lnTo>
                  <a:pt x="2592" y="2160"/>
                </a:lnTo>
                <a:lnTo>
                  <a:pt x="2688" y="2148"/>
                </a:lnTo>
                <a:lnTo>
                  <a:pt x="2724" y="2136"/>
                </a:lnTo>
                <a:lnTo>
                  <a:pt x="2820" y="2112"/>
                </a:lnTo>
                <a:lnTo>
                  <a:pt x="2916" y="2040"/>
                </a:lnTo>
                <a:lnTo>
                  <a:pt x="2988" y="2016"/>
                </a:lnTo>
                <a:lnTo>
                  <a:pt x="3060" y="1944"/>
                </a:lnTo>
                <a:lnTo>
                  <a:pt x="3132" y="1848"/>
                </a:lnTo>
                <a:lnTo>
                  <a:pt x="3144" y="1728"/>
                </a:lnTo>
                <a:lnTo>
                  <a:pt x="3156" y="1656"/>
                </a:lnTo>
                <a:lnTo>
                  <a:pt x="3168" y="1560"/>
                </a:lnTo>
                <a:lnTo>
                  <a:pt x="3168" y="1464"/>
                </a:lnTo>
                <a:lnTo>
                  <a:pt x="3168" y="1392"/>
                </a:lnTo>
                <a:lnTo>
                  <a:pt x="3168" y="1272"/>
                </a:lnTo>
                <a:lnTo>
                  <a:pt x="3156" y="1176"/>
                </a:lnTo>
                <a:lnTo>
                  <a:pt x="3156" y="1080"/>
                </a:lnTo>
                <a:lnTo>
                  <a:pt x="3144" y="984"/>
                </a:lnTo>
                <a:lnTo>
                  <a:pt x="3120" y="864"/>
                </a:lnTo>
                <a:lnTo>
                  <a:pt x="3096" y="768"/>
                </a:lnTo>
                <a:lnTo>
                  <a:pt x="3072" y="696"/>
                </a:lnTo>
                <a:lnTo>
                  <a:pt x="3048" y="624"/>
                </a:lnTo>
                <a:lnTo>
                  <a:pt x="2976" y="528"/>
                </a:lnTo>
                <a:lnTo>
                  <a:pt x="2904" y="456"/>
                </a:lnTo>
                <a:lnTo>
                  <a:pt x="2832" y="384"/>
                </a:lnTo>
                <a:lnTo>
                  <a:pt x="2808" y="288"/>
                </a:lnTo>
                <a:lnTo>
                  <a:pt x="2760" y="240"/>
                </a:lnTo>
                <a:lnTo>
                  <a:pt x="2664" y="204"/>
                </a:lnTo>
                <a:lnTo>
                  <a:pt x="2628" y="168"/>
                </a:lnTo>
                <a:lnTo>
                  <a:pt x="2580" y="144"/>
                </a:lnTo>
                <a:lnTo>
                  <a:pt x="2484" y="108"/>
                </a:lnTo>
                <a:lnTo>
                  <a:pt x="2412" y="96"/>
                </a:lnTo>
                <a:lnTo>
                  <a:pt x="2292" y="60"/>
                </a:lnTo>
                <a:lnTo>
                  <a:pt x="2196" y="48"/>
                </a:lnTo>
                <a:lnTo>
                  <a:pt x="2148" y="36"/>
                </a:lnTo>
                <a:lnTo>
                  <a:pt x="2112" y="24"/>
                </a:lnTo>
                <a:lnTo>
                  <a:pt x="2076" y="24"/>
                </a:lnTo>
                <a:lnTo>
                  <a:pt x="2040" y="12"/>
                </a:lnTo>
                <a:lnTo>
                  <a:pt x="2004" y="12"/>
                </a:lnTo>
                <a:lnTo>
                  <a:pt x="1968" y="12"/>
                </a:lnTo>
                <a:lnTo>
                  <a:pt x="1932" y="12"/>
                </a:lnTo>
                <a:lnTo>
                  <a:pt x="1896" y="12"/>
                </a:lnTo>
                <a:lnTo>
                  <a:pt x="1860" y="36"/>
                </a:lnTo>
                <a:lnTo>
                  <a:pt x="1788" y="48"/>
                </a:lnTo>
                <a:lnTo>
                  <a:pt x="1716" y="72"/>
                </a:lnTo>
                <a:lnTo>
                  <a:pt x="1680" y="84"/>
                </a:lnTo>
                <a:lnTo>
                  <a:pt x="1644" y="108"/>
                </a:lnTo>
                <a:lnTo>
                  <a:pt x="1608" y="120"/>
                </a:lnTo>
                <a:lnTo>
                  <a:pt x="1560" y="132"/>
                </a:lnTo>
                <a:lnTo>
                  <a:pt x="1524" y="132"/>
                </a:lnTo>
                <a:lnTo>
                  <a:pt x="1488" y="132"/>
                </a:lnTo>
                <a:lnTo>
                  <a:pt x="1452" y="120"/>
                </a:lnTo>
                <a:lnTo>
                  <a:pt x="1356" y="108"/>
                </a:lnTo>
                <a:lnTo>
                  <a:pt x="1308" y="108"/>
                </a:lnTo>
                <a:lnTo>
                  <a:pt x="1188" y="96"/>
                </a:lnTo>
                <a:lnTo>
                  <a:pt x="1092" y="96"/>
                </a:lnTo>
                <a:lnTo>
                  <a:pt x="1020" y="96"/>
                </a:lnTo>
                <a:lnTo>
                  <a:pt x="924" y="96"/>
                </a:lnTo>
                <a:lnTo>
                  <a:pt x="852" y="96"/>
                </a:lnTo>
                <a:lnTo>
                  <a:pt x="780" y="96"/>
                </a:lnTo>
                <a:lnTo>
                  <a:pt x="744" y="96"/>
                </a:lnTo>
                <a:lnTo>
                  <a:pt x="708" y="96"/>
                </a:lnTo>
                <a:lnTo>
                  <a:pt x="612" y="108"/>
                </a:lnTo>
                <a:lnTo>
                  <a:pt x="516" y="108"/>
                </a:lnTo>
                <a:lnTo>
                  <a:pt x="444" y="120"/>
                </a:lnTo>
                <a:lnTo>
                  <a:pt x="372" y="132"/>
                </a:lnTo>
                <a:lnTo>
                  <a:pt x="276" y="144"/>
                </a:lnTo>
                <a:lnTo>
                  <a:pt x="240" y="144"/>
                </a:lnTo>
                <a:lnTo>
                  <a:pt x="204" y="180"/>
                </a:lnTo>
                <a:lnTo>
                  <a:pt x="204" y="228"/>
                </a:lnTo>
                <a:lnTo>
                  <a:pt x="204" y="300"/>
                </a:lnTo>
                <a:lnTo>
                  <a:pt x="204" y="336"/>
                </a:lnTo>
                <a:lnTo>
                  <a:pt x="228" y="372"/>
                </a:lnTo>
                <a:lnTo>
                  <a:pt x="264" y="396"/>
                </a:lnTo>
                <a:lnTo>
                  <a:pt x="360" y="420"/>
                </a:lnTo>
                <a:lnTo>
                  <a:pt x="456" y="444"/>
                </a:lnTo>
                <a:lnTo>
                  <a:pt x="552" y="456"/>
                </a:lnTo>
                <a:lnTo>
                  <a:pt x="648" y="468"/>
                </a:lnTo>
                <a:lnTo>
                  <a:pt x="744" y="480"/>
                </a:lnTo>
                <a:lnTo>
                  <a:pt x="864" y="492"/>
                </a:lnTo>
                <a:lnTo>
                  <a:pt x="912" y="492"/>
                </a:lnTo>
                <a:lnTo>
                  <a:pt x="1008" y="468"/>
                </a:lnTo>
                <a:lnTo>
                  <a:pt x="1044" y="432"/>
                </a:lnTo>
                <a:lnTo>
                  <a:pt x="1044" y="396"/>
                </a:lnTo>
                <a:lnTo>
                  <a:pt x="1008" y="372"/>
                </a:lnTo>
                <a:lnTo>
                  <a:pt x="972" y="372"/>
                </a:lnTo>
                <a:lnTo>
                  <a:pt x="936" y="360"/>
                </a:lnTo>
                <a:lnTo>
                  <a:pt x="888" y="348"/>
                </a:lnTo>
                <a:lnTo>
                  <a:pt x="792" y="336"/>
                </a:lnTo>
                <a:lnTo>
                  <a:pt x="696" y="336"/>
                </a:lnTo>
                <a:lnTo>
                  <a:pt x="600" y="324"/>
                </a:lnTo>
                <a:lnTo>
                  <a:pt x="504" y="324"/>
                </a:lnTo>
                <a:lnTo>
                  <a:pt x="432" y="324"/>
                </a:lnTo>
                <a:lnTo>
                  <a:pt x="360" y="324"/>
                </a:lnTo>
                <a:lnTo>
                  <a:pt x="288" y="324"/>
                </a:lnTo>
                <a:lnTo>
                  <a:pt x="252" y="324"/>
                </a:lnTo>
                <a:lnTo>
                  <a:pt x="204" y="348"/>
                </a:lnTo>
                <a:lnTo>
                  <a:pt x="168" y="396"/>
                </a:lnTo>
                <a:lnTo>
                  <a:pt x="144" y="432"/>
                </a:lnTo>
                <a:lnTo>
                  <a:pt x="144" y="480"/>
                </a:lnTo>
                <a:lnTo>
                  <a:pt x="144" y="516"/>
                </a:lnTo>
                <a:lnTo>
                  <a:pt x="144" y="564"/>
                </a:lnTo>
                <a:lnTo>
                  <a:pt x="168" y="660"/>
                </a:lnTo>
                <a:lnTo>
                  <a:pt x="180" y="732"/>
                </a:lnTo>
                <a:lnTo>
                  <a:pt x="228" y="768"/>
                </a:lnTo>
                <a:lnTo>
                  <a:pt x="324" y="792"/>
                </a:lnTo>
                <a:lnTo>
                  <a:pt x="420" y="816"/>
                </a:lnTo>
                <a:lnTo>
                  <a:pt x="540" y="828"/>
                </a:lnTo>
                <a:lnTo>
                  <a:pt x="636" y="840"/>
                </a:lnTo>
                <a:lnTo>
                  <a:pt x="732" y="840"/>
                </a:lnTo>
                <a:lnTo>
                  <a:pt x="804" y="840"/>
                </a:lnTo>
                <a:lnTo>
                  <a:pt x="876" y="840"/>
                </a:lnTo>
                <a:lnTo>
                  <a:pt x="912" y="840"/>
                </a:lnTo>
                <a:lnTo>
                  <a:pt x="960" y="828"/>
                </a:lnTo>
                <a:lnTo>
                  <a:pt x="1032" y="816"/>
                </a:lnTo>
                <a:lnTo>
                  <a:pt x="1104" y="804"/>
                </a:lnTo>
                <a:lnTo>
                  <a:pt x="1140" y="780"/>
                </a:lnTo>
                <a:lnTo>
                  <a:pt x="1140" y="744"/>
                </a:lnTo>
                <a:lnTo>
                  <a:pt x="1092" y="720"/>
                </a:lnTo>
                <a:lnTo>
                  <a:pt x="1056" y="696"/>
                </a:lnTo>
                <a:lnTo>
                  <a:pt x="960" y="684"/>
                </a:lnTo>
                <a:lnTo>
                  <a:pt x="864" y="672"/>
                </a:lnTo>
                <a:lnTo>
                  <a:pt x="792" y="660"/>
                </a:lnTo>
                <a:lnTo>
                  <a:pt x="720" y="660"/>
                </a:lnTo>
                <a:lnTo>
                  <a:pt x="600" y="660"/>
                </a:lnTo>
                <a:lnTo>
                  <a:pt x="504" y="660"/>
                </a:lnTo>
                <a:lnTo>
                  <a:pt x="432" y="660"/>
                </a:lnTo>
                <a:lnTo>
                  <a:pt x="360" y="660"/>
                </a:lnTo>
                <a:lnTo>
                  <a:pt x="312" y="660"/>
                </a:lnTo>
                <a:lnTo>
                  <a:pt x="276" y="672"/>
                </a:lnTo>
                <a:lnTo>
                  <a:pt x="240" y="696"/>
                </a:lnTo>
                <a:lnTo>
                  <a:pt x="204" y="732"/>
                </a:lnTo>
                <a:lnTo>
                  <a:pt x="180" y="768"/>
                </a:lnTo>
                <a:lnTo>
                  <a:pt x="168" y="804"/>
                </a:lnTo>
                <a:lnTo>
                  <a:pt x="168" y="852"/>
                </a:lnTo>
                <a:lnTo>
                  <a:pt x="192" y="888"/>
                </a:lnTo>
                <a:lnTo>
                  <a:pt x="204" y="924"/>
                </a:lnTo>
                <a:lnTo>
                  <a:pt x="228" y="972"/>
                </a:lnTo>
                <a:lnTo>
                  <a:pt x="324" y="1068"/>
                </a:lnTo>
                <a:lnTo>
                  <a:pt x="420" y="1164"/>
                </a:lnTo>
                <a:lnTo>
                  <a:pt x="492" y="1188"/>
                </a:lnTo>
                <a:lnTo>
                  <a:pt x="564" y="1212"/>
                </a:lnTo>
                <a:lnTo>
                  <a:pt x="636" y="1224"/>
                </a:lnTo>
                <a:lnTo>
                  <a:pt x="684" y="1224"/>
                </a:lnTo>
                <a:lnTo>
                  <a:pt x="732" y="1224"/>
                </a:lnTo>
                <a:lnTo>
                  <a:pt x="768" y="1224"/>
                </a:lnTo>
                <a:lnTo>
                  <a:pt x="864" y="1212"/>
                </a:lnTo>
                <a:lnTo>
                  <a:pt x="912" y="1200"/>
                </a:lnTo>
                <a:lnTo>
                  <a:pt x="948" y="1176"/>
                </a:lnTo>
                <a:lnTo>
                  <a:pt x="996" y="1152"/>
                </a:lnTo>
                <a:lnTo>
                  <a:pt x="1008" y="1116"/>
                </a:lnTo>
                <a:lnTo>
                  <a:pt x="1032" y="1080"/>
                </a:lnTo>
                <a:lnTo>
                  <a:pt x="1020" y="1044"/>
                </a:lnTo>
                <a:lnTo>
                  <a:pt x="972" y="1020"/>
                </a:lnTo>
                <a:lnTo>
                  <a:pt x="876" y="1020"/>
                </a:lnTo>
                <a:lnTo>
                  <a:pt x="780" y="1020"/>
                </a:lnTo>
                <a:lnTo>
                  <a:pt x="684" y="1020"/>
                </a:lnTo>
                <a:lnTo>
                  <a:pt x="564" y="1020"/>
                </a:lnTo>
                <a:lnTo>
                  <a:pt x="444" y="1020"/>
                </a:lnTo>
                <a:lnTo>
                  <a:pt x="348" y="1020"/>
                </a:lnTo>
                <a:lnTo>
                  <a:pt x="276" y="1020"/>
                </a:lnTo>
                <a:lnTo>
                  <a:pt x="204" y="1020"/>
                </a:lnTo>
                <a:lnTo>
                  <a:pt x="156" y="1032"/>
                </a:lnTo>
                <a:lnTo>
                  <a:pt x="120" y="1056"/>
                </a:lnTo>
                <a:lnTo>
                  <a:pt x="84" y="1092"/>
                </a:lnTo>
                <a:lnTo>
                  <a:pt x="72" y="1128"/>
                </a:lnTo>
                <a:lnTo>
                  <a:pt x="60" y="1176"/>
                </a:lnTo>
                <a:lnTo>
                  <a:pt x="60" y="1212"/>
                </a:lnTo>
                <a:lnTo>
                  <a:pt x="84" y="1248"/>
                </a:lnTo>
                <a:lnTo>
                  <a:pt x="120" y="1284"/>
                </a:lnTo>
                <a:lnTo>
                  <a:pt x="156" y="1332"/>
                </a:lnTo>
                <a:lnTo>
                  <a:pt x="228" y="1356"/>
                </a:lnTo>
                <a:lnTo>
                  <a:pt x="324" y="1380"/>
                </a:lnTo>
                <a:lnTo>
                  <a:pt x="420" y="1452"/>
                </a:lnTo>
                <a:lnTo>
                  <a:pt x="468" y="1488"/>
                </a:lnTo>
                <a:lnTo>
                  <a:pt x="540" y="1500"/>
                </a:lnTo>
                <a:lnTo>
                  <a:pt x="636" y="1500"/>
                </a:lnTo>
                <a:lnTo>
                  <a:pt x="708" y="1500"/>
                </a:lnTo>
                <a:lnTo>
                  <a:pt x="780" y="1500"/>
                </a:lnTo>
                <a:lnTo>
                  <a:pt x="852" y="1500"/>
                </a:lnTo>
                <a:lnTo>
                  <a:pt x="924" y="1500"/>
                </a:lnTo>
                <a:lnTo>
                  <a:pt x="972" y="1500"/>
                </a:lnTo>
                <a:lnTo>
                  <a:pt x="1008" y="1476"/>
                </a:lnTo>
                <a:lnTo>
                  <a:pt x="1032" y="1428"/>
                </a:lnTo>
                <a:lnTo>
                  <a:pt x="1020" y="1380"/>
                </a:lnTo>
                <a:lnTo>
                  <a:pt x="984" y="1368"/>
                </a:lnTo>
                <a:lnTo>
                  <a:pt x="936" y="1368"/>
                </a:lnTo>
                <a:lnTo>
                  <a:pt x="840" y="1368"/>
                </a:lnTo>
                <a:lnTo>
                  <a:pt x="768" y="1368"/>
                </a:lnTo>
                <a:lnTo>
                  <a:pt x="672" y="1368"/>
                </a:lnTo>
                <a:lnTo>
                  <a:pt x="576" y="1368"/>
                </a:lnTo>
                <a:lnTo>
                  <a:pt x="504" y="1368"/>
                </a:lnTo>
                <a:lnTo>
                  <a:pt x="456" y="1380"/>
                </a:lnTo>
                <a:lnTo>
                  <a:pt x="408" y="1392"/>
                </a:lnTo>
                <a:lnTo>
                  <a:pt x="372" y="1404"/>
                </a:lnTo>
                <a:lnTo>
                  <a:pt x="336" y="1428"/>
                </a:lnTo>
                <a:lnTo>
                  <a:pt x="312" y="1464"/>
                </a:lnTo>
                <a:lnTo>
                  <a:pt x="276" y="1500"/>
                </a:lnTo>
                <a:lnTo>
                  <a:pt x="264" y="1536"/>
                </a:lnTo>
                <a:lnTo>
                  <a:pt x="252" y="1572"/>
                </a:lnTo>
                <a:lnTo>
                  <a:pt x="252" y="1608"/>
                </a:lnTo>
                <a:lnTo>
                  <a:pt x="252" y="1644"/>
                </a:lnTo>
                <a:lnTo>
                  <a:pt x="252" y="1680"/>
                </a:lnTo>
                <a:lnTo>
                  <a:pt x="264" y="1716"/>
                </a:lnTo>
                <a:lnTo>
                  <a:pt x="300" y="1740"/>
                </a:lnTo>
                <a:lnTo>
                  <a:pt x="396" y="1776"/>
                </a:lnTo>
                <a:lnTo>
                  <a:pt x="468" y="1788"/>
                </a:lnTo>
                <a:lnTo>
                  <a:pt x="540" y="1800"/>
                </a:lnTo>
                <a:lnTo>
                  <a:pt x="636" y="1812"/>
                </a:lnTo>
                <a:lnTo>
                  <a:pt x="684" y="1812"/>
                </a:lnTo>
                <a:lnTo>
                  <a:pt x="720" y="1812"/>
                </a:lnTo>
                <a:lnTo>
                  <a:pt x="768" y="1800"/>
                </a:lnTo>
                <a:lnTo>
                  <a:pt x="804" y="1788"/>
                </a:lnTo>
                <a:lnTo>
                  <a:pt x="888" y="1788"/>
                </a:lnTo>
                <a:lnTo>
                  <a:pt x="924" y="1788"/>
                </a:lnTo>
                <a:lnTo>
                  <a:pt x="1008" y="1776"/>
                </a:lnTo>
                <a:lnTo>
                  <a:pt x="1044" y="1776"/>
                </a:lnTo>
                <a:lnTo>
                  <a:pt x="1092" y="1740"/>
                </a:lnTo>
                <a:lnTo>
                  <a:pt x="1128" y="1692"/>
                </a:lnTo>
                <a:lnTo>
                  <a:pt x="1152" y="1656"/>
                </a:lnTo>
                <a:lnTo>
                  <a:pt x="1164" y="1584"/>
                </a:lnTo>
                <a:lnTo>
                  <a:pt x="1188" y="1536"/>
                </a:lnTo>
                <a:lnTo>
                  <a:pt x="1188" y="1464"/>
                </a:lnTo>
                <a:lnTo>
                  <a:pt x="1188" y="1368"/>
                </a:lnTo>
                <a:lnTo>
                  <a:pt x="1188" y="1320"/>
                </a:lnTo>
                <a:lnTo>
                  <a:pt x="1188" y="1224"/>
                </a:lnTo>
                <a:lnTo>
                  <a:pt x="1188" y="1128"/>
                </a:lnTo>
                <a:lnTo>
                  <a:pt x="1188" y="1056"/>
                </a:lnTo>
                <a:lnTo>
                  <a:pt x="1188" y="984"/>
                </a:lnTo>
                <a:lnTo>
                  <a:pt x="1200" y="1032"/>
                </a:lnTo>
                <a:lnTo>
                  <a:pt x="1212" y="1068"/>
                </a:lnTo>
                <a:lnTo>
                  <a:pt x="1248" y="1092"/>
                </a:lnTo>
                <a:lnTo>
                  <a:pt x="1296" y="1140"/>
                </a:lnTo>
                <a:lnTo>
                  <a:pt x="1332" y="1176"/>
                </a:lnTo>
                <a:lnTo>
                  <a:pt x="1368" y="1200"/>
                </a:lnTo>
                <a:lnTo>
                  <a:pt x="1452" y="1296"/>
                </a:lnTo>
                <a:lnTo>
                  <a:pt x="1524" y="1320"/>
                </a:lnTo>
                <a:lnTo>
                  <a:pt x="1536" y="1224"/>
                </a:lnTo>
                <a:lnTo>
                  <a:pt x="1548" y="1104"/>
                </a:lnTo>
                <a:lnTo>
                  <a:pt x="1548" y="984"/>
                </a:lnTo>
                <a:lnTo>
                  <a:pt x="1548" y="888"/>
                </a:lnTo>
                <a:lnTo>
                  <a:pt x="1548" y="816"/>
                </a:lnTo>
                <a:lnTo>
                  <a:pt x="1524" y="780"/>
                </a:lnTo>
                <a:lnTo>
                  <a:pt x="1512" y="744"/>
                </a:lnTo>
                <a:lnTo>
                  <a:pt x="1548" y="792"/>
                </a:lnTo>
                <a:lnTo>
                  <a:pt x="1584" y="816"/>
                </a:lnTo>
                <a:lnTo>
                  <a:pt x="1632" y="852"/>
                </a:lnTo>
                <a:lnTo>
                  <a:pt x="1680" y="900"/>
                </a:lnTo>
                <a:lnTo>
                  <a:pt x="1752" y="924"/>
                </a:lnTo>
                <a:lnTo>
                  <a:pt x="1788" y="960"/>
                </a:lnTo>
                <a:lnTo>
                  <a:pt x="1836" y="984"/>
                </a:lnTo>
                <a:lnTo>
                  <a:pt x="1872" y="1008"/>
                </a:lnTo>
                <a:lnTo>
                  <a:pt x="1908" y="1032"/>
                </a:lnTo>
                <a:lnTo>
                  <a:pt x="1896" y="912"/>
                </a:lnTo>
                <a:lnTo>
                  <a:pt x="1884" y="816"/>
                </a:lnTo>
                <a:lnTo>
                  <a:pt x="1884" y="720"/>
                </a:lnTo>
                <a:lnTo>
                  <a:pt x="1860" y="684"/>
                </a:lnTo>
                <a:lnTo>
                  <a:pt x="1860" y="648"/>
                </a:lnTo>
                <a:lnTo>
                  <a:pt x="1848" y="552"/>
                </a:lnTo>
                <a:lnTo>
                  <a:pt x="1836" y="516"/>
                </a:lnTo>
                <a:lnTo>
                  <a:pt x="1872" y="540"/>
                </a:lnTo>
                <a:lnTo>
                  <a:pt x="1908" y="564"/>
                </a:lnTo>
                <a:lnTo>
                  <a:pt x="2004" y="612"/>
                </a:lnTo>
                <a:lnTo>
                  <a:pt x="2076" y="636"/>
                </a:lnTo>
                <a:lnTo>
                  <a:pt x="2172" y="660"/>
                </a:lnTo>
                <a:lnTo>
                  <a:pt x="2208" y="684"/>
                </a:lnTo>
                <a:lnTo>
                  <a:pt x="2244" y="708"/>
                </a:lnTo>
                <a:lnTo>
                  <a:pt x="2280" y="732"/>
                </a:lnTo>
                <a:lnTo>
                  <a:pt x="2316" y="756"/>
                </a:lnTo>
                <a:lnTo>
                  <a:pt x="2328" y="720"/>
                </a:lnTo>
                <a:lnTo>
                  <a:pt x="2304" y="624"/>
                </a:lnTo>
                <a:lnTo>
                  <a:pt x="2292" y="552"/>
                </a:lnTo>
                <a:lnTo>
                  <a:pt x="2268" y="504"/>
                </a:lnTo>
                <a:lnTo>
                  <a:pt x="2256" y="468"/>
                </a:lnTo>
                <a:lnTo>
                  <a:pt x="2232" y="420"/>
                </a:lnTo>
                <a:lnTo>
                  <a:pt x="2220" y="372"/>
                </a:lnTo>
                <a:lnTo>
                  <a:pt x="2196" y="324"/>
                </a:lnTo>
                <a:lnTo>
                  <a:pt x="2184" y="288"/>
                </a:lnTo>
                <a:lnTo>
                  <a:pt x="2220" y="300"/>
                </a:lnTo>
                <a:lnTo>
                  <a:pt x="2292" y="312"/>
                </a:lnTo>
                <a:lnTo>
                  <a:pt x="2364" y="324"/>
                </a:lnTo>
                <a:lnTo>
                  <a:pt x="2460" y="360"/>
                </a:lnTo>
                <a:lnTo>
                  <a:pt x="2508" y="372"/>
                </a:lnTo>
                <a:lnTo>
                  <a:pt x="2604" y="408"/>
                </a:lnTo>
                <a:lnTo>
                  <a:pt x="2676" y="432"/>
                </a:lnTo>
                <a:lnTo>
                  <a:pt x="2712" y="456"/>
                </a:lnTo>
                <a:lnTo>
                  <a:pt x="2748" y="576"/>
                </a:lnTo>
                <a:lnTo>
                  <a:pt x="2772" y="648"/>
                </a:lnTo>
                <a:lnTo>
                  <a:pt x="2784" y="720"/>
                </a:lnTo>
                <a:lnTo>
                  <a:pt x="2796" y="816"/>
                </a:lnTo>
                <a:lnTo>
                  <a:pt x="2796" y="912"/>
                </a:lnTo>
                <a:lnTo>
                  <a:pt x="2796" y="1008"/>
                </a:lnTo>
                <a:lnTo>
                  <a:pt x="2772" y="1056"/>
                </a:lnTo>
                <a:lnTo>
                  <a:pt x="2760" y="1128"/>
                </a:lnTo>
                <a:lnTo>
                  <a:pt x="2748" y="1200"/>
                </a:lnTo>
                <a:lnTo>
                  <a:pt x="2712" y="1248"/>
                </a:lnTo>
                <a:lnTo>
                  <a:pt x="2688" y="1296"/>
                </a:lnTo>
                <a:lnTo>
                  <a:pt x="2652" y="1176"/>
                </a:lnTo>
                <a:lnTo>
                  <a:pt x="2580" y="1104"/>
                </a:lnTo>
                <a:lnTo>
                  <a:pt x="2568" y="1032"/>
                </a:lnTo>
                <a:lnTo>
                  <a:pt x="2520" y="984"/>
                </a:lnTo>
                <a:lnTo>
                  <a:pt x="2484" y="960"/>
                </a:lnTo>
                <a:lnTo>
                  <a:pt x="2448" y="960"/>
                </a:lnTo>
                <a:lnTo>
                  <a:pt x="2400" y="960"/>
                </a:lnTo>
                <a:lnTo>
                  <a:pt x="2352" y="984"/>
                </a:lnTo>
                <a:lnTo>
                  <a:pt x="2256" y="1032"/>
                </a:lnTo>
                <a:lnTo>
                  <a:pt x="2244" y="1104"/>
                </a:lnTo>
                <a:lnTo>
                  <a:pt x="2208" y="1200"/>
                </a:lnTo>
                <a:lnTo>
                  <a:pt x="2196" y="1272"/>
                </a:lnTo>
                <a:lnTo>
                  <a:pt x="2172" y="1308"/>
                </a:lnTo>
                <a:lnTo>
                  <a:pt x="2172" y="1344"/>
                </a:lnTo>
                <a:lnTo>
                  <a:pt x="2220" y="1392"/>
                </a:lnTo>
                <a:lnTo>
                  <a:pt x="2256" y="1416"/>
                </a:lnTo>
                <a:lnTo>
                  <a:pt x="2292" y="1392"/>
                </a:lnTo>
                <a:lnTo>
                  <a:pt x="2328" y="1296"/>
                </a:lnTo>
                <a:lnTo>
                  <a:pt x="2328" y="1248"/>
                </a:lnTo>
                <a:lnTo>
                  <a:pt x="2304" y="1200"/>
                </a:lnTo>
                <a:lnTo>
                  <a:pt x="2268" y="1176"/>
                </a:lnTo>
                <a:lnTo>
                  <a:pt x="2232" y="1164"/>
                </a:lnTo>
                <a:lnTo>
                  <a:pt x="2160" y="1164"/>
                </a:lnTo>
                <a:lnTo>
                  <a:pt x="2088" y="1188"/>
                </a:lnTo>
                <a:lnTo>
                  <a:pt x="2040" y="1200"/>
                </a:lnTo>
                <a:lnTo>
                  <a:pt x="1968" y="1212"/>
                </a:lnTo>
                <a:lnTo>
                  <a:pt x="1872" y="1260"/>
                </a:lnTo>
                <a:lnTo>
                  <a:pt x="1836" y="1296"/>
                </a:lnTo>
                <a:lnTo>
                  <a:pt x="1824" y="1332"/>
                </a:lnTo>
                <a:lnTo>
                  <a:pt x="1812" y="1368"/>
                </a:lnTo>
                <a:lnTo>
                  <a:pt x="1800" y="1416"/>
                </a:lnTo>
                <a:lnTo>
                  <a:pt x="1800" y="1452"/>
                </a:lnTo>
                <a:lnTo>
                  <a:pt x="1800" y="1488"/>
                </a:lnTo>
                <a:lnTo>
                  <a:pt x="1836" y="1512"/>
                </a:lnTo>
                <a:lnTo>
                  <a:pt x="1872" y="1524"/>
                </a:lnTo>
                <a:lnTo>
                  <a:pt x="1908" y="1536"/>
                </a:lnTo>
                <a:lnTo>
                  <a:pt x="1944" y="1500"/>
                </a:lnTo>
                <a:lnTo>
                  <a:pt x="1968" y="1464"/>
                </a:lnTo>
                <a:lnTo>
                  <a:pt x="1968" y="1428"/>
                </a:lnTo>
                <a:lnTo>
                  <a:pt x="1944" y="1392"/>
                </a:lnTo>
                <a:lnTo>
                  <a:pt x="1908" y="1356"/>
                </a:lnTo>
                <a:lnTo>
                  <a:pt x="1860" y="1344"/>
                </a:lnTo>
                <a:lnTo>
                  <a:pt x="1812" y="1356"/>
                </a:lnTo>
                <a:lnTo>
                  <a:pt x="1764" y="1380"/>
                </a:lnTo>
                <a:lnTo>
                  <a:pt x="1728" y="1404"/>
                </a:lnTo>
                <a:lnTo>
                  <a:pt x="1692" y="1428"/>
                </a:lnTo>
                <a:lnTo>
                  <a:pt x="1656" y="1464"/>
                </a:lnTo>
                <a:lnTo>
                  <a:pt x="1620" y="1512"/>
                </a:lnTo>
                <a:lnTo>
                  <a:pt x="1596" y="1548"/>
                </a:lnTo>
                <a:lnTo>
                  <a:pt x="1572" y="1596"/>
                </a:lnTo>
                <a:lnTo>
                  <a:pt x="1560" y="1680"/>
                </a:lnTo>
                <a:lnTo>
                  <a:pt x="1560" y="1716"/>
                </a:lnTo>
                <a:lnTo>
                  <a:pt x="1596" y="1752"/>
                </a:lnTo>
                <a:lnTo>
                  <a:pt x="1644" y="1764"/>
                </a:lnTo>
                <a:lnTo>
                  <a:pt x="1680" y="1764"/>
                </a:lnTo>
                <a:lnTo>
                  <a:pt x="1716" y="1740"/>
                </a:lnTo>
                <a:lnTo>
                  <a:pt x="1740" y="1704"/>
                </a:lnTo>
                <a:lnTo>
                  <a:pt x="1740" y="1656"/>
                </a:lnTo>
                <a:lnTo>
                  <a:pt x="1716" y="1620"/>
                </a:lnTo>
                <a:lnTo>
                  <a:pt x="1680" y="1596"/>
                </a:lnTo>
                <a:lnTo>
                  <a:pt x="1644" y="1584"/>
                </a:lnTo>
                <a:lnTo>
                  <a:pt x="1548" y="1584"/>
                </a:lnTo>
                <a:lnTo>
                  <a:pt x="1476" y="1572"/>
                </a:lnTo>
                <a:lnTo>
                  <a:pt x="1428" y="1572"/>
                </a:lnTo>
                <a:lnTo>
                  <a:pt x="1356" y="1572"/>
                </a:lnTo>
                <a:lnTo>
                  <a:pt x="1308" y="1584"/>
                </a:lnTo>
                <a:lnTo>
                  <a:pt x="1236" y="1596"/>
                </a:lnTo>
                <a:lnTo>
                  <a:pt x="1200" y="1608"/>
                </a:lnTo>
                <a:lnTo>
                  <a:pt x="1164" y="1632"/>
                </a:lnTo>
                <a:lnTo>
                  <a:pt x="1140" y="1668"/>
                </a:lnTo>
                <a:lnTo>
                  <a:pt x="1140" y="1704"/>
                </a:lnTo>
                <a:lnTo>
                  <a:pt x="1128" y="1740"/>
                </a:lnTo>
                <a:lnTo>
                  <a:pt x="1128" y="1776"/>
                </a:lnTo>
                <a:lnTo>
                  <a:pt x="1128" y="1812"/>
                </a:lnTo>
                <a:lnTo>
                  <a:pt x="1164" y="1860"/>
                </a:lnTo>
                <a:lnTo>
                  <a:pt x="1200" y="1884"/>
                </a:lnTo>
                <a:lnTo>
                  <a:pt x="1248" y="1920"/>
                </a:lnTo>
                <a:lnTo>
                  <a:pt x="1296" y="1944"/>
                </a:lnTo>
                <a:lnTo>
                  <a:pt x="1344" y="1956"/>
                </a:lnTo>
                <a:lnTo>
                  <a:pt x="1380" y="1956"/>
                </a:lnTo>
                <a:lnTo>
                  <a:pt x="1428" y="1956"/>
                </a:lnTo>
                <a:lnTo>
                  <a:pt x="1512" y="1956"/>
                </a:lnTo>
                <a:lnTo>
                  <a:pt x="1584" y="1956"/>
                </a:lnTo>
                <a:lnTo>
                  <a:pt x="1656" y="1956"/>
                </a:lnTo>
                <a:lnTo>
                  <a:pt x="1728" y="1956"/>
                </a:lnTo>
                <a:lnTo>
                  <a:pt x="1800" y="1956"/>
                </a:lnTo>
                <a:lnTo>
                  <a:pt x="1836" y="1956"/>
                </a:lnTo>
                <a:lnTo>
                  <a:pt x="1872" y="1932"/>
                </a:lnTo>
                <a:lnTo>
                  <a:pt x="1908" y="1908"/>
                </a:lnTo>
                <a:lnTo>
                  <a:pt x="1944" y="1872"/>
                </a:lnTo>
                <a:lnTo>
                  <a:pt x="1980" y="1848"/>
                </a:lnTo>
                <a:lnTo>
                  <a:pt x="2004" y="1812"/>
                </a:lnTo>
                <a:lnTo>
                  <a:pt x="2040" y="1788"/>
                </a:lnTo>
                <a:lnTo>
                  <a:pt x="2088" y="1764"/>
                </a:lnTo>
                <a:lnTo>
                  <a:pt x="2136" y="1728"/>
                </a:lnTo>
                <a:lnTo>
                  <a:pt x="2184" y="1704"/>
                </a:lnTo>
                <a:lnTo>
                  <a:pt x="2220" y="1704"/>
                </a:lnTo>
                <a:lnTo>
                  <a:pt x="2256" y="1716"/>
                </a:lnTo>
                <a:lnTo>
                  <a:pt x="2292" y="1752"/>
                </a:lnTo>
                <a:lnTo>
                  <a:pt x="2304" y="1788"/>
                </a:lnTo>
                <a:lnTo>
                  <a:pt x="2316" y="1824"/>
                </a:lnTo>
                <a:lnTo>
                  <a:pt x="2328" y="1860"/>
                </a:lnTo>
                <a:lnTo>
                  <a:pt x="2364" y="1884"/>
                </a:lnTo>
                <a:lnTo>
                  <a:pt x="2448" y="1920"/>
                </a:lnTo>
                <a:lnTo>
                  <a:pt x="2544" y="1944"/>
                </a:lnTo>
                <a:lnTo>
                  <a:pt x="2592" y="1956"/>
                </a:lnTo>
                <a:lnTo>
                  <a:pt x="2664" y="1956"/>
                </a:lnTo>
                <a:lnTo>
                  <a:pt x="2736" y="1956"/>
                </a:lnTo>
                <a:lnTo>
                  <a:pt x="2784" y="1944"/>
                </a:lnTo>
                <a:lnTo>
                  <a:pt x="2856" y="1932"/>
                </a:lnTo>
                <a:lnTo>
                  <a:pt x="2904" y="1884"/>
                </a:lnTo>
                <a:lnTo>
                  <a:pt x="2916" y="1812"/>
                </a:lnTo>
                <a:lnTo>
                  <a:pt x="2940" y="1764"/>
                </a:lnTo>
                <a:lnTo>
                  <a:pt x="2940" y="1668"/>
                </a:lnTo>
                <a:lnTo>
                  <a:pt x="2928" y="1632"/>
                </a:lnTo>
                <a:lnTo>
                  <a:pt x="2892" y="1608"/>
                </a:lnTo>
                <a:lnTo>
                  <a:pt x="2856" y="1584"/>
                </a:lnTo>
                <a:lnTo>
                  <a:pt x="2784" y="1584"/>
                </a:lnTo>
                <a:lnTo>
                  <a:pt x="2712" y="1584"/>
                </a:lnTo>
                <a:lnTo>
                  <a:pt x="2664" y="1584"/>
                </a:lnTo>
                <a:lnTo>
                  <a:pt x="2592" y="1584"/>
                </a:lnTo>
                <a:lnTo>
                  <a:pt x="2496" y="1584"/>
                </a:lnTo>
                <a:lnTo>
                  <a:pt x="2424" y="1596"/>
                </a:lnTo>
                <a:lnTo>
                  <a:pt x="2328" y="1608"/>
                </a:lnTo>
                <a:lnTo>
                  <a:pt x="2256" y="1620"/>
                </a:lnTo>
                <a:lnTo>
                  <a:pt x="2208" y="1644"/>
                </a:lnTo>
                <a:lnTo>
                  <a:pt x="2184" y="1680"/>
                </a:lnTo>
                <a:lnTo>
                  <a:pt x="2172" y="1716"/>
                </a:lnTo>
                <a:lnTo>
                  <a:pt x="2220" y="1752"/>
                </a:lnTo>
                <a:lnTo>
                  <a:pt x="2340" y="1776"/>
                </a:lnTo>
                <a:lnTo>
                  <a:pt x="2376" y="1788"/>
                </a:lnTo>
                <a:lnTo>
                  <a:pt x="2472" y="1764"/>
                </a:lnTo>
                <a:lnTo>
                  <a:pt x="2544" y="1740"/>
                </a:lnTo>
                <a:lnTo>
                  <a:pt x="2616" y="1716"/>
                </a:lnTo>
                <a:lnTo>
                  <a:pt x="2712" y="1620"/>
                </a:lnTo>
                <a:lnTo>
                  <a:pt x="2784" y="1548"/>
                </a:lnTo>
                <a:lnTo>
                  <a:pt x="2808" y="1476"/>
                </a:lnTo>
                <a:lnTo>
                  <a:pt x="2820" y="1404"/>
                </a:lnTo>
                <a:lnTo>
                  <a:pt x="2832" y="1332"/>
                </a:lnTo>
                <a:lnTo>
                  <a:pt x="2832" y="1260"/>
                </a:lnTo>
                <a:lnTo>
                  <a:pt x="2796" y="1224"/>
                </a:lnTo>
                <a:lnTo>
                  <a:pt x="2724" y="1212"/>
                </a:lnTo>
                <a:lnTo>
                  <a:pt x="2604" y="1200"/>
                </a:lnTo>
                <a:lnTo>
                  <a:pt x="2508" y="1188"/>
                </a:lnTo>
                <a:lnTo>
                  <a:pt x="2364" y="1188"/>
                </a:lnTo>
                <a:lnTo>
                  <a:pt x="2268" y="1188"/>
                </a:lnTo>
                <a:lnTo>
                  <a:pt x="2172" y="1188"/>
                </a:lnTo>
                <a:lnTo>
                  <a:pt x="2076" y="1212"/>
                </a:lnTo>
                <a:lnTo>
                  <a:pt x="1980" y="1224"/>
                </a:lnTo>
                <a:lnTo>
                  <a:pt x="1884" y="1236"/>
                </a:lnTo>
                <a:lnTo>
                  <a:pt x="1812" y="1248"/>
                </a:lnTo>
                <a:lnTo>
                  <a:pt x="1776" y="1272"/>
                </a:lnTo>
                <a:lnTo>
                  <a:pt x="1728" y="1320"/>
                </a:lnTo>
                <a:lnTo>
                  <a:pt x="1728" y="1368"/>
                </a:lnTo>
                <a:lnTo>
                  <a:pt x="1716" y="1404"/>
                </a:lnTo>
                <a:lnTo>
                  <a:pt x="1752" y="1440"/>
                </a:lnTo>
                <a:lnTo>
                  <a:pt x="1848" y="1464"/>
                </a:lnTo>
                <a:lnTo>
                  <a:pt x="1968" y="1476"/>
                </a:lnTo>
                <a:lnTo>
                  <a:pt x="2040" y="1476"/>
                </a:lnTo>
                <a:lnTo>
                  <a:pt x="2088" y="1464"/>
                </a:lnTo>
                <a:lnTo>
                  <a:pt x="2160" y="1452"/>
                </a:lnTo>
                <a:lnTo>
                  <a:pt x="2256" y="1428"/>
                </a:lnTo>
                <a:lnTo>
                  <a:pt x="2328" y="1404"/>
                </a:lnTo>
                <a:lnTo>
                  <a:pt x="2400" y="1392"/>
                </a:lnTo>
                <a:lnTo>
                  <a:pt x="2424" y="1320"/>
                </a:lnTo>
                <a:lnTo>
                  <a:pt x="2448" y="1248"/>
                </a:lnTo>
                <a:lnTo>
                  <a:pt x="2484" y="1200"/>
                </a:lnTo>
                <a:lnTo>
                  <a:pt x="2484" y="1152"/>
                </a:lnTo>
                <a:lnTo>
                  <a:pt x="2460" y="1116"/>
                </a:lnTo>
                <a:lnTo>
                  <a:pt x="2388" y="1104"/>
                </a:lnTo>
                <a:lnTo>
                  <a:pt x="2316" y="1092"/>
                </a:lnTo>
                <a:lnTo>
                  <a:pt x="2220" y="1080"/>
                </a:lnTo>
                <a:lnTo>
                  <a:pt x="2076" y="1056"/>
                </a:lnTo>
                <a:lnTo>
                  <a:pt x="1908" y="1044"/>
                </a:lnTo>
                <a:lnTo>
                  <a:pt x="1764" y="1032"/>
                </a:lnTo>
                <a:lnTo>
                  <a:pt x="1644" y="1032"/>
                </a:lnTo>
                <a:lnTo>
                  <a:pt x="1572" y="1032"/>
                </a:lnTo>
                <a:lnTo>
                  <a:pt x="1500" y="1044"/>
                </a:lnTo>
                <a:lnTo>
                  <a:pt x="1428" y="1056"/>
                </a:lnTo>
                <a:lnTo>
                  <a:pt x="1356" y="1080"/>
                </a:lnTo>
                <a:lnTo>
                  <a:pt x="1284" y="1104"/>
                </a:lnTo>
                <a:lnTo>
                  <a:pt x="1248" y="1140"/>
                </a:lnTo>
                <a:lnTo>
                  <a:pt x="1236" y="1176"/>
                </a:lnTo>
                <a:lnTo>
                  <a:pt x="1356" y="1224"/>
                </a:lnTo>
                <a:lnTo>
                  <a:pt x="1452" y="1248"/>
                </a:lnTo>
                <a:lnTo>
                  <a:pt x="1524" y="1260"/>
                </a:lnTo>
                <a:lnTo>
                  <a:pt x="1620" y="1224"/>
                </a:lnTo>
                <a:lnTo>
                  <a:pt x="1668" y="1188"/>
                </a:lnTo>
                <a:lnTo>
                  <a:pt x="1716" y="1140"/>
                </a:lnTo>
                <a:lnTo>
                  <a:pt x="1740" y="1068"/>
                </a:lnTo>
                <a:lnTo>
                  <a:pt x="1812" y="996"/>
                </a:lnTo>
                <a:lnTo>
                  <a:pt x="1836" y="924"/>
                </a:lnTo>
                <a:lnTo>
                  <a:pt x="1860" y="852"/>
                </a:lnTo>
                <a:lnTo>
                  <a:pt x="1872" y="780"/>
                </a:lnTo>
                <a:lnTo>
                  <a:pt x="1872" y="732"/>
                </a:lnTo>
                <a:lnTo>
                  <a:pt x="1848" y="696"/>
                </a:lnTo>
                <a:lnTo>
                  <a:pt x="1776" y="672"/>
                </a:lnTo>
                <a:lnTo>
                  <a:pt x="1704" y="660"/>
                </a:lnTo>
                <a:lnTo>
                  <a:pt x="1608" y="648"/>
                </a:lnTo>
                <a:lnTo>
                  <a:pt x="1536" y="636"/>
                </a:lnTo>
                <a:lnTo>
                  <a:pt x="1440" y="636"/>
                </a:lnTo>
                <a:lnTo>
                  <a:pt x="1344" y="624"/>
                </a:lnTo>
                <a:lnTo>
                  <a:pt x="1248" y="624"/>
                </a:lnTo>
                <a:lnTo>
                  <a:pt x="1176" y="624"/>
                </a:lnTo>
                <a:lnTo>
                  <a:pt x="1104" y="624"/>
                </a:lnTo>
                <a:lnTo>
                  <a:pt x="1032" y="636"/>
                </a:lnTo>
                <a:lnTo>
                  <a:pt x="960" y="648"/>
                </a:lnTo>
                <a:lnTo>
                  <a:pt x="924" y="684"/>
                </a:lnTo>
                <a:lnTo>
                  <a:pt x="912" y="720"/>
                </a:lnTo>
                <a:lnTo>
                  <a:pt x="900" y="768"/>
                </a:lnTo>
                <a:lnTo>
                  <a:pt x="936" y="816"/>
                </a:lnTo>
                <a:lnTo>
                  <a:pt x="1008" y="840"/>
                </a:lnTo>
                <a:lnTo>
                  <a:pt x="1128" y="852"/>
                </a:lnTo>
                <a:lnTo>
                  <a:pt x="1224" y="864"/>
                </a:lnTo>
                <a:lnTo>
                  <a:pt x="1296" y="876"/>
                </a:lnTo>
                <a:lnTo>
                  <a:pt x="1392" y="876"/>
                </a:lnTo>
                <a:lnTo>
                  <a:pt x="1488" y="864"/>
                </a:lnTo>
                <a:lnTo>
                  <a:pt x="1584" y="852"/>
                </a:lnTo>
                <a:lnTo>
                  <a:pt x="1680" y="840"/>
                </a:lnTo>
                <a:lnTo>
                  <a:pt x="1776" y="816"/>
                </a:lnTo>
                <a:lnTo>
                  <a:pt x="1872" y="792"/>
                </a:lnTo>
                <a:lnTo>
                  <a:pt x="1896" y="720"/>
                </a:lnTo>
                <a:lnTo>
                  <a:pt x="1920" y="672"/>
                </a:lnTo>
                <a:lnTo>
                  <a:pt x="1920" y="624"/>
                </a:lnTo>
                <a:lnTo>
                  <a:pt x="1908" y="552"/>
                </a:lnTo>
                <a:lnTo>
                  <a:pt x="1884" y="480"/>
                </a:lnTo>
                <a:lnTo>
                  <a:pt x="1812" y="408"/>
                </a:lnTo>
                <a:lnTo>
                  <a:pt x="1716" y="384"/>
                </a:lnTo>
                <a:lnTo>
                  <a:pt x="1680" y="360"/>
                </a:lnTo>
                <a:lnTo>
                  <a:pt x="1608" y="348"/>
                </a:lnTo>
                <a:lnTo>
                  <a:pt x="1488" y="336"/>
                </a:lnTo>
                <a:lnTo>
                  <a:pt x="1368" y="324"/>
                </a:lnTo>
                <a:lnTo>
                  <a:pt x="1224" y="300"/>
                </a:lnTo>
                <a:lnTo>
                  <a:pt x="1128" y="300"/>
                </a:lnTo>
                <a:lnTo>
                  <a:pt x="1056" y="300"/>
                </a:lnTo>
                <a:lnTo>
                  <a:pt x="1008" y="300"/>
                </a:lnTo>
                <a:lnTo>
                  <a:pt x="960" y="324"/>
                </a:lnTo>
                <a:lnTo>
                  <a:pt x="888" y="336"/>
                </a:lnTo>
                <a:lnTo>
                  <a:pt x="852" y="372"/>
                </a:lnTo>
                <a:lnTo>
                  <a:pt x="852" y="408"/>
                </a:lnTo>
                <a:lnTo>
                  <a:pt x="840" y="456"/>
                </a:lnTo>
                <a:lnTo>
                  <a:pt x="888" y="504"/>
                </a:lnTo>
                <a:lnTo>
                  <a:pt x="960" y="516"/>
                </a:lnTo>
                <a:lnTo>
                  <a:pt x="1032" y="516"/>
                </a:lnTo>
                <a:lnTo>
                  <a:pt x="1080" y="516"/>
                </a:lnTo>
                <a:lnTo>
                  <a:pt x="1152" y="516"/>
                </a:lnTo>
                <a:lnTo>
                  <a:pt x="1188" y="516"/>
                </a:lnTo>
                <a:lnTo>
                  <a:pt x="1284" y="504"/>
                </a:lnTo>
                <a:lnTo>
                  <a:pt x="1332" y="492"/>
                </a:lnTo>
                <a:lnTo>
                  <a:pt x="1380" y="468"/>
                </a:lnTo>
                <a:lnTo>
                  <a:pt x="1416" y="444"/>
                </a:lnTo>
                <a:lnTo>
                  <a:pt x="1440" y="396"/>
                </a:lnTo>
                <a:lnTo>
                  <a:pt x="1464" y="360"/>
                </a:lnTo>
                <a:lnTo>
                  <a:pt x="1464" y="324"/>
                </a:lnTo>
                <a:lnTo>
                  <a:pt x="1464" y="288"/>
                </a:lnTo>
                <a:lnTo>
                  <a:pt x="1440" y="252"/>
                </a:lnTo>
                <a:lnTo>
                  <a:pt x="1404" y="216"/>
                </a:lnTo>
                <a:lnTo>
                  <a:pt x="1380" y="180"/>
                </a:lnTo>
                <a:lnTo>
                  <a:pt x="1344" y="156"/>
                </a:lnTo>
                <a:lnTo>
                  <a:pt x="1308" y="144"/>
                </a:lnTo>
                <a:lnTo>
                  <a:pt x="1272" y="120"/>
                </a:lnTo>
                <a:lnTo>
                  <a:pt x="1236" y="120"/>
                </a:lnTo>
                <a:lnTo>
                  <a:pt x="1200" y="108"/>
                </a:lnTo>
                <a:lnTo>
                  <a:pt x="1164" y="108"/>
                </a:lnTo>
                <a:lnTo>
                  <a:pt x="1128" y="96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Group 5"/>
          <p:cNvGrpSpPr/>
          <p:nvPr/>
        </p:nvGrpSpPr>
        <p:grpSpPr>
          <a:xfrm>
            <a:off x="1142640" y="3276720"/>
            <a:ext cx="4455000" cy="2628720"/>
            <a:chOff x="1142640" y="3276720"/>
            <a:chExt cx="4455000" cy="2628720"/>
          </a:xfrm>
        </p:grpSpPr>
        <p:sp>
          <p:nvSpPr>
            <p:cNvPr id="329" name="Rectangle 6"/>
            <p:cNvSpPr/>
            <p:nvPr/>
          </p:nvSpPr>
          <p:spPr>
            <a:xfrm>
              <a:off x="1142640" y="5029200"/>
              <a:ext cx="184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lpha Helix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Line 7"/>
            <p:cNvSpPr/>
            <p:nvPr/>
          </p:nvSpPr>
          <p:spPr>
            <a:xfrm flipV="1">
              <a:off x="3048120" y="4088880"/>
              <a:ext cx="946080" cy="1016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8"/>
            <p:cNvSpPr/>
            <p:nvPr/>
          </p:nvSpPr>
          <p:spPr>
            <a:xfrm>
              <a:off x="3962520" y="3276720"/>
              <a:ext cx="1635120" cy="262872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2628720"/>
                <a:gd name="textAreaBottom" fmla="*/ 2629080 h 2628720"/>
              </a:gdLst>
              <a:ahLst/>
              <a:rect l="textAreaLeft" t="textAreaTop" r="textAreaRight" b="textAreaBottom"/>
              <a:pathLst>
                <a:path w="1030" h="1656">
                  <a:moveTo>
                    <a:pt x="156" y="1656"/>
                  </a:moveTo>
                  <a:cubicBezTo>
                    <a:pt x="164" y="1564"/>
                    <a:pt x="158" y="1427"/>
                    <a:pt x="264" y="1380"/>
                  </a:cubicBezTo>
                  <a:cubicBezTo>
                    <a:pt x="287" y="1370"/>
                    <a:pt x="312" y="1364"/>
                    <a:pt x="336" y="1356"/>
                  </a:cubicBezTo>
                  <a:cubicBezTo>
                    <a:pt x="372" y="1344"/>
                    <a:pt x="409" y="1312"/>
                    <a:pt x="444" y="1296"/>
                  </a:cubicBezTo>
                  <a:cubicBezTo>
                    <a:pt x="467" y="1286"/>
                    <a:pt x="492" y="1280"/>
                    <a:pt x="516" y="1272"/>
                  </a:cubicBezTo>
                  <a:cubicBezTo>
                    <a:pt x="528" y="1268"/>
                    <a:pt x="552" y="1260"/>
                    <a:pt x="552" y="1260"/>
                  </a:cubicBezTo>
                  <a:cubicBezTo>
                    <a:pt x="636" y="1264"/>
                    <a:pt x="720" y="1265"/>
                    <a:pt x="804" y="1272"/>
                  </a:cubicBezTo>
                  <a:cubicBezTo>
                    <a:pt x="842" y="1275"/>
                    <a:pt x="876" y="1308"/>
                    <a:pt x="912" y="1320"/>
                  </a:cubicBezTo>
                  <a:cubicBezTo>
                    <a:pt x="924" y="1337"/>
                    <a:pt x="968" y="1379"/>
                    <a:pt x="900" y="1380"/>
                  </a:cubicBezTo>
                  <a:cubicBezTo>
                    <a:pt x="704" y="1384"/>
                    <a:pt x="508" y="1372"/>
                    <a:pt x="312" y="1368"/>
                  </a:cubicBezTo>
                  <a:cubicBezTo>
                    <a:pt x="227" y="1351"/>
                    <a:pt x="271" y="1362"/>
                    <a:pt x="180" y="1332"/>
                  </a:cubicBezTo>
                  <a:cubicBezTo>
                    <a:pt x="168" y="1328"/>
                    <a:pt x="144" y="1320"/>
                    <a:pt x="144" y="1320"/>
                  </a:cubicBezTo>
                  <a:cubicBezTo>
                    <a:pt x="112" y="1272"/>
                    <a:pt x="80" y="1224"/>
                    <a:pt x="48" y="1176"/>
                  </a:cubicBezTo>
                  <a:cubicBezTo>
                    <a:pt x="27" y="1144"/>
                    <a:pt x="24" y="1104"/>
                    <a:pt x="12" y="1068"/>
                  </a:cubicBezTo>
                  <a:cubicBezTo>
                    <a:pt x="8" y="1056"/>
                    <a:pt x="0" y="1032"/>
                    <a:pt x="0" y="1032"/>
                  </a:cubicBezTo>
                  <a:cubicBezTo>
                    <a:pt x="20" y="972"/>
                    <a:pt x="37" y="975"/>
                    <a:pt x="96" y="960"/>
                  </a:cubicBezTo>
                  <a:cubicBezTo>
                    <a:pt x="328" y="964"/>
                    <a:pt x="560" y="961"/>
                    <a:pt x="792" y="972"/>
                  </a:cubicBezTo>
                  <a:cubicBezTo>
                    <a:pt x="830" y="974"/>
                    <a:pt x="900" y="1008"/>
                    <a:pt x="900" y="1008"/>
                  </a:cubicBezTo>
                  <a:cubicBezTo>
                    <a:pt x="904" y="1020"/>
                    <a:pt x="916" y="1032"/>
                    <a:pt x="912" y="1044"/>
                  </a:cubicBezTo>
                  <a:cubicBezTo>
                    <a:pt x="881" y="1136"/>
                    <a:pt x="834" y="1121"/>
                    <a:pt x="756" y="1140"/>
                  </a:cubicBezTo>
                  <a:cubicBezTo>
                    <a:pt x="639" y="1132"/>
                    <a:pt x="588" y="1133"/>
                    <a:pt x="492" y="1104"/>
                  </a:cubicBezTo>
                  <a:cubicBezTo>
                    <a:pt x="492" y="1104"/>
                    <a:pt x="402" y="1074"/>
                    <a:pt x="384" y="1068"/>
                  </a:cubicBezTo>
                  <a:cubicBezTo>
                    <a:pt x="372" y="1064"/>
                    <a:pt x="348" y="1056"/>
                    <a:pt x="348" y="1056"/>
                  </a:cubicBezTo>
                  <a:cubicBezTo>
                    <a:pt x="307" y="1025"/>
                    <a:pt x="270" y="1012"/>
                    <a:pt x="228" y="984"/>
                  </a:cubicBezTo>
                  <a:cubicBezTo>
                    <a:pt x="220" y="972"/>
                    <a:pt x="214" y="958"/>
                    <a:pt x="204" y="948"/>
                  </a:cubicBezTo>
                  <a:cubicBezTo>
                    <a:pt x="194" y="938"/>
                    <a:pt x="177" y="935"/>
                    <a:pt x="168" y="924"/>
                  </a:cubicBezTo>
                  <a:cubicBezTo>
                    <a:pt x="122" y="871"/>
                    <a:pt x="112" y="832"/>
                    <a:pt x="96" y="768"/>
                  </a:cubicBezTo>
                  <a:cubicBezTo>
                    <a:pt x="96" y="767"/>
                    <a:pt x="108" y="676"/>
                    <a:pt x="120" y="660"/>
                  </a:cubicBezTo>
                  <a:cubicBezTo>
                    <a:pt x="167" y="601"/>
                    <a:pt x="322" y="592"/>
                    <a:pt x="372" y="588"/>
                  </a:cubicBezTo>
                  <a:cubicBezTo>
                    <a:pt x="528" y="592"/>
                    <a:pt x="684" y="590"/>
                    <a:pt x="840" y="600"/>
                  </a:cubicBezTo>
                  <a:cubicBezTo>
                    <a:pt x="873" y="602"/>
                    <a:pt x="936" y="624"/>
                    <a:pt x="936" y="624"/>
                  </a:cubicBezTo>
                  <a:cubicBezTo>
                    <a:pt x="958" y="639"/>
                    <a:pt x="1030" y="683"/>
                    <a:pt x="984" y="720"/>
                  </a:cubicBezTo>
                  <a:cubicBezTo>
                    <a:pt x="971" y="730"/>
                    <a:pt x="952" y="728"/>
                    <a:pt x="936" y="732"/>
                  </a:cubicBezTo>
                  <a:cubicBezTo>
                    <a:pt x="676" y="728"/>
                    <a:pt x="416" y="728"/>
                    <a:pt x="156" y="720"/>
                  </a:cubicBezTo>
                  <a:cubicBezTo>
                    <a:pt x="100" y="718"/>
                    <a:pt x="73" y="604"/>
                    <a:pt x="60" y="564"/>
                  </a:cubicBezTo>
                  <a:cubicBezTo>
                    <a:pt x="52" y="540"/>
                    <a:pt x="36" y="492"/>
                    <a:pt x="36" y="492"/>
                  </a:cubicBezTo>
                  <a:cubicBezTo>
                    <a:pt x="40" y="448"/>
                    <a:pt x="42" y="404"/>
                    <a:pt x="48" y="360"/>
                  </a:cubicBezTo>
                  <a:cubicBezTo>
                    <a:pt x="50" y="347"/>
                    <a:pt x="51" y="333"/>
                    <a:pt x="60" y="324"/>
                  </a:cubicBezTo>
                  <a:cubicBezTo>
                    <a:pt x="80" y="304"/>
                    <a:pt x="108" y="292"/>
                    <a:pt x="132" y="276"/>
                  </a:cubicBezTo>
                  <a:cubicBezTo>
                    <a:pt x="153" y="262"/>
                    <a:pt x="204" y="252"/>
                    <a:pt x="204" y="252"/>
                  </a:cubicBezTo>
                  <a:cubicBezTo>
                    <a:pt x="375" y="260"/>
                    <a:pt x="538" y="274"/>
                    <a:pt x="708" y="288"/>
                  </a:cubicBezTo>
                  <a:cubicBezTo>
                    <a:pt x="732" y="296"/>
                    <a:pt x="755" y="307"/>
                    <a:pt x="780" y="312"/>
                  </a:cubicBezTo>
                  <a:cubicBezTo>
                    <a:pt x="800" y="316"/>
                    <a:pt x="820" y="319"/>
                    <a:pt x="840" y="324"/>
                  </a:cubicBezTo>
                  <a:cubicBezTo>
                    <a:pt x="864" y="331"/>
                    <a:pt x="912" y="348"/>
                    <a:pt x="912" y="348"/>
                  </a:cubicBezTo>
                  <a:cubicBezTo>
                    <a:pt x="864" y="492"/>
                    <a:pt x="475" y="386"/>
                    <a:pt x="408" y="384"/>
                  </a:cubicBezTo>
                  <a:cubicBezTo>
                    <a:pt x="313" y="365"/>
                    <a:pt x="247" y="341"/>
                    <a:pt x="168" y="288"/>
                  </a:cubicBezTo>
                  <a:cubicBezTo>
                    <a:pt x="156" y="280"/>
                    <a:pt x="144" y="272"/>
                    <a:pt x="132" y="264"/>
                  </a:cubicBezTo>
                  <a:cubicBezTo>
                    <a:pt x="120" y="256"/>
                    <a:pt x="96" y="240"/>
                    <a:pt x="96" y="240"/>
                  </a:cubicBezTo>
                  <a:cubicBezTo>
                    <a:pt x="80" y="192"/>
                    <a:pt x="61" y="151"/>
                    <a:pt x="96" y="96"/>
                  </a:cubicBezTo>
                  <a:cubicBezTo>
                    <a:pt x="110" y="75"/>
                    <a:pt x="144" y="80"/>
                    <a:pt x="168" y="72"/>
                  </a:cubicBezTo>
                  <a:cubicBezTo>
                    <a:pt x="235" y="50"/>
                    <a:pt x="301" y="44"/>
                    <a:pt x="372" y="36"/>
                  </a:cubicBezTo>
                  <a:cubicBezTo>
                    <a:pt x="465" y="5"/>
                    <a:pt x="574" y="10"/>
                    <a:pt x="672" y="0"/>
                  </a:cubicBezTo>
                  <a:cubicBezTo>
                    <a:pt x="784" y="4"/>
                    <a:pt x="1008" y="12"/>
                    <a:pt x="1008" y="12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2" name="Group 9"/>
          <p:cNvGrpSpPr/>
          <p:nvPr/>
        </p:nvGrpSpPr>
        <p:grpSpPr>
          <a:xfrm>
            <a:off x="686160" y="3581280"/>
            <a:ext cx="6883200" cy="2817000"/>
            <a:chOff x="686160" y="3581280"/>
            <a:chExt cx="6883200" cy="2817000"/>
          </a:xfrm>
        </p:grpSpPr>
        <p:sp>
          <p:nvSpPr>
            <p:cNvPr id="333" name="Rectangle 10"/>
            <p:cNvSpPr/>
            <p:nvPr/>
          </p:nvSpPr>
          <p:spPr>
            <a:xfrm>
              <a:off x="686160" y="5943600"/>
              <a:ext cx="292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eta Pleated Shee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1"/>
            <p:cNvSpPr/>
            <p:nvPr/>
          </p:nvSpPr>
          <p:spPr>
            <a:xfrm>
              <a:off x="5638680" y="3581280"/>
              <a:ext cx="1930680" cy="2019600"/>
            </a:xfrm>
            <a:custGeom>
              <a:avLst/>
              <a:gdLst>
                <a:gd name="textAreaLeft" fmla="*/ 0 w 1930680"/>
                <a:gd name="textAreaRight" fmla="*/ 1931040 w 1930680"/>
                <a:gd name="textAreaTop" fmla="*/ 0 h 2019600"/>
                <a:gd name="textAreaBottom" fmla="*/ 2019600 h 2019600"/>
              </a:gdLst>
              <a:ahLst/>
              <a:rect l="textAreaLeft" t="textAreaTop" r="textAreaRight" b="textAreaBottom"/>
              <a:pathLst>
                <a:path w="1216" h="1272">
                  <a:moveTo>
                    <a:pt x="28" y="1272"/>
                  </a:moveTo>
                  <a:cubicBezTo>
                    <a:pt x="23" y="1185"/>
                    <a:pt x="0" y="817"/>
                    <a:pt x="4" y="768"/>
                  </a:cubicBezTo>
                  <a:cubicBezTo>
                    <a:pt x="5" y="755"/>
                    <a:pt x="29" y="774"/>
                    <a:pt x="40" y="780"/>
                  </a:cubicBezTo>
                  <a:cubicBezTo>
                    <a:pt x="65" y="794"/>
                    <a:pt x="88" y="812"/>
                    <a:pt x="112" y="828"/>
                  </a:cubicBezTo>
                  <a:cubicBezTo>
                    <a:pt x="124" y="836"/>
                    <a:pt x="148" y="852"/>
                    <a:pt x="148" y="852"/>
                  </a:cubicBezTo>
                  <a:cubicBezTo>
                    <a:pt x="191" y="916"/>
                    <a:pt x="162" y="878"/>
                    <a:pt x="244" y="960"/>
                  </a:cubicBezTo>
                  <a:cubicBezTo>
                    <a:pt x="264" y="980"/>
                    <a:pt x="292" y="992"/>
                    <a:pt x="316" y="1008"/>
                  </a:cubicBezTo>
                  <a:cubicBezTo>
                    <a:pt x="328" y="1016"/>
                    <a:pt x="352" y="1032"/>
                    <a:pt x="352" y="1032"/>
                  </a:cubicBezTo>
                  <a:cubicBezTo>
                    <a:pt x="548" y="967"/>
                    <a:pt x="333" y="1051"/>
                    <a:pt x="400" y="528"/>
                  </a:cubicBezTo>
                  <a:cubicBezTo>
                    <a:pt x="402" y="510"/>
                    <a:pt x="433" y="543"/>
                    <a:pt x="448" y="552"/>
                  </a:cubicBezTo>
                  <a:cubicBezTo>
                    <a:pt x="473" y="567"/>
                    <a:pt x="496" y="584"/>
                    <a:pt x="520" y="600"/>
                  </a:cubicBezTo>
                  <a:cubicBezTo>
                    <a:pt x="578" y="639"/>
                    <a:pt x="633" y="686"/>
                    <a:pt x="700" y="708"/>
                  </a:cubicBezTo>
                  <a:cubicBezTo>
                    <a:pt x="712" y="720"/>
                    <a:pt x="719" y="744"/>
                    <a:pt x="736" y="744"/>
                  </a:cubicBezTo>
                  <a:cubicBezTo>
                    <a:pt x="750" y="744"/>
                    <a:pt x="758" y="722"/>
                    <a:pt x="760" y="708"/>
                  </a:cubicBezTo>
                  <a:cubicBezTo>
                    <a:pt x="770" y="649"/>
                    <a:pt x="768" y="588"/>
                    <a:pt x="772" y="528"/>
                  </a:cubicBezTo>
                  <a:cubicBezTo>
                    <a:pt x="759" y="437"/>
                    <a:pt x="740" y="341"/>
                    <a:pt x="688" y="264"/>
                  </a:cubicBezTo>
                  <a:cubicBezTo>
                    <a:pt x="720" y="260"/>
                    <a:pt x="752" y="246"/>
                    <a:pt x="784" y="252"/>
                  </a:cubicBezTo>
                  <a:cubicBezTo>
                    <a:pt x="801" y="255"/>
                    <a:pt x="807" y="278"/>
                    <a:pt x="820" y="288"/>
                  </a:cubicBezTo>
                  <a:cubicBezTo>
                    <a:pt x="854" y="315"/>
                    <a:pt x="892" y="336"/>
                    <a:pt x="928" y="360"/>
                  </a:cubicBezTo>
                  <a:cubicBezTo>
                    <a:pt x="939" y="367"/>
                    <a:pt x="953" y="366"/>
                    <a:pt x="964" y="372"/>
                  </a:cubicBezTo>
                  <a:cubicBezTo>
                    <a:pt x="1044" y="412"/>
                    <a:pt x="1128" y="434"/>
                    <a:pt x="1216" y="456"/>
                  </a:cubicBezTo>
                  <a:cubicBezTo>
                    <a:pt x="1189" y="349"/>
                    <a:pt x="1142" y="259"/>
                    <a:pt x="1108" y="156"/>
                  </a:cubicBezTo>
                  <a:cubicBezTo>
                    <a:pt x="1096" y="120"/>
                    <a:pt x="1084" y="84"/>
                    <a:pt x="1072" y="48"/>
                  </a:cubicBezTo>
                  <a:cubicBezTo>
                    <a:pt x="1067" y="32"/>
                    <a:pt x="1060" y="0"/>
                    <a:pt x="1060" y="0"/>
                  </a:cubicBezTo>
                </a:path>
              </a:pathLst>
            </a:custGeom>
            <a:noFill/>
            <a:ln w="507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Line 12"/>
            <p:cNvSpPr/>
            <p:nvPr/>
          </p:nvSpPr>
          <p:spPr>
            <a:xfrm flipV="1">
              <a:off x="3657600" y="5105160"/>
              <a:ext cx="1905120" cy="99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6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Quaternary Structur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mposed of 2 or more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“subunits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269e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9e0a"/>
                </a:solidFill>
                <a:latin typeface="Comic Sans MS"/>
              </a:rPr>
              <a:t>Globular in sha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Form in Aqueous environ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: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enzymes (hemoglobi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39" name="Group 4"/>
          <p:cNvGrpSpPr/>
          <p:nvPr/>
        </p:nvGrpSpPr>
        <p:grpSpPr>
          <a:xfrm>
            <a:off x="4952880" y="4495680"/>
            <a:ext cx="2135880" cy="1371600"/>
            <a:chOff x="4952880" y="4495680"/>
            <a:chExt cx="2135880" cy="1371600"/>
          </a:xfrm>
        </p:grpSpPr>
        <p:sp>
          <p:nvSpPr>
            <p:cNvPr id="340" name="Rectangle 5"/>
            <p:cNvSpPr/>
            <p:nvPr/>
          </p:nvSpPr>
          <p:spPr>
            <a:xfrm>
              <a:off x="5637960" y="4952880"/>
              <a:ext cx="1450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subunit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Line 6"/>
            <p:cNvSpPr/>
            <p:nvPr/>
          </p:nvSpPr>
          <p:spPr>
            <a:xfrm flipV="1">
              <a:off x="4952880" y="5435280"/>
              <a:ext cx="787320" cy="432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Line 7"/>
            <p:cNvSpPr/>
            <p:nvPr/>
          </p:nvSpPr>
          <p:spPr>
            <a:xfrm>
              <a:off x="4952880" y="4495680"/>
              <a:ext cx="7113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3" name="Group 8"/>
          <p:cNvGrpSpPr/>
          <p:nvPr/>
        </p:nvGrpSpPr>
        <p:grpSpPr>
          <a:xfrm>
            <a:off x="1981080" y="4114800"/>
            <a:ext cx="2971440" cy="2437920"/>
            <a:chOff x="1981080" y="4114800"/>
            <a:chExt cx="2971440" cy="2437920"/>
          </a:xfrm>
        </p:grpSpPr>
        <p:grpSp>
          <p:nvGrpSpPr>
            <p:cNvPr id="344" name="Group 9"/>
            <p:cNvGrpSpPr/>
            <p:nvPr/>
          </p:nvGrpSpPr>
          <p:grpSpPr>
            <a:xfrm>
              <a:off x="1981080" y="5308920"/>
              <a:ext cx="1511640" cy="1243800"/>
              <a:chOff x="1981080" y="5308920"/>
              <a:chExt cx="1511640" cy="1243800"/>
            </a:xfrm>
          </p:grpSpPr>
          <p:sp>
            <p:nvSpPr>
              <p:cNvPr id="345" name="Freeform 10"/>
              <p:cNvSpPr/>
              <p:nvPr/>
            </p:nvSpPr>
            <p:spPr>
              <a:xfrm>
                <a:off x="1981080" y="5308920"/>
                <a:ext cx="1511640" cy="124380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" name="Freeform 11"/>
              <p:cNvSpPr/>
              <p:nvPr/>
            </p:nvSpPr>
            <p:spPr>
              <a:xfrm>
                <a:off x="2004840" y="535860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7" name="Freeform 12"/>
              <p:cNvSpPr/>
              <p:nvPr/>
            </p:nvSpPr>
            <p:spPr>
              <a:xfrm>
                <a:off x="2554200" y="5457960"/>
                <a:ext cx="677520" cy="70884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8" name="Group 13"/>
            <p:cNvGrpSpPr/>
            <p:nvPr/>
          </p:nvGrpSpPr>
          <p:grpSpPr>
            <a:xfrm>
              <a:off x="3440880" y="4114800"/>
              <a:ext cx="1511640" cy="1243800"/>
              <a:chOff x="3440880" y="4114800"/>
              <a:chExt cx="1511640" cy="1243800"/>
            </a:xfrm>
          </p:grpSpPr>
          <p:sp>
            <p:nvSpPr>
              <p:cNvPr id="349" name="Freeform 14"/>
              <p:cNvSpPr/>
              <p:nvPr/>
            </p:nvSpPr>
            <p:spPr>
              <a:xfrm>
                <a:off x="3440880" y="4114800"/>
                <a:ext cx="1511640" cy="124380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0" name="Freeform 15"/>
              <p:cNvSpPr/>
              <p:nvPr/>
            </p:nvSpPr>
            <p:spPr>
              <a:xfrm>
                <a:off x="3464640" y="416448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" name="Freeform 16"/>
              <p:cNvSpPr/>
              <p:nvPr/>
            </p:nvSpPr>
            <p:spPr>
              <a:xfrm>
                <a:off x="4014000" y="4263840"/>
                <a:ext cx="677520" cy="70884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2085120" y="4164480"/>
              <a:ext cx="1512000" cy="1243800"/>
              <a:chOff x="2085120" y="4164480"/>
              <a:chExt cx="1512000" cy="1243800"/>
            </a:xfrm>
          </p:grpSpPr>
          <p:sp>
            <p:nvSpPr>
              <p:cNvPr id="353" name="Freeform 18"/>
              <p:cNvSpPr/>
              <p:nvPr/>
            </p:nvSpPr>
            <p:spPr>
              <a:xfrm>
                <a:off x="2085120" y="4164480"/>
                <a:ext cx="1512000" cy="1243800"/>
              </a:xfrm>
              <a:custGeom>
                <a:avLst/>
                <a:gdLst>
                  <a:gd name="textAreaLeft" fmla="*/ 0 w 1512000"/>
                  <a:gd name="textAreaRight" fmla="*/ 1512360 w 151200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" name="Freeform 19"/>
              <p:cNvSpPr/>
              <p:nvPr/>
            </p:nvSpPr>
            <p:spPr>
              <a:xfrm>
                <a:off x="2108880" y="421416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" name="Freeform 20"/>
              <p:cNvSpPr/>
              <p:nvPr/>
            </p:nvSpPr>
            <p:spPr>
              <a:xfrm>
                <a:off x="2658600" y="4313520"/>
                <a:ext cx="677880" cy="708840"/>
              </a:xfrm>
              <a:custGeom>
                <a:avLst/>
                <a:gdLst>
                  <a:gd name="textAreaLeft" fmla="*/ 0 w 677880"/>
                  <a:gd name="textAreaRight" fmla="*/ 678240 w 67788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6" name="Group 21"/>
            <p:cNvGrpSpPr/>
            <p:nvPr/>
          </p:nvGrpSpPr>
          <p:grpSpPr>
            <a:xfrm>
              <a:off x="3440880" y="5259240"/>
              <a:ext cx="1511640" cy="1243800"/>
              <a:chOff x="3440880" y="5259240"/>
              <a:chExt cx="1511640" cy="1243800"/>
            </a:xfrm>
          </p:grpSpPr>
          <p:sp>
            <p:nvSpPr>
              <p:cNvPr id="357" name="Freeform 22"/>
              <p:cNvSpPr/>
              <p:nvPr/>
            </p:nvSpPr>
            <p:spPr>
              <a:xfrm>
                <a:off x="3440880" y="5259240"/>
                <a:ext cx="1511640" cy="124380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" name="Freeform 23"/>
              <p:cNvSpPr/>
              <p:nvPr/>
            </p:nvSpPr>
            <p:spPr>
              <a:xfrm>
                <a:off x="3464640" y="530892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" name="Freeform 24"/>
              <p:cNvSpPr/>
              <p:nvPr/>
            </p:nvSpPr>
            <p:spPr>
              <a:xfrm>
                <a:off x="4014000" y="5408280"/>
                <a:ext cx="677520" cy="70884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60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2666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Comic Sans MS"/>
              </a:rPr>
              <a:t>Nucleic Acids</a:t>
            </a:r>
            <a:endParaRPr b="0" lang="en-US" sz="8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Nucleic ac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wo typ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. Deoxyribonucleic acid (DNA-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double helix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b. Ribonucleic acid (RNA-single      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strand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Nucleic acid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composed of long chains of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nucleotid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nked by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dehydration synthes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Nucleic ac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Nucleotides include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phosphate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cc99"/>
                </a:solidFill>
                <a:latin typeface="Comic Sans MS"/>
              </a:rPr>
              <a:t>pentose sugar (5-carbon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nitrogenous bas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adenine (A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hymine (T) DNA onl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uracil (U) RNA onl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ytosine (C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guanine (G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Nucleotid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558720" y="1433520"/>
            <a:ext cx="2235240" cy="2732040"/>
            <a:chOff x="558720" y="1433520"/>
            <a:chExt cx="2235240" cy="2732040"/>
          </a:xfrm>
        </p:grpSpPr>
        <p:sp>
          <p:nvSpPr>
            <p:cNvPr id="372" name="Oval 5"/>
            <p:cNvSpPr/>
            <p:nvPr/>
          </p:nvSpPr>
          <p:spPr>
            <a:xfrm>
              <a:off x="558720" y="231156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Rectangle 6"/>
            <p:cNvSpPr/>
            <p:nvPr/>
          </p:nvSpPr>
          <p:spPr>
            <a:xfrm>
              <a:off x="746280" y="2486160"/>
              <a:ext cx="146016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Rectangle 7"/>
            <p:cNvSpPr/>
            <p:nvPr/>
          </p:nvSpPr>
          <p:spPr>
            <a:xfrm>
              <a:off x="595800" y="1433520"/>
              <a:ext cx="17373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Line 8"/>
            <p:cNvSpPr/>
            <p:nvPr/>
          </p:nvSpPr>
          <p:spPr>
            <a:xfrm flipV="1">
              <a:off x="1600200" y="33274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Line 9"/>
            <p:cNvSpPr/>
            <p:nvPr/>
          </p:nvSpPr>
          <p:spPr>
            <a:xfrm flipV="1">
              <a:off x="1600200" y="28702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Line 10"/>
            <p:cNvSpPr/>
            <p:nvPr/>
          </p:nvSpPr>
          <p:spPr>
            <a:xfrm>
              <a:off x="2158920" y="327672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78" name="Group 11"/>
          <p:cNvGrpSpPr/>
          <p:nvPr/>
        </p:nvGrpSpPr>
        <p:grpSpPr>
          <a:xfrm>
            <a:off x="4984200" y="1535400"/>
            <a:ext cx="4156200" cy="4071240"/>
            <a:chOff x="4984200" y="1535400"/>
            <a:chExt cx="4156200" cy="4071240"/>
          </a:xfrm>
        </p:grpSpPr>
        <p:sp>
          <p:nvSpPr>
            <p:cNvPr id="379" name="AutoShape 12"/>
            <p:cNvSpPr/>
            <p:nvPr/>
          </p:nvSpPr>
          <p:spPr>
            <a:xfrm rot="1800000">
              <a:off x="5358960" y="200664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Rectangle 13"/>
            <p:cNvSpPr/>
            <p:nvPr/>
          </p:nvSpPr>
          <p:spPr>
            <a:xfrm>
              <a:off x="6386760" y="4359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Line 14"/>
            <p:cNvSpPr/>
            <p:nvPr/>
          </p:nvSpPr>
          <p:spPr>
            <a:xfrm flipV="1">
              <a:off x="5562720" y="434304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Rectangle 15"/>
            <p:cNvSpPr/>
            <p:nvPr/>
          </p:nvSpPr>
          <p:spPr>
            <a:xfrm>
              <a:off x="6386400" y="4786200"/>
              <a:ext cx="2754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3" name="Group 16"/>
          <p:cNvGrpSpPr/>
          <p:nvPr/>
        </p:nvGrpSpPr>
        <p:grpSpPr>
          <a:xfrm>
            <a:off x="900000" y="2797200"/>
            <a:ext cx="5148720" cy="4020840"/>
            <a:chOff x="900000" y="2797200"/>
            <a:chExt cx="5148720" cy="4020840"/>
          </a:xfrm>
        </p:grpSpPr>
        <p:sp>
          <p:nvSpPr>
            <p:cNvPr id="384" name="Rectangle 17"/>
            <p:cNvSpPr/>
            <p:nvPr/>
          </p:nvSpPr>
          <p:spPr>
            <a:xfrm>
              <a:off x="2806200" y="2987640"/>
              <a:ext cx="8917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Line 18"/>
            <p:cNvSpPr/>
            <p:nvPr/>
          </p:nvSpPr>
          <p:spPr>
            <a:xfrm>
              <a:off x="2971800" y="3454560"/>
              <a:ext cx="15228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Rectangle 19"/>
            <p:cNvSpPr/>
            <p:nvPr/>
          </p:nvSpPr>
          <p:spPr>
            <a:xfrm>
              <a:off x="4100400" y="382572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Rectangle 20"/>
            <p:cNvSpPr/>
            <p:nvPr/>
          </p:nvSpPr>
          <p:spPr>
            <a:xfrm>
              <a:off x="5496840" y="502920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Rectangle 21"/>
            <p:cNvSpPr/>
            <p:nvPr/>
          </p:nvSpPr>
          <p:spPr>
            <a:xfrm>
              <a:off x="2677320" y="5105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Rectangle 22"/>
            <p:cNvSpPr/>
            <p:nvPr/>
          </p:nvSpPr>
          <p:spPr>
            <a:xfrm>
              <a:off x="3196440" y="6302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Rectangle 23"/>
            <p:cNvSpPr/>
            <p:nvPr/>
          </p:nvSpPr>
          <p:spPr>
            <a:xfrm>
              <a:off x="4796640" y="6302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Rectangle 24"/>
            <p:cNvSpPr/>
            <p:nvPr/>
          </p:nvSpPr>
          <p:spPr>
            <a:xfrm>
              <a:off x="2957400" y="27972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Rectangle 25"/>
            <p:cNvSpPr/>
            <p:nvPr/>
          </p:nvSpPr>
          <p:spPr>
            <a:xfrm>
              <a:off x="900000" y="5624640"/>
              <a:ext cx="21794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AutoShape 26"/>
            <p:cNvSpPr/>
            <p:nvPr/>
          </p:nvSpPr>
          <p:spPr>
            <a:xfrm>
              <a:off x="3200400" y="4267080"/>
              <a:ext cx="228600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4" name="Місце для нижнього колонтитула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Carbon (C)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Carb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4 electr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outer shell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Carb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form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ovalent bo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 as many a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ther atoms (elements)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ually with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, H, O or 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: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CH</a:t>
            </a:r>
            <a:r>
              <a:rPr b="1" lang="en-US" sz="3200" spc="-1" strike="noStrike" baseline="-25000">
                <a:solidFill>
                  <a:srgbClr val="e6f10d"/>
                </a:solidFill>
                <a:latin typeface="Comic Sans MS"/>
              </a:rPr>
              <a:t>4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(methan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DNA - double helix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8380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398" name="Line 5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0" name="Oval 7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Oval 8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Oval 9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Line 12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Line 13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Line 14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Line 15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Line 16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Rectangle 17"/>
            <p:cNvSpPr/>
            <p:nvPr/>
          </p:nvSpPr>
          <p:spPr>
            <a:xfrm>
              <a:off x="519120" y="428292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Rectangle 18"/>
            <p:cNvSpPr/>
            <p:nvPr/>
          </p:nvSpPr>
          <p:spPr>
            <a:xfrm>
              <a:off x="519120" y="23781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Rectangle 19"/>
            <p:cNvSpPr/>
            <p:nvPr/>
          </p:nvSpPr>
          <p:spPr>
            <a:xfrm>
              <a:off x="442800" y="611172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Line 20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Rectangle 21"/>
            <p:cNvSpPr/>
            <p:nvPr/>
          </p:nvSpPr>
          <p:spPr>
            <a:xfrm>
              <a:off x="1980720" y="106668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Rectangle 22"/>
            <p:cNvSpPr/>
            <p:nvPr/>
          </p:nvSpPr>
          <p:spPr>
            <a:xfrm>
              <a:off x="1980720" y="297180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Rectangle 23"/>
            <p:cNvSpPr/>
            <p:nvPr/>
          </p:nvSpPr>
          <p:spPr>
            <a:xfrm>
              <a:off x="1980720" y="510552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Rectangle 24"/>
            <p:cNvSpPr/>
            <p:nvPr/>
          </p:nvSpPr>
          <p:spPr>
            <a:xfrm>
              <a:off x="2423880" y="32004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Rectangle 25"/>
            <p:cNvSpPr/>
            <p:nvPr/>
          </p:nvSpPr>
          <p:spPr>
            <a:xfrm>
              <a:off x="2500200" y="3962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Rectangle 26"/>
            <p:cNvSpPr/>
            <p:nvPr/>
          </p:nvSpPr>
          <p:spPr>
            <a:xfrm>
              <a:off x="1738080" y="41148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Rectangle 27"/>
            <p:cNvSpPr/>
            <p:nvPr/>
          </p:nvSpPr>
          <p:spPr>
            <a:xfrm>
              <a:off x="1433520" y="3581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Rectangle 28"/>
            <p:cNvSpPr/>
            <p:nvPr/>
          </p:nvSpPr>
          <p:spPr>
            <a:xfrm>
              <a:off x="1433520" y="28954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Rectangle 29"/>
            <p:cNvSpPr/>
            <p:nvPr/>
          </p:nvSpPr>
          <p:spPr>
            <a:xfrm>
              <a:off x="1509480" y="49528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Rectangle 30"/>
            <p:cNvSpPr/>
            <p:nvPr/>
          </p:nvSpPr>
          <p:spPr>
            <a:xfrm>
              <a:off x="1738080" y="6248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Rectangle 31"/>
            <p:cNvSpPr/>
            <p:nvPr/>
          </p:nvSpPr>
          <p:spPr>
            <a:xfrm>
              <a:off x="1662120" y="22096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Line 32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Line 33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Rectangle 34"/>
            <p:cNvSpPr/>
            <p:nvPr/>
          </p:nvSpPr>
          <p:spPr>
            <a:xfrm>
              <a:off x="1509480" y="9907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AutoShape 35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AutoShape 36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AutoShape 37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1" name="Group 38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432" name="Line 39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Line 40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Oval 41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Oval 42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Oval 43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Line 44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Line 45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Line 46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Line 47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Line 48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Line 49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Line 50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Rectangle 51"/>
            <p:cNvSpPr/>
            <p:nvPr/>
          </p:nvSpPr>
          <p:spPr>
            <a:xfrm>
              <a:off x="8062920" y="23781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Rectangle 52"/>
            <p:cNvSpPr/>
            <p:nvPr/>
          </p:nvSpPr>
          <p:spPr>
            <a:xfrm>
              <a:off x="8215200" y="44355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Rectangle 53"/>
            <p:cNvSpPr/>
            <p:nvPr/>
          </p:nvSpPr>
          <p:spPr>
            <a:xfrm>
              <a:off x="8139240" y="60357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Line 54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Line 55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Rectangle 56"/>
            <p:cNvSpPr/>
            <p:nvPr/>
          </p:nvSpPr>
          <p:spPr>
            <a:xfrm>
              <a:off x="6933960" y="579132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Rectangle 57"/>
            <p:cNvSpPr/>
            <p:nvPr/>
          </p:nvSpPr>
          <p:spPr>
            <a:xfrm>
              <a:off x="7009920" y="426708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Rectangle 58"/>
            <p:cNvSpPr/>
            <p:nvPr/>
          </p:nvSpPr>
          <p:spPr>
            <a:xfrm>
              <a:off x="6857640" y="228600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Rectangle 59"/>
            <p:cNvSpPr/>
            <p:nvPr/>
          </p:nvSpPr>
          <p:spPr>
            <a:xfrm>
              <a:off x="6386400" y="3962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Rectangle 60"/>
            <p:cNvSpPr/>
            <p:nvPr/>
          </p:nvSpPr>
          <p:spPr>
            <a:xfrm>
              <a:off x="6462720" y="32767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Rectangle 61"/>
            <p:cNvSpPr/>
            <p:nvPr/>
          </p:nvSpPr>
          <p:spPr>
            <a:xfrm>
              <a:off x="7148520" y="32004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Rectangle 62"/>
            <p:cNvSpPr/>
            <p:nvPr/>
          </p:nvSpPr>
          <p:spPr>
            <a:xfrm>
              <a:off x="7529400" y="3657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Rectangle 63"/>
            <p:cNvSpPr/>
            <p:nvPr/>
          </p:nvSpPr>
          <p:spPr>
            <a:xfrm>
              <a:off x="7529400" y="41911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Rectangle 64"/>
            <p:cNvSpPr/>
            <p:nvPr/>
          </p:nvSpPr>
          <p:spPr>
            <a:xfrm>
              <a:off x="7377120" y="5943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Rectangle 65"/>
            <p:cNvSpPr/>
            <p:nvPr/>
          </p:nvSpPr>
          <p:spPr>
            <a:xfrm>
              <a:off x="7148520" y="4724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Rectangle 66"/>
            <p:cNvSpPr/>
            <p:nvPr/>
          </p:nvSpPr>
          <p:spPr>
            <a:xfrm>
              <a:off x="7224480" y="2438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Line 67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Rectangle 68"/>
            <p:cNvSpPr/>
            <p:nvPr/>
          </p:nvSpPr>
          <p:spPr>
            <a:xfrm>
              <a:off x="6995880" y="11430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AutoShape 69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3" name="AutoShape 70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AutoShape 71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65" name="Group 72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466" name="AutoShape 73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AutoShape 74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8" name="Line 75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9" name="Line 76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0" name="Line 77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1" name="Rectangle 78"/>
            <p:cNvSpPr/>
            <p:nvPr/>
          </p:nvSpPr>
          <p:spPr>
            <a:xfrm>
              <a:off x="3871800" y="298764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" name="Rectangle 79"/>
            <p:cNvSpPr/>
            <p:nvPr/>
          </p:nvSpPr>
          <p:spPr>
            <a:xfrm>
              <a:off x="5396400" y="291132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" name="AutoShape 80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74" name="Group 81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475" name="AutoShape 82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6" name="AutoShape 83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Line 84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Line 85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Rectangle 86"/>
            <p:cNvSpPr/>
            <p:nvPr/>
          </p:nvSpPr>
          <p:spPr>
            <a:xfrm>
              <a:off x="3262680" y="4664160"/>
              <a:ext cx="397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Rectangle 87"/>
            <p:cNvSpPr/>
            <p:nvPr/>
          </p:nvSpPr>
          <p:spPr>
            <a:xfrm>
              <a:off x="4710600" y="4664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AutoShape 88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2" name="Місце для нижнього колонтитула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8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5960" y="34290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Comic Sans MS"/>
              </a:rPr>
              <a:t>Macromolecules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Large organic molecule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so called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OLY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de up of smaller “building blocks” called </a:t>
            </a: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MONO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.  Carbohydrat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.  Lipi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3.  Protei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4.  Nucleic acids (DNA and RNA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cc0000"/>
                </a:solidFill>
                <a:latin typeface="Comic Sans MS"/>
              </a:rPr>
              <a:t>Question:</a:t>
            </a:r>
            <a:br>
              <a:rPr sz="8000"/>
            </a:br>
            <a:r>
              <a:rPr b="1" i="1" lang="en-US" sz="8000" spc="-1" strike="noStrike">
                <a:solidFill>
                  <a:srgbClr val="cc0000"/>
                </a:solidFill>
                <a:latin typeface="Comic Sans MS"/>
              </a:rPr>
              <a:t>How Are Macromolecules Formed?</a:t>
            </a:r>
            <a:endParaRPr b="0" lang="en-US" sz="8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Answer: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Dehydration Synthesis</a:t>
            </a:r>
            <a:endParaRPr b="0" lang="en-US" sz="4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so called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“condensation reaction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m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oly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combining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mono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“removing water”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611280" y="5791320"/>
            <a:ext cx="7563600" cy="685800"/>
            <a:chOff x="611280" y="5791320"/>
            <a:chExt cx="7563600" cy="685800"/>
          </a:xfrm>
        </p:grpSpPr>
        <p:sp>
          <p:nvSpPr>
            <p:cNvPr id="105" name="Rectangle 5"/>
            <p:cNvSpPr/>
            <p:nvPr/>
          </p:nvSpPr>
          <p:spPr>
            <a:xfrm>
              <a:off x="1600200" y="57913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3733920" y="57913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5867280" y="57913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3200400" y="6095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Line 9"/>
            <p:cNvSpPr/>
            <p:nvPr/>
          </p:nvSpPr>
          <p:spPr>
            <a:xfrm>
              <a:off x="5334120" y="60958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Line 10"/>
            <p:cNvSpPr/>
            <p:nvPr/>
          </p:nvSpPr>
          <p:spPr>
            <a:xfrm>
              <a:off x="7467480" y="60958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Line 11"/>
            <p:cNvSpPr/>
            <p:nvPr/>
          </p:nvSpPr>
          <p:spPr>
            <a:xfrm>
              <a:off x="1143000" y="60958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Text Box 12"/>
            <p:cNvSpPr/>
            <p:nvPr/>
          </p:nvSpPr>
          <p:spPr>
            <a:xfrm>
              <a:off x="611280" y="5867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Text Box 13"/>
            <p:cNvSpPr/>
            <p:nvPr/>
          </p:nvSpPr>
          <p:spPr>
            <a:xfrm>
              <a:off x="7774560" y="5867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" name="Group 14"/>
          <p:cNvGrpSpPr/>
          <p:nvPr/>
        </p:nvGrpSpPr>
        <p:grpSpPr>
          <a:xfrm>
            <a:off x="230400" y="3962520"/>
            <a:ext cx="8630280" cy="1676160"/>
            <a:chOff x="230400" y="3962520"/>
            <a:chExt cx="8630280" cy="1676160"/>
          </a:xfrm>
        </p:grpSpPr>
        <p:sp>
          <p:nvSpPr>
            <p:cNvPr id="115" name="Rectangle 15"/>
            <p:cNvSpPr/>
            <p:nvPr/>
          </p:nvSpPr>
          <p:spPr>
            <a:xfrm>
              <a:off x="1295280" y="39625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3200400" y="39625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6553080" y="39625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Line 18"/>
            <p:cNvSpPr/>
            <p:nvPr/>
          </p:nvSpPr>
          <p:spPr>
            <a:xfrm>
              <a:off x="4191120" y="48769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Line 19"/>
            <p:cNvSpPr/>
            <p:nvPr/>
          </p:nvSpPr>
          <p:spPr>
            <a:xfrm>
              <a:off x="2895480" y="4267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20"/>
            <p:cNvSpPr/>
            <p:nvPr/>
          </p:nvSpPr>
          <p:spPr>
            <a:xfrm>
              <a:off x="838080" y="42670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Rectangle 21"/>
            <p:cNvSpPr/>
            <p:nvPr/>
          </p:nvSpPr>
          <p:spPr>
            <a:xfrm>
              <a:off x="230400" y="40384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Rectangle 22"/>
            <p:cNvSpPr/>
            <p:nvPr/>
          </p:nvSpPr>
          <p:spPr>
            <a:xfrm>
              <a:off x="5640480" y="40384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Rectangle 23"/>
            <p:cNvSpPr/>
            <p:nvPr/>
          </p:nvSpPr>
          <p:spPr>
            <a:xfrm>
              <a:off x="8460360" y="4038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24"/>
            <p:cNvSpPr/>
            <p:nvPr/>
          </p:nvSpPr>
          <p:spPr>
            <a:xfrm>
              <a:off x="8153280" y="42670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25"/>
            <p:cNvSpPr/>
            <p:nvPr/>
          </p:nvSpPr>
          <p:spPr>
            <a:xfrm>
              <a:off x="6172200" y="4267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Line 26"/>
            <p:cNvSpPr/>
            <p:nvPr/>
          </p:nvSpPr>
          <p:spPr>
            <a:xfrm>
              <a:off x="4800600" y="4267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5107680" y="4038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Text Box 28"/>
            <p:cNvSpPr/>
            <p:nvPr/>
          </p:nvSpPr>
          <p:spPr>
            <a:xfrm>
              <a:off x="5952240" y="510552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334120" y="4495680"/>
              <a:ext cx="685800" cy="6098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Line 30"/>
            <p:cNvSpPr/>
            <p:nvPr/>
          </p:nvSpPr>
          <p:spPr>
            <a:xfrm>
              <a:off x="5867280" y="4495680"/>
              <a:ext cx="304920" cy="5335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1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omic Sans MS"/>
              </a:rPr>
              <a:t>Question:</a:t>
            </a:r>
            <a:br>
              <a:rPr sz="6000"/>
            </a:br>
            <a:r>
              <a:rPr b="1" lang="en-US" sz="6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333399"/>
                </a:solidFill>
                <a:latin typeface="Comic Sans MS"/>
              </a:rPr>
              <a:t>How are Macromolecules separated or digested?</a:t>
            </a:r>
            <a:endParaRPr b="0" lang="en-US" sz="6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Comic Sans MS"/>
              </a:rPr>
              <a:t>Answer:  </a:t>
            </a: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Hydrolysi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parates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monomer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“adding water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306360" y="5638680"/>
            <a:ext cx="8630640" cy="685800"/>
            <a:chOff x="306360" y="5638680"/>
            <a:chExt cx="8630640" cy="685800"/>
          </a:xfrm>
        </p:grpSpPr>
        <p:sp>
          <p:nvSpPr>
            <p:cNvPr id="137" name="Rectangle 5"/>
            <p:cNvSpPr/>
            <p:nvPr/>
          </p:nvSpPr>
          <p:spPr>
            <a:xfrm>
              <a:off x="1371600" y="563868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3276720" y="563868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6629400" y="5638680"/>
              <a:ext cx="1600200" cy="6858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>
              <a:off x="2971800" y="59436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914400" y="59436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306360" y="57150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5716800" y="57150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8536680" y="571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Line 13"/>
            <p:cNvSpPr/>
            <p:nvPr/>
          </p:nvSpPr>
          <p:spPr>
            <a:xfrm>
              <a:off x="8229600" y="594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14"/>
            <p:cNvSpPr/>
            <p:nvPr/>
          </p:nvSpPr>
          <p:spPr>
            <a:xfrm>
              <a:off x="6248520" y="594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Line 15"/>
            <p:cNvSpPr/>
            <p:nvPr/>
          </p:nvSpPr>
          <p:spPr>
            <a:xfrm>
              <a:off x="4876920" y="594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Rectangle 16"/>
            <p:cNvSpPr/>
            <p:nvPr/>
          </p:nvSpPr>
          <p:spPr>
            <a:xfrm>
              <a:off x="5183640" y="571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9" name="Group 17"/>
          <p:cNvGrpSpPr/>
          <p:nvPr/>
        </p:nvGrpSpPr>
        <p:grpSpPr>
          <a:xfrm>
            <a:off x="611280" y="3505320"/>
            <a:ext cx="7563600" cy="1904760"/>
            <a:chOff x="611280" y="3505320"/>
            <a:chExt cx="7563600" cy="1904760"/>
          </a:xfrm>
        </p:grpSpPr>
        <p:sp>
          <p:nvSpPr>
            <p:cNvPr id="150" name="Rectangle 18"/>
            <p:cNvSpPr/>
            <p:nvPr/>
          </p:nvSpPr>
          <p:spPr>
            <a:xfrm>
              <a:off x="1600200" y="350532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Rectangle 19"/>
            <p:cNvSpPr/>
            <p:nvPr/>
          </p:nvSpPr>
          <p:spPr>
            <a:xfrm>
              <a:off x="3733920" y="350532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Rectangle 20"/>
            <p:cNvSpPr/>
            <p:nvPr/>
          </p:nvSpPr>
          <p:spPr>
            <a:xfrm>
              <a:off x="5867280" y="3505320"/>
              <a:ext cx="1600200" cy="6858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Line 21"/>
            <p:cNvSpPr/>
            <p:nvPr/>
          </p:nvSpPr>
          <p:spPr>
            <a:xfrm>
              <a:off x="3200400" y="3809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22"/>
            <p:cNvSpPr/>
            <p:nvPr/>
          </p:nvSpPr>
          <p:spPr>
            <a:xfrm>
              <a:off x="5334120" y="38098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3"/>
            <p:cNvSpPr/>
            <p:nvPr/>
          </p:nvSpPr>
          <p:spPr>
            <a:xfrm>
              <a:off x="7467480" y="38098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>
              <a:off x="1143000" y="38098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Text Box 25"/>
            <p:cNvSpPr/>
            <p:nvPr/>
          </p:nvSpPr>
          <p:spPr>
            <a:xfrm>
              <a:off x="611280" y="3581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Text Box 26"/>
            <p:cNvSpPr/>
            <p:nvPr/>
          </p:nvSpPr>
          <p:spPr>
            <a:xfrm>
              <a:off x="7774560" y="3581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4495680" y="46483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Text Box 28"/>
            <p:cNvSpPr/>
            <p:nvPr/>
          </p:nvSpPr>
          <p:spPr>
            <a:xfrm>
              <a:off x="5875920" y="487692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29"/>
            <p:cNvSpPr/>
            <p:nvPr/>
          </p:nvSpPr>
          <p:spPr>
            <a:xfrm>
              <a:off x="5614920" y="4019400"/>
              <a:ext cx="233280" cy="10098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009800"/>
                <a:gd name="textAreaBottom" fmla="*/ 1009800 h 1009800"/>
              </a:gdLst>
              <a:ahLst/>
              <a:rect l="textAreaLeft" t="textAreaTop" r="textAreaRight" b="textAreaBottom"/>
              <a:pathLst>
                <a:path w="147" h="636">
                  <a:moveTo>
                    <a:pt x="147" y="636"/>
                  </a:moveTo>
                  <a:cubicBezTo>
                    <a:pt x="85" y="543"/>
                    <a:pt x="7" y="443"/>
                    <a:pt x="3" y="324"/>
                  </a:cubicBezTo>
                  <a:cubicBezTo>
                    <a:pt x="0" y="216"/>
                    <a:pt x="3" y="108"/>
                    <a:pt x="3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2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Comic Sans MS"/>
              </a:rPr>
              <a:t>Carbohydrates</a:t>
            </a:r>
            <a:endParaRPr b="0" lang="en-US" sz="72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00:47:49Z</dcterms:created>
  <dc:creator>Cheryl Massengale</dc:creator>
  <dc:description/>
  <dc:language>en-US</dc:language>
  <cp:lastModifiedBy>LEGION</cp:lastModifiedBy>
  <dcterms:modified xsi:type="dcterms:W3CDTF">2016-12-07T09:19:30Z</dcterms:modified>
  <cp:revision>7</cp:revision>
  <dc:subject/>
  <dc:title>Macromolecules</dc:title>
</cp:coreProperties>
</file>