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MERA.WAV" ContentType="audio/x-wav"/>
  <Override PartName="/ppt/media/LASER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420E-3679-421B-9DD5-0163F5EDE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E0E-9EE2-4E86-861C-EE31B889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93B-92A0-4D15-8F31-DCD0BB6C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747-69BB-4159-9917-8827BB19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F99-9953-4E37-AD39-00C6B149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8F0-6FF3-4FA1-84AB-6C03531A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593-7B5A-40CA-9A9D-4FB64C55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9EF-C3E5-4B90-8BFF-FBCA5827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893-D33B-4A6E-A437-F9C7334F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017-4CE3-462A-A1C2-08DBBB45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49F-5236-4AE6-B8D3-D0922C7C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C7F-C76B-4090-85B7-31D3A0DF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6E0-B4D4-4EFB-9CFC-21462A32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84BD-918F-4C37-BD4F-2B926836C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39760" y="1752480"/>
            <a:ext cx="6951960" cy="2715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663300"/>
                </a:solidFill>
                <a:latin typeface="Palatia"/>
              </a:rPr>
              <a:t>LIPID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99"/>
            </a:gs>
            <a:gs pos="100000">
              <a:srgbClr val="66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Characteristics of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Composed of Carbon, Hydrogen, and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Greater than 2:1 ratio of H: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Includes fats, oils, phospholipids, an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Building blocks are fatty acids and glyce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Energy storage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Phospholipids part of 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981080" y="1828800"/>
          <a:ext cx="48006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48006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1762920" y="655560"/>
            <a:ext cx="532440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Palatia"/>
              </a:rPr>
              <a:t>Fatty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07000" y="5105520"/>
            <a:ext cx="68220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Carboxyl group (COOH) forms the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R” group is a hydrocarbon ch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A Representative Fatty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3"/>
          <p:cNvPicPr/>
          <p:nvPr/>
        </p:nvPicPr>
        <p:blipFill>
          <a:blip r:embed="rId1"/>
          <a:stretch/>
        </p:blipFill>
        <p:spPr>
          <a:xfrm>
            <a:off x="1828800" y="1905120"/>
            <a:ext cx="5664240" cy="4394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3_16"/>
          <p:cNvPicPr/>
          <p:nvPr/>
        </p:nvPicPr>
        <p:blipFill>
          <a:blip r:embed="rId1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21600" y="2438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798520" y="134928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Un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a362a3"/>
              </a:gs>
              <a:gs pos="100000">
                <a:srgbClr val="ff99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Palatia"/>
              </a:rPr>
              <a:t>Glycero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981080" y="1905120"/>
          <a:ext cx="502920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0292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99ccff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Synthesis of a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3_15"/>
          <p:cNvPicPr/>
          <p:nvPr/>
        </p:nvPicPr>
        <p:blipFill>
          <a:blip r:embed="rId1"/>
          <a:stretch/>
        </p:blipFill>
        <p:spPr>
          <a:xfrm>
            <a:off x="1371600" y="1905120"/>
            <a:ext cx="6819840" cy="43844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Palatia"/>
              </a:rPr>
              <a:t>A Phospholip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3_17"/>
          <p:cNvPicPr/>
          <p:nvPr/>
        </p:nvPicPr>
        <p:blipFill>
          <a:blip r:embed="rId1"/>
          <a:stretch/>
        </p:blipFill>
        <p:spPr>
          <a:xfrm>
            <a:off x="1905120" y="2057400"/>
            <a:ext cx="5587920" cy="4325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20:04:28Z</dcterms:created>
  <dc:creator>Cheryl Massengale</dc:creator>
  <dc:description/>
  <dc:language>en-US</dc:language>
  <cp:lastModifiedBy>LEGION</cp:lastModifiedBy>
  <dcterms:modified xsi:type="dcterms:W3CDTF">2016-12-07T09:19:19Z</dcterms:modified>
  <cp:revision>6</cp:revision>
  <dc:subject/>
  <dc:title>Lipids</dc:title>
</cp:coreProperties>
</file>