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CAMERA.WAV" ContentType="audio/x-wav"/>
  <Override PartName="/ppt/media/LASER.WAV" ContentType="audio/x-wav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3413-6FAD-4D5E-AE3C-42C23B884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acteristics of Lip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posed of Carbon, Hydrogen, and Oxy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reater than 2:1 ratio of H: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cludes fats, oils, phospholipids, and cholester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uilding blocks are fatty acids and glycer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nergy storage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ospholipids part of cell membr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Lip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ed of Carbon, Hydrogen, an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er than 2:1 ratio of H: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fats, oils, phospholipids, and choleste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blocks are fatty acids and glyce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storage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spholipids part of cell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ty Acid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xyl group (COOH) forms the ac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” group is a hydrocarbon ch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Acid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 group (COOH) forms the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” group is a hydrocarbon ch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Representative Fatty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presentative Fatty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ty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ty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lycer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ce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nthesis of a F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a F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Phospholip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hospholip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CF3A-0756-4C60-BB8D-2130D41B3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98CC-A986-4732-A713-66BB7DBB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7BED-960F-4BB7-BA9D-B68BAAF55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0B09-0F5C-4F7C-AF4A-609B86ADE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71F1-EE9D-4572-AE63-BA22B846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02A0-2AB9-4AF5-B8CA-BDE4E37B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127E-02E3-4508-A286-17D5D527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969C-E081-4785-9F0C-1F5B14B6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5D0D-B963-4563-8AD5-0FE24FFC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EDE5-A1BB-45DA-B37F-1B54D8EC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1113-D661-45AB-8980-FA10EE12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5AC0-41F5-402C-9E25-20BCD053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DF77-007A-4DDC-B6AC-D7BF2BE76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AMERA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139760" y="1752480"/>
            <a:ext cx="6951960" cy="2715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200" spc="-1" strike="noStrike">
                <a:solidFill>
                  <a:srgbClr val="663300"/>
                </a:solidFill>
                <a:latin typeface="Palatia"/>
              </a:rPr>
              <a:t>LIPIDS</a:t>
            </a:r>
            <a:endParaRPr b="0" lang="en-US" sz="1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cc99"/>
            </a:gs>
            <a:gs pos="100000">
              <a:srgbClr val="66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Palatia"/>
              </a:rPr>
              <a:t>Characteristics of Lip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Composed of Carbon, Hydrogen, and 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Greater than 2:1 ratio of H: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Includes fats, oils, phospholipids, and ch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Building blocks are fatty acids and glycer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Energy storage molec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Phospholipids part of cell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1981080" y="1828800"/>
          <a:ext cx="4800600" cy="30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828800"/>
                    <a:ext cx="4800600" cy="30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3"/>
          <p:cNvSpPr/>
          <p:nvPr/>
        </p:nvSpPr>
        <p:spPr>
          <a:xfrm>
            <a:off x="1762920" y="655560"/>
            <a:ext cx="5324400" cy="764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Palatia"/>
              </a:rPr>
              <a:t>Fatty Acid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107000" y="5105520"/>
            <a:ext cx="6822000" cy="94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Palatia"/>
              </a:rPr>
              <a:t>Carboxyl group (COOH) forms the ac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Palati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Palatia"/>
              </a:rPr>
              <a:t>R” group is a hydrocarbon ch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Palatia"/>
              </a:rPr>
              <a:t>A Representative Fatty Ac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3_13"/>
          <p:cNvPicPr/>
          <p:nvPr/>
        </p:nvPicPr>
        <p:blipFill>
          <a:blip r:embed="rId1"/>
          <a:stretch/>
        </p:blipFill>
        <p:spPr>
          <a:xfrm>
            <a:off x="1828800" y="1905120"/>
            <a:ext cx="5664240" cy="43941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3_16"/>
          <p:cNvPicPr/>
          <p:nvPr/>
        </p:nvPicPr>
        <p:blipFill>
          <a:blip r:embed="rId1"/>
          <a:stretch/>
        </p:blipFill>
        <p:spPr>
          <a:xfrm>
            <a:off x="1143000" y="571680"/>
            <a:ext cx="685800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921600" y="243828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Palatia"/>
              </a:rPr>
              <a:t>Satu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Palatia"/>
              </a:rPr>
              <a:t>Fatty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798520" y="1349280"/>
            <a:ext cx="197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Palatia"/>
              </a:rPr>
              <a:t>Unsatu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Palatia"/>
              </a:rPr>
              <a:t>Fatty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a362a3"/>
              </a:gs>
              <a:gs pos="100000">
                <a:srgbClr val="ff99ff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0099"/>
                </a:solidFill>
                <a:latin typeface="Palatia"/>
              </a:rPr>
              <a:t>Glycero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Object 3"/>
          <p:cNvGraphicFramePr/>
          <p:nvPr/>
        </p:nvGraphicFramePr>
        <p:xfrm>
          <a:off x="1981080" y="1905120"/>
          <a:ext cx="5029200" cy="408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905120"/>
                    <a:ext cx="502920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99ccff"/>
            </a:gs>
            <a:gs pos="100000">
              <a:srgbClr val="0000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Palatia"/>
              </a:rPr>
              <a:t>Synthesis of a F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" descr="3_15"/>
          <p:cNvPicPr/>
          <p:nvPr/>
        </p:nvPicPr>
        <p:blipFill>
          <a:blip r:embed="rId1"/>
          <a:stretch/>
        </p:blipFill>
        <p:spPr>
          <a:xfrm>
            <a:off x="1371600" y="1905120"/>
            <a:ext cx="6819840" cy="438444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Palatia"/>
              </a:rPr>
              <a:t>A Phospholip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3_17"/>
          <p:cNvPicPr/>
          <p:nvPr/>
        </p:nvPicPr>
        <p:blipFill>
          <a:blip r:embed="rId1"/>
          <a:stretch/>
        </p:blipFill>
        <p:spPr>
          <a:xfrm>
            <a:off x="1905120" y="2057400"/>
            <a:ext cx="5587920" cy="432576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2T20:04:28Z</dcterms:created>
  <dc:creator>Cheryl Massengale</dc:creator>
  <dc:description/>
  <dc:language>en-US</dc:language>
  <cp:lastModifiedBy>LEGION</cp:lastModifiedBy>
  <dcterms:modified xsi:type="dcterms:W3CDTF">2016-12-07T09:19:19Z</dcterms:modified>
  <cp:revision>6</cp:revision>
  <dc:subject/>
  <dc:title>Lipids</dc:title>
</cp:coreProperties>
</file>