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MERA.WAV" ContentType="audio/x-wav"/>
  <Override PartName="/ppt/media/LASER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6CFC-E982-4652-AF70-089E78044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85C-2561-47F9-8BD0-FDD98D92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DD8-938B-4842-A559-763DF9E2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3AD-38E1-4CDA-9183-A9667401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F44-F804-405F-9CDF-46DA9AD3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28C-1BE6-462B-9EDA-168F0988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D3F-7BE5-43CE-90ED-1266375D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F72-6CA5-490C-930E-09A8A893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C15-E49D-4ECB-8E84-6887F5F8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759-B641-49FF-BE21-4238E695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DBF-9E49-4B52-9427-8B2E783C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B90-F30F-4F3B-94E2-B482A27F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D06-D649-4191-A916-DEF699F5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B79B-1974-4100-A183-EC797897C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39760" y="1752480"/>
            <a:ext cx="6951960" cy="2715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663300"/>
                </a:solidFill>
                <a:latin typeface="Palatia"/>
              </a:rPr>
              <a:t>LIPID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99"/>
            </a:gs>
            <a:gs pos="100000">
              <a:srgbClr val="66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Characteristics of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Composed of Carbon, Hydrogen, and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Greater than 2:1 ratio of H: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Includes fats, oils, phospholipids, an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Building blocks are fatty acids and glyce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Energy storag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Phospholipids part of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981080" y="1828800"/>
          <a:ext cx="48006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8006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762920" y="655560"/>
            <a:ext cx="532440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Palatia"/>
              </a:rPr>
              <a:t>Fatty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07000" y="5105520"/>
            <a:ext cx="68220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Carboxyl group (COOH) forms the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R” group is a hydrocarbon ch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A Representative Fatty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3"/>
          <p:cNvPicPr/>
          <p:nvPr/>
        </p:nvPicPr>
        <p:blipFill>
          <a:blip r:embed="rId1"/>
          <a:stretch/>
        </p:blipFill>
        <p:spPr>
          <a:xfrm>
            <a:off x="1828800" y="1905120"/>
            <a:ext cx="5664240" cy="4394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3_16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21600" y="243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8520" y="134928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Un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a362a3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Palatia"/>
              </a:rPr>
              <a:t>Glycer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981080" y="1905120"/>
          <a:ext cx="502920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0292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99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Synthesis of a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3_15"/>
          <p:cNvPicPr/>
          <p:nvPr/>
        </p:nvPicPr>
        <p:blipFill>
          <a:blip r:embed="rId1"/>
          <a:stretch/>
        </p:blipFill>
        <p:spPr>
          <a:xfrm>
            <a:off x="1371600" y="1905120"/>
            <a:ext cx="6819840" cy="43844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Palatia"/>
              </a:rPr>
              <a:t>A Phospholip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3_17"/>
          <p:cNvPicPr/>
          <p:nvPr/>
        </p:nvPicPr>
        <p:blipFill>
          <a:blip r:embed="rId1"/>
          <a:stretch/>
        </p:blipFill>
        <p:spPr>
          <a:xfrm>
            <a:off x="1905120" y="2057400"/>
            <a:ext cx="5587920" cy="4325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20:04:28Z</dcterms:created>
  <dc:creator>Cheryl Massengale</dc:creator>
  <dc:description/>
  <dc:language>en-US</dc:language>
  <cp:lastModifiedBy>LEGION</cp:lastModifiedBy>
  <dcterms:modified xsi:type="dcterms:W3CDTF">2016-12-07T09:19:19Z</dcterms:modified>
  <cp:revision>6</cp:revision>
  <dc:subject/>
  <dc:title>Lipids</dc:title>
</cp:coreProperties>
</file>