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configuration of an enzyme’s active site (H+ and ionic bonds are involved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ree fac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 Extreme Temperature are the most danger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 high temps may denature (unfold) the enzy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 (most like 6 - 8 pH near neutral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onic concentration (salt ion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organic substances (zinc, iron) and vitamins (respectively) are sometimes need for proper enzymatic activit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ron must be present in the quaternary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tructure - hemoglobin in order for it to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oxygen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examples of Enzyme 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. Competitive inhibitors:  are chemicals that resemble an enzyme’s normal substrate and compete with it for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ncompetitive inhibito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hibitors that do not enter the active site, but bind to another part of the enzyme causing the enzyme to change its shape, which in turn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ters the active si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ost enzymes are Proteins (tertiary and quaternary stru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 as Catalyst to  accelerates a react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t permanently changed in the proce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specific  for what they will catalyz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re Reusab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in –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Sucr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Lac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Malt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s work by weakening bonds which lowers activation ener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ubstance (reactant) an enzyme acts on is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estricted region of an enzyme molecule which binds to the substr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hange in the shape of an enzyme’s active s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duced by the subst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10D-300D-4114-A33C-25DEE201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B5A8-E261-49C5-9D59-EB07CAE5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AC7-4DA4-4719-987F-D43F5DF3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B15A-515F-4A4A-9B24-25BA0B702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59F7-C6B1-48D3-8DD6-4977F8F7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E9B2-D24E-45AE-9E1F-5FBE86A7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048C-A676-42CD-8BAC-648A8EAF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449D-985E-421D-8929-8339BE39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744C-116D-46FD-A0EE-8ADDB8D3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5AAB-76E9-4BFB-B5C8-487E2747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763E-9E71-437D-881B-8D95F7A4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BC4-6CBB-40DB-BB2B-DE2B31B7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7330-1732-4591-B49A-C5F39C18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004A-E965-436D-B365-BF89A0C0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5B95-75E1-43A6-8260-DAA887D3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6B78-7535-4CAF-B9F3-5C69BEAE0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76212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309480"/>
            <a:ext cx="2944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1CF2-5E76-4CC9-818B-04215197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E5FC-1F33-4921-B6D5-9ADFC547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3EBC-CF28-4EE5-981B-4725223C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A73-2704-4A49-8946-CB3C396D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B014-FB7E-46BF-9087-18F043B1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27F8-70C6-4A37-9D80-FC1EFDAD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30948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675-1641-4230-A42D-99E2609B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2120"/>
            <a:ext cx="44622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309480"/>
            <a:ext cx="9144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3D48-8F00-4FC3-B398-E5870881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A0E1-0C9A-49AE-A0D2-F0C57E6E884E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7"/>
          <p:cNvSpPr/>
          <p:nvPr/>
        </p:nvSpPr>
        <p:spPr>
          <a:xfrm>
            <a:off x="0" y="28195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mi Head 426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Heav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FCAC-DF7E-44E3-BEF0-5E43CF0C3A37}" type="slidenum"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cc9900"/>
                </a:solidFill>
                <a:latin typeface="Comic Sans MS"/>
              </a:rPr>
              <a:t>Enzymes</a:t>
            </a:r>
            <a:endParaRPr b="0" lang="en-US" sz="8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hang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in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configu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an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enzyme’s activ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site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(H+ and ionic bonds are involved)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duce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by th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3352680" y="3638520"/>
            <a:ext cx="4440240" cy="3144960"/>
            <a:chOff x="3352680" y="3638520"/>
            <a:chExt cx="4440240" cy="3144960"/>
          </a:xfrm>
        </p:grpSpPr>
        <p:sp>
          <p:nvSpPr>
            <p:cNvPr id="152" name="Freeform 5"/>
            <p:cNvSpPr/>
            <p:nvPr/>
          </p:nvSpPr>
          <p:spPr>
            <a:xfrm>
              <a:off x="3352680" y="3638520"/>
              <a:ext cx="4440240" cy="314496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960"/>
                <a:gd name="textAreaBottom" fmla="*/ 3145320 h 314496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5015520" y="47102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Rectangle 7"/>
            <p:cNvSpPr/>
            <p:nvPr/>
          </p:nvSpPr>
          <p:spPr>
            <a:xfrm>
              <a:off x="3566880" y="3795840"/>
              <a:ext cx="1740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ctive Si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5" name="Group 8"/>
          <p:cNvGrpSpPr/>
          <p:nvPr/>
        </p:nvGrpSpPr>
        <p:grpSpPr>
          <a:xfrm>
            <a:off x="914760" y="4114800"/>
            <a:ext cx="3530160" cy="1092240"/>
            <a:chOff x="914760" y="4114800"/>
            <a:chExt cx="3530160" cy="1092240"/>
          </a:xfrm>
        </p:grpSpPr>
        <p:sp>
          <p:nvSpPr>
            <p:cNvPr id="156" name="Rectangle 9"/>
            <p:cNvSpPr/>
            <p:nvPr/>
          </p:nvSpPr>
          <p:spPr>
            <a:xfrm>
              <a:off x="3429000" y="4419720"/>
              <a:ext cx="1015920" cy="78732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Rectangle 10"/>
            <p:cNvSpPr/>
            <p:nvPr/>
          </p:nvSpPr>
          <p:spPr>
            <a:xfrm>
              <a:off x="914760" y="41148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ubstrat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11"/>
            <p:cNvSpPr/>
            <p:nvPr/>
          </p:nvSpPr>
          <p:spPr>
            <a:xfrm>
              <a:off x="2438280" y="4343400"/>
              <a:ext cx="1371600" cy="380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9" name="Group 12"/>
          <p:cNvGrpSpPr/>
          <p:nvPr/>
        </p:nvGrpSpPr>
        <p:grpSpPr>
          <a:xfrm>
            <a:off x="838080" y="4267080"/>
            <a:ext cx="2438640" cy="1902600"/>
            <a:chOff x="838080" y="4267080"/>
            <a:chExt cx="2438640" cy="1902600"/>
          </a:xfrm>
        </p:grpSpPr>
        <p:sp>
          <p:nvSpPr>
            <p:cNvPr id="160" name="Rectangle 13"/>
            <p:cNvSpPr/>
            <p:nvPr/>
          </p:nvSpPr>
          <p:spPr>
            <a:xfrm>
              <a:off x="838080" y="5715000"/>
              <a:ext cx="1752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nduced fit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Freeform 14"/>
            <p:cNvSpPr/>
            <p:nvPr/>
          </p:nvSpPr>
          <p:spPr>
            <a:xfrm>
              <a:off x="2190600" y="5257800"/>
              <a:ext cx="782640" cy="42084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493" h="265">
                  <a:moveTo>
                    <a:pt x="492" y="0"/>
                  </a:moveTo>
                  <a:lnTo>
                    <a:pt x="456" y="12"/>
                  </a:lnTo>
                  <a:lnTo>
                    <a:pt x="432" y="48"/>
                  </a:lnTo>
                  <a:lnTo>
                    <a:pt x="396" y="72"/>
                  </a:lnTo>
                  <a:lnTo>
                    <a:pt x="360" y="108"/>
                  </a:lnTo>
                  <a:lnTo>
                    <a:pt x="324" y="132"/>
                  </a:lnTo>
                  <a:lnTo>
                    <a:pt x="288" y="156"/>
                  </a:lnTo>
                  <a:lnTo>
                    <a:pt x="252" y="180"/>
                  </a:lnTo>
                  <a:lnTo>
                    <a:pt x="216" y="204"/>
                  </a:lnTo>
                  <a:lnTo>
                    <a:pt x="180" y="216"/>
                  </a:lnTo>
                  <a:lnTo>
                    <a:pt x="144" y="240"/>
                  </a:lnTo>
                  <a:lnTo>
                    <a:pt x="108" y="252"/>
                  </a:lnTo>
                  <a:lnTo>
                    <a:pt x="72" y="252"/>
                  </a:lnTo>
                  <a:lnTo>
                    <a:pt x="36" y="264"/>
                  </a:lnTo>
                  <a:lnTo>
                    <a:pt x="0" y="264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AutoShape 15"/>
            <p:cNvSpPr/>
            <p:nvPr/>
          </p:nvSpPr>
          <p:spPr>
            <a:xfrm>
              <a:off x="2971800" y="4267080"/>
              <a:ext cx="304920" cy="129564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3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hat Affects Enzyme Activity?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ree factors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vironmental Condition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factors and Coenzym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 Inhibitor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. Environmental Condition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1. Extreme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 Temperatur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the most dangerou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high temp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a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denature (unfold)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enzyme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pH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most like 6 - 8 pH near neutral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80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571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3.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Ionic concentration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salt ion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. Cofactors and Coenzymes</a:t>
            </a:r>
            <a:endParaRPr b="0" lang="en-US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organic substances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(zinc, iron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and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vitamins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(respectively) are sometimes need for proper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nzymatic activity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Iro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must be present in the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quaternary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structure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hemoglobin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in order for it to  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pick up oxygen.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Two examples of Enzyme 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Comic Sans MS"/>
              </a:rPr>
              <a:t>a.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itive inhibitors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 are chemicals that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esembl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’s normal substra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ompete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 with it for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ctive sit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75" name="Group 13"/>
          <p:cNvGrpSpPr/>
          <p:nvPr/>
        </p:nvGrpSpPr>
        <p:grpSpPr>
          <a:xfrm>
            <a:off x="5867280" y="4038480"/>
            <a:ext cx="2706480" cy="2230200"/>
            <a:chOff x="5867280" y="4038480"/>
            <a:chExt cx="2706480" cy="2230200"/>
          </a:xfrm>
        </p:grpSpPr>
        <p:sp>
          <p:nvSpPr>
            <p:cNvPr id="176" name="Freeform 7"/>
            <p:cNvSpPr/>
            <p:nvPr/>
          </p:nvSpPr>
          <p:spPr>
            <a:xfrm>
              <a:off x="5867280" y="4038480"/>
              <a:ext cx="2706480" cy="2230200"/>
            </a:xfrm>
            <a:custGeom>
              <a:avLst/>
              <a:gdLst>
                <a:gd name="textAreaLeft" fmla="*/ 0 w 2706480"/>
                <a:gd name="textAreaRight" fmla="*/ 2706840 w 2706480"/>
                <a:gd name="textAreaTop" fmla="*/ 0 h 2230200"/>
                <a:gd name="textAreaBottom" fmla="*/ 2230560 h 2230200"/>
              </a:gdLst>
              <a:ahLst/>
              <a:rect l="textAreaLeft" t="textAreaTop" r="textAreaRight" b="textAreaBottom"/>
              <a:pathLst>
                <a:path w="1705" h="1213">
                  <a:moveTo>
                    <a:pt x="144" y="420"/>
                  </a:moveTo>
                  <a:lnTo>
                    <a:pt x="180" y="432"/>
                  </a:lnTo>
                  <a:lnTo>
                    <a:pt x="228" y="444"/>
                  </a:lnTo>
                  <a:lnTo>
                    <a:pt x="264" y="444"/>
                  </a:lnTo>
                  <a:lnTo>
                    <a:pt x="300" y="444"/>
                  </a:lnTo>
                  <a:lnTo>
                    <a:pt x="336" y="444"/>
                  </a:lnTo>
                  <a:lnTo>
                    <a:pt x="372" y="444"/>
                  </a:lnTo>
                  <a:lnTo>
                    <a:pt x="408" y="444"/>
                  </a:lnTo>
                  <a:lnTo>
                    <a:pt x="444" y="444"/>
                  </a:lnTo>
                  <a:lnTo>
                    <a:pt x="480" y="444"/>
                  </a:lnTo>
                  <a:lnTo>
                    <a:pt x="504" y="480"/>
                  </a:lnTo>
                  <a:lnTo>
                    <a:pt x="504" y="516"/>
                  </a:lnTo>
                  <a:lnTo>
                    <a:pt x="504" y="552"/>
                  </a:lnTo>
                  <a:lnTo>
                    <a:pt x="504" y="588"/>
                  </a:lnTo>
                  <a:lnTo>
                    <a:pt x="480" y="624"/>
                  </a:lnTo>
                  <a:lnTo>
                    <a:pt x="480" y="660"/>
                  </a:lnTo>
                  <a:lnTo>
                    <a:pt x="444" y="672"/>
                  </a:lnTo>
                  <a:lnTo>
                    <a:pt x="408" y="672"/>
                  </a:lnTo>
                  <a:lnTo>
                    <a:pt x="372" y="684"/>
                  </a:lnTo>
                  <a:lnTo>
                    <a:pt x="336" y="684"/>
                  </a:lnTo>
                  <a:lnTo>
                    <a:pt x="300" y="684"/>
                  </a:lnTo>
                  <a:lnTo>
                    <a:pt x="264" y="684"/>
                  </a:lnTo>
                  <a:lnTo>
                    <a:pt x="228" y="696"/>
                  </a:lnTo>
                  <a:lnTo>
                    <a:pt x="192" y="696"/>
                  </a:lnTo>
                  <a:lnTo>
                    <a:pt x="156" y="708"/>
                  </a:lnTo>
                  <a:lnTo>
                    <a:pt x="132" y="744"/>
                  </a:lnTo>
                  <a:lnTo>
                    <a:pt x="120" y="780"/>
                  </a:lnTo>
                  <a:lnTo>
                    <a:pt x="108" y="816"/>
                  </a:lnTo>
                  <a:lnTo>
                    <a:pt x="96" y="852"/>
                  </a:lnTo>
                  <a:lnTo>
                    <a:pt x="96" y="888"/>
                  </a:lnTo>
                  <a:lnTo>
                    <a:pt x="96" y="924"/>
                  </a:lnTo>
                  <a:lnTo>
                    <a:pt x="96" y="972"/>
                  </a:lnTo>
                  <a:lnTo>
                    <a:pt x="120" y="1020"/>
                  </a:lnTo>
                  <a:lnTo>
                    <a:pt x="132" y="1056"/>
                  </a:lnTo>
                  <a:lnTo>
                    <a:pt x="144" y="1092"/>
                  </a:lnTo>
                  <a:lnTo>
                    <a:pt x="168" y="1128"/>
                  </a:lnTo>
                  <a:lnTo>
                    <a:pt x="204" y="1164"/>
                  </a:lnTo>
                  <a:lnTo>
                    <a:pt x="240" y="1176"/>
                  </a:lnTo>
                  <a:lnTo>
                    <a:pt x="276" y="1200"/>
                  </a:lnTo>
                  <a:lnTo>
                    <a:pt x="312" y="1212"/>
                  </a:lnTo>
                  <a:lnTo>
                    <a:pt x="360" y="1212"/>
                  </a:lnTo>
                  <a:lnTo>
                    <a:pt x="408" y="1212"/>
                  </a:lnTo>
                  <a:lnTo>
                    <a:pt x="456" y="1212"/>
                  </a:lnTo>
                  <a:lnTo>
                    <a:pt x="528" y="1212"/>
                  </a:lnTo>
                  <a:lnTo>
                    <a:pt x="600" y="1212"/>
                  </a:lnTo>
                  <a:lnTo>
                    <a:pt x="672" y="1212"/>
                  </a:lnTo>
                  <a:lnTo>
                    <a:pt x="708" y="1212"/>
                  </a:lnTo>
                  <a:lnTo>
                    <a:pt x="756" y="1212"/>
                  </a:lnTo>
                  <a:lnTo>
                    <a:pt x="804" y="1200"/>
                  </a:lnTo>
                  <a:lnTo>
                    <a:pt x="840" y="1200"/>
                  </a:lnTo>
                  <a:lnTo>
                    <a:pt x="936" y="1188"/>
                  </a:lnTo>
                  <a:lnTo>
                    <a:pt x="1008" y="1188"/>
                  </a:lnTo>
                  <a:lnTo>
                    <a:pt x="1044" y="1188"/>
                  </a:lnTo>
                  <a:lnTo>
                    <a:pt x="1080" y="1188"/>
                  </a:lnTo>
                  <a:lnTo>
                    <a:pt x="1128" y="1176"/>
                  </a:lnTo>
                  <a:lnTo>
                    <a:pt x="1176" y="1176"/>
                  </a:lnTo>
                  <a:lnTo>
                    <a:pt x="1212" y="1164"/>
                  </a:lnTo>
                  <a:lnTo>
                    <a:pt x="1260" y="1164"/>
                  </a:lnTo>
                  <a:lnTo>
                    <a:pt x="1296" y="1164"/>
                  </a:lnTo>
                  <a:lnTo>
                    <a:pt x="1332" y="1152"/>
                  </a:lnTo>
                  <a:lnTo>
                    <a:pt x="1368" y="1152"/>
                  </a:lnTo>
                  <a:lnTo>
                    <a:pt x="1404" y="1140"/>
                  </a:lnTo>
                  <a:lnTo>
                    <a:pt x="1440" y="1128"/>
                  </a:lnTo>
                  <a:lnTo>
                    <a:pt x="1536" y="1104"/>
                  </a:lnTo>
                  <a:lnTo>
                    <a:pt x="1572" y="1068"/>
                  </a:lnTo>
                  <a:lnTo>
                    <a:pt x="1608" y="1032"/>
                  </a:lnTo>
                  <a:lnTo>
                    <a:pt x="1644" y="984"/>
                  </a:lnTo>
                  <a:lnTo>
                    <a:pt x="1680" y="936"/>
                  </a:lnTo>
                  <a:lnTo>
                    <a:pt x="1692" y="900"/>
                  </a:lnTo>
                  <a:lnTo>
                    <a:pt x="1692" y="852"/>
                  </a:lnTo>
                  <a:lnTo>
                    <a:pt x="1692" y="756"/>
                  </a:lnTo>
                  <a:lnTo>
                    <a:pt x="1704" y="660"/>
                  </a:lnTo>
                  <a:lnTo>
                    <a:pt x="1704" y="588"/>
                  </a:lnTo>
                  <a:lnTo>
                    <a:pt x="1704" y="540"/>
                  </a:lnTo>
                  <a:lnTo>
                    <a:pt x="1704" y="504"/>
                  </a:lnTo>
                  <a:lnTo>
                    <a:pt x="1692" y="456"/>
                  </a:lnTo>
                  <a:lnTo>
                    <a:pt x="1692" y="360"/>
                  </a:lnTo>
                  <a:lnTo>
                    <a:pt x="1680" y="312"/>
                  </a:lnTo>
                  <a:lnTo>
                    <a:pt x="1680" y="240"/>
                  </a:lnTo>
                  <a:lnTo>
                    <a:pt x="1668" y="192"/>
                  </a:lnTo>
                  <a:lnTo>
                    <a:pt x="1656" y="156"/>
                  </a:lnTo>
                  <a:lnTo>
                    <a:pt x="1644" y="120"/>
                  </a:lnTo>
                  <a:lnTo>
                    <a:pt x="1632" y="72"/>
                  </a:lnTo>
                  <a:lnTo>
                    <a:pt x="1596" y="60"/>
                  </a:lnTo>
                  <a:lnTo>
                    <a:pt x="1548" y="48"/>
                  </a:lnTo>
                  <a:lnTo>
                    <a:pt x="1500" y="36"/>
                  </a:lnTo>
                  <a:lnTo>
                    <a:pt x="1404" y="24"/>
                  </a:lnTo>
                  <a:lnTo>
                    <a:pt x="1308" y="12"/>
                  </a:lnTo>
                  <a:lnTo>
                    <a:pt x="1236" y="12"/>
                  </a:lnTo>
                  <a:lnTo>
                    <a:pt x="1164" y="0"/>
                  </a:lnTo>
                  <a:lnTo>
                    <a:pt x="1068" y="0"/>
                  </a:lnTo>
                  <a:lnTo>
                    <a:pt x="972" y="0"/>
                  </a:lnTo>
                  <a:lnTo>
                    <a:pt x="876" y="0"/>
                  </a:lnTo>
                  <a:lnTo>
                    <a:pt x="804" y="0"/>
                  </a:lnTo>
                  <a:lnTo>
                    <a:pt x="756" y="0"/>
                  </a:lnTo>
                  <a:lnTo>
                    <a:pt x="660" y="0"/>
                  </a:lnTo>
                  <a:lnTo>
                    <a:pt x="576" y="0"/>
                  </a:lnTo>
                  <a:lnTo>
                    <a:pt x="504" y="0"/>
                  </a:lnTo>
                  <a:lnTo>
                    <a:pt x="432" y="0"/>
                  </a:lnTo>
                  <a:lnTo>
                    <a:pt x="336" y="0"/>
                  </a:lnTo>
                  <a:lnTo>
                    <a:pt x="240" y="12"/>
                  </a:lnTo>
                  <a:lnTo>
                    <a:pt x="192" y="12"/>
                  </a:lnTo>
                  <a:lnTo>
                    <a:pt x="156" y="24"/>
                  </a:lnTo>
                  <a:lnTo>
                    <a:pt x="120" y="36"/>
                  </a:lnTo>
                  <a:lnTo>
                    <a:pt x="84" y="72"/>
                  </a:lnTo>
                  <a:lnTo>
                    <a:pt x="48" y="96"/>
                  </a:lnTo>
                  <a:lnTo>
                    <a:pt x="36" y="132"/>
                  </a:lnTo>
                  <a:lnTo>
                    <a:pt x="12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24" y="312"/>
                  </a:lnTo>
                  <a:lnTo>
                    <a:pt x="48" y="348"/>
                  </a:lnTo>
                  <a:lnTo>
                    <a:pt x="84" y="372"/>
                  </a:lnTo>
                  <a:lnTo>
                    <a:pt x="120" y="396"/>
                  </a:lnTo>
                  <a:lnTo>
                    <a:pt x="156" y="420"/>
                  </a:lnTo>
                  <a:lnTo>
                    <a:pt x="144" y="420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6954480" y="452952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78" name="Group 15"/>
          <p:cNvGrpSpPr/>
          <p:nvPr/>
        </p:nvGrpSpPr>
        <p:grpSpPr>
          <a:xfrm>
            <a:off x="1913760" y="4495680"/>
            <a:ext cx="5172840" cy="957240"/>
            <a:chOff x="1913760" y="4495680"/>
            <a:chExt cx="5172840" cy="957240"/>
          </a:xfrm>
        </p:grpSpPr>
        <p:sp>
          <p:nvSpPr>
            <p:cNvPr id="179" name="Freeform 6"/>
            <p:cNvSpPr/>
            <p:nvPr/>
          </p:nvSpPr>
          <p:spPr>
            <a:xfrm>
              <a:off x="5486400" y="4495680"/>
              <a:ext cx="1087560" cy="954000"/>
            </a:xfrm>
            <a:custGeom>
              <a:avLst/>
              <a:gdLst>
                <a:gd name="textAreaLeft" fmla="*/ 0 w 1087560"/>
                <a:gd name="textAreaRight" fmla="*/ 1087920 w 108756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685" h="601">
                  <a:moveTo>
                    <a:pt x="360" y="192"/>
                  </a:moveTo>
                  <a:lnTo>
                    <a:pt x="396" y="204"/>
                  </a:lnTo>
                  <a:lnTo>
                    <a:pt x="432" y="204"/>
                  </a:lnTo>
                  <a:lnTo>
                    <a:pt x="468" y="216"/>
                  </a:lnTo>
                  <a:lnTo>
                    <a:pt x="504" y="228"/>
                  </a:lnTo>
                  <a:lnTo>
                    <a:pt x="540" y="228"/>
                  </a:lnTo>
                  <a:lnTo>
                    <a:pt x="576" y="228"/>
                  </a:lnTo>
                  <a:lnTo>
                    <a:pt x="612" y="228"/>
                  </a:lnTo>
                  <a:lnTo>
                    <a:pt x="648" y="228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  <a:lnTo>
                    <a:pt x="684" y="408"/>
                  </a:lnTo>
                  <a:lnTo>
                    <a:pt x="684" y="444"/>
                  </a:lnTo>
                  <a:lnTo>
                    <a:pt x="684" y="480"/>
                  </a:lnTo>
                  <a:lnTo>
                    <a:pt x="648" y="480"/>
                  </a:lnTo>
                  <a:lnTo>
                    <a:pt x="612" y="480"/>
                  </a:lnTo>
                  <a:lnTo>
                    <a:pt x="576" y="468"/>
                  </a:lnTo>
                  <a:lnTo>
                    <a:pt x="540" y="468"/>
                  </a:lnTo>
                  <a:lnTo>
                    <a:pt x="504" y="468"/>
                  </a:lnTo>
                  <a:lnTo>
                    <a:pt x="468" y="468"/>
                  </a:lnTo>
                  <a:lnTo>
                    <a:pt x="432" y="468"/>
                  </a:lnTo>
                  <a:lnTo>
                    <a:pt x="396" y="468"/>
                  </a:lnTo>
                  <a:lnTo>
                    <a:pt x="360" y="492"/>
                  </a:lnTo>
                  <a:lnTo>
                    <a:pt x="324" y="516"/>
                  </a:lnTo>
                  <a:lnTo>
                    <a:pt x="288" y="540"/>
                  </a:lnTo>
                  <a:lnTo>
                    <a:pt x="252" y="564"/>
                  </a:lnTo>
                  <a:lnTo>
                    <a:pt x="216" y="576"/>
                  </a:lnTo>
                  <a:lnTo>
                    <a:pt x="180" y="588"/>
                  </a:lnTo>
                  <a:lnTo>
                    <a:pt x="144" y="600"/>
                  </a:lnTo>
                  <a:lnTo>
                    <a:pt x="108" y="600"/>
                  </a:lnTo>
                  <a:lnTo>
                    <a:pt x="72" y="600"/>
                  </a:lnTo>
                  <a:lnTo>
                    <a:pt x="36" y="576"/>
                  </a:lnTo>
                  <a:lnTo>
                    <a:pt x="24" y="540"/>
                  </a:lnTo>
                  <a:lnTo>
                    <a:pt x="0" y="504"/>
                  </a:lnTo>
                  <a:lnTo>
                    <a:pt x="0" y="468"/>
                  </a:lnTo>
                  <a:lnTo>
                    <a:pt x="0" y="432"/>
                  </a:lnTo>
                  <a:lnTo>
                    <a:pt x="0" y="396"/>
                  </a:lnTo>
                  <a:lnTo>
                    <a:pt x="0" y="348"/>
                  </a:lnTo>
                  <a:lnTo>
                    <a:pt x="0" y="312"/>
                  </a:lnTo>
                  <a:lnTo>
                    <a:pt x="0" y="264"/>
                  </a:lnTo>
                  <a:lnTo>
                    <a:pt x="12" y="228"/>
                  </a:lnTo>
                  <a:lnTo>
                    <a:pt x="24" y="180"/>
                  </a:lnTo>
                  <a:lnTo>
                    <a:pt x="36" y="84"/>
                  </a:lnTo>
                  <a:lnTo>
                    <a:pt x="60" y="36"/>
                  </a:lnTo>
                  <a:lnTo>
                    <a:pt x="84" y="0"/>
                  </a:lnTo>
                  <a:lnTo>
                    <a:pt x="120" y="0"/>
                  </a:lnTo>
                  <a:lnTo>
                    <a:pt x="156" y="0"/>
                  </a:lnTo>
                  <a:lnTo>
                    <a:pt x="192" y="12"/>
                  </a:lnTo>
                  <a:lnTo>
                    <a:pt x="228" y="36"/>
                  </a:lnTo>
                  <a:lnTo>
                    <a:pt x="264" y="60"/>
                  </a:lnTo>
                  <a:lnTo>
                    <a:pt x="300" y="84"/>
                  </a:lnTo>
                  <a:lnTo>
                    <a:pt x="324" y="120"/>
                  </a:lnTo>
                  <a:lnTo>
                    <a:pt x="348" y="156"/>
                  </a:lnTo>
                  <a:lnTo>
                    <a:pt x="360" y="192"/>
                  </a:lnTo>
                </a:path>
              </a:pathLst>
            </a:custGeom>
            <a:solidFill>
              <a:srgbClr val="3333cc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1913760" y="4876560"/>
              <a:ext cx="45417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omic Sans MS"/>
                </a:rPr>
                <a:t>Competitive inhibitor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Line 11"/>
            <p:cNvSpPr/>
            <p:nvPr/>
          </p:nvSpPr>
          <p:spPr>
            <a:xfrm flipV="1">
              <a:off x="6705720" y="4495680"/>
              <a:ext cx="38088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2" name="Rectangle 19"/>
          <p:cNvSpPr/>
          <p:nvPr/>
        </p:nvSpPr>
        <p:spPr>
          <a:xfrm>
            <a:off x="3352680" y="42670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hibitors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.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Noncompetitive inhibitor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nhibitors tha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do not enter th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but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bind t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nother part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ausing the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change its shap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which in turn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alters the active site</a:t>
            </a:r>
            <a:r>
              <a:rPr b="0" lang="en-US" sz="3600" spc="-1" strike="noStrike">
                <a:solidFill>
                  <a:srgbClr val="cc99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1584360" y="6004080"/>
            <a:ext cx="323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Group 15"/>
          <p:cNvGrpSpPr/>
          <p:nvPr/>
        </p:nvGrpSpPr>
        <p:grpSpPr>
          <a:xfrm>
            <a:off x="3124080" y="4495680"/>
            <a:ext cx="2940120" cy="2057040"/>
            <a:chOff x="3124080" y="4495680"/>
            <a:chExt cx="2940120" cy="2057040"/>
          </a:xfrm>
        </p:grpSpPr>
        <p:sp>
          <p:nvSpPr>
            <p:cNvPr id="188" name="Rectangle 5"/>
            <p:cNvSpPr/>
            <p:nvPr/>
          </p:nvSpPr>
          <p:spPr>
            <a:xfrm>
              <a:off x="4727520" y="4784040"/>
              <a:ext cx="13366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Freeform 8"/>
            <p:cNvSpPr/>
            <p:nvPr/>
          </p:nvSpPr>
          <p:spPr>
            <a:xfrm>
              <a:off x="3124080" y="4495680"/>
              <a:ext cx="2859120" cy="2057040"/>
            </a:xfrm>
            <a:custGeom>
              <a:avLst/>
              <a:gdLst>
                <a:gd name="textAreaLeft" fmla="*/ 0 w 2859120"/>
                <a:gd name="textAreaRight" fmla="*/ 2859120 w 2859120"/>
                <a:gd name="textAreaTop" fmla="*/ 0 h 2057040"/>
                <a:gd name="textAreaBottom" fmla="*/ 2057400 h 2057040"/>
              </a:gdLst>
              <a:ahLst/>
              <a:rect l="textAreaLeft" t="textAreaTop" r="textAreaRight" b="textAreaBottom"/>
              <a:pathLst>
                <a:path w="1801" h="1213">
                  <a:moveTo>
                    <a:pt x="12" y="84"/>
                  </a:moveTo>
                  <a:lnTo>
                    <a:pt x="24" y="120"/>
                  </a:lnTo>
                  <a:lnTo>
                    <a:pt x="48" y="156"/>
                  </a:lnTo>
                  <a:lnTo>
                    <a:pt x="60" y="192"/>
                  </a:lnTo>
                  <a:lnTo>
                    <a:pt x="84" y="228"/>
                  </a:lnTo>
                  <a:lnTo>
                    <a:pt x="120" y="252"/>
                  </a:lnTo>
                  <a:lnTo>
                    <a:pt x="144" y="288"/>
                  </a:lnTo>
                  <a:lnTo>
                    <a:pt x="180" y="312"/>
                  </a:lnTo>
                  <a:lnTo>
                    <a:pt x="216" y="336"/>
                  </a:lnTo>
                  <a:lnTo>
                    <a:pt x="216" y="372"/>
                  </a:lnTo>
                  <a:lnTo>
                    <a:pt x="180" y="492"/>
                  </a:lnTo>
                  <a:lnTo>
                    <a:pt x="156" y="564"/>
                  </a:lnTo>
                  <a:lnTo>
                    <a:pt x="132" y="660"/>
                  </a:lnTo>
                  <a:lnTo>
                    <a:pt x="120" y="732"/>
                  </a:lnTo>
                  <a:lnTo>
                    <a:pt x="96" y="804"/>
                  </a:lnTo>
                  <a:lnTo>
                    <a:pt x="72" y="840"/>
                  </a:lnTo>
                  <a:lnTo>
                    <a:pt x="48" y="876"/>
                  </a:lnTo>
                  <a:lnTo>
                    <a:pt x="48" y="912"/>
                  </a:lnTo>
                  <a:lnTo>
                    <a:pt x="48" y="948"/>
                  </a:lnTo>
                  <a:lnTo>
                    <a:pt x="60" y="984"/>
                  </a:lnTo>
                  <a:lnTo>
                    <a:pt x="96" y="1008"/>
                  </a:lnTo>
                  <a:lnTo>
                    <a:pt x="132" y="1032"/>
                  </a:lnTo>
                  <a:lnTo>
                    <a:pt x="168" y="1056"/>
                  </a:lnTo>
                  <a:lnTo>
                    <a:pt x="204" y="1080"/>
                  </a:lnTo>
                  <a:lnTo>
                    <a:pt x="240" y="1092"/>
                  </a:lnTo>
                  <a:lnTo>
                    <a:pt x="276" y="1116"/>
                  </a:lnTo>
                  <a:lnTo>
                    <a:pt x="312" y="1128"/>
                  </a:lnTo>
                  <a:lnTo>
                    <a:pt x="384" y="1128"/>
                  </a:lnTo>
                  <a:lnTo>
                    <a:pt x="504" y="1152"/>
                  </a:lnTo>
                  <a:lnTo>
                    <a:pt x="576" y="1152"/>
                  </a:lnTo>
                  <a:lnTo>
                    <a:pt x="612" y="1164"/>
                  </a:lnTo>
                  <a:lnTo>
                    <a:pt x="648" y="1164"/>
                  </a:lnTo>
                  <a:lnTo>
                    <a:pt x="744" y="1164"/>
                  </a:lnTo>
                  <a:lnTo>
                    <a:pt x="780" y="1176"/>
                  </a:lnTo>
                  <a:lnTo>
                    <a:pt x="828" y="1176"/>
                  </a:lnTo>
                  <a:lnTo>
                    <a:pt x="876" y="1188"/>
                  </a:lnTo>
                  <a:lnTo>
                    <a:pt x="924" y="1200"/>
                  </a:lnTo>
                  <a:lnTo>
                    <a:pt x="960" y="1200"/>
                  </a:lnTo>
                  <a:lnTo>
                    <a:pt x="996" y="1200"/>
                  </a:lnTo>
                  <a:lnTo>
                    <a:pt x="1044" y="1200"/>
                  </a:lnTo>
                  <a:lnTo>
                    <a:pt x="1092" y="1212"/>
                  </a:lnTo>
                  <a:lnTo>
                    <a:pt x="1140" y="1212"/>
                  </a:lnTo>
                  <a:lnTo>
                    <a:pt x="1176" y="1212"/>
                  </a:lnTo>
                  <a:lnTo>
                    <a:pt x="1248" y="1212"/>
                  </a:lnTo>
                  <a:lnTo>
                    <a:pt x="1344" y="1188"/>
                  </a:lnTo>
                  <a:lnTo>
                    <a:pt x="1392" y="1188"/>
                  </a:lnTo>
                  <a:lnTo>
                    <a:pt x="1440" y="1164"/>
                  </a:lnTo>
                  <a:lnTo>
                    <a:pt x="1524" y="1164"/>
                  </a:lnTo>
                  <a:lnTo>
                    <a:pt x="1596" y="1152"/>
                  </a:lnTo>
                  <a:lnTo>
                    <a:pt x="1692" y="1116"/>
                  </a:lnTo>
                  <a:lnTo>
                    <a:pt x="1728" y="1080"/>
                  </a:lnTo>
                  <a:lnTo>
                    <a:pt x="1752" y="1044"/>
                  </a:lnTo>
                  <a:lnTo>
                    <a:pt x="1776" y="996"/>
                  </a:lnTo>
                  <a:lnTo>
                    <a:pt x="1788" y="900"/>
                  </a:lnTo>
                  <a:lnTo>
                    <a:pt x="1800" y="828"/>
                  </a:lnTo>
                  <a:lnTo>
                    <a:pt x="1800" y="732"/>
                  </a:lnTo>
                  <a:lnTo>
                    <a:pt x="1800" y="684"/>
                  </a:lnTo>
                  <a:lnTo>
                    <a:pt x="1776" y="648"/>
                  </a:lnTo>
                  <a:lnTo>
                    <a:pt x="1764" y="612"/>
                  </a:lnTo>
                  <a:lnTo>
                    <a:pt x="1752" y="576"/>
                  </a:lnTo>
                  <a:lnTo>
                    <a:pt x="1716" y="552"/>
                  </a:lnTo>
                  <a:lnTo>
                    <a:pt x="1716" y="516"/>
                  </a:lnTo>
                  <a:lnTo>
                    <a:pt x="1716" y="480"/>
                  </a:lnTo>
                  <a:lnTo>
                    <a:pt x="1716" y="444"/>
                  </a:lnTo>
                  <a:lnTo>
                    <a:pt x="1716" y="408"/>
                  </a:lnTo>
                  <a:lnTo>
                    <a:pt x="1716" y="372"/>
                  </a:lnTo>
                  <a:lnTo>
                    <a:pt x="1728" y="336"/>
                  </a:lnTo>
                  <a:lnTo>
                    <a:pt x="1740" y="300"/>
                  </a:lnTo>
                  <a:lnTo>
                    <a:pt x="1740" y="264"/>
                  </a:lnTo>
                  <a:lnTo>
                    <a:pt x="1740" y="216"/>
                  </a:lnTo>
                  <a:lnTo>
                    <a:pt x="1740" y="180"/>
                  </a:lnTo>
                  <a:lnTo>
                    <a:pt x="1740" y="144"/>
                  </a:lnTo>
                  <a:lnTo>
                    <a:pt x="1740" y="108"/>
                  </a:lnTo>
                  <a:lnTo>
                    <a:pt x="1704" y="84"/>
                  </a:lnTo>
                  <a:lnTo>
                    <a:pt x="1668" y="72"/>
                  </a:lnTo>
                  <a:lnTo>
                    <a:pt x="1632" y="60"/>
                  </a:lnTo>
                  <a:lnTo>
                    <a:pt x="1596" y="60"/>
                  </a:lnTo>
                  <a:lnTo>
                    <a:pt x="1560" y="60"/>
                  </a:lnTo>
                  <a:lnTo>
                    <a:pt x="1488" y="60"/>
                  </a:lnTo>
                  <a:lnTo>
                    <a:pt x="1404" y="60"/>
                  </a:lnTo>
                  <a:lnTo>
                    <a:pt x="1332" y="60"/>
                  </a:lnTo>
                  <a:lnTo>
                    <a:pt x="1260" y="60"/>
                  </a:lnTo>
                  <a:lnTo>
                    <a:pt x="1188" y="60"/>
                  </a:lnTo>
                  <a:lnTo>
                    <a:pt x="1092" y="60"/>
                  </a:lnTo>
                  <a:lnTo>
                    <a:pt x="1056" y="60"/>
                  </a:lnTo>
                  <a:lnTo>
                    <a:pt x="1020" y="60"/>
                  </a:lnTo>
                  <a:lnTo>
                    <a:pt x="972" y="48"/>
                  </a:lnTo>
                  <a:lnTo>
                    <a:pt x="900" y="48"/>
                  </a:lnTo>
                  <a:lnTo>
                    <a:pt x="804" y="36"/>
                  </a:lnTo>
                  <a:lnTo>
                    <a:pt x="756" y="36"/>
                  </a:lnTo>
                  <a:lnTo>
                    <a:pt x="672" y="24"/>
                  </a:lnTo>
                  <a:lnTo>
                    <a:pt x="636" y="24"/>
                  </a:lnTo>
                  <a:lnTo>
                    <a:pt x="600" y="24"/>
                  </a:lnTo>
                  <a:lnTo>
                    <a:pt x="564" y="24"/>
                  </a:lnTo>
                  <a:lnTo>
                    <a:pt x="516" y="24"/>
                  </a:lnTo>
                  <a:lnTo>
                    <a:pt x="468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0"/>
                  </a:lnTo>
                  <a:lnTo>
                    <a:pt x="324" y="0"/>
                  </a:lnTo>
                  <a:lnTo>
                    <a:pt x="276" y="0"/>
                  </a:lnTo>
                  <a:lnTo>
                    <a:pt x="240" y="0"/>
                  </a:lnTo>
                  <a:lnTo>
                    <a:pt x="204" y="0"/>
                  </a:lnTo>
                  <a:lnTo>
                    <a:pt x="120" y="0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12" y="84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9"/>
            <p:cNvSpPr/>
            <p:nvPr/>
          </p:nvSpPr>
          <p:spPr>
            <a:xfrm>
              <a:off x="3773160" y="5111280"/>
              <a:ext cx="1353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1" name="Group 18"/>
          <p:cNvGrpSpPr/>
          <p:nvPr/>
        </p:nvGrpSpPr>
        <p:grpSpPr>
          <a:xfrm>
            <a:off x="1376280" y="5029200"/>
            <a:ext cx="2052360" cy="1333080"/>
            <a:chOff x="1376280" y="5029200"/>
            <a:chExt cx="2052360" cy="1333080"/>
          </a:xfrm>
        </p:grpSpPr>
        <p:sp>
          <p:nvSpPr>
            <p:cNvPr id="192" name="Rectangle 12"/>
            <p:cNvSpPr/>
            <p:nvPr/>
          </p:nvSpPr>
          <p:spPr>
            <a:xfrm>
              <a:off x="1376280" y="5420160"/>
              <a:ext cx="1996560" cy="94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ctive site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   </a:t>
              </a:r>
              <a:r>
                <a:rPr b="1" lang="en-US" sz="2800" spc="-1" strike="noStrike">
                  <a:solidFill>
                    <a:srgbClr val="ffffff"/>
                  </a:solidFill>
                  <a:latin typeface="Comic Sans MS"/>
                </a:rPr>
                <a:t>altered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Freeform 13"/>
            <p:cNvSpPr/>
            <p:nvPr/>
          </p:nvSpPr>
          <p:spPr>
            <a:xfrm>
              <a:off x="2959920" y="5029200"/>
              <a:ext cx="468720" cy="403560"/>
            </a:xfrm>
            <a:custGeom>
              <a:avLst/>
              <a:gdLst>
                <a:gd name="textAreaLeft" fmla="*/ 0 w 468720"/>
                <a:gd name="textAreaRight" fmla="*/ 469080 w 468720"/>
                <a:gd name="textAreaTop" fmla="*/ 0 h 403560"/>
                <a:gd name="textAreaBottom" fmla="*/ 403920 h 403560"/>
              </a:gdLst>
              <a:ahLst/>
              <a:rect l="textAreaLeft" t="textAreaTop" r="textAreaRight" b="textAreaBottom"/>
              <a:pathLst>
                <a:path w="265" h="289">
                  <a:moveTo>
                    <a:pt x="264" y="0"/>
                  </a:moveTo>
                  <a:lnTo>
                    <a:pt x="240" y="36"/>
                  </a:lnTo>
                  <a:lnTo>
                    <a:pt x="204" y="60"/>
                  </a:lnTo>
                  <a:lnTo>
                    <a:pt x="168" y="96"/>
                  </a:lnTo>
                  <a:lnTo>
                    <a:pt x="132" y="132"/>
                  </a:lnTo>
                  <a:lnTo>
                    <a:pt x="96" y="156"/>
                  </a:lnTo>
                  <a:lnTo>
                    <a:pt x="72" y="192"/>
                  </a:lnTo>
                  <a:lnTo>
                    <a:pt x="48" y="228"/>
                  </a:lnTo>
                  <a:lnTo>
                    <a:pt x="12" y="252"/>
                  </a:lnTo>
                  <a:lnTo>
                    <a:pt x="0" y="288"/>
                  </a:lnTo>
                </a:path>
              </a:pathLst>
            </a:custGeom>
            <a:noFill/>
            <a:ln cap="rnd" w="5076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94" name="Group 17"/>
          <p:cNvGrpSpPr/>
          <p:nvPr/>
        </p:nvGrpSpPr>
        <p:grpSpPr>
          <a:xfrm>
            <a:off x="5715000" y="4648320"/>
            <a:ext cx="3248640" cy="1024920"/>
            <a:chOff x="5715000" y="4648320"/>
            <a:chExt cx="3248640" cy="1024920"/>
          </a:xfrm>
        </p:grpSpPr>
        <p:sp>
          <p:nvSpPr>
            <p:cNvPr id="195" name="AutoShape 10"/>
            <p:cNvSpPr/>
            <p:nvPr/>
          </p:nvSpPr>
          <p:spPr>
            <a:xfrm flipH="1" flipV="1" rot="10800000">
              <a:off x="5715000" y="4772160"/>
              <a:ext cx="482400" cy="849960"/>
            </a:xfrm>
            <a:custGeom>
              <a:avLst/>
              <a:gdLst>
                <a:gd name="textAreaLeft" fmla="*/ 99720 w 482400"/>
                <a:gd name="textAreaRight" fmla="*/ 382680 w 482400"/>
                <a:gd name="textAreaTop" fmla="*/ 176400 h 849960"/>
                <a:gd name="textAreaBottom" fmla="*/ 673560 h 84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399" y="21600"/>
                  </a:lnTo>
                  <a:lnTo>
                    <a:pt x="1620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322320" y="4648320"/>
              <a:ext cx="26413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Noncompetitiv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Inhibitor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Freeform 14"/>
            <p:cNvSpPr/>
            <p:nvPr/>
          </p:nvSpPr>
          <p:spPr>
            <a:xfrm>
              <a:off x="6242040" y="5507280"/>
              <a:ext cx="973080" cy="16596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613" h="97">
                  <a:moveTo>
                    <a:pt x="612" y="36"/>
                  </a:moveTo>
                  <a:lnTo>
                    <a:pt x="576" y="72"/>
                  </a:lnTo>
                  <a:lnTo>
                    <a:pt x="540" y="84"/>
                  </a:lnTo>
                  <a:lnTo>
                    <a:pt x="492" y="96"/>
                  </a:lnTo>
                  <a:lnTo>
                    <a:pt x="456" y="96"/>
                  </a:lnTo>
                  <a:lnTo>
                    <a:pt x="420" y="96"/>
                  </a:lnTo>
                  <a:lnTo>
                    <a:pt x="372" y="96"/>
                  </a:lnTo>
                  <a:lnTo>
                    <a:pt x="336" y="96"/>
                  </a:lnTo>
                  <a:lnTo>
                    <a:pt x="288" y="96"/>
                  </a:lnTo>
                  <a:lnTo>
                    <a:pt x="252" y="96"/>
                  </a:lnTo>
                  <a:lnTo>
                    <a:pt x="216" y="96"/>
                  </a:lnTo>
                  <a:lnTo>
                    <a:pt x="180" y="84"/>
                  </a:lnTo>
                  <a:lnTo>
                    <a:pt x="132" y="84"/>
                  </a:lnTo>
                  <a:lnTo>
                    <a:pt x="96" y="72"/>
                  </a:lnTo>
                  <a:lnTo>
                    <a:pt x="60" y="60"/>
                  </a:lnTo>
                  <a:lnTo>
                    <a:pt x="24" y="36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Line 21"/>
          <p:cNvSpPr/>
          <p:nvPr/>
        </p:nvSpPr>
        <p:spPr>
          <a:xfrm flipH="1">
            <a:off x="6019920" y="5181480"/>
            <a:ext cx="914400" cy="152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Rectangle 23"/>
          <p:cNvSpPr/>
          <p:nvPr/>
        </p:nvSpPr>
        <p:spPr>
          <a:xfrm>
            <a:off x="914400" y="4724280"/>
            <a:ext cx="1828800" cy="533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Місце для нижнього колонтитула 4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Comic Sans MS"/>
              </a:rPr>
              <a:t>What Are Enzymes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Most enzymes are </a:t>
            </a:r>
            <a:r>
              <a:rPr b="1" lang="en-US" sz="3200" spc="-1" strike="noStrike">
                <a:solidFill>
                  <a:srgbClr val="cc9900"/>
                </a:solidFill>
                <a:latin typeface="Comic Sans MS"/>
                <a:ea typeface="Arial"/>
              </a:rPr>
              <a:t>Proteins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tertiary and quaternary structures)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ct as 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Cataly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to  accelerates a reaction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  <a:ea typeface="Arial"/>
              </a:rPr>
              <a:t>Not permanently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changed in the proc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1" name="Picture 10" descr="WPPHOTO2[1]"/>
          <p:cNvPicPr/>
          <p:nvPr/>
        </p:nvPicPr>
        <p:blipFill>
          <a:blip r:embed="rId1"/>
          <a:stretch/>
        </p:blipFill>
        <p:spPr>
          <a:xfrm>
            <a:off x="4648320" y="866880"/>
            <a:ext cx="4495680" cy="4667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 specific  for what they will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catalyz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r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usabl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d in –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Sucr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Lac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	</a:t>
            </a:r>
            <a:r>
              <a:rPr b="1" i="1" lang="en-US" sz="3600" spc="-1" strike="noStrike">
                <a:solidFill>
                  <a:srgbClr val="cc9900"/>
                </a:solidFill>
                <a:latin typeface="Comic Sans MS"/>
              </a:rPr>
              <a:t>-Maltase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5" name="Picture 9" descr="enzyme[1]"/>
          <p:cNvPicPr/>
          <p:nvPr/>
        </p:nvPicPr>
        <p:blipFill>
          <a:blip r:embed="rId1"/>
          <a:srcRect l="0" t="0" r="0" b="19369"/>
          <a:stretch/>
        </p:blipFill>
        <p:spPr>
          <a:xfrm>
            <a:off x="4419720" y="1084320"/>
            <a:ext cx="4495680" cy="440208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How do enzymes Work?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s work by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weakening bonds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which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lowers activation energy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99" name="Picture 8" descr="ecb3x13Ea[1]"/>
          <p:cNvPicPr/>
          <p:nvPr/>
        </p:nvPicPr>
        <p:blipFill>
          <a:blip r:embed="rId1"/>
          <a:stretch/>
        </p:blipFill>
        <p:spPr>
          <a:xfrm>
            <a:off x="4648320" y="1058760"/>
            <a:ext cx="4495680" cy="428148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Enzymes</a:t>
            </a:r>
            <a:endParaRPr b="0" lang="en-US" sz="5400" spc="-1" strike="noStrike">
              <a:solidFill>
                <a:srgbClr val="ffffff"/>
              </a:solidFill>
              <a:latin typeface="Hemi Head 426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507600" y="2590920"/>
            <a:ext cx="7930080" cy="3717000"/>
            <a:chOff x="507600" y="2590920"/>
            <a:chExt cx="7930080" cy="3717000"/>
          </a:xfrm>
        </p:grpSpPr>
        <p:sp>
          <p:nvSpPr>
            <p:cNvPr id="103" name="Line 5"/>
            <p:cNvSpPr/>
            <p:nvPr/>
          </p:nvSpPr>
          <p:spPr>
            <a:xfrm>
              <a:off x="2057400" y="2590920"/>
              <a:ext cx="0" cy="3047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Line 6"/>
            <p:cNvSpPr/>
            <p:nvPr/>
          </p:nvSpPr>
          <p:spPr>
            <a:xfrm>
              <a:off x="2057400" y="5638680"/>
              <a:ext cx="50799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507600" y="3338640"/>
              <a:ext cx="123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Fre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Energ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2268360" y="5853240"/>
              <a:ext cx="3845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Progress of the reactio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9"/>
            <p:cNvSpPr/>
            <p:nvPr/>
          </p:nvSpPr>
          <p:spPr>
            <a:xfrm>
              <a:off x="6045120" y="6095880"/>
              <a:ext cx="558720" cy="0"/>
            </a:xfrm>
            <a:prstGeom prst="line">
              <a:avLst/>
            </a:prstGeom>
            <a:ln w="50760">
              <a:solidFill>
                <a:srgbClr val="33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Line 10"/>
            <p:cNvSpPr/>
            <p:nvPr/>
          </p:nvSpPr>
          <p:spPr>
            <a:xfrm>
              <a:off x="2082960" y="403848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11"/>
            <p:cNvSpPr/>
            <p:nvPr/>
          </p:nvSpPr>
          <p:spPr>
            <a:xfrm>
              <a:off x="2082960" y="3276720"/>
              <a:ext cx="4978080" cy="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2016720" y="4092480"/>
              <a:ext cx="1325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Reactan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5383800" y="5235480"/>
              <a:ext cx="1196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Produc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Rectangle 14"/>
            <p:cNvSpPr/>
            <p:nvPr/>
          </p:nvSpPr>
          <p:spPr>
            <a:xfrm>
              <a:off x="5392800" y="3483000"/>
              <a:ext cx="3044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dc0081"/>
                  </a:solidFill>
                  <a:latin typeface="Comic Sans MS"/>
                </a:rPr>
                <a:t>Free energy of activa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AutoShape 15"/>
            <p:cNvSpPr/>
            <p:nvPr/>
          </p:nvSpPr>
          <p:spPr>
            <a:xfrm>
              <a:off x="5105520" y="3276720"/>
              <a:ext cx="228600" cy="76176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4495680" y="1676520"/>
            <a:ext cx="3911400" cy="1092240"/>
            <a:chOff x="4495680" y="1676520"/>
            <a:chExt cx="3911400" cy="1092240"/>
          </a:xfrm>
        </p:grpSpPr>
        <p:sp>
          <p:nvSpPr>
            <p:cNvPr id="115" name="Rectangle 17"/>
            <p:cNvSpPr/>
            <p:nvPr/>
          </p:nvSpPr>
          <p:spPr>
            <a:xfrm>
              <a:off x="5445000" y="1787760"/>
              <a:ext cx="255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6" name="Rectangle 18"/>
            <p:cNvSpPr/>
            <p:nvPr/>
          </p:nvSpPr>
          <p:spPr>
            <a:xfrm>
              <a:off x="4495680" y="1676520"/>
              <a:ext cx="3911400" cy="109224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7" name="Line 19"/>
            <p:cNvSpPr/>
            <p:nvPr/>
          </p:nvSpPr>
          <p:spPr>
            <a:xfrm>
              <a:off x="4724280" y="1955880"/>
              <a:ext cx="482400" cy="0"/>
            </a:xfrm>
            <a:prstGeom prst="line">
              <a:avLst/>
            </a:prstGeom>
            <a:ln w="507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8" name="Rectangle 20"/>
            <p:cNvSpPr/>
            <p:nvPr/>
          </p:nvSpPr>
          <p:spPr>
            <a:xfrm>
              <a:off x="5250600" y="1713240"/>
              <a:ext cx="2673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out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Line 21"/>
            <p:cNvSpPr/>
            <p:nvPr/>
          </p:nvSpPr>
          <p:spPr>
            <a:xfrm>
              <a:off x="4724280" y="2413080"/>
              <a:ext cx="48240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0" name="Rectangle 22"/>
            <p:cNvSpPr/>
            <p:nvPr/>
          </p:nvSpPr>
          <p:spPr>
            <a:xfrm>
              <a:off x="5280120" y="2170440"/>
              <a:ext cx="215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With Enzym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1" name="Freeform 24"/>
          <p:cNvSpPr/>
          <p:nvPr/>
        </p:nvSpPr>
        <p:spPr>
          <a:xfrm>
            <a:off x="2057400" y="2362320"/>
            <a:ext cx="3429000" cy="327636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12" h="2128">
                <a:moveTo>
                  <a:pt x="0" y="1168"/>
                </a:moveTo>
                <a:cubicBezTo>
                  <a:pt x="184" y="584"/>
                  <a:pt x="368" y="0"/>
                  <a:pt x="720" y="160"/>
                </a:cubicBezTo>
                <a:cubicBezTo>
                  <a:pt x="1072" y="320"/>
                  <a:pt x="1880" y="1800"/>
                  <a:pt x="2112" y="2128"/>
                </a:cubicBezTo>
              </a:path>
            </a:pathLst>
          </a:custGeom>
          <a:noFill/>
          <a:ln w="572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Freeform 27"/>
          <p:cNvSpPr/>
          <p:nvPr/>
        </p:nvSpPr>
        <p:spPr>
          <a:xfrm>
            <a:off x="2057400" y="3124080"/>
            <a:ext cx="3429000" cy="25146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" h="1656">
                <a:moveTo>
                  <a:pt x="0" y="648"/>
                </a:moveTo>
                <a:cubicBezTo>
                  <a:pt x="204" y="324"/>
                  <a:pt x="408" y="0"/>
                  <a:pt x="768" y="168"/>
                </a:cubicBezTo>
                <a:cubicBezTo>
                  <a:pt x="1128" y="336"/>
                  <a:pt x="1644" y="996"/>
                  <a:pt x="2160" y="1656"/>
                </a:cubicBezTo>
              </a:path>
            </a:pathLst>
          </a:custGeom>
          <a:noFill/>
          <a:ln w="5724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6" name="Picture 4" descr="Enzymes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Enzyme-Substrate Complex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substanc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(reactant) an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acts on is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4267080" y="2895480"/>
            <a:ext cx="4440240" cy="3601800"/>
            <a:chOff x="4267080" y="2895480"/>
            <a:chExt cx="4440240" cy="3601800"/>
          </a:xfrm>
        </p:grpSpPr>
        <p:sp>
          <p:nvSpPr>
            <p:cNvPr id="131" name="Freeform 4"/>
            <p:cNvSpPr/>
            <p:nvPr/>
          </p:nvSpPr>
          <p:spPr>
            <a:xfrm>
              <a:off x="4267080" y="2895480"/>
              <a:ext cx="4440240" cy="36018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601800"/>
                <a:gd name="textAreaBottom" fmla="*/ 3602160 h 36018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Rectangle 5"/>
            <p:cNvSpPr/>
            <p:nvPr/>
          </p:nvSpPr>
          <p:spPr>
            <a:xfrm>
              <a:off x="5903640" y="412272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Rectangle 14"/>
          <p:cNvSpPr/>
          <p:nvPr/>
        </p:nvSpPr>
        <p:spPr>
          <a:xfrm>
            <a:off x="1447920" y="38862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AutoShape 16"/>
          <p:cNvSpPr/>
          <p:nvPr/>
        </p:nvSpPr>
        <p:spPr>
          <a:xfrm>
            <a:off x="3581280" y="3809880"/>
            <a:ext cx="1676520" cy="838440"/>
          </a:xfrm>
          <a:prstGeom prst="rightArrow">
            <a:avLst>
              <a:gd name="adj1" fmla="val 50000"/>
              <a:gd name="adj2" fmla="val 49989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ctive Site</a:t>
            </a:r>
            <a:endParaRPr b="0" lang="en-US" sz="44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restricted regio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f an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nzym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molecule which </a:t>
            </a:r>
            <a:r>
              <a:rPr b="1" lang="en-US" sz="3600" spc="-1" strike="noStrike">
                <a:solidFill>
                  <a:srgbClr val="cc9900"/>
                </a:solidFill>
                <a:latin typeface="Comic Sans MS"/>
              </a:rPr>
              <a:t>bind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o the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bstrat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pSp>
        <p:nvGrpSpPr>
          <p:cNvPr id="138" name="Group 11"/>
          <p:cNvGrpSpPr/>
          <p:nvPr/>
        </p:nvGrpSpPr>
        <p:grpSpPr>
          <a:xfrm>
            <a:off x="4343400" y="2819520"/>
            <a:ext cx="4440240" cy="3144600"/>
            <a:chOff x="4343400" y="2819520"/>
            <a:chExt cx="4440240" cy="3144600"/>
          </a:xfrm>
        </p:grpSpPr>
        <p:sp>
          <p:nvSpPr>
            <p:cNvPr id="139" name="Freeform 4"/>
            <p:cNvSpPr/>
            <p:nvPr/>
          </p:nvSpPr>
          <p:spPr>
            <a:xfrm>
              <a:off x="4343400" y="2819520"/>
              <a:ext cx="4440240" cy="3144600"/>
            </a:xfrm>
            <a:custGeom>
              <a:avLst/>
              <a:gdLst>
                <a:gd name="textAreaLeft" fmla="*/ 0 w 4440240"/>
                <a:gd name="textAreaRight" fmla="*/ 4440600 w 4440240"/>
                <a:gd name="textAreaTop" fmla="*/ 0 h 3144600"/>
                <a:gd name="textAreaBottom" fmla="*/ 3144960 h 3144600"/>
              </a:gdLst>
              <a:ahLst/>
              <a:rect l="textAreaLeft" t="textAreaTop" r="textAreaRight" b="textAreaBottom"/>
              <a:pathLst>
                <a:path w="2797" h="1981">
                  <a:moveTo>
                    <a:pt x="192" y="396"/>
                  </a:moveTo>
                  <a:lnTo>
                    <a:pt x="228" y="396"/>
                  </a:lnTo>
                  <a:lnTo>
                    <a:pt x="264" y="408"/>
                  </a:lnTo>
                  <a:lnTo>
                    <a:pt x="300" y="408"/>
                  </a:lnTo>
                  <a:lnTo>
                    <a:pt x="336" y="408"/>
                  </a:lnTo>
                  <a:lnTo>
                    <a:pt x="372" y="420"/>
                  </a:lnTo>
                  <a:lnTo>
                    <a:pt x="408" y="420"/>
                  </a:lnTo>
                  <a:lnTo>
                    <a:pt x="444" y="432"/>
                  </a:lnTo>
                  <a:lnTo>
                    <a:pt x="492" y="432"/>
                  </a:lnTo>
                  <a:lnTo>
                    <a:pt x="528" y="432"/>
                  </a:lnTo>
                  <a:lnTo>
                    <a:pt x="564" y="432"/>
                  </a:lnTo>
                  <a:lnTo>
                    <a:pt x="600" y="432"/>
                  </a:lnTo>
                  <a:lnTo>
                    <a:pt x="648" y="444"/>
                  </a:lnTo>
                  <a:lnTo>
                    <a:pt x="684" y="444"/>
                  </a:lnTo>
                  <a:lnTo>
                    <a:pt x="708" y="480"/>
                  </a:lnTo>
                  <a:lnTo>
                    <a:pt x="720" y="516"/>
                  </a:lnTo>
                  <a:lnTo>
                    <a:pt x="720" y="552"/>
                  </a:lnTo>
                  <a:lnTo>
                    <a:pt x="720" y="588"/>
                  </a:lnTo>
                  <a:lnTo>
                    <a:pt x="720" y="624"/>
                  </a:lnTo>
                  <a:lnTo>
                    <a:pt x="720" y="660"/>
                  </a:lnTo>
                  <a:lnTo>
                    <a:pt x="720" y="708"/>
                  </a:lnTo>
                  <a:lnTo>
                    <a:pt x="720" y="744"/>
                  </a:lnTo>
                  <a:lnTo>
                    <a:pt x="720" y="780"/>
                  </a:lnTo>
                  <a:lnTo>
                    <a:pt x="720" y="816"/>
                  </a:lnTo>
                  <a:lnTo>
                    <a:pt x="720" y="852"/>
                  </a:lnTo>
                  <a:lnTo>
                    <a:pt x="720" y="888"/>
                  </a:lnTo>
                  <a:lnTo>
                    <a:pt x="720" y="924"/>
                  </a:lnTo>
                  <a:lnTo>
                    <a:pt x="720" y="960"/>
                  </a:lnTo>
                  <a:lnTo>
                    <a:pt x="720" y="996"/>
                  </a:lnTo>
                  <a:lnTo>
                    <a:pt x="708" y="1032"/>
                  </a:lnTo>
                  <a:lnTo>
                    <a:pt x="672" y="1056"/>
                  </a:lnTo>
                  <a:lnTo>
                    <a:pt x="636" y="1056"/>
                  </a:lnTo>
                  <a:lnTo>
                    <a:pt x="588" y="1056"/>
                  </a:lnTo>
                  <a:lnTo>
                    <a:pt x="516" y="1056"/>
                  </a:lnTo>
                  <a:lnTo>
                    <a:pt x="468" y="1056"/>
                  </a:lnTo>
                  <a:lnTo>
                    <a:pt x="432" y="1056"/>
                  </a:lnTo>
                  <a:lnTo>
                    <a:pt x="396" y="1056"/>
                  </a:lnTo>
                  <a:lnTo>
                    <a:pt x="360" y="1056"/>
                  </a:lnTo>
                  <a:lnTo>
                    <a:pt x="324" y="1056"/>
                  </a:lnTo>
                  <a:lnTo>
                    <a:pt x="288" y="1056"/>
                  </a:lnTo>
                  <a:lnTo>
                    <a:pt x="252" y="1056"/>
                  </a:lnTo>
                  <a:lnTo>
                    <a:pt x="216" y="1056"/>
                  </a:lnTo>
                  <a:lnTo>
                    <a:pt x="180" y="1068"/>
                  </a:lnTo>
                  <a:lnTo>
                    <a:pt x="144" y="1092"/>
                  </a:lnTo>
                  <a:lnTo>
                    <a:pt x="108" y="1140"/>
                  </a:lnTo>
                  <a:lnTo>
                    <a:pt x="96" y="1176"/>
                  </a:lnTo>
                  <a:lnTo>
                    <a:pt x="84" y="1248"/>
                  </a:lnTo>
                  <a:lnTo>
                    <a:pt x="72" y="1296"/>
                  </a:lnTo>
                  <a:lnTo>
                    <a:pt x="72" y="1344"/>
                  </a:lnTo>
                  <a:lnTo>
                    <a:pt x="72" y="1392"/>
                  </a:lnTo>
                  <a:lnTo>
                    <a:pt x="96" y="1440"/>
                  </a:lnTo>
                  <a:lnTo>
                    <a:pt x="144" y="1464"/>
                  </a:lnTo>
                  <a:lnTo>
                    <a:pt x="180" y="1500"/>
                  </a:lnTo>
                  <a:lnTo>
                    <a:pt x="216" y="1536"/>
                  </a:lnTo>
                  <a:lnTo>
                    <a:pt x="252" y="1584"/>
                  </a:lnTo>
                  <a:lnTo>
                    <a:pt x="276" y="1632"/>
                  </a:lnTo>
                  <a:lnTo>
                    <a:pt x="276" y="1680"/>
                  </a:lnTo>
                  <a:lnTo>
                    <a:pt x="288" y="1728"/>
                  </a:lnTo>
                  <a:lnTo>
                    <a:pt x="300" y="1776"/>
                  </a:lnTo>
                  <a:lnTo>
                    <a:pt x="324" y="1812"/>
                  </a:lnTo>
                  <a:lnTo>
                    <a:pt x="396" y="1824"/>
                  </a:lnTo>
                  <a:lnTo>
                    <a:pt x="468" y="1848"/>
                  </a:lnTo>
                  <a:lnTo>
                    <a:pt x="564" y="1848"/>
                  </a:lnTo>
                  <a:lnTo>
                    <a:pt x="636" y="1860"/>
                  </a:lnTo>
                  <a:lnTo>
                    <a:pt x="672" y="1860"/>
                  </a:lnTo>
                  <a:lnTo>
                    <a:pt x="720" y="1824"/>
                  </a:lnTo>
                  <a:lnTo>
                    <a:pt x="744" y="1752"/>
                  </a:lnTo>
                  <a:lnTo>
                    <a:pt x="780" y="1704"/>
                  </a:lnTo>
                  <a:lnTo>
                    <a:pt x="816" y="1680"/>
                  </a:lnTo>
                  <a:lnTo>
                    <a:pt x="900" y="1668"/>
                  </a:lnTo>
                  <a:lnTo>
                    <a:pt x="972" y="1680"/>
                  </a:lnTo>
                  <a:lnTo>
                    <a:pt x="1068" y="1692"/>
                  </a:lnTo>
                  <a:lnTo>
                    <a:pt x="1116" y="1740"/>
                  </a:lnTo>
                  <a:lnTo>
                    <a:pt x="1140" y="1788"/>
                  </a:lnTo>
                  <a:lnTo>
                    <a:pt x="1152" y="1824"/>
                  </a:lnTo>
                  <a:lnTo>
                    <a:pt x="1188" y="1872"/>
                  </a:lnTo>
                  <a:lnTo>
                    <a:pt x="1236" y="1884"/>
                  </a:lnTo>
                  <a:lnTo>
                    <a:pt x="1308" y="1884"/>
                  </a:lnTo>
                  <a:lnTo>
                    <a:pt x="1380" y="1884"/>
                  </a:lnTo>
                  <a:lnTo>
                    <a:pt x="1476" y="1884"/>
                  </a:lnTo>
                  <a:lnTo>
                    <a:pt x="1524" y="1896"/>
                  </a:lnTo>
                  <a:lnTo>
                    <a:pt x="1596" y="1884"/>
                  </a:lnTo>
                  <a:lnTo>
                    <a:pt x="1692" y="1860"/>
                  </a:lnTo>
                  <a:lnTo>
                    <a:pt x="1788" y="1848"/>
                  </a:lnTo>
                  <a:lnTo>
                    <a:pt x="1908" y="1848"/>
                  </a:lnTo>
                  <a:lnTo>
                    <a:pt x="2028" y="1872"/>
                  </a:lnTo>
                  <a:lnTo>
                    <a:pt x="2148" y="1884"/>
                  </a:lnTo>
                  <a:lnTo>
                    <a:pt x="2268" y="1908"/>
                  </a:lnTo>
                  <a:lnTo>
                    <a:pt x="2364" y="1920"/>
                  </a:lnTo>
                  <a:lnTo>
                    <a:pt x="2436" y="1932"/>
                  </a:lnTo>
                  <a:lnTo>
                    <a:pt x="2508" y="1956"/>
                  </a:lnTo>
                  <a:lnTo>
                    <a:pt x="2544" y="1968"/>
                  </a:lnTo>
                  <a:lnTo>
                    <a:pt x="2592" y="1980"/>
                  </a:lnTo>
                  <a:lnTo>
                    <a:pt x="2640" y="1956"/>
                  </a:lnTo>
                  <a:lnTo>
                    <a:pt x="2688" y="1932"/>
                  </a:lnTo>
                  <a:lnTo>
                    <a:pt x="2736" y="1884"/>
                  </a:lnTo>
                  <a:lnTo>
                    <a:pt x="2748" y="1812"/>
                  </a:lnTo>
                  <a:lnTo>
                    <a:pt x="2772" y="1716"/>
                  </a:lnTo>
                  <a:lnTo>
                    <a:pt x="2784" y="1644"/>
                  </a:lnTo>
                  <a:lnTo>
                    <a:pt x="2784" y="1572"/>
                  </a:lnTo>
                  <a:lnTo>
                    <a:pt x="2796" y="1500"/>
                  </a:lnTo>
                  <a:lnTo>
                    <a:pt x="2796" y="1404"/>
                  </a:lnTo>
                  <a:lnTo>
                    <a:pt x="2784" y="1308"/>
                  </a:lnTo>
                  <a:lnTo>
                    <a:pt x="2760" y="1260"/>
                  </a:lnTo>
                  <a:lnTo>
                    <a:pt x="2748" y="1188"/>
                  </a:lnTo>
                  <a:lnTo>
                    <a:pt x="2724" y="1116"/>
                  </a:lnTo>
                  <a:lnTo>
                    <a:pt x="2712" y="1044"/>
                  </a:lnTo>
                  <a:lnTo>
                    <a:pt x="2700" y="948"/>
                  </a:lnTo>
                  <a:lnTo>
                    <a:pt x="2688" y="876"/>
                  </a:lnTo>
                  <a:lnTo>
                    <a:pt x="2676" y="780"/>
                  </a:lnTo>
                  <a:lnTo>
                    <a:pt x="2676" y="708"/>
                  </a:lnTo>
                  <a:lnTo>
                    <a:pt x="2676" y="636"/>
                  </a:lnTo>
                  <a:lnTo>
                    <a:pt x="2676" y="564"/>
                  </a:lnTo>
                  <a:lnTo>
                    <a:pt x="2676" y="492"/>
                  </a:lnTo>
                  <a:lnTo>
                    <a:pt x="2688" y="396"/>
                  </a:lnTo>
                  <a:lnTo>
                    <a:pt x="2700" y="348"/>
                  </a:lnTo>
                  <a:lnTo>
                    <a:pt x="2712" y="252"/>
                  </a:lnTo>
                  <a:lnTo>
                    <a:pt x="2712" y="204"/>
                  </a:lnTo>
                  <a:lnTo>
                    <a:pt x="2688" y="168"/>
                  </a:lnTo>
                  <a:lnTo>
                    <a:pt x="2652" y="144"/>
                  </a:lnTo>
                  <a:lnTo>
                    <a:pt x="2616" y="132"/>
                  </a:lnTo>
                  <a:lnTo>
                    <a:pt x="2580" y="132"/>
                  </a:lnTo>
                  <a:lnTo>
                    <a:pt x="2508" y="132"/>
                  </a:lnTo>
                  <a:lnTo>
                    <a:pt x="2436" y="120"/>
                  </a:lnTo>
                  <a:lnTo>
                    <a:pt x="2364" y="120"/>
                  </a:lnTo>
                  <a:lnTo>
                    <a:pt x="2244" y="120"/>
                  </a:lnTo>
                  <a:lnTo>
                    <a:pt x="2148" y="120"/>
                  </a:lnTo>
                  <a:lnTo>
                    <a:pt x="2076" y="120"/>
                  </a:lnTo>
                  <a:lnTo>
                    <a:pt x="2004" y="108"/>
                  </a:lnTo>
                  <a:lnTo>
                    <a:pt x="1932" y="108"/>
                  </a:lnTo>
                  <a:lnTo>
                    <a:pt x="1836" y="108"/>
                  </a:lnTo>
                  <a:lnTo>
                    <a:pt x="1764" y="108"/>
                  </a:lnTo>
                  <a:lnTo>
                    <a:pt x="1692" y="108"/>
                  </a:lnTo>
                  <a:lnTo>
                    <a:pt x="1596" y="108"/>
                  </a:lnTo>
                  <a:lnTo>
                    <a:pt x="1500" y="96"/>
                  </a:lnTo>
                  <a:lnTo>
                    <a:pt x="1404" y="84"/>
                  </a:lnTo>
                  <a:lnTo>
                    <a:pt x="1308" y="72"/>
                  </a:lnTo>
                  <a:lnTo>
                    <a:pt x="1236" y="60"/>
                  </a:lnTo>
                  <a:lnTo>
                    <a:pt x="1164" y="60"/>
                  </a:lnTo>
                  <a:lnTo>
                    <a:pt x="1092" y="48"/>
                  </a:lnTo>
                  <a:lnTo>
                    <a:pt x="996" y="48"/>
                  </a:lnTo>
                  <a:lnTo>
                    <a:pt x="960" y="48"/>
                  </a:lnTo>
                  <a:lnTo>
                    <a:pt x="924" y="48"/>
                  </a:lnTo>
                  <a:lnTo>
                    <a:pt x="888" y="60"/>
                  </a:lnTo>
                  <a:lnTo>
                    <a:pt x="840" y="60"/>
                  </a:lnTo>
                  <a:lnTo>
                    <a:pt x="792" y="60"/>
                  </a:lnTo>
                  <a:lnTo>
                    <a:pt x="756" y="36"/>
                  </a:lnTo>
                  <a:lnTo>
                    <a:pt x="708" y="24"/>
                  </a:lnTo>
                  <a:lnTo>
                    <a:pt x="624" y="12"/>
                  </a:lnTo>
                  <a:lnTo>
                    <a:pt x="552" y="12"/>
                  </a:lnTo>
                  <a:lnTo>
                    <a:pt x="480" y="12"/>
                  </a:lnTo>
                  <a:lnTo>
                    <a:pt x="432" y="0"/>
                  </a:lnTo>
                  <a:lnTo>
                    <a:pt x="396" y="0"/>
                  </a:lnTo>
                  <a:lnTo>
                    <a:pt x="360" y="12"/>
                  </a:lnTo>
                  <a:lnTo>
                    <a:pt x="324" y="12"/>
                  </a:lnTo>
                  <a:lnTo>
                    <a:pt x="288" y="24"/>
                  </a:lnTo>
                  <a:lnTo>
                    <a:pt x="252" y="24"/>
                  </a:lnTo>
                  <a:lnTo>
                    <a:pt x="216" y="36"/>
                  </a:lnTo>
                  <a:lnTo>
                    <a:pt x="180" y="60"/>
                  </a:lnTo>
                  <a:lnTo>
                    <a:pt x="144" y="84"/>
                  </a:lnTo>
                  <a:lnTo>
                    <a:pt x="108" y="120"/>
                  </a:lnTo>
                  <a:lnTo>
                    <a:pt x="72" y="168"/>
                  </a:lnTo>
                  <a:lnTo>
                    <a:pt x="36" y="204"/>
                  </a:lnTo>
                  <a:lnTo>
                    <a:pt x="12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36" y="396"/>
                  </a:lnTo>
                  <a:lnTo>
                    <a:pt x="72" y="408"/>
                  </a:lnTo>
                  <a:lnTo>
                    <a:pt x="108" y="420"/>
                  </a:lnTo>
                  <a:lnTo>
                    <a:pt x="144" y="432"/>
                  </a:lnTo>
                  <a:lnTo>
                    <a:pt x="180" y="420"/>
                  </a:lnTo>
                  <a:lnTo>
                    <a:pt x="192" y="396"/>
                  </a:lnTo>
                </a:path>
              </a:pathLst>
            </a:custGeom>
            <a:solidFill>
              <a:srgbClr val="00cc99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5979960" y="3890880"/>
              <a:ext cx="1667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Enzym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1" name="Rectangle 16"/>
          <p:cNvSpPr/>
          <p:nvPr/>
        </p:nvSpPr>
        <p:spPr>
          <a:xfrm>
            <a:off x="3352680" y="3429000"/>
            <a:ext cx="1828800" cy="1066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bstr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2971800" y="2286000"/>
            <a:ext cx="160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Active Si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Line 19"/>
          <p:cNvSpPr/>
          <p:nvPr/>
        </p:nvSpPr>
        <p:spPr>
          <a:xfrm>
            <a:off x="3809880" y="3200400"/>
            <a:ext cx="1752840" cy="990720"/>
          </a:xfrm>
          <a:prstGeom prst="line">
            <a:avLst/>
          </a:prstGeom>
          <a:ln w="7632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Induced Fit</a:t>
            </a:r>
            <a:endParaRPr b="0" lang="en-US" sz="4800" spc="-1" strike="noStrike">
              <a:solidFill>
                <a:srgbClr val="ffffff"/>
              </a:solidFill>
              <a:latin typeface="Hemi Head 42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495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A change in the </a:t>
            </a: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shape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of an enzyme’s active s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Comic Sans MS"/>
              </a:rPr>
              <a:t>Induced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y the substra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7" name="Picture 9" descr="indfit[1]"/>
          <p:cNvPicPr/>
          <p:nvPr/>
        </p:nvPicPr>
        <p:blipFill>
          <a:blip r:embed="rId1"/>
          <a:stretch/>
        </p:blipFill>
        <p:spPr>
          <a:xfrm>
            <a:off x="4648320" y="1422360"/>
            <a:ext cx="4190760" cy="383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Franklin Gothic Heavy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1T16:08:20Z</dcterms:created>
  <dc:creator>Cheryl Massengale</dc:creator>
  <dc:description/>
  <dc:language>en-US</dc:language>
  <cp:lastModifiedBy>LEGION</cp:lastModifiedBy>
  <cp:lastPrinted>2005-11-04T06:45:24Z</cp:lastPrinted>
  <dcterms:modified xsi:type="dcterms:W3CDTF">2016-12-07T09:19:08Z</dcterms:modified>
  <cp:revision>24</cp:revision>
  <dc:subject/>
  <dc:title>Enzymes</dc:title>
</cp:coreProperties>
</file>