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WHOOSH.WAV" ContentType="audio/x-wav"/>
  <Override PartName="/ppt/media/image14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CAMERA.WAV" ContentType="audio/x-wav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8B57-5ACA-4549-8F63-DF4D4C992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295-98B8-4702-9B9C-B7E2981D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548-A5C3-4BF2-B778-E4694381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657-1732-4BAB-B9F1-42F55F3E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21F-8C4E-4D5B-A7D6-4D301000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86A-921F-4924-A73C-B30A11B7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C9C-6021-4EC2-B32F-6640C81D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E41-4950-42A7-8155-A2331B6D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C708-9D5D-45BF-8E67-BB933F3C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000-5A30-4FAA-B136-B1B617FE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520-7F69-4FFF-8D3D-DCCD0345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33D-BFB1-4A72-ABF2-D88B3D9C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29D-F40E-4377-8A0D-8AE05FE7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99DF-90AD-4B4D-A69E-B693DB088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4400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mportant Polysaccharides: Chi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3" descr=""/>
          <p:cNvPicPr/>
          <p:nvPr/>
        </p:nvPicPr>
        <p:blipFill>
          <a:blip r:embed="rId2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Partly derived from non-sugars (nitrog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omposes exoskeletons of ins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Note similarity to cellul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39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99"/>
                </a:solidFill>
                <a:uFillTx/>
                <a:latin typeface="Comic Sans MS"/>
              </a:rPr>
              <a:t>Characteristics of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nsist of carbon, hydrogen, &amp;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nergy containing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 provid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asic building block is a monosaccharide (CH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O)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n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; n = 3,5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wo monosaccharides form a disaccha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b9a28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_07"/>
          <p:cNvPicPr/>
          <p:nvPr/>
        </p:nvPicPr>
        <p:blipFill>
          <a:blip r:embed="rId1"/>
          <a:stretch/>
        </p:blipFill>
        <p:spPr>
          <a:xfrm>
            <a:off x="53352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968040" y="503280"/>
            <a:ext cx="72306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fferent Forms of Gluc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e72"/>
            </a:gs>
            <a:gs pos="50000">
              <a:srgbClr val="99ff99"/>
            </a:gs>
            <a:gs pos="100000">
              <a:srgbClr val="72be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09480" y="3200400"/>
          <a:ext cx="77724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77724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"/>
          <p:cNvSpPr/>
          <p:nvPr/>
        </p:nvSpPr>
        <p:spPr>
          <a:xfrm>
            <a:off x="1200240" y="351000"/>
            <a:ext cx="64580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Three Mono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356280" y="1417680"/>
            <a:ext cx="2129400" cy="856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219320" y="2286000"/>
          <a:ext cx="1806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1806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3809880" y="2590920"/>
          <a:ext cx="7747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590920"/>
                    <a:ext cx="774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5410080" y="2438280"/>
          <a:ext cx="2057400" cy="18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438280"/>
                    <a:ext cx="205740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5"/>
          <p:cNvGraphicFramePr/>
          <p:nvPr/>
        </p:nvGraphicFramePr>
        <p:xfrm>
          <a:off x="838080" y="4952880"/>
          <a:ext cx="1371600" cy="6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952880"/>
                    <a:ext cx="13716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7"/>
          <p:cNvSpPr/>
          <p:nvPr/>
        </p:nvSpPr>
        <p:spPr>
          <a:xfrm>
            <a:off x="1468800" y="380880"/>
            <a:ext cx="6081480" cy="1434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a6a6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Dehydration Syn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Object 9"/>
          <p:cNvGraphicFramePr/>
          <p:nvPr/>
        </p:nvGraphicFramePr>
        <p:xfrm>
          <a:off x="2743200" y="4419720"/>
          <a:ext cx="4114800" cy="207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419720"/>
                    <a:ext cx="41148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10"/>
          <p:cNvGraphicFramePr/>
          <p:nvPr/>
        </p:nvGraphicFramePr>
        <p:xfrm>
          <a:off x="7162920" y="5029200"/>
          <a:ext cx="152388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2920" y="5029200"/>
                    <a:ext cx="15238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01d26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22960" y="198360"/>
            <a:ext cx="73634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omic Sans MS"/>
              </a:rPr>
              <a:t>Formation of Di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533520" y="1600200"/>
          <a:ext cx="800100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01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3"/>
          <p:cNvGraphicFramePr/>
          <p:nvPr/>
        </p:nvGraphicFramePr>
        <p:xfrm>
          <a:off x="0" y="2514600"/>
          <a:ext cx="914400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914400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5"/>
          <p:cNvSpPr/>
          <p:nvPr/>
        </p:nvSpPr>
        <p:spPr>
          <a:xfrm>
            <a:off x="801360" y="838080"/>
            <a:ext cx="7552440" cy="764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Hydrolysis 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mportant Polysaccharides: St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685800" y="2814480"/>
            <a:ext cx="380988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449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sists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ant  energy storag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lycogen is a very similar molecule in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arch and glycogen can be digested by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Important Polysaccharides: Cellul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osed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Different bond formed than st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Structural component in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annot be digested by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21:15:34Z</dcterms:created>
  <dc:creator>Cheryl Massengale</dc:creator>
  <dc:description/>
  <dc:language>en-US</dc:language>
  <cp:lastModifiedBy>LEGION</cp:lastModifiedBy>
  <dcterms:modified xsi:type="dcterms:W3CDTF">2016-12-07T09:18:57Z</dcterms:modified>
  <cp:revision>12</cp:revision>
  <dc:subject/>
  <dc:title>CARBOHYDRATES</dc:title>
</cp:coreProperties>
</file>