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8.png" ContentType="image/png"/>
  <Override PartName="/ppt/media/WHOOSH.WAV" ContentType="audio/x-wav"/>
  <Override PartName="/ppt/media/image14.png" ContentType="image/png"/>
  <Override PartName="/ppt/media/image13.png" ContentType="image/png"/>
  <Override PartName="/ppt/media/image12.png" ContentType="image/png"/>
  <Override PartName="/ppt/media/image7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CAMERA.WAV" ContentType="audio/x-wav"/>
  <Override PartName="/ppt/media/image6.png" ContentType="image/png"/>
  <Override PartName="/ppt/media/image11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3C0A-40C8-45BC-B6E7-F845B01A02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Chit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artly derived from non-sugars (nitroge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mposes exoskeletons of insec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Note similarity to cellulo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haracteristics of Carbohyd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 of carbon, hydrogen, &amp; oxy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Energy containing molec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ome provide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Basic building block is a monosaccharide (CH2O)n ; n = 3,5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wo monosaccharides form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Different Forms of Gluc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Three Mono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6H12O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hydration 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Formation of Disacchar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Hydrolysis of a Disacchar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Important Polysaccharides: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Consists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Plant  energy storage molec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Glycogen is a very similar molecule in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Starch and glycogen can be digested by anim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portant Polysaccharides: Cellu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osed of glucose sub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bond formed than star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ructural component in pl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not be digested by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721-AE89-4970-A5D7-5284E726E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B2142-A4E4-44EB-8740-57DA47C5D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7FF9-DC17-4BFA-8837-7E5B247C6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3861-16FA-4404-8AD7-D2E2FFAEE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308D-A210-40AB-A71E-4E73020D0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6D420-2238-449E-AF2C-F2D77E2C4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E142-2BBF-411F-B5C0-B2A65FC3C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C4D4-0ADE-42B8-BB36-5A88DA885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DA29-584C-41A8-88C5-5683F22E8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CDCE0-49B3-44A3-A58C-16FC6BED7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CBB1-F305-49AD-A83E-0DDA05785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C7B2C-8424-4553-A41A-A72721D1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A94B-6D6C-4D33-9870-C068CAF379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8.png"/><Relationship Id="rId13" Type="http://schemas.openxmlformats.org/officeDocument/2006/relationships/slideLayout" Target="../slideLayouts/slideLayout1.xml"/><Relationship Id="rId1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audio" Target="../media/CAMERA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50000">
              <a:srgbClr val="440000"/>
            </a:gs>
            <a:gs pos="100000">
              <a:srgbClr val="ff00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9144000" cy="160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Comic Sans MS"/>
              </a:rPr>
              <a:t>CARBOHYDRATE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66"/>
                </a:solidFill>
                <a:latin typeface="Comic Sans MS"/>
              </a:rPr>
              <a:t>Important Polysaccharides: Chiti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Object 3" descr=""/>
          <p:cNvPicPr/>
          <p:nvPr/>
        </p:nvPicPr>
        <p:blipFill>
          <a:blip r:embed="rId2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Partly derived from non-sugars (nitroge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Composes exoskeletons of ins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66"/>
                </a:solidFill>
                <a:latin typeface="Comic Sans MS"/>
              </a:rPr>
              <a:t>Note similarity to cellulos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out"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99ff66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50000">
              <a:srgbClr val="000039"/>
            </a:gs>
            <a:gs pos="100000">
              <a:srgbClr val="000099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6699"/>
                </a:solidFill>
                <a:uFillTx/>
                <a:latin typeface="Comic Sans MS"/>
              </a:rPr>
              <a:t>Characteristics of Carbohydra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solidFill>
            <a:srgbClr val="99ffcc"/>
          </a:solidFill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Consist of carbon, hydrogen, &amp; oxy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Energy containing molecu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Some provide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Basic building block is a monosaccharide (CH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O)</a:t>
            </a:r>
            <a:r>
              <a:rPr b="0" lang="en-US" sz="3200" spc="-1" strike="noStrike" baseline="-25000">
                <a:solidFill>
                  <a:srgbClr val="006699"/>
                </a:solidFill>
                <a:latin typeface="Comic Sans MS"/>
              </a:rPr>
              <a:t>n </a:t>
            </a: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; n = 3,5,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Comic Sans MS"/>
              </a:rPr>
              <a:t>Two monosaccharides form a disacchar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100000">
              <a:srgbClr val="b9a28b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3_07"/>
          <p:cNvPicPr/>
          <p:nvPr/>
        </p:nvPicPr>
        <p:blipFill>
          <a:blip r:embed="rId1"/>
          <a:stretch/>
        </p:blipFill>
        <p:spPr>
          <a:xfrm>
            <a:off x="533520" y="1714680"/>
            <a:ext cx="8001000" cy="5143320"/>
          </a:xfrm>
          <a:prstGeom prst="rect">
            <a:avLst/>
          </a:prstGeom>
          <a:ln w="0">
            <a:noFill/>
          </a:ln>
        </p:spPr>
      </p:pic>
      <p:sp>
        <p:nvSpPr>
          <p:cNvPr id="54" name="Text Box 3"/>
          <p:cNvSpPr/>
          <p:nvPr/>
        </p:nvSpPr>
        <p:spPr>
          <a:xfrm>
            <a:off x="968040" y="503280"/>
            <a:ext cx="7230600" cy="76428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Different Forms of Gluco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split dir="in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2be72"/>
            </a:gs>
            <a:gs pos="50000">
              <a:srgbClr val="99ff99"/>
            </a:gs>
            <a:gs pos="100000">
              <a:srgbClr val="72be7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6" name="Object 2"/>
          <p:cNvGraphicFramePr/>
          <p:nvPr/>
        </p:nvGraphicFramePr>
        <p:xfrm>
          <a:off x="609480" y="3200400"/>
          <a:ext cx="7772400" cy="263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3200400"/>
                    <a:ext cx="7772400" cy="263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Text Box 3"/>
          <p:cNvSpPr/>
          <p:nvPr/>
        </p:nvSpPr>
        <p:spPr>
          <a:xfrm>
            <a:off x="1200240" y="351000"/>
            <a:ext cx="64580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Three Mono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3356280" y="1417680"/>
            <a:ext cx="2129400" cy="85680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C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H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12</a:t>
            </a:r>
            <a:r>
              <a:rPr b="0" lang="en-US" sz="4400" spc="-1" strike="noStrike">
                <a:solidFill>
                  <a:srgbClr val="008000"/>
                </a:solidFill>
                <a:latin typeface="Comic Sans MS"/>
              </a:rPr>
              <a:t>O</a:t>
            </a:r>
            <a:r>
              <a:rPr b="0" lang="en-US" sz="4400" spc="-1" strike="noStrike" baseline="-25000">
                <a:solidFill>
                  <a:srgbClr val="008000"/>
                </a:solidFill>
                <a:latin typeface="Comic Sans MS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Object 2"/>
          <p:cNvGraphicFramePr/>
          <p:nvPr/>
        </p:nvGraphicFramePr>
        <p:xfrm>
          <a:off x="1219320" y="2286000"/>
          <a:ext cx="1806480" cy="19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2286000"/>
                    <a:ext cx="1806480" cy="19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3" name="Object 3"/>
          <p:cNvGraphicFramePr/>
          <p:nvPr/>
        </p:nvGraphicFramePr>
        <p:xfrm>
          <a:off x="3809880" y="2590920"/>
          <a:ext cx="774720" cy="99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4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9880" y="2590920"/>
                    <a:ext cx="774720" cy="99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5" name="Object 4"/>
          <p:cNvGraphicFramePr/>
          <p:nvPr/>
        </p:nvGraphicFramePr>
        <p:xfrm>
          <a:off x="5410080" y="2438280"/>
          <a:ext cx="2057400" cy="18320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6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410080" y="2438280"/>
                    <a:ext cx="2057400" cy="183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7" name="Object 5"/>
          <p:cNvGraphicFramePr/>
          <p:nvPr/>
        </p:nvGraphicFramePr>
        <p:xfrm>
          <a:off x="838080" y="4952880"/>
          <a:ext cx="1371600" cy="695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8" name="Object 5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4952880"/>
                    <a:ext cx="137160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Text Box 7"/>
          <p:cNvSpPr/>
          <p:nvPr/>
        </p:nvSpPr>
        <p:spPr>
          <a:xfrm>
            <a:off x="1468800" y="380880"/>
            <a:ext cx="6081480" cy="143460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100000">
                <a:srgbClr val="a6a6a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Dehydration Synthesi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3300"/>
                </a:solidFill>
                <a:latin typeface="Comic Sans MS"/>
              </a:rPr>
              <a:t>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0" name="Object 9"/>
          <p:cNvGraphicFramePr/>
          <p:nvPr/>
        </p:nvGraphicFramePr>
        <p:xfrm>
          <a:off x="2743200" y="4419720"/>
          <a:ext cx="4114800" cy="2073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Object 9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743200" y="4419720"/>
                    <a:ext cx="4114800" cy="207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Object 10"/>
          <p:cNvGraphicFramePr/>
          <p:nvPr/>
        </p:nvGraphicFramePr>
        <p:xfrm>
          <a:off x="7162920" y="5029200"/>
          <a:ext cx="1523880" cy="14288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Object 10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162920" y="5029200"/>
                    <a:ext cx="1523880" cy="142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wipe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cc"/>
            </a:gs>
            <a:gs pos="50000">
              <a:srgbClr val="301d26"/>
            </a:gs>
            <a:gs pos="100000">
              <a:srgbClr val="ff99cc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3"/>
          <p:cNvSpPr/>
          <p:nvPr/>
        </p:nvSpPr>
        <p:spPr>
          <a:xfrm>
            <a:off x="822960" y="198360"/>
            <a:ext cx="7363440" cy="764280"/>
          </a:xfrm>
          <a:prstGeom prst="rect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Comic Sans MS"/>
              </a:rPr>
              <a:t>Formation of Disaccharid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76" name="Object 5"/>
          <p:cNvGraphicFramePr/>
          <p:nvPr/>
        </p:nvGraphicFramePr>
        <p:xfrm>
          <a:off x="533520" y="1600200"/>
          <a:ext cx="8001000" cy="424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600200"/>
                    <a:ext cx="800100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50000">
              <a:srgbClr val="ccff99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Object 3"/>
          <p:cNvGraphicFramePr/>
          <p:nvPr/>
        </p:nvGraphicFramePr>
        <p:xfrm>
          <a:off x="0" y="2514600"/>
          <a:ext cx="9144000" cy="241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514600"/>
                    <a:ext cx="9144000" cy="241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5"/>
          <p:cNvSpPr/>
          <p:nvPr/>
        </p:nvSpPr>
        <p:spPr>
          <a:xfrm>
            <a:off x="801360" y="838080"/>
            <a:ext cx="7552440" cy="764280"/>
          </a:xfrm>
          <a:prstGeom prst="rect">
            <a:avLst/>
          </a:prstGeom>
          <a:gradFill rotWithShape="0">
            <a:gsLst>
              <a:gs pos="0">
                <a:srgbClr val="ffff66"/>
              </a:gs>
              <a:gs pos="100000">
                <a:srgbClr val="cc99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00"/>
                </a:solidFill>
                <a:latin typeface="Comic Sans MS"/>
              </a:rPr>
              <a:t>Hydrolysis of a Disaccharid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Comic Sans MS"/>
              </a:rPr>
              <a:t>Important Polysaccharides: St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Object 3" descr=""/>
          <p:cNvPicPr/>
          <p:nvPr/>
        </p:nvPicPr>
        <p:blipFill>
          <a:blip r:embed="rId1"/>
          <a:stretch/>
        </p:blipFill>
        <p:spPr>
          <a:xfrm>
            <a:off x="685800" y="2814480"/>
            <a:ext cx="3809880" cy="24480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47960" y="1980720"/>
            <a:ext cx="3886200" cy="44960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Consists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Plant  energy storage molec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Glycogen is a very similar molecule in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Comic Sans MS"/>
              </a:rPr>
              <a:t>Starch and glycogen can be digested by anim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pull dir="l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99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00"/>
                </a:solidFill>
                <a:latin typeface="Comic Sans MS"/>
              </a:rPr>
              <a:t>Important Polysaccharides: Cellulo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Object 3" descr=""/>
          <p:cNvPicPr/>
          <p:nvPr/>
        </p:nvPicPr>
        <p:blipFill>
          <a:blip r:embed="rId1"/>
          <a:stretch/>
        </p:blipFill>
        <p:spPr>
          <a:xfrm>
            <a:off x="685800" y="3359160"/>
            <a:ext cx="3809880" cy="135720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omposed of glucose subun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Different bond formed than star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Structural component in pl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700"/>
              </a:spcBef>
              <a:buClr>
                <a:srgbClr val="0099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Comic Sans MS"/>
              </a:rPr>
              <a:t>Cannot be digested by anim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randomBar dir="horz"/>
  </p:transition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7-21T21:15:34Z</dcterms:created>
  <dc:creator>Cheryl Massengale</dc:creator>
  <dc:description/>
  <dc:language>en-US</dc:language>
  <cp:lastModifiedBy>LEGION</cp:lastModifiedBy>
  <dcterms:modified xsi:type="dcterms:W3CDTF">2016-12-07T09:18:57Z</dcterms:modified>
  <cp:revision>12</cp:revision>
  <dc:subject/>
  <dc:title>CARBOHYDRATES</dc:title>
</cp:coreProperties>
</file>