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WHOOSH.WAV" ContentType="audio/x-wav"/>
  <Override PartName="/ppt/media/image14.png" ContentType="image/png"/>
  <Override PartName="/ppt/media/image13.png" ContentType="image/png"/>
  <Override PartName="/ppt/media/image12.png" ContentType="image/png"/>
  <Override PartName="/ppt/media/image7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CAMERA.WAV" ContentType="audio/x-wav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C6CB2-DBA3-426C-9FCC-7B3023907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Polysaccharides: Chit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subuni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ly derived from non-sugars (nitroge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es exoskeletons of insec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similarity to cellulos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mportant Polysaccharides: Chi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lucose sub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ly derived from non-sugars (nitrog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mposes exoskeletons of ins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ote similarity to cellulo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of 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 of carbon, hydrogen, &amp; oxyge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containing molecu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rovide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 building block is a monosaccharide (CH2O)n ; n = 3,5,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monosaccharides form a disacchar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aracteristics of Carbohydr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nsist of carbon, hydrogen, &amp;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ergy containing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me provide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sic building block is a monosaccharide (CH2O)n ; n = 3,5,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wo monosaccharides form a disacchar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Forms of Gluc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fferent Forms of Gluc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Monosacchar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6H12O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ree Monosacchar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6H12O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hydration Synthes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 Disacchar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hydration 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 Disacchar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Disacchar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ormation of Disacchar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lysis of a Disacchar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ydrolysis of a Disacchar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Polysaccharides: Star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 glucose subuni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 energy storage molecu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ycogen is a very similar molecule in anima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ch and glycogen can be digested by anima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mportant Polysaccharides: St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nsists of glucose sub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lant  energy storage molec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lycogen is a very similar molecule in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arch and glycogen can be digested by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Polysaccharides: Cellul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ed of glucose subuni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bond formed than star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al component in pla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not be digested by anima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Polysaccharides: Cellu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ed of glucose sub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bond formed than st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al component in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not be digested by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FBAB-005A-48C6-B29B-73D743997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CFBB-4CE6-4F80-9FD0-ACE6B4E7A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F75B-7E9F-4E72-8E10-1C3057D7B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128B-4090-4E68-ACD3-8994651BC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134E-8F18-4728-BD2A-516890FB2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5ABF-5BDE-4505-A96D-B15605D2E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C161-404F-48DC-BD1D-7D10E9FAA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91C5-4932-408B-85B6-F9A00B582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E940-61D8-403A-A5AF-B976A7861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50E3-CC45-4A23-AFD7-EFE759FE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21D2-14A3-46BC-8BBB-A652C7A1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1928-1FD7-4387-9775-66DE221C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F1B06-7E14-4B11-A0E5-1685C196E1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440000"/>
            </a:gs>
            <a:gs pos="100000">
              <a:srgbClr val="ff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CARBOHYDRAT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Comic Sans MS"/>
              </a:rPr>
              <a:t>Important Polysaccharides: Chit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Object 3" descr=""/>
          <p:cNvPicPr/>
          <p:nvPr/>
        </p:nvPicPr>
        <p:blipFill>
          <a:blip r:embed="rId2"/>
          <a:stretch/>
        </p:blipFill>
        <p:spPr>
          <a:xfrm>
            <a:off x="685800" y="3359160"/>
            <a:ext cx="3809880" cy="13572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Glucose subun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Partly derived from non-sugars (nitrog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Composes exoskeletons of ins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Note similarity to cellulo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39"/>
            </a:gs>
            <a:gs pos="100000">
              <a:srgbClr val="00009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6699"/>
                </a:solidFill>
                <a:uFillTx/>
                <a:latin typeface="Comic Sans MS"/>
              </a:rPr>
              <a:t>Characteristics of Carbohydr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Consist of carbon, hydrogen, &amp; oxy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Energy containing molec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ome provide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Basic building block is a monosaccharide (CH</a:t>
            </a:r>
            <a:r>
              <a:rPr b="0" lang="en-US" sz="3200" spc="-1" strike="noStrike" baseline="-25000">
                <a:solidFill>
                  <a:srgbClr val="006699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O)</a:t>
            </a:r>
            <a:r>
              <a:rPr b="0" lang="en-US" sz="3200" spc="-1" strike="noStrike" baseline="-25000">
                <a:solidFill>
                  <a:srgbClr val="006699"/>
                </a:solidFill>
                <a:latin typeface="Comic Sans MS"/>
              </a:rPr>
              <a:t>n </a:t>
            </a: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; n = 3,5,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wo monosaccharides form a disacchar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b9a28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3_07"/>
          <p:cNvPicPr/>
          <p:nvPr/>
        </p:nvPicPr>
        <p:blipFill>
          <a:blip r:embed="rId1"/>
          <a:stretch/>
        </p:blipFill>
        <p:spPr>
          <a:xfrm>
            <a:off x="533520" y="1714680"/>
            <a:ext cx="8001000" cy="51433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968040" y="503280"/>
            <a:ext cx="7230600" cy="764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ifferent Forms of Glucos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be72"/>
            </a:gs>
            <a:gs pos="50000">
              <a:srgbClr val="99ff99"/>
            </a:gs>
            <a:gs pos="100000">
              <a:srgbClr val="72be7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609480" y="3200400"/>
          <a:ext cx="7772400" cy="26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200400"/>
                    <a:ext cx="7772400" cy="26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Text Box 3"/>
          <p:cNvSpPr/>
          <p:nvPr/>
        </p:nvSpPr>
        <p:spPr>
          <a:xfrm>
            <a:off x="1200240" y="351000"/>
            <a:ext cx="6458040" cy="76428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omic Sans MS"/>
              </a:rPr>
              <a:t>Three Monosaccharid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3356280" y="1417680"/>
            <a:ext cx="2129400" cy="8568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omic Sans MS"/>
              </a:rPr>
              <a:t>C</a:t>
            </a:r>
            <a:r>
              <a:rPr b="0" lang="en-US" sz="4400" spc="-1" strike="noStrike" baseline="-25000">
                <a:solidFill>
                  <a:srgbClr val="008000"/>
                </a:solidFill>
                <a:latin typeface="Comic Sans MS"/>
              </a:rPr>
              <a:t>6</a:t>
            </a:r>
            <a:r>
              <a:rPr b="0" lang="en-US" sz="4400" spc="-1" strike="noStrike">
                <a:solidFill>
                  <a:srgbClr val="008000"/>
                </a:solidFill>
                <a:latin typeface="Comic Sans MS"/>
              </a:rPr>
              <a:t>H</a:t>
            </a:r>
            <a:r>
              <a:rPr b="0" lang="en-US" sz="4400" spc="-1" strike="noStrike" baseline="-25000">
                <a:solidFill>
                  <a:srgbClr val="008000"/>
                </a:solidFill>
                <a:latin typeface="Comic Sans MS"/>
              </a:rPr>
              <a:t>12</a:t>
            </a:r>
            <a:r>
              <a:rPr b="0" lang="en-US" sz="4400" spc="-1" strike="noStrike">
                <a:solidFill>
                  <a:srgbClr val="008000"/>
                </a:solidFill>
                <a:latin typeface="Comic Sans MS"/>
              </a:rPr>
              <a:t>O</a:t>
            </a:r>
            <a:r>
              <a:rPr b="0" lang="en-US" sz="4400" spc="-1" strike="noStrike" baseline="-25000">
                <a:solidFill>
                  <a:srgbClr val="008000"/>
                </a:solidFill>
                <a:latin typeface="Comic Sans MS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2"/>
          <p:cNvGraphicFramePr/>
          <p:nvPr/>
        </p:nvGraphicFramePr>
        <p:xfrm>
          <a:off x="1219320" y="2286000"/>
          <a:ext cx="180648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286000"/>
                    <a:ext cx="18064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Object 3"/>
          <p:cNvGraphicFramePr/>
          <p:nvPr/>
        </p:nvGraphicFramePr>
        <p:xfrm>
          <a:off x="3809880" y="2590920"/>
          <a:ext cx="774720" cy="99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2590920"/>
                    <a:ext cx="77472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Object 4"/>
          <p:cNvGraphicFramePr/>
          <p:nvPr/>
        </p:nvGraphicFramePr>
        <p:xfrm>
          <a:off x="5410080" y="2438280"/>
          <a:ext cx="2057400" cy="1832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6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10080" y="2438280"/>
                    <a:ext cx="2057400" cy="18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Object 5"/>
          <p:cNvGraphicFramePr/>
          <p:nvPr/>
        </p:nvGraphicFramePr>
        <p:xfrm>
          <a:off x="838080" y="4952880"/>
          <a:ext cx="1371600" cy="695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8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8080" y="4952880"/>
                    <a:ext cx="137160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Text Box 7"/>
          <p:cNvSpPr/>
          <p:nvPr/>
        </p:nvSpPr>
        <p:spPr>
          <a:xfrm>
            <a:off x="1468800" y="380880"/>
            <a:ext cx="6081480" cy="14346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a6a6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Dehydration Synthe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of a Disacchar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0" name="Object 9"/>
          <p:cNvGraphicFramePr/>
          <p:nvPr/>
        </p:nvGraphicFramePr>
        <p:xfrm>
          <a:off x="2743200" y="4419720"/>
          <a:ext cx="4114800" cy="2073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43200" y="4419720"/>
                    <a:ext cx="4114800" cy="20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10"/>
          <p:cNvGraphicFramePr/>
          <p:nvPr/>
        </p:nvGraphicFramePr>
        <p:xfrm>
          <a:off x="7162920" y="5029200"/>
          <a:ext cx="1523880" cy="1428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162920" y="5029200"/>
                    <a:ext cx="152388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50000">
              <a:srgbClr val="301d26"/>
            </a:gs>
            <a:gs pos="100000">
              <a:srgbClr val="ff99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822960" y="198360"/>
            <a:ext cx="7363440" cy="76428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Comic Sans MS"/>
              </a:rPr>
              <a:t>Formation of Disaccharid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6" name="Object 5"/>
          <p:cNvGraphicFramePr/>
          <p:nvPr/>
        </p:nvGraphicFramePr>
        <p:xfrm>
          <a:off x="533520" y="1600200"/>
          <a:ext cx="800100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00200"/>
                    <a:ext cx="800100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ccff99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Object 3"/>
          <p:cNvGraphicFramePr/>
          <p:nvPr/>
        </p:nvGraphicFramePr>
        <p:xfrm>
          <a:off x="0" y="2514600"/>
          <a:ext cx="9144000" cy="241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14600"/>
                    <a:ext cx="9144000" cy="24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Text Box 5"/>
          <p:cNvSpPr/>
          <p:nvPr/>
        </p:nvSpPr>
        <p:spPr>
          <a:xfrm>
            <a:off x="801360" y="838080"/>
            <a:ext cx="7552440" cy="7642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cc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Comic Sans MS"/>
              </a:rPr>
              <a:t>Hydrolysis of a Disacchar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Important Polysaccharides: St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Object 3" descr=""/>
          <p:cNvPicPr/>
          <p:nvPr/>
        </p:nvPicPr>
        <p:blipFill>
          <a:blip r:embed="rId1"/>
          <a:stretch/>
        </p:blipFill>
        <p:spPr>
          <a:xfrm>
            <a:off x="685800" y="2814480"/>
            <a:ext cx="3809880" cy="244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86200" cy="4496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onsists of glucose subun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lant  energy storage molec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Glycogen is a very similar molecule in anim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tarch and glycogen can be digested by anim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l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Comic Sans MS"/>
              </a:rPr>
              <a:t>Important Polysaccharides: Cellulo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Object 3" descr=""/>
          <p:cNvPicPr/>
          <p:nvPr/>
        </p:nvPicPr>
        <p:blipFill>
          <a:blip r:embed="rId1"/>
          <a:stretch/>
        </p:blipFill>
        <p:spPr>
          <a:xfrm>
            <a:off x="685800" y="3359160"/>
            <a:ext cx="3809880" cy="13572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Composed of glucose subun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Different bond formed than st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Structural component in pl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Cannot be digested by an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Bar dir="horz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1T21:15:34Z</dcterms:created>
  <dc:creator>Cheryl Massengale</dc:creator>
  <dc:description/>
  <dc:language>en-US</dc:language>
  <cp:lastModifiedBy>LEGION</cp:lastModifiedBy>
  <dcterms:modified xsi:type="dcterms:W3CDTF">2016-12-07T09:18:57Z</dcterms:modified>
  <cp:revision>12</cp:revision>
  <dc:subject/>
  <dc:title>CARBOHYDRATES</dc:title>
</cp:coreProperties>
</file>