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D8E6-445A-41FA-8DFA-96179F51A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07A-C926-4F23-A4F4-AEE2A0A9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E1B-F444-49FF-AF0C-7B09A470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A2A82-9840-45B5-9736-A564A010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A9AB8-2739-4FBE-8CAE-92E5B0AB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B7AF6-3CDC-4D16-A3B6-6A3BB98E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4F0BF-4D11-4702-A6F4-B052C98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8959C-FBD0-47AB-BCA0-39C0F34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B59B2-BD2A-4C5F-9258-5BDBC1E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F7469-17EA-49D5-893C-EF235086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78E9B-2FF7-4809-BBD4-FD9FF33F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129FC-2FA3-4DEC-A56A-D911FC22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5E25D-5F0E-4D74-8273-AB533968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D77-B07D-48B9-918A-76A52327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466FC-98C3-4B53-A813-33DE4F8B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76983-070F-4F91-96F3-1ED8CED0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112A7-805C-4C2F-9EC8-BBE8E8A4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22D24-4F45-483E-8905-41374857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B822D-9C78-4045-A5DB-70051ADF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D49A6-9039-403F-B2E9-07093733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CB159-290B-4969-B4F6-D0510DF3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FB67A-2749-47DB-8436-3C4D7B6F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A5870-6E9A-4EEF-ACDB-AE29941E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228FF-0B94-4E8E-9356-978C34EF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45A-17C1-44D1-81D0-B4EFA53A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E1A5C-9F09-4C2C-82E5-CF1C2633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3029-2817-4065-8269-077E72E0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0A71-F2E2-435B-8822-3B0EBCA7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D83B-4AE7-44C6-889B-4C775078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A7AE-143E-4134-86EE-4EA990B6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1E33-F333-4F1D-A90D-78E86012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E610-54D0-4B7B-98E7-A8DDCC7B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365A-B4EA-4431-A49A-2ABA192B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A10-B333-495C-986D-87F872DF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25B0-DC24-4806-9FA6-A93A92A3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96E1-5AEB-4B13-82E5-863C469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3A29-9A66-423F-AF09-0EF9F5B4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A39C-D76B-4C6A-902F-3BE28D2D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6E35-4DC0-4D9F-8F3A-0771AEC6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C950-3778-4931-B4A2-1E965071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4BD3-A937-4B5B-9554-413ECB81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174E-60F1-4E0C-B246-B925A26A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9D06-B0DB-4DEE-AA61-EEFA4B8C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60AA-1E5C-441E-8245-07E8754B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510-67B1-40E6-A28D-DA815E30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0E13-838C-4892-B962-00B210D9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C68B-F310-4392-BF35-8666C09E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EC193-5559-47AE-AEA1-0EFDD729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C118D-A8A1-480E-A77B-72A26C0C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929A-F036-4E25-83DB-25E8DAF8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1C18-6A14-455B-B5E4-8E6A66F0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3373-EECB-4FB7-AE90-19EE49D4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48CBA-B0BD-46D5-88BD-320BAA91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163E-B555-4097-921E-E5308A69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5AFC-C415-4926-A2EF-8AE50D55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0C1-BCF0-4F9A-BEC2-EEB146BC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4499-2E41-4D74-A2AB-B90E2242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50F6-660F-44FE-B937-4D4C5DBC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C6BEC-744B-4544-919E-0C8DA4B3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78A2-211A-45F5-9386-DE4493A7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4A044-981A-4C3E-85FA-F2ED07A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B674-4638-4990-AC96-9AED5FD2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38F67-9EB3-47D6-BC24-572B0B0B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439D5-15B3-4DD9-98D2-685A7A34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94BC8-B0DD-4E7B-8C1C-6DA1D01C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019E1-906A-45D2-B400-5E42D6D6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697-F371-4970-989F-043049EC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13865-C524-4306-B378-E1158B49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8D686-EA05-4934-9724-8171F954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40EE-AFF3-4C6E-B1E4-24F130E8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ABF46-7DE1-4E67-8500-85696352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B8BB2-3498-4030-8422-141FCED5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B0DF-D836-4FF6-914F-65E73377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0109-6637-4428-B79D-97088D2D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140C-A419-4D4D-BED0-7619379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A3F90-A919-4920-BD37-30D4E0E4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398EF-366B-479A-8048-267964B4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03E-9B1A-452B-B469-CF1A6F69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778B4-2194-4173-B528-B416552B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E837F-3FFE-40EE-9DE5-B6F45479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7A220-B9F3-4FB3-95EC-C35A36ED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D82C3-DD47-4835-B64C-23DD7C84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852D0-EAD7-4461-AA75-FBAB8DB9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A94CC-E544-457E-94A4-A3C0B460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1954-BB53-4D48-8271-524B6A75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C268-6A9A-421E-A709-3DCAB99A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E205A-1A05-42C2-BA9F-E3D257D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2AB02-D906-420C-8966-F00DCDFC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B27-A0E6-4A7A-A9DF-4FF225C9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71DCE-00D0-4936-81AE-1DCF40A9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3D9BC-9D75-4886-9FE7-BA27D864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C6A33-B20A-4DC0-B78E-B694E067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60905-356A-439F-9BE5-D1DD1AAB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B0569-51AF-4FF1-B4EF-C4CE444F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5A96A-143F-4F7F-8C35-7194E021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247B-60D9-4872-BB96-3AC77F02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26978-C0E3-46BC-AFB1-F2BC422F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0944D-4530-489D-A7EF-5A1387DF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157E-7A0C-454A-B5AB-09108BEB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F2C-0320-4982-99F8-0FC3FAB0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4D817-03AF-471A-9F88-46CD1C65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B6EEE-E0BE-4FDC-A5FC-E5C27577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F88FE-0F79-487B-A497-0A17D93D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24B57-DE13-40B4-96AF-B60A8302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C149D-44BC-46DA-93B6-79308809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E11D0-80DC-4395-A680-23C5B0F2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4834A-3674-4670-B11C-7EB1605F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268E7-94D9-4AB3-BEE7-DF9B3512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79AD2-BDDC-4AF9-B5C0-B9AD2D57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EF0D0-331E-4C1B-8D99-7E0DE61B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624-9F2C-4BF8-B4D2-94637F04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1F733-FACE-4DD1-A1A3-9FD25F72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E0F7E-3EBC-420D-8B6E-5DF61CD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A0B75-EC23-4129-A7A5-66F34577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A6366-D23E-4D89-A294-4397FEE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AF347-DF40-4FC4-ABE2-E1155D83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3AE1A-B6DB-44DB-9190-59F4FD94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69E1A-E592-4213-AC0D-C91CC69B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5B48B-1558-47F3-9B04-266FE8DE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F86C2-125A-4B6E-9594-DD3ED350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1E113-BB78-4AEE-8E3C-14F592B2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F347-EABA-4F85-82F9-9E9893BE0492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8C6F-5759-4D00-A0C5-24CD9288F1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EE9A-1E47-4C44-B667-1B0A492F2B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9183-ADAC-4304-972B-D46F55B370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3E3A-E602-41BE-8AA4-EAB96FBCE562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947F-B96E-4FD1-82AB-6459E03367E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6891-892B-4CAA-97D6-7179EC177D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416C-344D-4FED-BA49-86C4353BE869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F67F-60F1-44A7-B816-71136AD18D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F63B-724C-46EA-BD03-521BA9424AF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67B2-0D42-4F93-927B-EB9DECB7C6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0667-0765-4CB1-A8CF-71B5D1596BD6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DF35-A541-4885-9826-AAD0529489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17CD-6291-47D2-A49C-E637244A2B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2CFB-C485-455C-889B-288A426923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EA5A-70DE-4988-8223-E2F9B39CEA6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5B37-9E17-4C31-9594-C13E83A94D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CAD5-7EDA-4321-A70A-E0F09E3685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7A87-068A-4BD2-B859-B7A3EB19BBB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733F-AA1E-4243-9701-7E6E281940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7B07-52D6-49FF-925A-6F743ED4B3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A486-D273-4385-B330-3EABDA7939FA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FA07-562E-4AB3-AE2A-D4968C6C72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1B55-BDA7-477C-984D-B45A8EA7FF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A26E-613F-4A13-8C81-43A01E5B5677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23-00-She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 rot="21556800">
            <a:off x="2146320" y="2009520"/>
            <a:ext cx="4651200" cy="2062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Comic Sans MS"/>
              </a:rPr>
              <a:t>Population Genetics</a:t>
            </a:r>
            <a:endParaRPr b="1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6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Microevolu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hanges occur in gene poo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ue to mutation, natural selection, genetic drift, etc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ene pool changes cause mor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VARIATION in individua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 the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ICRO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Bacteri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becoming unaffected by antibiotic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resistant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ardy-Weinberg Principle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ed to describ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evolving popula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uffling of allel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by meiosis and random fertilization hav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effec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on the overall gene pool. 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populatio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re NOT expected to actually be in Hardy-Weinberg equilibriu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715000"/>
            <a:ext cx="853452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Devi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from Hardy-Weinberg equilibrium usuall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esults in evolu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nderstanding a non-evolving population, helps us to understand how evolution occu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arge population size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- small populations have fluctuations in allele frequencies (e.g., fire, storm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migra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immigrants can change the frequency of an allele by bringing in new alleles to a popul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et mutation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alleles change from one to another, this will change the frequency of those alle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andom mating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certain traits are more desirable, then individuals with those traits will be selected and this will not allow for random mixing of allel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atural selec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some individuals survive and reproduce at a higher rate than others, then their offspring will carry those genes and the frequency will change for the next gener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raits Selected for Random Mating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7" name="Picture 1026" descr="23-16x1-SexualDimorphism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gene pool of a NON-EVOLVING population remains CONSTANT over multiple generations (allele frequency doesn’t chang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Hardy-Weinberg Equation: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1.0 = p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+ 2pq + q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2pq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termining the Allele Frequency using Hardy-Weinberg: 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  <a:ea typeface="Arial"/>
              </a:rPr>
              <a:t>1.0 = p + q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llele Frequencies Define Gene Po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533520" y="335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there are 1000 copies of the genes for colo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llele frequencies are (in both males and female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320 x 2 (RR) + 160 x 1 (Rr) = 800 R;  800/1000 = 0.8 (8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x 1 (Rr) + 20 x 2 (rr) = 200 r; 200/1000 = 0.2 (2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838080" y="990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flowering pl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219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80 red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1911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white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838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6668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7242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10"/>
          <p:cNvSpPr/>
          <p:nvPr/>
        </p:nvSpPr>
        <p:spPr>
          <a:xfrm flipH="1">
            <a:off x="3657600" y="14479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4267080" y="14479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12"/>
          <p:cNvSpPr/>
          <p:nvPr/>
        </p:nvSpPr>
        <p:spPr>
          <a:xfrm flipH="1">
            <a:off x="1980720" y="23623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2590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876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200" y="15192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mbers of a species c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interbreed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&amp; produce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ertile offspr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pecies hav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ared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poo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– all of the alleles of all individuals in a popu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Picture 17" descr="gene_pool_sm"/>
          <p:cNvPicPr/>
          <p:nvPr/>
        </p:nvPicPr>
        <p:blipFill>
          <a:blip r:embed="rId1"/>
          <a:stretch/>
        </p:blipFill>
        <p:spPr>
          <a:xfrm>
            <a:off x="5638680" y="1066680"/>
            <a:ext cx="2959200" cy="495324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050" descr="23-03a-HardyWeinberg-L"/>
          <p:cNvPicPr/>
          <p:nvPr/>
        </p:nvPicPr>
        <p:blipFill>
          <a:blip r:embed="rId1"/>
          <a:stretch/>
        </p:blipFill>
        <p:spPr>
          <a:xfrm>
            <a:off x="914400" y="210960"/>
            <a:ext cx="7315200" cy="643608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50" descr="23-03b-HardyWeinberg-L"/>
          <p:cNvPicPr/>
          <p:nvPr/>
        </p:nvPicPr>
        <p:blipFill>
          <a:blip r:embed="rId1"/>
          <a:stretch/>
        </p:blipFill>
        <p:spPr>
          <a:xfrm>
            <a:off x="914400" y="230040"/>
            <a:ext cx="7238880" cy="633096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icroevolution of Specie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hange in the gene pool of a small population due to ch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Selection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ccess in reproduction based on heritable traits results in selected alleles being passed to relatively more offspring (Darwinian inheritanc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Cause ADAPTATION of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F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s genetic exchange due to the migration of fertile individuals or gametes between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44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hange in an organism’s D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can be transmitted in gametes to offsp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random ma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Mates are chosen on the basis of the best trai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14360"/>
          <a:stretch/>
        </p:blipFill>
        <p:spPr>
          <a:xfrm>
            <a:off x="3124080" y="4191120"/>
            <a:ext cx="4442040" cy="2361960"/>
          </a:xfrm>
          <a:prstGeom prst="rect">
            <a:avLst/>
          </a:prstGeom>
          <a:ln w="0">
            <a:noFill/>
          </a:ln>
        </p:spPr>
      </p:pic>
      <p:sp>
        <p:nvSpPr>
          <p:cNvPr id="52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Factors that Cause Genetic Drift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Bottleneck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drastic reduction in population (volcanoes, earthquakes, landslides …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maller population may not be able to adapt to new selection press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under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curs when a new colony is started by a few members of the original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499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y lead to speci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0600" y="533520"/>
            <a:ext cx="8910720" cy="57909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24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Loss of Genetic Varia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Cheetah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have little genetic variation in their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is can probably be attributed to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population bottleneck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ey experienced around 10,000 years ago, barely avoiding extinction at the end of the last ice ag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052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6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do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T exchange gene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y interbreed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that interbreed often produc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erile or less viabl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ffspring e.g. Mu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Picture 9" descr="mule"/>
          <p:cNvPicPr/>
          <p:nvPr/>
        </p:nvPicPr>
        <p:blipFill>
          <a:blip r:embed="rId1"/>
          <a:stretch/>
        </p:blipFill>
        <p:spPr>
          <a:xfrm>
            <a:off x="5059440" y="1066680"/>
            <a:ext cx="3443040" cy="49532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Founder’s Effec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rcRect l="0" t="23158" r="0" b="0"/>
          <a:stretch/>
        </p:blipFill>
        <p:spPr>
          <a:xfrm>
            <a:off x="103320" y="1600200"/>
            <a:ext cx="9040680" cy="426708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s of Natural Selection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rectional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individuals at one end of the phenotypic ra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ost common during times of environmental change or when moving to new habita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sruptive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extreme over intermediat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curs when environmental change favors an extreme phenotyp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3-13-DirectionalSelect-L"/>
          <p:cNvPicPr/>
          <p:nvPr/>
        </p:nvPicPr>
        <p:blipFill>
          <a:blip r:embed="rId1"/>
          <a:stretch/>
        </p:blipFill>
        <p:spPr>
          <a:xfrm>
            <a:off x="457200" y="271440"/>
            <a:ext cx="8229600" cy="6315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800600" y="9856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Directional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6" descr="23-14-DiversifyingSelect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7"/>
          <p:cNvSpPr/>
          <p:nvPr/>
        </p:nvSpPr>
        <p:spPr>
          <a:xfrm>
            <a:off x="1143000" y="45072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isruptive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abilizing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vors intermediate over extrem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s variation and maintains the cureent avera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 Human birth we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026" descr="23-12-ModesOfSelection-L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Variations in Population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00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Geographic Variations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440" y="1371600"/>
            <a:ext cx="4762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riation in a species due to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limate or another geographical condi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opulations live i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ifferent lo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inches of Galapagos Islands &amp; South Americ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5448240" y="1346040"/>
            <a:ext cx="316224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3-08-PlantClinalVariat-L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34392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Populations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group of th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ame species living in an are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 two individuals are exactly alik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(variation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r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dividuals survive &amp; pass on their trai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6" descr="Deer_Fighting_"/>
          <p:cNvPicPr/>
          <p:nvPr/>
        </p:nvPicPr>
        <p:blipFill>
          <a:blip r:embed="rId1"/>
          <a:stretch/>
        </p:blipFill>
        <p:spPr>
          <a:xfrm>
            <a:off x="4648320" y="2103480"/>
            <a:ext cx="4267080" cy="2879640"/>
          </a:xfrm>
          <a:prstGeom prst="rect">
            <a:avLst/>
          </a:prstGeom>
          <a:ln w="0">
            <a:noFill/>
          </a:ln>
        </p:spPr>
      </p:pic>
      <p:sp>
        <p:nvSpPr>
          <p:cNvPr id="44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Heterozygote Advantag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avor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heterozygotes (A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aintains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 both alleles (A,a)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stead of removing less successful alleles from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ickle cell anem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omozygotes exhibit severe anemia, have abnormal blood cell shape, and usually die before reproductive ag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eterozygotes are less susceptible to malar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ickle Cell and Malaria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6" name="Picture 3" descr="21_13"/>
          <p:cNvPicPr/>
          <p:nvPr/>
        </p:nvPicPr>
        <p:blipFill>
          <a:blip r:embed="rId1"/>
          <a:srcRect l="0" t="2496" r="0" b="0"/>
          <a:stretch/>
        </p:blipFill>
        <p:spPr>
          <a:xfrm>
            <a:off x="914400" y="1066680"/>
            <a:ext cx="7315200" cy="5349960"/>
          </a:xfrm>
          <a:prstGeom prst="rect">
            <a:avLst/>
          </a:prstGeom>
          <a:ln w="0">
            <a:noFill/>
          </a:ln>
        </p:spPr>
      </p:pic>
      <p:sp>
        <p:nvSpPr>
          <p:cNvPr id="5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3-10-MappingMalaria-L"/>
          <p:cNvPicPr/>
          <p:nvPr/>
        </p:nvPicPr>
        <p:blipFill>
          <a:blip r:embed="rId1"/>
          <a:stretch/>
        </p:blipFill>
        <p:spPr>
          <a:xfrm>
            <a:off x="990720" y="168120"/>
            <a:ext cx="7162560" cy="65217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Other Sources of Varia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7617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 stable environments, mutations often result in little or no benefit to an organism, or are often harmfu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are more beneficial (rare) in changing environments  (Example:  HIV resistance to antiviral drug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Genetic Recombina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urce of most genetic differences between individuals in a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Co-evolu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Often occurs between parasite &amp; host and flowers &amp; their pollinato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74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C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rcRect l="2247" t="1749" r="0" b="4818"/>
          <a:stretch/>
        </p:blipFill>
        <p:spPr>
          <a:xfrm>
            <a:off x="0" y="121932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Specia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rmation of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ne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pl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to 2 or more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evolve into a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quires ver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ong periods of tim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Picture 6" descr="speciation"/>
          <p:cNvPicPr/>
          <p:nvPr/>
        </p:nvPicPr>
        <p:blipFill>
          <a:blip r:embed="rId1"/>
          <a:srcRect l="0" t="0" r="0" b="8126"/>
          <a:stretch/>
        </p:blipFill>
        <p:spPr>
          <a:xfrm>
            <a:off x="4648320" y="1220760"/>
            <a:ext cx="4267080" cy="457056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rn Evolutionary Though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bine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arwinian selectio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endelian inherita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 genetic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study of genetic variation within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mphasis 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quantitative characters (height, size …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Picture 5" descr="darwinport2"/>
          <p:cNvPicPr/>
          <p:nvPr/>
        </p:nvPicPr>
        <p:blipFill>
          <a:blip r:embed="rId1"/>
          <a:stretch/>
        </p:blipFill>
        <p:spPr>
          <a:xfrm>
            <a:off x="6400800" y="1106640"/>
            <a:ext cx="2362320" cy="3398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mendel"/>
          <p:cNvPicPr/>
          <p:nvPr/>
        </p:nvPicPr>
        <p:blipFill>
          <a:blip r:embed="rId2"/>
          <a:stretch/>
        </p:blipFill>
        <p:spPr>
          <a:xfrm>
            <a:off x="4419720" y="2895480"/>
            <a:ext cx="2527200" cy="32943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84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940s – comprehensive theory of evoluti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Modern Synthesis Theory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troduced by Fisher &amp; Wrigh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Until the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ny did not accept that Darwin’s theory of natural selection could drive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sher"/>
          <p:cNvPicPr/>
          <p:nvPr/>
        </p:nvPicPr>
        <p:blipFill>
          <a:blip r:embed="rId1"/>
          <a:stretch/>
        </p:blipFill>
        <p:spPr>
          <a:xfrm>
            <a:off x="5105520" y="3048120"/>
            <a:ext cx="20113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wright"/>
          <p:cNvPicPr/>
          <p:nvPr/>
        </p:nvPicPr>
        <p:blipFill>
          <a:blip r:embed="rId2"/>
          <a:stretch/>
        </p:blipFill>
        <p:spPr>
          <a:xfrm>
            <a:off x="6629400" y="1066680"/>
            <a:ext cx="2011320" cy="30290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6"/>
          <p:cNvSpPr/>
          <p:nvPr/>
        </p:nvSpPr>
        <p:spPr>
          <a:xfrm>
            <a:off x="7086600" y="33526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S. W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334120" y="58672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A. Fis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64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ODAY’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ory on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ENE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re responsible for the inheritance of characteris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not individuals, evolve due to natural selection &amp; genetic drif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PECIAT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usually is due to th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radual accumulation of small genetic chang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LEGION</cp:lastModifiedBy>
  <dcterms:modified xsi:type="dcterms:W3CDTF">2016-12-07T12:48:19Z</dcterms:modified>
  <cp:revision>82</cp:revision>
  <dc:subject/>
  <dc:title>PowerPoint Presentation</dc:title>
</cp:coreProperties>
</file>