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00FF-0AC5-46E5-906C-43EA8C6C0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9E1-FE71-45BC-AA49-D1E92DA5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38D-A837-4ECB-A825-78845B46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440F6-9145-458E-9364-B3D9328A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2B738-5169-4894-9361-82B129AE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0A03C-59C2-4F4F-985E-00266A1A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75F64-5834-48B0-900B-EBF86C5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FF9C5-84BC-4186-A302-273BCD19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2DE58-B1FB-4B6C-85FF-635778F8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1D259-ED9C-4BE4-887C-43466F42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50FDB-1A6B-4D3A-90C6-5F7E0F8C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0B649-4079-4643-A5A7-7CE00750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63A99-C2CD-4479-AC97-F2565DB4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F0C-621B-40F3-97C9-29D5D08F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26D88-5780-4C32-B78B-231ADAC7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B5982-4A04-4CB7-9740-C556288A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A25F7-FFE6-4D05-B09E-095D3356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9052F-DD49-462F-8259-6274C209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6554E-C890-4DA6-A59E-0D4EE801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0431C-5B30-4527-AFE1-AF69A127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D3D73-6DB8-4631-B85A-A541ED8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D58C6-6338-42DF-833E-C1F41EBE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0F2A3-C238-4718-B4FF-9CB3E785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910AC-53C5-4461-9A3F-C1F10C8A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D2D-8F65-4A5C-9DA5-740096F8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0E13C-2D6F-48FE-B26D-16CC5906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FBED-F64A-428E-BB0D-9B4F7C85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84C4-7293-49F4-B68A-FB438238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B34E-0A9E-4E9D-86DB-DB9A592C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37D6-CF1A-4BEE-8B1A-B020E757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B380-9095-42DA-AD1E-0D474E12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375D-F1F6-41B9-BEF9-12605B18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CECC-DF8A-47B2-BE59-4C1199AB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79D-212C-4875-AD35-4DC64279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B83C-7DE2-4DBC-8EC8-FF912158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B875-E742-4E55-85ED-2E8B1054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47B9-4839-4C47-8FDD-5501B52C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7ACC-F99D-4656-8930-C15DDA26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43A-B1DF-41AD-8CA5-447D7170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8FBD-CBAD-4B00-AAB7-7617C1D6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BC05-E8B8-430C-91A9-9636C286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59000-2B9D-4E45-81C8-02E14120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8F49-DDDC-40A6-AF49-A499C06F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A4AE-4E5A-475A-9D89-2A1ED32D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49F-9F53-4547-9D25-02A4B882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97B59-593D-4EE4-8B2B-21EAD201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5614-8A1D-44BC-9F9C-D25805B8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1013-E30E-4C4A-9B04-4F1741ED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0BE45-8338-4394-AA87-9A5424DF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6831-5C2F-4E99-A6BA-281E0B23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161C-D4CE-4DE4-91CC-FB19E5E8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FB87-65F3-4B2C-8206-8E4B6D2C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67771-0292-4093-8EE0-EBBC5195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0EE3-B904-4E97-B5F1-9D2C961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187C8-41E1-4D0A-A62B-447F7BF6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7D9-9D20-46FD-AAE5-A9CCA655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C1C6D-B3AF-4D44-B702-E1483C23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0BDB7-C7AB-446D-9065-3FA5F414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DC74-3A30-43C0-992C-373983D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E5B88-25CC-4B0A-86B3-6097CF69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579FE-ED41-499B-9366-4C817CDD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BFCD-E72D-471D-9BD4-81990CD6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CA393-FD1B-42F3-8072-EAEC829A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325D-6061-44FC-8725-DEA309E5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52791-6A1F-4AB6-BF5E-7A0919C1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6EC3E-2E44-4DA8-AB70-AA7A7732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453-0019-48BF-B5B3-28B2098B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71CD2-3FC7-48F7-8037-1C92B5D6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DE559-8C38-4FC2-88B4-36D9DA01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2698D-3F18-4C5F-815F-6B8C5E2D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6CD65-B36C-4134-B006-7AE75B28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0912-1755-45B2-8AB8-341CA727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7A69B-545D-4816-BEEC-A55BF8D5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95B9C-E56F-43BF-B369-CBE567FB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EC05F-FC5C-47E8-9F63-BD0130A6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638DE-FE96-4A31-88C4-84C660FA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9244C-B286-4B1D-80C1-AEB49EAB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E97-AA3D-4222-A03F-2D48FF11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D0AF1-58AB-40BE-BDB0-813FCD9A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35FBA-134F-44B5-82AE-9467A36F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E191A-22CB-40B6-8F1C-75A85BF1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49E7E-8C9F-4030-B60D-C8417EDE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5B460-67AB-4E1D-8C17-9A090A80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EF5D2-7A0D-4480-B8D4-E61ADC3F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A4C2F-7D9C-4CAF-8022-B6B25D09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94CE-6E29-44D9-B9F5-639EF8CF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9F79F-5D12-4661-A1A5-1384CC24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A91B5-E5D5-4BBF-AC53-9AA9E2F4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81D-A583-49F0-8CDE-4B22AACF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7408F-141A-4123-809B-9058EF58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FC2F9-78A2-463E-8E0A-D69241AE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EBEDF-455B-460F-B60E-F3154C18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8E9F5-F82F-4E87-96C3-6C96140D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F137B-A3FD-4D21-A23A-AAD818C6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6F057-7BA1-4265-B1E0-08A7B34E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52C2D-4C30-4903-926E-197FD09A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04E48-70DE-4DAB-838E-918E7505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42BE1-3102-49C4-A41B-045B0C93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90E47-05C4-4085-8F01-ECBB4211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DCE-7E9C-44A4-9503-19FDBCAC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54A0-58A2-44CA-ADE6-A577FE38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7A958-ADAD-41AC-BD82-45767D09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71420-A5AA-4AC9-9BE0-EC659CC6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FF302-B234-462D-AE50-A2A2A414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B30BC-D29D-46B7-8349-EB161B6B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802C6-CC6B-4927-9233-4D8A2408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DA3B9-0D62-4D92-A4BD-812D504F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180AA-CE3F-4AF7-AF6B-9EFBEB3D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54366-D169-458C-BD1E-CAB149A3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72193-A327-4EA8-9D97-3305D7C9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950-D99A-4F9E-9B86-41A58D80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59A42-5A43-4C08-A491-59ED529D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395FD-B64E-4B93-8F4A-D90A0AD6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53272-A04E-43CF-8F61-9545ED56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3F8B2-9BD7-4500-9E25-BC4A2E71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58F92-FA84-4EBE-B13D-7B749074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70C27-5AE9-4471-B8B5-A02E01D6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D1D90-95AC-4A1E-8ACD-9FB0CC5D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48963-F9EE-4A52-A492-ACDF0607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B187D-82D9-4F5C-83AA-21E52CC1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8CFFC-6CA2-4A2F-9809-6CA4C1B0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CF9C-8423-481A-80DE-FA12E03F583A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3A10-1FE7-4EC3-A4C7-6935EE3432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9B00-C6EF-4940-99C7-A34C44D84A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45F8-75DD-41DE-AD9B-22BFDACFBB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CC90-CE1D-4401-83E7-9CC2C00ECFB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83C7-EB8A-49F3-BCD4-B4DF9EA5AD05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8002-BBFD-421F-A008-11C3099257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B4B7-6781-4461-BF42-37B85F87E2F2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4F1C-0542-4225-9561-B036F7B85A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0330-6C72-4B5D-9470-6DCE16BEAF38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6A9B-6AB2-4C39-95D4-1A7EFF3C5C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1E8B-45EA-4779-9BA1-871A0270178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15D2-60F8-4A1F-AF69-B007EF70E2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D1E4-527D-472B-8D4B-5A6D523C7F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EB0B-8734-4942-AF17-6072E6E99F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4993-1B3C-4BFB-B6A0-671BBBBD7C5F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FD66-F43B-402F-8BD3-3600B4F580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018D-AA08-4137-BCF2-A262CE9E89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6D09-3605-4FEC-9BD9-CD89B27D8AF8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E9DD-12EC-40F2-A300-C57B046517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8614-279E-4E0A-988F-F43DB1EB68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2970-A052-4CC8-8E03-659F62860652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D5D2-97FE-4A69-B87F-43F5CF5EE2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5C38-DAE6-410C-9056-663D46D158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4DAB-422D-4075-9E44-EACC390F4E5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23-00-She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 rot="21556800">
            <a:off x="2146320" y="2009520"/>
            <a:ext cx="4651200" cy="2062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Comic Sans MS"/>
              </a:rPr>
              <a:t>Population Genetics</a:t>
            </a:r>
            <a:endParaRPr b="1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6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Microevolu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hanges occur in gene poo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ue to mutation, natural selection, genetic drift, etc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ene pool changes cause mor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VARIATION in individua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 the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ICRO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Bacteri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becoming unaffected by antibiotic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resistant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ardy-Weinberg Principle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ed to describ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evolving popula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uffling of allel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by meiosis and random fertilization hav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effec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on the overall gene pool. 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populatio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re NOT expected to actually be in Hardy-Weinberg equilibriu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715000"/>
            <a:ext cx="853452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Devi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from Hardy-Weinberg equilibrium usuall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esults in evolu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nderstanding a non-evolving population, helps us to understand how evolution occu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arge population size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- small populations have fluctuations in allele frequencies (e.g., fire, storm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migra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immigrants can change the frequency of an allele by bringing in new alleles to a popul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et mutation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alleles change from one to another, this will change the frequency of those alle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andom mating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certain traits are more desirable, then individuals with those traits will be selected and this will not allow for random mixing of allel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atural selec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some individuals survive and reproduce at a higher rate than others, then their offspring will carry those genes and the frequency will change for the next gener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raits Selected for Random Mating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7" name="Picture 1026" descr="23-16x1-SexualDimorphism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gene pool of a NON-EVOLVING population remains CONSTANT over multiple generations (allele frequency doesn’t chang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Hardy-Weinberg Equation: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1.0 = p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+ 2pq + q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2pq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termining the Allele Frequency using Hardy-Weinberg: 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  <a:ea typeface="Arial"/>
              </a:rPr>
              <a:t>1.0 = p + q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llele Frequencies Define Gene Po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533520" y="335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there are 1000 copies of the genes for colo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llele frequencies are (in both males and female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320 x 2 (RR) + 160 x 1 (Rr) = 800 R;  800/1000 = 0.8 (8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x 1 (Rr) + 20 x 2 (rr) = 200 r; 200/1000 = 0.2 (2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838080" y="990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flowering pl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219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80 red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1911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white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838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6668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7242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10"/>
          <p:cNvSpPr/>
          <p:nvPr/>
        </p:nvSpPr>
        <p:spPr>
          <a:xfrm flipH="1">
            <a:off x="3657600" y="14479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4267080" y="14479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12"/>
          <p:cNvSpPr/>
          <p:nvPr/>
        </p:nvSpPr>
        <p:spPr>
          <a:xfrm flipH="1">
            <a:off x="1980720" y="23623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2590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876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200" y="15192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mbers of a species c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interbreed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&amp; produce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ertile offspr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pecies hav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ared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poo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– all of the alleles of all individuals in a popu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Picture 17" descr="gene_pool_sm"/>
          <p:cNvPicPr/>
          <p:nvPr/>
        </p:nvPicPr>
        <p:blipFill>
          <a:blip r:embed="rId1"/>
          <a:stretch/>
        </p:blipFill>
        <p:spPr>
          <a:xfrm>
            <a:off x="5638680" y="1066680"/>
            <a:ext cx="2959200" cy="495324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050" descr="23-03a-HardyWeinberg-L"/>
          <p:cNvPicPr/>
          <p:nvPr/>
        </p:nvPicPr>
        <p:blipFill>
          <a:blip r:embed="rId1"/>
          <a:stretch/>
        </p:blipFill>
        <p:spPr>
          <a:xfrm>
            <a:off x="914400" y="210960"/>
            <a:ext cx="7315200" cy="643608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50" descr="23-03b-HardyWeinberg-L"/>
          <p:cNvPicPr/>
          <p:nvPr/>
        </p:nvPicPr>
        <p:blipFill>
          <a:blip r:embed="rId1"/>
          <a:stretch/>
        </p:blipFill>
        <p:spPr>
          <a:xfrm>
            <a:off x="914400" y="230040"/>
            <a:ext cx="7238880" cy="633096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icroevolution of Specie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hange in the gene pool of a small population due to ch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Selection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ccess in reproduction based on heritable traits results in selected alleles being passed to relatively more offspring (Darwinian inheritanc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Cause ADAPTATION of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F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s genetic exchange due to the migration of fertile individuals or gametes between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44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hange in an organism’s D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can be transmitted in gametes to offsp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random ma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Mates are chosen on the basis of the best trai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14360"/>
          <a:stretch/>
        </p:blipFill>
        <p:spPr>
          <a:xfrm>
            <a:off x="3124080" y="4191120"/>
            <a:ext cx="4442040" cy="2361960"/>
          </a:xfrm>
          <a:prstGeom prst="rect">
            <a:avLst/>
          </a:prstGeom>
          <a:ln w="0">
            <a:noFill/>
          </a:ln>
        </p:spPr>
      </p:pic>
      <p:sp>
        <p:nvSpPr>
          <p:cNvPr id="52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Factors that Cause Genetic Drift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Bottleneck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drastic reduction in population (volcanoes, earthquakes, landslides …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maller population may not be able to adapt to new selection press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under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curs when a new colony is started by a few members of the original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499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y lead to speci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0600" y="533520"/>
            <a:ext cx="8910720" cy="57909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24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Loss of Genetic Varia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Cheetah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have little genetic variation in their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is can probably be attributed to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population bottleneck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ey experienced around 10,000 years ago, barely avoiding extinction at the end of the last ice ag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052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6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do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T exchange gene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y interbreed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that interbreed often produc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erile or less viabl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ffspring e.g. Mu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Picture 9" descr="mule"/>
          <p:cNvPicPr/>
          <p:nvPr/>
        </p:nvPicPr>
        <p:blipFill>
          <a:blip r:embed="rId1"/>
          <a:stretch/>
        </p:blipFill>
        <p:spPr>
          <a:xfrm>
            <a:off x="5059440" y="1066680"/>
            <a:ext cx="3443040" cy="49532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Founder’s Effec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rcRect l="0" t="23158" r="0" b="0"/>
          <a:stretch/>
        </p:blipFill>
        <p:spPr>
          <a:xfrm>
            <a:off x="103320" y="1600200"/>
            <a:ext cx="9040680" cy="426708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s of Natural Selection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rectional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individuals at one end of the phenotypic ra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ost common during times of environmental change or when moving to new habita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sruptive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extreme over intermediat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curs when environmental change favors an extreme phenotyp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3-13-DirectionalSelect-L"/>
          <p:cNvPicPr/>
          <p:nvPr/>
        </p:nvPicPr>
        <p:blipFill>
          <a:blip r:embed="rId1"/>
          <a:stretch/>
        </p:blipFill>
        <p:spPr>
          <a:xfrm>
            <a:off x="457200" y="271440"/>
            <a:ext cx="8229600" cy="6315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800600" y="9856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Directional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6" descr="23-14-DiversifyingSelect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7"/>
          <p:cNvSpPr/>
          <p:nvPr/>
        </p:nvSpPr>
        <p:spPr>
          <a:xfrm>
            <a:off x="1143000" y="45072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isruptive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abilizing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vors intermediate over extrem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s variation and maintains the cureent avera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 Human birth we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026" descr="23-12-ModesOfSelection-L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Variations in Population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00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Geographic Variations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440" y="1371600"/>
            <a:ext cx="4762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riation in a species due to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limate or another geographical condi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opulations live i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ifferent lo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inches of Galapagos Islands &amp; South Americ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5448240" y="1346040"/>
            <a:ext cx="316224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3-08-PlantClinalVariat-L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34392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Populations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group of th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ame species living in an are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 two individuals are exactly alik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(variation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r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dividuals survive &amp; pass on their trai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6" descr="Deer_Fighting_"/>
          <p:cNvPicPr/>
          <p:nvPr/>
        </p:nvPicPr>
        <p:blipFill>
          <a:blip r:embed="rId1"/>
          <a:stretch/>
        </p:blipFill>
        <p:spPr>
          <a:xfrm>
            <a:off x="4648320" y="2103480"/>
            <a:ext cx="4267080" cy="2879640"/>
          </a:xfrm>
          <a:prstGeom prst="rect">
            <a:avLst/>
          </a:prstGeom>
          <a:ln w="0">
            <a:noFill/>
          </a:ln>
        </p:spPr>
      </p:pic>
      <p:sp>
        <p:nvSpPr>
          <p:cNvPr id="44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Heterozygote Advantag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avor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heterozygotes (A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aintains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 both alleles (A,a)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stead of removing less successful alleles from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ickle cell anem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omozygotes exhibit severe anemia, have abnormal blood cell shape, and usually die before reproductive ag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eterozygotes are less susceptible to malar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ickle Cell and Malaria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6" name="Picture 3" descr="21_13"/>
          <p:cNvPicPr/>
          <p:nvPr/>
        </p:nvPicPr>
        <p:blipFill>
          <a:blip r:embed="rId1"/>
          <a:srcRect l="0" t="2496" r="0" b="0"/>
          <a:stretch/>
        </p:blipFill>
        <p:spPr>
          <a:xfrm>
            <a:off x="914400" y="1066680"/>
            <a:ext cx="7315200" cy="5349960"/>
          </a:xfrm>
          <a:prstGeom prst="rect">
            <a:avLst/>
          </a:prstGeom>
          <a:ln w="0">
            <a:noFill/>
          </a:ln>
        </p:spPr>
      </p:pic>
      <p:sp>
        <p:nvSpPr>
          <p:cNvPr id="5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3-10-MappingMalaria-L"/>
          <p:cNvPicPr/>
          <p:nvPr/>
        </p:nvPicPr>
        <p:blipFill>
          <a:blip r:embed="rId1"/>
          <a:stretch/>
        </p:blipFill>
        <p:spPr>
          <a:xfrm>
            <a:off x="990720" y="168120"/>
            <a:ext cx="7162560" cy="65217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Other Sources of Varia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7617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 stable environments, mutations often result in little or no benefit to an organism, or are often harmfu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are more beneficial (rare) in changing environments  (Example:  HIV resistance to antiviral drug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Genetic Recombina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urce of most genetic differences between individuals in a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Co-evolu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Often occurs between parasite &amp; host and flowers &amp; their pollinato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74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C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rcRect l="2247" t="1749" r="0" b="4818"/>
          <a:stretch/>
        </p:blipFill>
        <p:spPr>
          <a:xfrm>
            <a:off x="0" y="121932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Specia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rmation of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ne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pl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to 2 or more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evolve into a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quires ver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ong periods of tim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Picture 6" descr="speciation"/>
          <p:cNvPicPr/>
          <p:nvPr/>
        </p:nvPicPr>
        <p:blipFill>
          <a:blip r:embed="rId1"/>
          <a:srcRect l="0" t="0" r="0" b="8126"/>
          <a:stretch/>
        </p:blipFill>
        <p:spPr>
          <a:xfrm>
            <a:off x="4648320" y="1220760"/>
            <a:ext cx="4267080" cy="457056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rn Evolutionary Though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bine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arwinian selectio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endelian inherita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 genetic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study of genetic variation within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mphasis 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quantitative characters (height, size …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Picture 5" descr="darwinport2"/>
          <p:cNvPicPr/>
          <p:nvPr/>
        </p:nvPicPr>
        <p:blipFill>
          <a:blip r:embed="rId1"/>
          <a:stretch/>
        </p:blipFill>
        <p:spPr>
          <a:xfrm>
            <a:off x="6400800" y="1106640"/>
            <a:ext cx="2362320" cy="3398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mendel"/>
          <p:cNvPicPr/>
          <p:nvPr/>
        </p:nvPicPr>
        <p:blipFill>
          <a:blip r:embed="rId2"/>
          <a:stretch/>
        </p:blipFill>
        <p:spPr>
          <a:xfrm>
            <a:off x="4419720" y="2895480"/>
            <a:ext cx="2527200" cy="32943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84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940s – comprehensive theory of evoluti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Modern Synthesis Theory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troduced by Fisher &amp; Wrigh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Until the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ny did not accept that Darwin’s theory of natural selection could drive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sher"/>
          <p:cNvPicPr/>
          <p:nvPr/>
        </p:nvPicPr>
        <p:blipFill>
          <a:blip r:embed="rId1"/>
          <a:stretch/>
        </p:blipFill>
        <p:spPr>
          <a:xfrm>
            <a:off x="5105520" y="3048120"/>
            <a:ext cx="20113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wright"/>
          <p:cNvPicPr/>
          <p:nvPr/>
        </p:nvPicPr>
        <p:blipFill>
          <a:blip r:embed="rId2"/>
          <a:stretch/>
        </p:blipFill>
        <p:spPr>
          <a:xfrm>
            <a:off x="6629400" y="1066680"/>
            <a:ext cx="2011320" cy="30290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6"/>
          <p:cNvSpPr/>
          <p:nvPr/>
        </p:nvSpPr>
        <p:spPr>
          <a:xfrm>
            <a:off x="7086600" y="33526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S. W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334120" y="58672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A. Fis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64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ODAY’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ory on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ENE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re responsible for the inheritance of characteris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not individuals, evolve due to natural selection &amp; genetic drif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PECIAT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usually is due to th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radual accumulation of small genetic chang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LEGION</cp:lastModifiedBy>
  <dcterms:modified xsi:type="dcterms:W3CDTF">2016-12-07T12:48:19Z</dcterms:modified>
  <cp:revision>82</cp:revision>
  <dc:subject/>
  <dc:title>PowerPoint Presentation</dc:title>
</cp:coreProperties>
</file>