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dt" idx="3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ftr" idx="3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 type="sldNum" idx="3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C86D-DAEE-480A-9B8F-9D73FE492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pulation 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ccur in gene pools due to mutation, natural selection, genetic drift, et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 changes cause more VARIATION in individuals in the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is called MICR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Bacteria becoming unaffected by antibiotics (resista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ccur in gene pools due to mutation, natural selection, genetic drift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 changes cause more VARIATION in individuals in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is called 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Bacteria becoming unaffected by antibiotics (resist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describe a non-evolving popul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uffling of alleles by meiosis and random fertilization have no effect on the overall gene pool. 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populations are NOT expected to actually be in Hardy-Weinberg equilibriu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describe a non-evolving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uffling of alleles by meiosis and random fertilization have no effect on the overall gene pool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populations are NOT expected to actually be in Hardy-Weinberg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tion from Hardy-Weinberg equilibrium usually results in 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a non-evolving population, helps us to understand how evolution occu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tion from Hardy-Weinberg equilibrium usually results in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a non-evolving population, helps us to understand how evolution occ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Assumptions of the H-W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population 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small populations have fluctuations in allele frequencies (e.g., fire, storm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ig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mmigrants can change the frequency of an allele by bringing in new alleles to a popul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et mut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alleles change from one to another, this will change the frequency of those alle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Assumptions of the H-W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population 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small populations have fluctuations in allele frequencies (e.g., fire, stor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ig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mmigrants can change the frequency of an allele by bringing in new alleles to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et mut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alleles change from one to another, this will change the frequency of thos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Assumptions of the H-W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certain traits are more desirable, then individuals with those traits will be selected and this will not allow for random mixing of alle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atural sel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some individuals survive and reproduce at a higher rate than others, then their offspring will carry those genes and the frequency will change for the next gener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Assumptions of the H-W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certain traits are more desirable, then individuals with those traits will be selected and this will not allow for random mixing of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atural sel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some individuals survive and reproduce at a higher rate than others, then their offspring will carry those genes and the frequency will change for the next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its Selected for Random Mat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its Selected for 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 of a NON-EVOLVING population remains CONSTANT over multiple generations (allele frequency doesn’t chang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Equation: 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 = p2 + 2pq + q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= frequency of AA genoty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q = frequency of A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 = frequency of aa genoty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gene pool of a NON-EVOLVING population remains CONSTANT over multiple generations (allele frequency doesn’t chan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Hardy-Weinberg Equation: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              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0 = p2 + 2pq + q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2 = frequency of AA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pq = frequency of A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2 = frequency of aa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ing the Allele Frequency using Hardy-Weinberg: 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 = p + q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frequency of A alle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frequency of a alle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ing the Allele Frequency using Hardy-Weinberg: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 = p +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frequency of A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frequency of a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ies Define Gene Poo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re are 1000 copies of the genes for color,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 frequencies are (in both males and females)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0 x 2 (RR) + 160 x 1 (Rr) = 800 R;  800/1000 = 0.8 (80%) 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 x 1 (Rr) + 20 x 2 (rr) = 200 r; 200/1000 = 0.2 (20%) 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flowering pla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0 red flow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white flow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0 R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 R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r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ies Define Gene P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re are 1000 copies of the genes for colo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 frequencies are (in both males and female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0 x 2 (RR) + 160 x 1 (Rr) = 800 R;  800/1000 = 0.8 (80%)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 x 1 (Rr) + 20 x 2 (rr) = 200 r; 200/1000 = 0.2 (20%)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flow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0 r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white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0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a species can interbreed &amp; produce fertile offspr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have a shared gene po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 – all of the alleles of all individuals in a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a species can interbreed &amp; produce fertile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have a shared 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 – all of the alleles of all individual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of Spec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croevolution of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Micr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e change in the gene pool of a small population due to cha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uccess in reproduction based on heritable traits results in selected alleles being passed to relatively more offspring (Darwinian inheritanc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ause ADAPTATION of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s genetic exchange due to the migration of fertile individuals or gametes between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e change in the gene pool of a small population due to ch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uccess in reproduction based on heritable traits results in selected alleles being passed to relatively more offspring (Darwinian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ause ADAPTATION of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s genetic exchange due to the migration of fertile individuals or gametes between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Micr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nge in an organism’s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can be transmitted in gametes to offspr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tes are chosen on the basis of the best tra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nge in an organism’s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can be transmitted in gametes to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tes are chosen on the basis of the best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that Cause 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neck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rastic reduction in population (volcanoes, earthquakes, landslides 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r population may not be able to adapt to new selection press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a new colony is started by a few members of the original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speci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that Cause Genetic Drif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neck Effe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rastic reduction in population (volcanoes, earthquakes, landslides …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genetic var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r population may not be able to adapt to new selection pressu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Effe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a new colony is started by a few members of the original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genetic var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speci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s of Genetic Var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etahs have little genetic variation in their gene po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probably be attributed to a population bottleneck they experienced around 10,000 years ago, barely avoiding extinction at the end of the last ice 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s of 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etahs have little genetic variation in their 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probably be attributed to a population bottleneck they experienced around 10,000 years ago, barely avoiding extinction at the end of the last ice 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pecies do NOT exchange genes by interbreed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pecies that interbreed often produce sterile or less viable offspring e.g. M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pecies do NOT exchange genes by interbree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pecies that interbreed often produce sterile or less viable offspring e.g. M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under’s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’s Effe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individuals at one end of the phenotypic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during times of environmental change or when moving to new 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extreme over intermediate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environmental change favors an extreme 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individuals at one end of the phenotypic ran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during times of environmental change or when moving to new habita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extreme over intermediate phenoty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environmental change favors an extreme phenoty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ruptive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intermediate over extreme phenoty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s variation and maintains the cureent aver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Human birth w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intermediate over extreme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s variation and maintains the cureent a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Human birth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s in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ariations in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 Vari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a species due to climate or another geographical con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live in different lo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Finches of Galapagos Islands &amp;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 Vari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a species due to climate or another geographical condi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live in different loc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Finches of Galapagos Islands &amp; South Americ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e same species living in an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wo individuals are exactly alike (variation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it individuals survive &amp; pass on their tra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e same species living in an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wo individuals are exactly alike (varia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it individuals survive &amp; pass on their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 Advant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heterozygotes (A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s both alleles (A,a) instead of removing less successful alleles from a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em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Homozygotes exhibit severe anemia, have abnormal blood cell shape, and usually die before reproductive ag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Heterozygotes are less susceptible to mala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eterozygot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vors heterozygotes (A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intains both alleles (A,a) instead of removing less successful alleles from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ckle cell an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gt; Homozygotes exhibit severe anemia, have abnormal blood cell shape, and usually die before reproductive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gt; Heterozygotes are less susceptible to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d Mala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ckle Cell and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ources of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table environments, mutations often result in little or no benefit to an organism, or are often harm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are more beneficial (rare) in changing environments  (Example:  HIV resistance to antiviral drug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Recomb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of most genetic differences between individual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-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Often occurs between parasite &amp; host and flowers &amp; their pollin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ources of Var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table environments, mutations often result in little or no benefit to an organism, or are often harmfu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are more beneficial (rare) in changing environments  (Example:  HIV resistance to antiviral drug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Recombin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of most genetic differences between individuals in a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-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Often occurs between parasite &amp; host and flowers &amp; their pollinat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spec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 may split into 2 or more spec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es may evolve into a new spec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s very long periods of ti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 may split into 2 or more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es may evolve into a new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s very long periods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Evolutionary Thou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dern Evolutionary Thou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s Darwinian selection and Mendelian inherita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s - study of genetic variation within a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s on quantitative characters (height, size …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s Darwinian selection and Mendelian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s - study of genetic variation with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s on quantitative characters (height, size 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0s – comprehensive theory of evolution (Modern Synthesis Theor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d by Fisher &amp; Wr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then, many did not accept that Darwin’s theory of natural selection could drive 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 Wr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Fis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0s – comprehensive theory of evolution (Modern Synthesis Theo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d by Fisher &amp; W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then, many did not accept that Darwin’s theory of natural selection could driv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 W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Fis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theory on 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GENES are responsible for the inheritance of characteristi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POPULATIONS, not individuals, evolve due to natural selection &amp; genetic drif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SPECIATION usually is due to the gradual accumulation of small genetic chang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theory on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GENES are responsible for the inheritance of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POPULATIONS, not individuals, evolve due to natural selection &amp; 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SPECIATION usually is due to the gradual accumulation of small genetic 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F923-591C-43C7-89A6-191D699D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C2E0-2BD2-4710-906A-DD028867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F4B99-C375-4DAB-A935-37ACADCF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B87F2-38CA-41EA-B0D0-C19D9BFF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BB4DC-55DB-44DD-BA4C-C2D058E9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A7158-0679-44BC-B8DC-4545906C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9E543-306D-4189-AC22-BC1E1173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04906-777E-4814-BEEA-6EE29B47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9A810-A674-4E45-B806-87CC3146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1018E-5E9C-4B19-B19D-27AD4AA0E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2759A-036E-4277-8718-E9E18E64E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FCF86-5BE4-412A-AE21-D27607464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E4FA-90A6-43D7-92FB-C9EB7CD9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4BED9-3293-47F8-9785-01D6096A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7E56A-0814-48AB-83DC-99ECFDF2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948F6-E47B-4B49-8F03-912BB9A7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96675-FCFD-478A-8899-CA319A51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8F36A-1A4B-4D31-8B96-007C4FEC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BCFED-4C7F-4A77-A766-EEEC6592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ADEFA-7ABD-4910-BF71-A6962CD7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3B0CF-92CA-4D02-A5B8-188FE50A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42C5B7-3BDB-484F-B65F-BB2CC747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67A19-62DB-490D-A2CB-E1CF786C6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8B05-8058-4271-9870-DA30E1BC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96F6B-21B4-49FD-B901-DD4B180D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061F-5CE6-4155-9825-DA7CED3A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7F4B-9E87-4A2F-B7CC-8BD8084B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842C-C8ED-482C-9208-C0533857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D0FE-11EC-4E38-B71F-996727F5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F136-E9BC-4B7B-85A7-07BC8E1B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CE04-37F5-478A-B417-7AF32755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7629-A8CC-4A14-A5C5-9E5615BD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B458-C8BE-4068-8D68-65EF73AC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B976-2FC7-4A9E-9D66-3A996BAB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C199-792F-4702-8587-8D43049B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5A94-E0BE-4557-BAD0-EF4DB68E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4AA8-BF7F-4EC3-BCBF-04C2AF4E3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B6B0-C4DE-4D59-B518-DA859EA0D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6EDBB-8E07-4A8A-BE28-BDC2B96D5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B7D55-2CE5-4931-9A19-34448E1C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D004B-65D4-4B98-B3FA-3FCB3BED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78599-F0B4-4B94-9AD7-F4FF5B66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C897A-8891-4E17-94A4-AFBC7A85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2A5F-766E-48E8-A99C-21639735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6BDFC-6505-4081-8A29-E67F6C4A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84810-4642-42D3-8751-2259B851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096C1-F067-4DFF-91FA-7141F490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F4056-6519-4A94-A800-1F104771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A9B30-6BE6-4421-AA06-69C08D49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8A6CF-D9A7-4AB2-B43B-6F130DF71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85460-437C-4B75-9A58-A690FF6C1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607EA-04CE-4D8C-B5C8-C803317D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73B1C-E9D4-4B06-9AEC-62F45BFA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B49C3-640D-4607-A2B9-921C60C7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EC20-5995-4C3E-A39A-CE837EF1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446AA-83D4-41BA-AB38-B1F5753A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7809E-A5AF-4109-82F5-4A1AADF2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C3BF1-642A-4E0C-AC7C-C3146776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401AC-7FD5-4F09-AE22-77F27C27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6D2F1-B043-459F-85F5-7105A49F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6062E-193A-4586-8CF8-4C182611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20F2F-54B3-41BE-B5CF-9F3ECB2A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50D9B-9236-44C6-BCC6-5D217337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A8AB1-DFB0-43AA-A25A-884589C20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31BB5-E739-4B97-8CD6-8CFC8B82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EECB-33F1-45D0-B368-789AD933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D0244-F324-4DFF-A3E2-42772461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58099-F8CC-4B6D-9137-F291B2D5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64216-E0A2-418E-98C5-D39690E1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E33AF-1722-41DC-ADEF-E0AFE9EB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F8219-0ABC-47B1-902B-F94A4FDA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BE325-7D10-45C1-9D25-CF0A26FE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7D950-3E9E-4B1B-9E60-7F1DBA7E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964BB-2F5D-4E2D-AC01-20E80409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C9396-7E9E-4763-B7E9-977B326C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DBB58-7EC9-4B5F-8A41-63B2D319B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94A9-D38E-497D-A247-CD6CDF0D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F1729-4EF3-4C97-AD64-77A195DBF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FF49C-8DD1-4130-83CB-D5B692710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E460B-8135-4DBC-9A7C-16D8E846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19721-A7A7-411A-BE89-FF77CC23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0D1B3-26FE-4B83-BF5D-312FE890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E1102-8B3A-47F1-89BB-04790B7D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C7991-B04C-4A72-BEEE-A7A2BDCE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6FF91-0E52-4732-888B-DAB4DFE8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762B8-ED48-42FC-A826-9B04B871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37AAC-4B43-4E5A-8CEC-C48AAE80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6815-4CFF-44D4-8E04-BDF5C8AC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5F7A9-05C7-4357-AAE3-27BCABFE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01ED1-84E1-444E-A011-20B209127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B7C2A-EAEF-4A04-A9B9-79CE52F21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F3BAA-A214-4654-BE26-514E328CF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C7474-4F5A-4DF0-8A2F-284C8674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7D039-5850-4653-9D75-B714315D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DED6D-AD14-475E-930B-B47DBD7D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ADDB9-32C7-4C6B-82B9-9AB3D2B3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EDB56-1E12-4035-A87E-D0B0DFC1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275E0-19DD-4C15-A90C-EBA0BA9A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DA6A-B8CB-4DCE-A94A-CC939739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4539D-2637-4DAB-A80C-1D5C25ED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A7840-74D9-4DAE-A169-C2BC0B17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61B1E-2D94-4A9E-B10B-90319D16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940E0-1EB8-4ADA-A1BF-AB08D0E3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211EB-54C6-4D65-9627-C5BABD36B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407C1-3BA9-444B-A7B5-E876A6A4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B0537-459C-4064-A073-DDDE2746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4EC2C-A37E-4374-B519-9E1CC015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73A7B-BC87-417E-BADC-47CFCF0B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4A2CF-C4A1-4569-A5D4-52BB7BF4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2DF6-625C-4A14-A8BB-16B50718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EA73F-F1B4-4FC1-8CE6-656A2BD9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66A90-FC64-4652-9637-A7557CE2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581E9-34F0-43FC-8322-77D94E07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385F9-8F58-4A55-B02A-240A01A4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9FE07-8C15-4E06-AA5F-09D598A3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1640A-CCF1-43FC-824D-676CD4DFE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BB36F-F4F9-4EE9-9DD8-9AA745469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02062-1CB7-404D-B54A-141ECAA87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D0D88-2F2F-4100-BB21-9B2027E3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43335-6743-496C-92E4-2F828253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ABB4-CC0E-475C-808F-D49243B98019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1106-C603-45B2-88F7-AF931FC628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020A-16FE-4016-BC66-263EAEC332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F3FE-E6E5-41C3-A0A2-AE5259FD13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6E2D-1A04-424B-A6AE-1CE1377D1B7E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F7D0-3C39-4E53-8CD2-B7EFA2C51FDC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B87C-E133-4789-8BA7-9AE309A240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3359-0D2D-4E85-80B8-9763F59C9DF9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C063-956B-433A-B686-3D008BBE4C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1450-4BA9-4D6D-B2D5-2D0E3D85AE90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6B97-736C-4C42-97F5-C1AE5D1560A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B7E8-B229-4E61-99B1-E530D3A832A4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F2BF-8692-4710-B2BE-A643AE3607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177E-8D00-49F3-91E4-EEFC4F5330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C9AD-854D-4AFE-8697-E509DA040E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5BDE-A11B-47C3-A97E-AEA1552CAAB8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86A6-CAF5-4C3B-81C8-8EF3DA07DD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55DA-4C03-4BAB-BE2A-4AC4FAFE7F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9B24-1F21-4CE0-A5AB-0E0B52456141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64F7-3590-4EF8-8A8A-1886E0F021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5B45-E48F-4A20-8894-EF7BDFA663D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8FA1-5F40-4710-9999-C4C967F51350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F80F-5376-40C3-87F1-A6A2A4A661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84FC-5239-43C8-BE1A-26F0924172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6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7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7200-D9E5-4F7D-95E6-661468E1956B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23-00-Shell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 rot="21556800">
            <a:off x="2146320" y="2009520"/>
            <a:ext cx="4651200" cy="20620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0000"/>
                </a:solidFill>
                <a:latin typeface="Comic Sans MS"/>
              </a:rPr>
              <a:t>Population Genetics</a:t>
            </a:r>
            <a:endParaRPr b="1" i="1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168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Microevolution</a:t>
            </a:r>
            <a:endParaRPr b="1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Changes occur in gene pool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due to mutation, natural selection, genetic drift, etc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Gene pool changes cause more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VARIATION in individual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in the popula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This process is called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MICROEVOLU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Bacteria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becoming unaffected by antibiotics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(resistant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504960" y="4495320"/>
            <a:ext cx="5562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Hardy-Weinberg Principle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The Hardy-Weinberg Principle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Used to describe a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n-evolving population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huffling of allele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by meiosis and random fertilization hav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 effect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on the overall gene pool. 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atural population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are NOT expected to actually be in Hardy-Weinberg equilibrium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0" y="5715000"/>
            <a:ext cx="853452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The Hardy-Weinberg Principle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Deviation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from Hardy-Weinberg equilibrium usually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results in evolu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Understanding a non-evolving population, helps us to understand how evolution occur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5 Assumptions of the H-W Principl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Large population size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- small populations have fluctuations in allele frequencies (e.g., fire, storm)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 migration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immigrants can change the frequency of an allele by bringing in new alleles to a population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 net mutations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 if alleles change from one to another, this will change the frequency of those allel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5 Assumptions of the H-W Principl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Random mating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 if certain traits are more desirable, then individuals with those traits will be selected and this will not allow for random mixing of alleles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 natural selection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 if some individuals survive and reproduce at a higher rate than others, then their offspring will carry those genes and the frequency will change for the next generation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Traits Selected for Random Mating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87" name="Picture 1026" descr="23-16x1-SexualDimorphism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88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The Hardy-Weinberg Principl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The gene pool of a NON-EVOLVING population remains CONSTANT over multiple generations (allele frequency doesn’t change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he Hardy-Weinberg Equation: 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             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1.0 = p</a:t>
            </a:r>
            <a:r>
              <a:rPr b="1" i="1" lang="en-US" sz="3200" spc="-1" strike="noStrike" baseline="30000">
                <a:solidFill>
                  <a:srgbClr val="cc0000"/>
                </a:solidFill>
                <a:latin typeface="Comic Sans MS"/>
                <a:ea typeface="Arial"/>
              </a:rPr>
              <a:t>2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 + 2pq + q</a:t>
            </a:r>
            <a:r>
              <a:rPr b="1" i="1" lang="en-US" sz="3200" spc="-1" strike="noStrike" baseline="30000">
                <a:solidFill>
                  <a:srgbClr val="cc0000"/>
                </a:solidFill>
                <a:latin typeface="Comic Sans MS"/>
                <a:ea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Where: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p</a:t>
            </a:r>
            <a:r>
              <a:rPr b="1" i="1" lang="en-US" sz="2800" spc="-1" strike="noStrike" baseline="30000">
                <a:solidFill>
                  <a:srgbClr val="cc0000"/>
                </a:solidFill>
                <a:latin typeface="Comic Sans MS"/>
                <a:ea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frequency of AA genotyp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2pq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= frequency of Aa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q</a:t>
            </a:r>
            <a:r>
              <a:rPr b="1" i="1" lang="en-US" sz="2800" spc="-1" strike="noStrike" baseline="30000">
                <a:solidFill>
                  <a:srgbClr val="cc0000"/>
                </a:solidFill>
                <a:latin typeface="Comic Sans MS"/>
                <a:ea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= frequency of aa genotyp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The Hardy-Weinberg Principl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etermining the Allele Frequency using Hardy-Weinberg: 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              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Comic Sans MS"/>
                <a:ea typeface="Arial"/>
              </a:rPr>
              <a:t>1.0 = p + q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Where: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p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=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frequency of A allel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q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 frequency of a allel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304920" y="3049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llele Frequencies Define Gene Poo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Text Box 3"/>
          <p:cNvSpPr/>
          <p:nvPr/>
        </p:nvSpPr>
        <p:spPr>
          <a:xfrm>
            <a:off x="533520" y="335268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s there are 1000 copies of the genes for color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allele frequencies are (in both males and females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320 x 2 (RR) + 160 x 1 (Rr) = 800 R;  800/1000 = 0.8 (80%) 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60 x 1 (Rr) + 20 x 2 (rr) = 200 r; 200/1000 = 0.2 (20%) 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838080" y="9907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00 flowering pla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1219320" y="1828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80 red flo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4191120" y="1828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0 white flo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83808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20 R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Rectangle 8"/>
          <p:cNvSpPr/>
          <p:nvPr/>
        </p:nvSpPr>
        <p:spPr>
          <a:xfrm>
            <a:off x="266688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60 R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Rectangle 9"/>
          <p:cNvSpPr/>
          <p:nvPr/>
        </p:nvSpPr>
        <p:spPr>
          <a:xfrm>
            <a:off x="472428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0 r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Line 10"/>
          <p:cNvSpPr/>
          <p:nvPr/>
        </p:nvSpPr>
        <p:spPr>
          <a:xfrm flipH="1">
            <a:off x="3657600" y="14479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Line 11"/>
          <p:cNvSpPr/>
          <p:nvPr/>
        </p:nvSpPr>
        <p:spPr>
          <a:xfrm>
            <a:off x="4267080" y="144792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Line 12"/>
          <p:cNvSpPr/>
          <p:nvPr/>
        </p:nvSpPr>
        <p:spPr>
          <a:xfrm flipH="1">
            <a:off x="1980720" y="236232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Line 13"/>
          <p:cNvSpPr/>
          <p:nvPr/>
        </p:nvSpPr>
        <p:spPr>
          <a:xfrm>
            <a:off x="2590920" y="23623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Line 14"/>
          <p:cNvSpPr/>
          <p:nvPr/>
        </p:nvSpPr>
        <p:spPr>
          <a:xfrm>
            <a:off x="4876920" y="23623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5200" y="15192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The Gene Pool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Members of a species can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interbreed</a:t>
            </a:r>
            <a:r>
              <a:rPr b="1" i="1" lang="en-US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&amp; produce</a:t>
            </a:r>
            <a:r>
              <a:rPr b="1" i="1" lang="en-US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fertile offspring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Species have a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hared gene poo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Gene pool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– all of the alleles of all individuals in a popul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7" name="Picture 17" descr="gene_pool_sm"/>
          <p:cNvPicPr/>
          <p:nvPr/>
        </p:nvPicPr>
        <p:blipFill>
          <a:blip r:embed="rId1"/>
          <a:stretch/>
        </p:blipFill>
        <p:spPr>
          <a:xfrm>
            <a:off x="5638680" y="1066680"/>
            <a:ext cx="2959200" cy="4953240"/>
          </a:xfrm>
          <a:prstGeom prst="rect">
            <a:avLst/>
          </a:prstGeom>
          <a:ln w="0">
            <a:noFill/>
          </a:ln>
        </p:spPr>
      </p:pic>
      <p:sp>
        <p:nvSpPr>
          <p:cNvPr id="43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050" descr="23-03a-HardyWeinberg-L"/>
          <p:cNvPicPr/>
          <p:nvPr/>
        </p:nvPicPr>
        <p:blipFill>
          <a:blip r:embed="rId1"/>
          <a:stretch/>
        </p:blipFill>
        <p:spPr>
          <a:xfrm>
            <a:off x="914400" y="210960"/>
            <a:ext cx="7315200" cy="6436080"/>
          </a:xfrm>
          <a:prstGeom prst="rect">
            <a:avLst/>
          </a:prstGeom>
          <a:ln w="0">
            <a:noFill/>
          </a:ln>
        </p:spPr>
      </p:pic>
      <p:sp>
        <p:nvSpPr>
          <p:cNvPr id="510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050" descr="23-03b-HardyWeinberg-L"/>
          <p:cNvPicPr/>
          <p:nvPr/>
        </p:nvPicPr>
        <p:blipFill>
          <a:blip r:embed="rId1"/>
          <a:stretch/>
        </p:blipFill>
        <p:spPr>
          <a:xfrm>
            <a:off x="914400" y="230040"/>
            <a:ext cx="7238880" cy="6330960"/>
          </a:xfrm>
          <a:prstGeom prst="rect">
            <a:avLst/>
          </a:prstGeom>
          <a:ln w="0">
            <a:noFill/>
          </a:ln>
        </p:spPr>
      </p:pic>
      <p:sp>
        <p:nvSpPr>
          <p:cNvPr id="51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504960" y="4495320"/>
            <a:ext cx="5562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Microevolution of Species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Causes of Microevolution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685440" y="12189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Genetic Drif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83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 the change in the gene pool of a small population due to chanc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atural Selection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83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-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uccess in reproduction based on heritable traits results in selected alleles being passed to relatively more offspring (Darwinian inheritance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3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 Cause ADAPTATION of Population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Gene Flow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83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is genetic exchange due to the migration of fertile individuals or gametes between population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Causes of Microevolution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85440" y="12189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Mut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 change in an organism’s DN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utations can be transmitted in gametes to offspring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n-random mating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- Mates are chosen on the basis of the best trait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rcRect l="0" t="0" r="0" b="14360"/>
          <a:stretch/>
        </p:blipFill>
        <p:spPr>
          <a:xfrm>
            <a:off x="3124080" y="4191120"/>
            <a:ext cx="4442040" cy="2361960"/>
          </a:xfrm>
          <a:prstGeom prst="rect">
            <a:avLst/>
          </a:prstGeom>
          <a:ln w="0">
            <a:noFill/>
          </a:ln>
        </p:spPr>
      </p:pic>
      <p:sp>
        <p:nvSpPr>
          <p:cNvPr id="521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504960" y="4495320"/>
            <a:ext cx="5562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Genetic Drift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60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Factors that Cause Genetic Drift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228600" y="990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Bottleneck Effec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 drastic reduction in population (volcanoes, earthquakes, landslides …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educed genetic varia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maller population may not be able to adapt to new selection pressur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Founder Effec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occurs when a new colony is started by a few members of the original popula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educed genetic varia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499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May lead to speciation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120600" y="533520"/>
            <a:ext cx="8910720" cy="5790960"/>
          </a:xfrm>
          <a:prstGeom prst="rect">
            <a:avLst/>
          </a:prstGeom>
          <a:ln w="0">
            <a:noFill/>
          </a:ln>
        </p:spPr>
      </p:pic>
      <p:sp>
        <p:nvSpPr>
          <p:cNvPr id="52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24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Loss of Genetic Variation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228600" y="13716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Cheetah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have little genetic variation in their gene poo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This can probably be attributed to a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population bottleneck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they experienced around 10,000 years ago, barely avoiding extinction at the end of the last ice ag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052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153280" cy="6114960"/>
          </a:xfrm>
          <a:prstGeom prst="rect">
            <a:avLst/>
          </a:prstGeom>
          <a:ln w="0">
            <a:noFill/>
          </a:ln>
        </p:spPr>
      </p:pic>
      <p:sp>
        <p:nvSpPr>
          <p:cNvPr id="533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56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The Gene Pool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Different species do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T exchange genes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by interbreeding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Different species that interbreed often produc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terile or less viable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offspring e.g. Mul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1" name="Picture 9" descr="mule"/>
          <p:cNvPicPr/>
          <p:nvPr/>
        </p:nvPicPr>
        <p:blipFill>
          <a:blip r:embed="rId1"/>
          <a:stretch/>
        </p:blipFill>
        <p:spPr>
          <a:xfrm>
            <a:off x="5059440" y="1066680"/>
            <a:ext cx="3443040" cy="4953240"/>
          </a:xfrm>
          <a:prstGeom prst="rect">
            <a:avLst/>
          </a:prstGeom>
          <a:ln w="0">
            <a:noFill/>
          </a:ln>
        </p:spPr>
      </p:pic>
      <p:sp>
        <p:nvSpPr>
          <p:cNvPr id="44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Comic Sans MS"/>
              </a:rPr>
              <a:t>Founder’s Effec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35" name="Picture 2" descr=""/>
          <p:cNvPicPr/>
          <p:nvPr/>
        </p:nvPicPr>
        <p:blipFill>
          <a:blip r:embed="rId1"/>
          <a:srcRect l="0" t="23158" r="0" b="0"/>
          <a:stretch/>
        </p:blipFill>
        <p:spPr>
          <a:xfrm>
            <a:off x="103320" y="1600200"/>
            <a:ext cx="9040680" cy="4267080"/>
          </a:xfrm>
          <a:prstGeom prst="rect">
            <a:avLst/>
          </a:prstGeom>
          <a:ln w="0">
            <a:noFill/>
          </a:ln>
        </p:spPr>
      </p:pic>
      <p:sp>
        <p:nvSpPr>
          <p:cNvPr id="53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895120" y="4495320"/>
            <a:ext cx="617220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Modes of Natural Selection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s of Natural Selection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Directional Selec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avors individuals at one end of the phenotypic rang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ost common during times of environmental change or when moving to new habitat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2001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Disruptive selec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1500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avors extreme over intermediate phenotyp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1500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Occurs when environmental change favors an extreme phenotyp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23-13-DirectionalSelect-L"/>
          <p:cNvPicPr/>
          <p:nvPr/>
        </p:nvPicPr>
        <p:blipFill>
          <a:blip r:embed="rId1"/>
          <a:stretch/>
        </p:blipFill>
        <p:spPr>
          <a:xfrm>
            <a:off x="457200" y="271440"/>
            <a:ext cx="8229600" cy="631512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3"/>
          <p:cNvSpPr/>
          <p:nvPr/>
        </p:nvSpPr>
        <p:spPr>
          <a:xfrm>
            <a:off x="4800600" y="985680"/>
            <a:ext cx="358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Directional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Selec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026" descr="23-14-DiversifyingSelect"/>
          <p:cNvPicPr/>
          <p:nvPr/>
        </p:nvPicPr>
        <p:blipFill>
          <a:blip r:embed="rId1"/>
          <a:stretch/>
        </p:blipFill>
        <p:spPr>
          <a:xfrm>
            <a:off x="0" y="679320"/>
            <a:ext cx="9144000" cy="610236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1027"/>
          <p:cNvSpPr/>
          <p:nvPr/>
        </p:nvSpPr>
        <p:spPr>
          <a:xfrm>
            <a:off x="1143000" y="450720"/>
            <a:ext cx="731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Disruptive Selec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s of Natural Selection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tabilizing Selec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Favors intermediate over extreme phenotyp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educes variation and maintains the cureent averag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xample: Human birth weigh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0" name="Picture 2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534200" cy="3022560"/>
          </a:xfrm>
          <a:prstGeom prst="rect">
            <a:avLst/>
          </a:prstGeom>
          <a:ln w="0">
            <a:noFill/>
          </a:ln>
        </p:spPr>
      </p:pic>
      <p:sp>
        <p:nvSpPr>
          <p:cNvPr id="551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1026" descr="23-12-ModesOfSelection-L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553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895120" y="4495320"/>
            <a:ext cx="617220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Variations in Populations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700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Geographic Variations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5440" y="1371600"/>
            <a:ext cx="4762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Variation in a species due to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climate or another geographical condi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Populations live in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different location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Example: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Finches of Galapagos Islands &amp; South Americ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8" name="Picture 2" descr=""/>
          <p:cNvPicPr/>
          <p:nvPr/>
        </p:nvPicPr>
        <p:blipFill>
          <a:blip r:embed="rId1"/>
          <a:stretch/>
        </p:blipFill>
        <p:spPr>
          <a:xfrm>
            <a:off x="5448240" y="1346040"/>
            <a:ext cx="3162240" cy="4648320"/>
          </a:xfrm>
          <a:prstGeom prst="rect">
            <a:avLst/>
          </a:prstGeom>
          <a:ln w="0">
            <a:noFill/>
          </a:ln>
        </p:spPr>
      </p:pic>
      <p:sp>
        <p:nvSpPr>
          <p:cNvPr id="559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23-08-PlantClinalVariat-L"/>
          <p:cNvPicPr/>
          <p:nvPr/>
        </p:nvPicPr>
        <p:blipFill>
          <a:blip r:embed="rId1"/>
          <a:stretch/>
        </p:blipFill>
        <p:spPr>
          <a:xfrm>
            <a:off x="0" y="257040"/>
            <a:ext cx="9144000" cy="6343920"/>
          </a:xfrm>
          <a:prstGeom prst="rect">
            <a:avLst/>
          </a:prstGeom>
          <a:ln w="0">
            <a:noFill/>
          </a:ln>
        </p:spPr>
      </p:pic>
      <p:sp>
        <p:nvSpPr>
          <p:cNvPr id="561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4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Populations</a:t>
            </a:r>
            <a:endParaRPr b="1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 group of th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ame species living in an area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No two individuals are exactly alik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(variations)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Mor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Fit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individuals survive &amp; pass on their trait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5" name="Picture 6" descr="Deer_Fighting_"/>
          <p:cNvPicPr/>
          <p:nvPr/>
        </p:nvPicPr>
        <p:blipFill>
          <a:blip r:embed="rId1"/>
          <a:stretch/>
        </p:blipFill>
        <p:spPr>
          <a:xfrm>
            <a:off x="4648320" y="2103480"/>
            <a:ext cx="4267080" cy="2879640"/>
          </a:xfrm>
          <a:prstGeom prst="rect">
            <a:avLst/>
          </a:prstGeom>
          <a:ln w="0">
            <a:noFill/>
          </a:ln>
        </p:spPr>
      </p:pic>
      <p:sp>
        <p:nvSpPr>
          <p:cNvPr id="44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Heterozygote Advantage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Favors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heterozygotes (Aa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Maintains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 both alleles (A,a)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instead of removing less successful alleles from a popula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Sickle cell anemi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&gt; Homozygotes exhibit severe anemia, have abnormal blood cell shape, and usually die before reproductive age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&gt; Heterozygotes are less susceptible to malari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Sickle Cell and Malaria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66" name="Picture 3" descr="21_13"/>
          <p:cNvPicPr/>
          <p:nvPr/>
        </p:nvPicPr>
        <p:blipFill>
          <a:blip r:embed="rId1"/>
          <a:srcRect l="0" t="2496" r="0" b="0"/>
          <a:stretch/>
        </p:blipFill>
        <p:spPr>
          <a:xfrm>
            <a:off x="914400" y="1066680"/>
            <a:ext cx="7315200" cy="5349960"/>
          </a:xfrm>
          <a:prstGeom prst="rect">
            <a:avLst/>
          </a:prstGeom>
          <a:ln w="0">
            <a:noFill/>
          </a:ln>
        </p:spPr>
      </p:pic>
      <p:sp>
        <p:nvSpPr>
          <p:cNvPr id="567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23-10-MappingMalaria-L"/>
          <p:cNvPicPr/>
          <p:nvPr/>
        </p:nvPicPr>
        <p:blipFill>
          <a:blip r:embed="rId1"/>
          <a:stretch/>
        </p:blipFill>
        <p:spPr>
          <a:xfrm>
            <a:off x="990720" y="168120"/>
            <a:ext cx="7162560" cy="6521760"/>
          </a:xfrm>
          <a:prstGeom prst="rect">
            <a:avLst/>
          </a:prstGeom>
          <a:ln w="0">
            <a:noFill/>
          </a:ln>
        </p:spPr>
      </p:pic>
      <p:sp>
        <p:nvSpPr>
          <p:cNvPr id="569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Other Sources of Variation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228600" y="761760"/>
            <a:ext cx="86868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Mutation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In stable environments, mutations often result in little or no benefit to an organism, or are often harmfu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utations are more beneficial (rare) in changing environments  (Example:  HIV resistance to antiviral drugs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51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c0000"/>
                </a:solidFill>
                <a:latin typeface="Comic Sans MS"/>
                <a:ea typeface="Arial"/>
              </a:rPr>
              <a:t>Genetic Recombination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ource of most genetic differences between individuals in a popula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51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c0000"/>
                </a:solidFill>
                <a:latin typeface="Comic Sans MS"/>
                <a:ea typeface="Arial"/>
              </a:rPr>
              <a:t>Co-evolution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Often occurs between parasite &amp; host and flowers &amp; their pollinator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5748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36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Coevolution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rcRect l="2247" t="1749" r="0" b="4818"/>
          <a:stretch/>
        </p:blipFill>
        <p:spPr>
          <a:xfrm>
            <a:off x="0" y="1219320"/>
            <a:ext cx="9144000" cy="5335560"/>
          </a:xfrm>
          <a:prstGeom prst="rect">
            <a:avLst/>
          </a:prstGeom>
          <a:ln w="0">
            <a:noFill/>
          </a:ln>
        </p:spPr>
      </p:pic>
      <p:sp>
        <p:nvSpPr>
          <p:cNvPr id="575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Speciation</a:t>
            </a:r>
            <a:endParaRPr b="1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Formation of new speci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One species may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plit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into 2 or more speci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 species may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evolve into a new speci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Requires very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long periods of tim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9" name="Picture 6" descr="speciation"/>
          <p:cNvPicPr/>
          <p:nvPr/>
        </p:nvPicPr>
        <p:blipFill>
          <a:blip r:embed="rId1"/>
          <a:srcRect l="0" t="0" r="0" b="8126"/>
          <a:stretch/>
        </p:blipFill>
        <p:spPr>
          <a:xfrm>
            <a:off x="4648320" y="1220760"/>
            <a:ext cx="4267080" cy="4570560"/>
          </a:xfrm>
          <a:prstGeom prst="rect">
            <a:avLst/>
          </a:prstGeom>
          <a:ln w="0">
            <a:noFill/>
          </a:ln>
        </p:spPr>
      </p:pic>
      <p:sp>
        <p:nvSpPr>
          <p:cNvPr id="450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504960" y="4495320"/>
            <a:ext cx="5562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Modern Evolutionary Thought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1710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rn Synthesis Theory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ombines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Darwinian selection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Mendelian inheritanc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Population genetic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study of genetic variation within a popula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Emphasis on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quantitative characters (height, size …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5" name="Picture 5" descr="darwinport2"/>
          <p:cNvPicPr/>
          <p:nvPr/>
        </p:nvPicPr>
        <p:blipFill>
          <a:blip r:embed="rId1"/>
          <a:stretch/>
        </p:blipFill>
        <p:spPr>
          <a:xfrm>
            <a:off x="6400800" y="1106640"/>
            <a:ext cx="2362320" cy="33987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6" descr="mendel"/>
          <p:cNvPicPr/>
          <p:nvPr/>
        </p:nvPicPr>
        <p:blipFill>
          <a:blip r:embed="rId2"/>
          <a:stretch/>
        </p:blipFill>
        <p:spPr>
          <a:xfrm>
            <a:off x="4419720" y="2895480"/>
            <a:ext cx="2527200" cy="3294360"/>
          </a:xfrm>
          <a:prstGeom prst="rect">
            <a:avLst/>
          </a:prstGeom>
          <a:ln w="0">
            <a:noFill/>
          </a:ln>
        </p:spPr>
      </p:pic>
      <p:sp>
        <p:nvSpPr>
          <p:cNvPr id="457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84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rn Synthesis Theory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952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1940s – comprehensive theory of evolution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(Modern Synthesis Theory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Introduced by Fisher &amp; Wrigh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Until then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, many did not accept that Darwin’s theory of natural selection could drive evolu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0" name="Picture 4" descr="fisher"/>
          <p:cNvPicPr/>
          <p:nvPr/>
        </p:nvPicPr>
        <p:blipFill>
          <a:blip r:embed="rId1"/>
          <a:stretch/>
        </p:blipFill>
        <p:spPr>
          <a:xfrm>
            <a:off x="5105520" y="3048120"/>
            <a:ext cx="2011320" cy="32004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5" descr="wright"/>
          <p:cNvPicPr/>
          <p:nvPr/>
        </p:nvPicPr>
        <p:blipFill>
          <a:blip r:embed="rId2"/>
          <a:stretch/>
        </p:blipFill>
        <p:spPr>
          <a:xfrm>
            <a:off x="6629400" y="1066680"/>
            <a:ext cx="2011320" cy="302904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6"/>
          <p:cNvSpPr/>
          <p:nvPr/>
        </p:nvSpPr>
        <p:spPr>
          <a:xfrm>
            <a:off x="7086600" y="3352680"/>
            <a:ext cx="14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mic Sans MS"/>
              </a:rPr>
              <a:t>S. Wr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5334120" y="5867280"/>
            <a:ext cx="1676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mic Sans MS"/>
              </a:rPr>
              <a:t>A. Fish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764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rn Synthesis Theory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TODAY’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theory on evolu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ecognizes that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GENES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are responsible for the inheritance of characteristic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ecognizes that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POPULATIONS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, not individuals, evolve due to natural selection &amp; genetic drif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ecognizes that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SPECIATION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usually is due to the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gradual accumulation of small genetic chang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15:30:09Z</dcterms:created>
  <dc:creator>Valued Gateway Client</dc:creator>
  <dc:description/>
  <dc:language>en-US</dc:language>
  <cp:lastModifiedBy>LEGION</cp:lastModifiedBy>
  <dcterms:modified xsi:type="dcterms:W3CDTF">2016-12-07T12:48:19Z</dcterms:modified>
  <cp:revision>82</cp:revision>
  <dc:subject/>
  <dc:title>PowerPoint Presentation</dc:title>
</cp:coreProperties>
</file>