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A3385-BC3A-4FD8-AB2B-999ECF4D47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obl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obl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8—The Nobl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oup18 elements are called the noble ga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because they rarely combine with other elements and are found only as uncombined elements in natu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reactivity is very low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8—The Nobl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oup18 elements are called the noble ga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because they rarely combine with other elements and are found only as uncombined elements in natu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reactivity is very low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8—The Nobl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um is less dense than air, so it’s great for all kinds of ballo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um balloons lift instruments into the upper atmosphere to measure atmospheric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8—The Nobl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um is less dense than air, so it’s great for all kinds of ballo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um balloons lift instruments into the upper atmosphere to measure atmospheric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8—The Nobl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8—The Nobl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for the Nobl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neon” lights you see in advertising signs can contain any of the noble gases, not just ne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 is passed through the glass tubes that make up the sig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for the Nobl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neon” lights you see in advertising signs can contain any of the noble gases, not just ne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 is passed through the glass tubes that make up the sig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for the Nobl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icity causes the gas to glow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noble gas produces a unique col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um glows yellow, neon glows red-orange, and argon produces a bluish-violet col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for the Nobl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icity causes the gas to glow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noble gas produces a unique col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um glows yellow, neon glows red-orange, and argon produces a bluish-violet col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for the Nobl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gon, the most abundant of the noble gases on Earth, was first found in 189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ypton is used with nitrogen in ordinary lightbulbs because these gases keep the glowing filament from burning ou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ypton lights are used to illuminate landing strips at airports, and xenon is used in strobe lights and was once used in photographic flash cub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for the Nobl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gon, the most abundant of the noble gases on Earth, was first found in 189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ypton is used with nitrogen in ordinary lightbulbs because these gases keep the glowing filament from burning ou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ypton lights are used to illuminate landing strips at airports, and xenon is used in strobe lights and was once used in photographic flash cub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for the Nobl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bottom of the group is radon, a radioactive gas produced naturally as uranium decays in rocks and soi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radon seeps into a home, the gas can be harmful because it continues to emit radi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people breathe the gas over a period of time, it can cause lung canc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for the Nobl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bottom of the group is radon, a radioactive gas produced naturally as uranium decays in rocks and soi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radon seeps into a home, the gas can be harmful because it continues to emit radi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people breathe the gas over a period of time, it can cause lung canc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8/0 – The Nobl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fact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All of the noble gases have a full outer shell, so they are very 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They all have low melting and boiling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They exist as single atoms rather then diatomic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um is lighter then air and is used in balloons and airships (as well as for talking in a silly voi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gon is used in light bulbs (because it is so unreactive) and argon , krypton and neon are used in fancy l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8/0 – The Nobl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fact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All of the noble gases have a full outer shell, so they are very 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They all have low melting and boiling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They exist as single atoms rather then diatomic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um is lighter then air and is used in balloons and airships (as well as for talking in a silly voi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gon is used in light bulbs (because it is so unreactive) and argon , krypton and neon are used in fancy l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1FF6-ED8D-4B82-A3B1-8C73F1B64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5AA7-5C14-47AE-BCAA-149E8C6B6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BCD9-3E05-4F79-A388-DE539F3EE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D6CB-A316-46A0-88E9-629D1D928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FE0A-4646-41FE-A92D-1BC7268DF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F09D-8A56-48FB-BFDB-9052C2BD3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7EF4-021D-4223-B68A-F03A88431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E210-3904-4291-BE6E-B7D637B09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C1B3-5973-42C5-A1D2-9E0A2FC5A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1410-CF81-403A-8630-BD013C906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6F5F-72EC-4D16-8D80-D75C397FC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685B-7CFC-4FB3-9855-1C8225912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E6AB5-D68B-4C0D-8863-70509B2C47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Noble G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569960" y="685800"/>
            <a:ext cx="57816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be0e3"/>
                </a:solidFill>
                <a:latin typeface="Times New Roman"/>
              </a:rPr>
              <a:t>Group 18—The Noble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533520" y="1219320"/>
            <a:ext cx="75438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Group18 elements are called th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oble gas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533520" y="2174760"/>
            <a:ext cx="380988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is because they rarely combine with other elements and are found only as uncombined elements in natu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533520" y="4952880"/>
            <a:ext cx="38098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ir reactivity is very l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9" descr="im41"/>
          <p:cNvPicPr/>
          <p:nvPr/>
        </p:nvPicPr>
        <p:blipFill>
          <a:blip r:embed="rId1"/>
          <a:stretch/>
        </p:blipFill>
        <p:spPr>
          <a:xfrm>
            <a:off x="4886280" y="1828800"/>
            <a:ext cx="34196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1569960" y="685800"/>
            <a:ext cx="57816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be0e3"/>
                </a:solidFill>
                <a:latin typeface="Times New Roman"/>
              </a:rPr>
              <a:t>Group 18—The Noble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533520" y="1660680"/>
            <a:ext cx="327636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lium is less dense than air, so it’s great for all kinds of ballo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im42 helium balloons"/>
          <p:cNvPicPr/>
          <p:nvPr/>
        </p:nvPicPr>
        <p:blipFill>
          <a:blip r:embed="rId1"/>
          <a:stretch/>
        </p:blipFill>
        <p:spPr>
          <a:xfrm>
            <a:off x="3971880" y="1389240"/>
            <a:ext cx="4444920" cy="28573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7"/>
          <p:cNvSpPr/>
          <p:nvPr/>
        </p:nvSpPr>
        <p:spPr>
          <a:xfrm>
            <a:off x="533520" y="4384800"/>
            <a:ext cx="78483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lium balloons lift instruments into the upper atmosphere to measure atmospheric condi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1569960" y="685800"/>
            <a:ext cx="57816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be0e3"/>
                </a:solidFill>
                <a:latin typeface="Times New Roman"/>
              </a:rPr>
              <a:t>Group 18—The Noble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im42 helium balloons"/>
          <p:cNvPicPr/>
          <p:nvPr/>
        </p:nvPicPr>
        <p:blipFill>
          <a:blip r:embed="rId1"/>
          <a:stretch/>
        </p:blipFill>
        <p:spPr>
          <a:xfrm>
            <a:off x="3971880" y="1389240"/>
            <a:ext cx="4444920" cy="2857320"/>
          </a:xfrm>
          <a:prstGeom prst="rect">
            <a:avLst/>
          </a:prstGeom>
          <a:ln w="0">
            <a:noFill/>
          </a:ln>
        </p:spPr>
      </p:pic>
      <p:grpSp>
        <p:nvGrpSpPr>
          <p:cNvPr id="66" name="Group 6"/>
          <p:cNvGrpSpPr/>
          <p:nvPr/>
        </p:nvGrpSpPr>
        <p:grpSpPr>
          <a:xfrm>
            <a:off x="533520" y="1676520"/>
            <a:ext cx="5700600" cy="3157920"/>
            <a:chOff x="533520" y="1676520"/>
            <a:chExt cx="5700600" cy="3157920"/>
          </a:xfrm>
        </p:grpSpPr>
        <p:sp>
          <p:nvSpPr>
            <p:cNvPr id="67" name="Text Box 7"/>
            <p:cNvSpPr/>
            <p:nvPr/>
          </p:nvSpPr>
          <p:spPr>
            <a:xfrm>
              <a:off x="533520" y="1676520"/>
              <a:ext cx="3352680" cy="272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spcAft>
                  <a:spcPts val="799"/>
                </a:spcAft>
                <a:buClr>
                  <a:srgbClr val="000000"/>
                </a:buClr>
                <a:buFont typeface="Times New Roman"/>
                <a:buChar char="•"/>
                <a:tabLst>
                  <a:tab algn="l" pos="228600"/>
                  <a:tab algn="l" pos="19432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Even though hydrogen is lighter than helium, helium is preferred for these purpos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8"/>
            <p:cNvSpPr/>
            <p:nvPr/>
          </p:nvSpPr>
          <p:spPr>
            <a:xfrm>
              <a:off x="884160" y="4302000"/>
              <a:ext cx="534996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because helium will not burn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1569960" y="685800"/>
            <a:ext cx="50072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be0e3"/>
                </a:solidFill>
                <a:latin typeface="Times New Roman"/>
              </a:rPr>
              <a:t>Uses for the Noble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533520" y="1523880"/>
            <a:ext cx="358128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“neon” lights you see in advertising signs can contain any of the noble gases, not just ne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533520" y="4518000"/>
            <a:ext cx="7696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ectricity is passed through the glass tubes that make up the sig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im43 neon sign"/>
          <p:cNvPicPr/>
          <p:nvPr/>
        </p:nvPicPr>
        <p:blipFill>
          <a:blip r:embed="rId1"/>
          <a:stretch/>
        </p:blipFill>
        <p:spPr>
          <a:xfrm>
            <a:off x="4183200" y="1725480"/>
            <a:ext cx="449568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1569960" y="685800"/>
            <a:ext cx="50072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be0e3"/>
                </a:solidFill>
                <a:latin typeface="Times New Roman"/>
              </a:rPr>
              <a:t>Uses for the Noble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533520" y="1523880"/>
            <a:ext cx="36576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lectricity causes the gas to gl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533520" y="3089160"/>
            <a:ext cx="35812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noble gas produces a unique colo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533520" y="4746600"/>
            <a:ext cx="81532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lium glows yellow, neon glows red-orange, and argon produces a bluish-violet colo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8" descr="im43 neon sign"/>
          <p:cNvPicPr/>
          <p:nvPr/>
        </p:nvPicPr>
        <p:blipFill>
          <a:blip r:embed="rId1"/>
          <a:stretch/>
        </p:blipFill>
        <p:spPr>
          <a:xfrm>
            <a:off x="4183200" y="1725480"/>
            <a:ext cx="449568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1569960" y="685800"/>
            <a:ext cx="50072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be0e3"/>
                </a:solidFill>
                <a:latin typeface="Times New Roman"/>
              </a:rPr>
              <a:t>Uses for the Noble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533520" y="1308240"/>
            <a:ext cx="76197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gon, the most abundant of the noble gases on Earth, was first found in 1894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533520" y="2311560"/>
            <a:ext cx="76960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rypton is used with nitrogen in ordinary lightbulbs because these gases keep the glowing filament from burning ou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533520" y="3759120"/>
            <a:ext cx="79246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rypton lights are used to illuminate landing strips at airports, and xenon is used in strobe lights and was once used in photographic flash cub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1569960" y="685800"/>
            <a:ext cx="50072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be0e3"/>
                </a:solidFill>
                <a:latin typeface="Times New Roman"/>
              </a:rPr>
              <a:t>Uses for the Noble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533520" y="1434960"/>
            <a:ext cx="77724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 the bottom of the group is radon, a radioactive gas produced naturally as uranium decays in rocks and soi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533520" y="3048120"/>
            <a:ext cx="83055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radon seeps into a home, the gas can be harmful because it continues to emit radi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533520" y="4213080"/>
            <a:ext cx="77724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people breathe the gas over a period of time, it can cause lung canc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Object 2"/>
          <p:cNvGraphicFramePr/>
          <p:nvPr/>
        </p:nvGraphicFramePr>
        <p:xfrm>
          <a:off x="6524640" y="4238640"/>
          <a:ext cx="2619360" cy="26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24640" y="4238640"/>
                    <a:ext cx="2619360" cy="26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Group 18/0 – The Noble ga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5238720" y="876240"/>
          <a:ext cx="3749760" cy="21337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</a:tblGrid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sp>
        <p:nvSpPr>
          <p:cNvPr id="98" name="Text Box 208"/>
          <p:cNvSpPr/>
          <p:nvPr/>
        </p:nvSpPr>
        <p:spPr>
          <a:xfrm>
            <a:off x="0" y="819000"/>
            <a:ext cx="45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cc"/>
                </a:solidFill>
                <a:latin typeface="Comic Sans MS"/>
              </a:rPr>
              <a:t>Some fact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09"/>
          <p:cNvSpPr/>
          <p:nvPr/>
        </p:nvSpPr>
        <p:spPr>
          <a:xfrm>
            <a:off x="0" y="1409760"/>
            <a:ext cx="462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1)  All of the noble gases have a full outer shell, so they are very 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10"/>
          <p:cNvSpPr/>
          <p:nvPr/>
        </p:nvSpPr>
        <p:spPr>
          <a:xfrm>
            <a:off x="0" y="2800440"/>
            <a:ext cx="735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cc"/>
                </a:solidFill>
                <a:latin typeface="Comic Sans MS"/>
              </a:rPr>
              <a:t>2)  They all have low melting and boiling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11"/>
          <p:cNvSpPr/>
          <p:nvPr/>
        </p:nvSpPr>
        <p:spPr>
          <a:xfrm>
            <a:off x="0" y="34862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3)  They exist as single atoms rather then diatomic 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12"/>
          <p:cNvSpPr/>
          <p:nvPr/>
        </p:nvSpPr>
        <p:spPr>
          <a:xfrm>
            <a:off x="0" y="4152960"/>
            <a:ext cx="773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66ffcc"/>
              </a:buClr>
              <a:buFont typeface="Comic Sans MS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cc"/>
                </a:solidFill>
                <a:latin typeface="Comic Sans MS"/>
              </a:rPr>
              <a:t>Helium is lighter then air and is used in balloons and airships (as well as for talking in a silly voi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13"/>
          <p:cNvSpPr/>
          <p:nvPr/>
        </p:nvSpPr>
        <p:spPr>
          <a:xfrm>
            <a:off x="0" y="5200560"/>
            <a:ext cx="4857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rgon is used in light bulbs (because it is so unreactive) and argon , krypton and neon are used in fancy l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Object 214"/>
          <p:cNvGraphicFramePr/>
          <p:nvPr/>
        </p:nvGraphicFramePr>
        <p:xfrm>
          <a:off x="5338800" y="5126040"/>
          <a:ext cx="990720" cy="173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Object 2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8800" y="5126040"/>
                    <a:ext cx="990720" cy="17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1T21:29:12Z</dcterms:created>
  <dc:creator>CIC1</dc:creator>
  <dc:description/>
  <dc:language>en-US</dc:language>
  <cp:lastModifiedBy>RomaK</cp:lastModifiedBy>
  <dcterms:modified xsi:type="dcterms:W3CDTF">2015-09-01T16:27:49Z</dcterms:modified>
  <cp:revision>7</cp:revision>
  <dc:subject/>
  <dc:title>The Noble Gases</dc:title>
</cp:coreProperties>
</file>