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5A02-45B2-4EA6-ABE7-F3A06EC77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9B0-547C-4DBC-8A86-E26E3C46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5D3-14A8-4BC1-AE2D-4F6A3972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202-00C3-40C8-9233-3ACD1314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A4F-DBD8-4B10-B03D-A2D8D26D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32D-DEE2-4550-9A83-3389C637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495-F458-46C1-AA54-DCDEBC2D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00F-3F20-42F3-8263-E60145D0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5CE-FC81-4D31-BEC5-612FD8B3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8FF-F3E8-4FBB-A90B-70F3F7CF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9EE-0DCE-428D-8B0C-4223AB1C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C2C-E3AF-4CF8-98F5-A0A0E7D8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33B-1A52-443A-A862-652A371F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5E56-2DD8-4703-A55B-8A4B38411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oble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18 elements are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ble ga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174760"/>
            <a:ext cx="3809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because they rarely combine with other elements and are found only as uncombined elements in n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4952880"/>
            <a:ext cx="38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reactivity is very 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41"/>
          <p:cNvPicPr/>
          <p:nvPr/>
        </p:nvPicPr>
        <p:blipFill>
          <a:blip r:embed="rId1"/>
          <a:stretch/>
        </p:blipFill>
        <p:spPr>
          <a:xfrm>
            <a:off x="4886280" y="1828800"/>
            <a:ext cx="3419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660680"/>
            <a:ext cx="3276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is less dense than air, so it’s great for all kinds of ballo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33520" y="43848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balloons lift instruments into the upper atmosphere to measure atmospheric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6"/>
          <p:cNvGrpSpPr/>
          <p:nvPr/>
        </p:nvGrpSpPr>
        <p:grpSpPr>
          <a:xfrm>
            <a:off x="533520" y="1676520"/>
            <a:ext cx="5700600" cy="3157920"/>
            <a:chOff x="533520" y="1676520"/>
            <a:chExt cx="5700600" cy="3157920"/>
          </a:xfrm>
        </p:grpSpPr>
        <p:sp>
          <p:nvSpPr>
            <p:cNvPr id="67" name="Text Box 7"/>
            <p:cNvSpPr/>
            <p:nvPr/>
          </p:nvSpPr>
          <p:spPr>
            <a:xfrm>
              <a:off x="533520" y="1676520"/>
              <a:ext cx="335268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ven though hydrogen is lighter than helium, helium is preferred for these purpos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884160" y="4302000"/>
              <a:ext cx="5349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cause helium will not bur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1523880"/>
            <a:ext cx="35812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neon” lights you see in advertising signs can contain any of the noble gases, not just ne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4518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passed through the glass tubes that make up the 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3520" y="152388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icity causes the gas to g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3520" y="3089160"/>
            <a:ext cx="3581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noble gas produces a unique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33520" y="47466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glows yellow, neon glows red-orange, and argon produces a bluish-violet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13082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gon, the most abundant of the noble gases on Earth, was first found in 18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23115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is used with nitrogen in ordinary lightbulbs because these gases keep the glowing filament from burning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37591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lights are used to illuminate landing strips at airports, and xenon is used in strobe lights and was once used in photographic flash cub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143496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bottom of the group is radon, a radioactive gas produced naturally as uranium decays in rocks and s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3048120"/>
            <a:ext cx="8305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radon seeps into a home, the gas can be harmful because it continues to emit rad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3520" y="42130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eople breathe the gas over a period of time, it can cause lung canc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6524640" y="4238640"/>
          <a:ext cx="261936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4238640"/>
                    <a:ext cx="2619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8/0 – The Noble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9"/>
          <p:cNvSpPr/>
          <p:nvPr/>
        </p:nvSpPr>
        <p:spPr>
          <a:xfrm>
            <a:off x="0" y="140976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All of the noble gases have a full outer shell, so they are very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0"/>
          <p:cNvSpPr/>
          <p:nvPr/>
        </p:nvSpPr>
        <p:spPr>
          <a:xfrm>
            <a:off x="0" y="2800440"/>
            <a:ext cx="73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all have low melting and boil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1"/>
          <p:cNvSpPr/>
          <p:nvPr/>
        </p:nvSpPr>
        <p:spPr>
          <a:xfrm>
            <a:off x="0" y="348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exist as single atoms rather then diatomic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2"/>
          <p:cNvSpPr/>
          <p:nvPr/>
        </p:nvSpPr>
        <p:spPr>
          <a:xfrm>
            <a:off x="0" y="4152960"/>
            <a:ext cx="77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Helium is lighter then air and is used in balloons and airships (as well as for talking in a silly vo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3"/>
          <p:cNvSpPr/>
          <p:nvPr/>
        </p:nvSpPr>
        <p:spPr>
          <a:xfrm>
            <a:off x="0" y="520056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rgon is used in light bulbs (because it is so unreactive) and argon , krypton and neon are used in fancy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14"/>
          <p:cNvGraphicFramePr/>
          <p:nvPr/>
        </p:nvGraphicFramePr>
        <p:xfrm>
          <a:off x="5338800" y="5126040"/>
          <a:ext cx="99072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2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8800" y="5126040"/>
                    <a:ext cx="990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9:12Z</dcterms:created>
  <dc:creator>CIC1</dc:creator>
  <dc:description/>
  <dc:language>en-US</dc:language>
  <cp:lastModifiedBy>RomaK</cp:lastModifiedBy>
  <dcterms:modified xsi:type="dcterms:W3CDTF">2015-09-01T16:27:49Z</dcterms:modified>
  <cp:revision>7</cp:revision>
  <dc:subject/>
  <dc:title>The Noble Gases</dc:title>
</cp:coreProperties>
</file>