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5DF0-C4E8-4AAA-AEC9-726F4C085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5254C-2868-4EC9-B1B4-B17C66266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B3F8-FE20-4BF2-9E6B-925DB3131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2FBC-BC5C-41F5-BAA8-5102E707D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0A7A5-9CE0-4860-88BA-2D030F30E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DA543-0D64-43D9-A4FB-613C6CF28A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B37A0-CC3F-4446-9C1B-C4D059B413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827CE-5E29-4FB6-819C-BB6F8DA70F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495F0-1989-4DBA-A58D-12856DBD22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7A8AC-302A-40D4-A018-979CA72054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6B2C4-952F-4A51-800E-121E09080C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7F7DA-8C37-47CC-B106-BC98B8C9E9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7F204-2272-45B8-A5FC-C5D0473D9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59006-C09E-405D-86EC-0DFF7A62F0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5CC6D-EF08-4228-B1B3-D438F0B2A5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56BCB-A7AC-4BCB-B1A8-6EF94E6723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042DE-B919-4B52-83D0-7DC372D6BA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0EED3-A21B-4BFB-8E83-60D725792A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BC03E-9B62-47A4-BA6E-B12E03F0C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BD9FE-75B5-4F81-BAED-EDB1CF3ED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D863-581E-4687-81DD-1FFF6B2EC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8114-3937-40D9-98FA-D590A7717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E1CD-1B08-4ECF-B2C5-1DBEC1640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C33D-C626-4281-BCFE-0E406E210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03AE7-AC77-4A26-9F0E-8B21DE766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4648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76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4391-966F-4AB9-B859-C10579471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4267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09FF-2E99-4EA6-B28D-72ADAA9BB99F}" type="slidenum"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arnegieinstitution.org/first_light_case/horn/DNA/images/dnaglop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NA Technol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267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resul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DNA fragments of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ultiple sizes with colors that can be ident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gelfrag"/>
          <p:cNvPicPr/>
          <p:nvPr/>
        </p:nvPicPr>
        <p:blipFill>
          <a:blip r:embed="rId1"/>
          <a:stretch/>
        </p:blipFill>
        <p:spPr>
          <a:xfrm>
            <a:off x="4648320" y="380880"/>
            <a:ext cx="1765080" cy="58104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fter the gel separates the resulting fragments by size, w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'read' the sequence from bottom to t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function_showorfs_ex2"/>
          <p:cNvPicPr/>
          <p:nvPr/>
        </p:nvPicPr>
        <p:blipFill>
          <a:blip r:embed="rId1"/>
          <a:stretch/>
        </p:blipFill>
        <p:spPr>
          <a:xfrm>
            <a:off x="2133720" y="3581280"/>
            <a:ext cx="3838320" cy="3048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olymerase Chain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called PC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thod of making many copies of a piec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cr"/>
          <p:cNvPicPr/>
          <p:nvPr/>
        </p:nvPicPr>
        <p:blipFill>
          <a:blip r:embed="rId1"/>
          <a:stretch/>
        </p:blipFill>
        <p:spPr>
          <a:xfrm>
            <a:off x="1447920" y="3505320"/>
            <a:ext cx="4476600" cy="30477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DNA molecule is placed in a small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t can work at high temps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px-DNA_polymerase"/>
          <p:cNvPicPr/>
          <p:nvPr/>
        </p:nvPicPr>
        <p:blipFill>
          <a:blip r:embed="rId1"/>
          <a:stretch/>
        </p:blipFill>
        <p:spPr>
          <a:xfrm>
            <a:off x="2895480" y="4191120"/>
            <a:ext cx="215604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6019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NA is heate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separate the two 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ri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short pieces of DNA complementary to the ends of the molecule to be copied, are ad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-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3400560" y="1176768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ube is cooled, and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 adds new bases to the separated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replication"/>
          <p:cNvPicPr/>
          <p:nvPr/>
        </p:nvPicPr>
        <p:blipFill>
          <a:blip r:embed="rId1"/>
          <a:stretch/>
        </p:blipFill>
        <p:spPr>
          <a:xfrm>
            <a:off x="3352680" y="3657600"/>
            <a:ext cx="1505160" cy="28576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C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477120" cy="4419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04920" y="58672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Large amounts of DNA can be made from a small starting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581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Comic Sans MS"/>
              </a:rPr>
              <a:t>Clone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mber of a group of genetically identic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be produced b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sexual reprodu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it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organis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5943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body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one organism and an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gg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another are f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esulting cell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ivides like a normal embr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“Dolly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029200" cy="4953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NA Extr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hemical treatmen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ause cells and nuclei to bu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is inherentl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ick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and can be pulled out of the mix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“spooling”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20968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6553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rted in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earch effort to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quence all of our 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46 chromoso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ver 3.3 billion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apping every ge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ocation (lo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ducted by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cientists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GP Ins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6553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2%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human genome codes for proteins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(ex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ther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98% (intr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are non-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about 20,000 to 25,000 genes (expected 100,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Prote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– organism’s complete set of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8 mill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ingle nucleotide polymorphisms (SNP) – places where humans differ by a single nucleo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genome comes from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transpos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pieces of DNA that move to different locations on chromoso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nefits of Human Genom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ments in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medical preven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disease, gene therapies, diagnosis techniqu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duction of useful prote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roducts for use in medicine, agriculture, bioremediation and pharmaceutical indus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bioinformatic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– using computers to help in DNA sequenci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438280"/>
            <a:ext cx="65534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nefits of 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84556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5639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Biotechnology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85800" y="2057400"/>
            <a:ext cx="586728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use of gene science to create new products from plants and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33520" y="83808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otech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vid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3520" y="2362320"/>
            <a:ext cx="61722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oo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edica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dv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enhanc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84232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cide Resistant C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4343040"/>
            <a:ext cx="8381880" cy="2133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oy V2 "/>
          <p:cNvPicPr/>
          <p:nvPr/>
        </p:nvPicPr>
        <p:blipFill>
          <a:blip r:embed="rId1"/>
          <a:srcRect l="15624" t="10418" r="15624" b="10418"/>
          <a:stretch/>
        </p:blipFill>
        <p:spPr>
          <a:xfrm>
            <a:off x="958680" y="1611360"/>
            <a:ext cx="2775240" cy="2397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880080" y="2567160"/>
            <a:ext cx="433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+ CP4 EPSPS = Round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gen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858000" cy="129528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292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sulin (19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st commercial biotech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iable, inexpensive source of 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riched with beta-carotene and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B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aining edible hepatitis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010640" cy="11430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2068200"/>
            <a:ext cx="6553080" cy="3273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Potato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higher soli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Garl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that lowers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Fruits and vegetab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redu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sks of cancer and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pooled” D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dnaglop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828800"/>
            <a:ext cx="2714760" cy="4505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vironmental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Reduced pesticid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ower energ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lean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ess soil ero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utt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Restriction enzym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ut DNA at specific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eful to divide DNA into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anageable fra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562360" cy="31305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can be separated based on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ize and 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phosphate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negativel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har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placed 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lectricit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run th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c1003"/>
          <p:cNvPicPr/>
          <p:nvPr/>
        </p:nvPicPr>
        <p:blipFill>
          <a:blip r:embed="rId1"/>
          <a:stretch/>
        </p:blipFill>
        <p:spPr>
          <a:xfrm>
            <a:off x="5486400" y="3048120"/>
            <a:ext cx="1374840" cy="13744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553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Negative D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oves toward the positiv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mall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gments mov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rther and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gel"/>
          <p:cNvPicPr/>
          <p:nvPr/>
        </p:nvPicPr>
        <p:blipFill>
          <a:blip r:embed="rId1"/>
          <a:stretch/>
        </p:blipFill>
        <p:spPr>
          <a:xfrm>
            <a:off x="1371600" y="3990960"/>
            <a:ext cx="4267080" cy="25812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85800" y="1071720"/>
            <a:ext cx="5700600" cy="5600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opi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single strand of DNA are placed in a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mixture of nucleotides is added some of which hav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ye molecules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Each base (A,T,C,G) has a different color d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y chance,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dyed 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regular o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ad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ye molecules are large an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op the cha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from gro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6:01:19Z</dcterms:created>
  <dc:creator>Summer Smith</dc:creator>
  <dc:description/>
  <dc:language>en-US</dc:language>
  <cp:lastModifiedBy>LEGION</cp:lastModifiedBy>
  <dcterms:modified xsi:type="dcterms:W3CDTF">2016-12-07T12:35:27Z</dcterms:modified>
  <cp:revision>13</cp:revision>
  <dc:subject/>
  <dc:title>DNA Lab Techniques</dc:title>
</cp:coreProperties>
</file>