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8090-ACFD-4921-B854-71D0719A6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T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ETIC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ROBLEM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WW    W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1/4 or 25% chance for smooth-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/4 or 75% chance for wire-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/4 or 25% chance for smooth-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3/4 or 75% chance for wire-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re-haired male is mated with a smooth-haired female.  The mother of the wire-haired male was smooth-hai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henotypes and genotypes of the pups they could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results of crossing: Ww  x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wire-haired male is mated with a smooth-haired female.  The mother of the wire-haired male was smooth-hair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henotypes and genotypes of the pups they could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Show the results of crossing: Ww  x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napdragons, red flower (R) color is incompletely dominant over white flower (r)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terozygous (Rr) plants have pink fl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red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pink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white flow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snapdragons, red flower (R) color is incompletely dominant over white flower (r) color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 heterozygous (Rr) plants have pink flower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red flower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pink flower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white flowers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red-flowered plant is crossed with a white-flowered plant, what are the genotypes and phenotypes of the plants F1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a red-flowered plant is crossed with a white-flowered plant, what are the genotypes and phenotypes of the plants F1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pin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1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00% pink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00%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genotypes and phenotypes will be produced in the F2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genotypes and phenotypes will be produced in the F2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  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  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offspring can be produced if a red-flowered plant is crossed with a pink-flowered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kinds of offspring can be produced if a red-flowered plant is crossed with a pink-flowered plan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0%: red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0%: pink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red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pink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different kinds of gametes could the following individuals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B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Dd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BbCc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NnOoPpQ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UVVWWXXYYZ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ow many different kinds of gametes could the following individuals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Dde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Cc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mNnOoPpQq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UVVWWXXYYZz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ffspring is/are produced if a pink-flowered plant is crossed with a white-flowered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kind of offspring is/are produced if a pink-flowered plant is crossed with a white-flowered plan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white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pink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white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pink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umans, colorblindness (cc) is a recessive sex-linked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 - fe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Y - 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humans, colorblindness (cc) is a recessive sex-linked trait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memb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X - femal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Y - mal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ormal people have a colorblind 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of the par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X_?  x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and phenotypes possible among their other childr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normal people have a colorblind so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of the parent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X_?  x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and phenotypes possible among their other childre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   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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XCXC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XCXc 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female (one normal, one a carr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male (one normal, one colorbli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   Y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 parent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female (one normal, one a carrier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male (one normal, one colorblind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ple has a colorblind dau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ossible genotypes and phenotypes of the parents and the daugh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couple has a colorblind daughter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ossible genotypes and phenotypes of the parents and the daughter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4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   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XCXc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XcXc 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ents: XcY and XCXc or XcX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ther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ther carrier or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ughter: XcXc -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   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arents: XcY and XCXc or XcX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ather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other carrier or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daughter: XcXc -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umans, the presence of freckles is due to a dominant gene (F) and the non-freckled condition is due to its recessive allele (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pled cheeks (D) are dominant to non-dimpled cheeks (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humans, the presence of freckles is due to a dominant gene (F) and the non-freckled condition is due to its recessive allele (f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Dimpled cheeks (D) are dominant to non-dimpled cheeks (d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persons with freckles and dimpled cheeks have two children:  one has freckles but no dimples and one has dimples but no freck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of the parents?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__D__  x  F__D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ren:  F__dd  x  ffD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persons with freckles and dimpled cheeks have two children:  one has freckles but no dimples and one has dimples but no freckl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of the parents?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arent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__D__  x  F__D__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hildren:  F__dd  x  ffD__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ossible phenotypes and genotypes of the children that they could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:   FfDd  x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dihybrid 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ossible phenotypes and genotypes of the children that they could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ross:   FfDd  x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is a dihybrid cros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member the formula 2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here n = # of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B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CDde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BbCc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mNnOoPpQq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UVVWWXXYYZz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member the formula 2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ere n = # of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Dde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Cc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mNnOoPpQq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3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UVVWWXXYYZz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ssible gametes for both:  FD  Fd  fD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Fd     fD   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ossible gametes for both:  FD  Fd  fD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Fd     fD   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eckles/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eckles/no 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 freckles/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 freckles/no 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ic ratio will always been 9:3:3:1 for all F1 dihybrid cro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reckles/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reckles/no 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 freckles/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 freckles/no 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ic ratio will always been 9:3:3:1 for all F1 dihybrid cross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ic ratio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ic ratio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hild will have a genotype of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child will have a genotype of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nsw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/1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Dd  x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game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Fd  fD  fd  x  Fd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ros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  x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ossible gametes: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Fd  fD  fd  x  Fd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  Fd     fD    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FFDd   FFdd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  Fd     fD    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FFDd   FFdd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nsw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teen percent of the human population is known to be able to wiggle their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rait is determined to be a recessive g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s a population genetics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following equation: 1 = p2 + 2pq + 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Sixteen percent of the human population is known to be able to wiggle their ear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trait is determined to be a recessive gen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se is a population genetics questio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se the following equation: 1 = p2 + 2pq + q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f the population is homozygous dominant for this tra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 = 16% or .16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q2 = .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= 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u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 + 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 + 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.4 = 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use p2  for answer:  .62 = .36 or 3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of the population is homozygous dominant for this trai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2 = 16% or .16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q2 = .1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 = .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n us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 = p + q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 = p + .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- .4 = p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 = .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w use p2  for answer:  .62 = .36 or 36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f the population is heterozygous for this tra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 q = .4  and  p = 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use 2pq for answer:  2(.6)(.4) = .48 or 48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of the population is heterozygous for this trai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e know that  q = .4  and  p = .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w use 2pq for answer:  2(.6)(.4) = .48 or 48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ogs, the inheritance of hair color involves a gene B for black hair and gene b for brown hair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ominant C is also involved.  It must be present for the color to be synthes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is gene is not present, a blond condition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, B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lack ha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, C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own ha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l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dogs, the inheritance of hair color involves a gene B for black hair and gene b for brown hair b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dominant C is also involved.  It must be present for the color to be synthesiz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this gene is not present, a blond condition result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B, 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lack hai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, C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colo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rown hai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lo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ogs, wire-haired is due to a dominant gene (W), smooth-haired is due to its recessive allele (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, Ww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wire 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mooth 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dogs, wire-haired is due to a dominant gene (W), smooth-haired is due to its recessive allele (w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W, Ww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wire 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smooth 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7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own haired male, whose father was a blond, is mated with a black haired female, whose mother was brown haired and her father was bl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e:   bbCc (gametes:  bC  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: BbCc (gametes:  BC  Bc  bC  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xpected ratios of their offspr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brown haired male, whose father was a blond, is mated with a black haired female, whose mother was brown haired and her father was blon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ale:   bbCc (gametes:  bC  bc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emale: BbCc (gametes:  BC  Bc  bC  bc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is the expected ratios of their offspring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7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Bc     b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  BbCC   BbCc   bbCC  bb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   BbCc   Bbcc   bbCc  bb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fspring rati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lack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own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lond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/8 or 1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Bc     b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  BbCC   BbCc   bbCC  bbC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   BbCc   Bbcc   bbCc  bbc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Offspring ratios: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lack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rown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lond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/8 or 1/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Anonymous, a film star, was involved in a paternity case.  The woman bringing suit had two children, on whose blood type was A and the other whose blood type was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 blood type was O, the same as Henry’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udge in the case awarded damages to the woman damages to the woman, saying that Henry had to be the father of at least one of the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enry Anonymous, a film star, was involved in a paternity case.  The woman bringing suit had two children, on whose blood type was A and the other whose blood type was B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er blood type was O, the same as Henry’s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 judge in the case awarded damages to the woman damages to the woman, saying that Henry had to be the father of at least one of the childre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8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viously, the judge should be sentenced to Biology.  For Henry to have been the father of both children, his blood type would have had to be 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      I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  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i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I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i     I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8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Obviously, the judge should be sentenced to Biology.  For Henry to have been the father of both children, his blood type would have had to be wha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      I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   Answe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i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IBi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i     IBi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homozygous wire-haired dog is mated with a smooth-haired dog, what type of offspring could be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a homozygous wire-haired dog is mated with a smooth-haired dog, what type of offspring could be produc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Ww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g                                   F1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Ww 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all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g                                   F1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Ww 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all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(s) of offspring could be produced in the F2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reed the F1 generation to get the F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of F1 Cross:  Ww  x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type(s) of offspring could be produced in the F2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ust breed the F1 generation to get the F2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sults of F1 Cross:  Ww  x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WW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: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:  3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  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: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:  3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ire-haired dogs are mated.  Among the offspring of their first litter is a smooth-haired p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se, two wire-haired dogs mate again, what are the chances that they will produce another smooth-haired p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 pup will wire-haired p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wire-haired dogs are mated.  Among the offspring of their first litter is a smooth-haired pup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these, two wire-haired dogs mate again, what are the chances that they will produce another smooth-haired pup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 pup will wire-haired pup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5D2-34FB-40D2-BC55-115121AB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0A2-9BB4-4CA6-8EDB-F6E4B35A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CAE3-2C5F-4AD6-A6A2-E0D40280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3F9E-1374-4167-B2BB-97AFDA4B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762C-FB09-437D-AB09-87652068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60FA-C643-4F0D-8D11-4682E9F6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31C2-5DCA-42C8-8488-11636B8E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912E-DC05-495A-80DF-FA57CC65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2CE7-77D3-47ED-AF01-AA3E3BE9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FC61-D9EE-4832-ABD4-4D1937CB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2444-B40A-43DA-AE94-8AD0950A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A28-32A0-47BD-92B6-7CE4D360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4138-3EA2-4302-8E44-4B4D29BA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BF5F-D386-4277-8EBE-63CEDA92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BA8C-EA13-4B2C-83EE-4A5F5905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DAE2-A37A-4715-AB1D-7A00F107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83E1-6206-42E5-8699-176A9F12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6A4D-4C3A-4DBD-A12E-DE875AFE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965-B280-4704-9A81-074AAC99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D6E3-FF7A-4E46-BECF-644E54AC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E4F-BDB3-4A2B-BEBD-6E3E8042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F81-B4F6-40B5-971E-75C28D49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49E-7373-4B82-9646-CD372CA6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795-7530-4399-9B08-F55526B2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1FC0-9479-4CAF-99C6-F2C60676F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CA59-4256-40B6-9CAF-51332E2BBA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GENETIC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PROBLEMS</a:t>
            </a:r>
            <a:endParaRPr b="0" lang="en-US" sz="6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1/4 or 25% chance for smooth-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3/4 or 75% chance for wire-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51" name="Group 11"/>
          <p:cNvGrpSpPr/>
          <p:nvPr/>
        </p:nvGrpSpPr>
        <p:grpSpPr>
          <a:xfrm>
            <a:off x="2057400" y="2666880"/>
            <a:ext cx="3048120" cy="2286000"/>
            <a:chOff x="2057400" y="2666880"/>
            <a:chExt cx="3048120" cy="2286000"/>
          </a:xfrm>
        </p:grpSpPr>
        <p:grpSp>
          <p:nvGrpSpPr>
            <p:cNvPr id="152" name="Group 5"/>
            <p:cNvGrpSpPr/>
            <p:nvPr/>
          </p:nvGrpSpPr>
          <p:grpSpPr>
            <a:xfrm>
              <a:off x="2057400" y="2666880"/>
              <a:ext cx="2514600" cy="2286000"/>
              <a:chOff x="2057400" y="2666880"/>
              <a:chExt cx="2514600" cy="2286000"/>
            </a:xfrm>
          </p:grpSpPr>
          <p:sp>
            <p:nvSpPr>
              <p:cNvPr id="153" name="Rectangle 6"/>
              <p:cNvSpPr/>
              <p:nvPr/>
            </p:nvSpPr>
            <p:spPr>
              <a:xfrm>
                <a:off x="2057400" y="266688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4" name="Line 7"/>
              <p:cNvSpPr/>
              <p:nvPr/>
            </p:nvSpPr>
            <p:spPr>
              <a:xfrm>
                <a:off x="3276720" y="266688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5" name="Line 8"/>
              <p:cNvSpPr/>
              <p:nvPr/>
            </p:nvSpPr>
            <p:spPr>
              <a:xfrm>
                <a:off x="2057400" y="380988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56" name="AutoShape 10"/>
            <p:cNvSpPr/>
            <p:nvPr/>
          </p:nvSpPr>
          <p:spPr>
            <a:xfrm>
              <a:off x="4648320" y="266688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wire-haired male is mated with a smooth-haired female.  The mother of the wire-haired male was smooth-hair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h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ups they could produc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how the results of crossing: Ww  x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1981080" y="2666880"/>
            <a:ext cx="2514600" cy="2286000"/>
            <a:chOff x="1981080" y="2666880"/>
            <a:chExt cx="2514600" cy="2286000"/>
          </a:xfrm>
        </p:grpSpPr>
        <p:sp>
          <p:nvSpPr>
            <p:cNvPr id="164" name="Rectangle 6"/>
            <p:cNvSpPr/>
            <p:nvPr/>
          </p:nvSpPr>
          <p:spPr>
            <a:xfrm>
              <a:off x="19810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32004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19810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6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 snapdragons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d flower (R)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lor i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ompletely dominant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v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ite flower (r)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l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heterozygous (Rr) plants have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flowe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- red flower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- pink flower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white flower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f a </a:t>
            </a:r>
            <a:r>
              <a:rPr b="1" lang="en-US" sz="3200" spc="-1" strike="noStrike">
                <a:solidFill>
                  <a:srgbClr val="d60029"/>
                </a:solidFill>
                <a:latin typeface="Comic Sans MS"/>
              </a:rPr>
              <a:t>red-flowere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plant is crossed with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ite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, what are the genotypes and phenotypes of the plants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genera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     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0%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0%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981080" y="2590920"/>
            <a:ext cx="2971800" cy="2286000"/>
            <a:chOff x="1981080" y="2590920"/>
            <a:chExt cx="2971800" cy="2286000"/>
          </a:xfrm>
        </p:grpSpPr>
        <p:grpSp>
          <p:nvGrpSpPr>
            <p:cNvPr id="177" name="Group 4"/>
            <p:cNvGrpSpPr/>
            <p:nvPr/>
          </p:nvGrpSpPr>
          <p:grpSpPr>
            <a:xfrm>
              <a:off x="1981080" y="2590920"/>
              <a:ext cx="2514600" cy="2286000"/>
              <a:chOff x="1981080" y="2590920"/>
              <a:chExt cx="2514600" cy="2286000"/>
            </a:xfrm>
          </p:grpSpPr>
          <p:sp>
            <p:nvSpPr>
              <p:cNvPr id="178" name="Rectangle 5"/>
              <p:cNvSpPr/>
              <p:nvPr/>
            </p:nvSpPr>
            <p:spPr>
              <a:xfrm>
                <a:off x="1981080" y="259092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79" name="Line 6"/>
              <p:cNvSpPr/>
              <p:nvPr/>
            </p:nvSpPr>
            <p:spPr>
              <a:xfrm>
                <a:off x="3200400" y="259092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0" name="Line 7"/>
              <p:cNvSpPr/>
              <p:nvPr/>
            </p:nvSpPr>
            <p:spPr>
              <a:xfrm>
                <a:off x="1981080" y="373392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81" name="AutoShape 8"/>
            <p:cNvSpPr/>
            <p:nvPr/>
          </p:nvSpPr>
          <p:spPr>
            <a:xfrm>
              <a:off x="4572000" y="2590920"/>
              <a:ext cx="380880" cy="2286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8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genotypes and phenotypes will be produced in the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genera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x 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  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1981080" y="2666880"/>
            <a:ext cx="2971800" cy="2286000"/>
            <a:chOff x="1981080" y="2666880"/>
            <a:chExt cx="2971800" cy="2286000"/>
          </a:xfrm>
        </p:grpSpPr>
        <p:grpSp>
          <p:nvGrpSpPr>
            <p:cNvPr id="189" name="Group 5"/>
            <p:cNvGrpSpPr/>
            <p:nvPr/>
          </p:nvGrpSpPr>
          <p:grpSpPr>
            <a:xfrm>
              <a:off x="1981080" y="2666880"/>
              <a:ext cx="2514600" cy="2286000"/>
              <a:chOff x="1981080" y="2666880"/>
              <a:chExt cx="2514600" cy="2286000"/>
            </a:xfrm>
          </p:grpSpPr>
          <p:sp>
            <p:nvSpPr>
              <p:cNvPr id="190" name="Rectangle 6"/>
              <p:cNvSpPr/>
              <p:nvPr/>
            </p:nvSpPr>
            <p:spPr>
              <a:xfrm>
                <a:off x="1981080" y="266688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3200400" y="266688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" name="Line 8"/>
              <p:cNvSpPr/>
              <p:nvPr/>
            </p:nvSpPr>
            <p:spPr>
              <a:xfrm>
                <a:off x="1981080" y="380988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93" name="AutoShape 9"/>
            <p:cNvSpPr/>
            <p:nvPr/>
          </p:nvSpPr>
          <p:spPr>
            <a:xfrm>
              <a:off x="4572000" y="2666880"/>
              <a:ext cx="380880" cy="2286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9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kinds of offspring can be produced if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d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crossed with a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pink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R 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Rr 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d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2209680" y="2666880"/>
            <a:ext cx="2514600" cy="2286000"/>
            <a:chOff x="2209680" y="2666880"/>
            <a:chExt cx="2514600" cy="2286000"/>
          </a:xfrm>
        </p:grpSpPr>
        <p:sp>
          <p:nvSpPr>
            <p:cNvPr id="201" name="Rectangle 6"/>
            <p:cNvSpPr/>
            <p:nvPr/>
          </p:nvSpPr>
          <p:spPr>
            <a:xfrm>
              <a:off x="22096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Line 7"/>
            <p:cNvSpPr/>
            <p:nvPr/>
          </p:nvSpPr>
          <p:spPr>
            <a:xfrm>
              <a:off x="34290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Line 8"/>
            <p:cNvSpPr/>
            <p:nvPr/>
          </p:nvSpPr>
          <p:spPr>
            <a:xfrm>
              <a:off x="22096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0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many different kinds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amet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uld the following individuals produce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aaBb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CCDde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AABbCc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MmNnOoPpQq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UUVVWWXXYYZz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kind of offspring is/are produced if a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pink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crossed with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ite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ite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2133720" y="2666880"/>
            <a:ext cx="2514600" cy="2286000"/>
            <a:chOff x="2133720" y="2666880"/>
            <a:chExt cx="2514600" cy="2286000"/>
          </a:xfrm>
        </p:grpSpPr>
        <p:sp>
          <p:nvSpPr>
            <p:cNvPr id="211" name="Rectangle 6"/>
            <p:cNvSpPr/>
            <p:nvPr/>
          </p:nvSpPr>
          <p:spPr>
            <a:xfrm>
              <a:off x="213372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335304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>
              <a:off x="213372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humans, colorblindness (cc) is a recessive sex-linked trait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member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X - femal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Y - mal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normal people have a colorblind s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arent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_?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ph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possible among their other children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Y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arent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 female (one normal, one a carrie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 male (one normal, one colorblind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1981080" y="2666880"/>
            <a:ext cx="2514600" cy="2286000"/>
            <a:chOff x="1981080" y="2666880"/>
            <a:chExt cx="2514600" cy="2286000"/>
          </a:xfrm>
        </p:grpSpPr>
        <p:sp>
          <p:nvSpPr>
            <p:cNvPr id="224" name="Rectangle 5"/>
            <p:cNvSpPr/>
            <p:nvPr/>
          </p:nvSpPr>
          <p:spPr>
            <a:xfrm>
              <a:off x="19810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5" name="Line 6"/>
            <p:cNvSpPr/>
            <p:nvPr/>
          </p:nvSpPr>
          <p:spPr>
            <a:xfrm>
              <a:off x="32004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6" name="Line 7"/>
            <p:cNvSpPr/>
            <p:nvPr/>
          </p:nvSpPr>
          <p:spPr>
            <a:xfrm>
              <a:off x="19810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2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 couple has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daughter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possibl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enotyp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enotyp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of the parents and the daughter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arents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ath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oth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rrie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aughter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- 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3" name="Group 4"/>
          <p:cNvGrpSpPr/>
          <p:nvPr/>
        </p:nvGrpSpPr>
        <p:grpSpPr>
          <a:xfrm>
            <a:off x="2057400" y="1676520"/>
            <a:ext cx="2514600" cy="2286000"/>
            <a:chOff x="2057400" y="1676520"/>
            <a:chExt cx="2514600" cy="2286000"/>
          </a:xfrm>
        </p:grpSpPr>
        <p:sp>
          <p:nvSpPr>
            <p:cNvPr id="234" name="Rectangle 5"/>
            <p:cNvSpPr/>
            <p:nvPr/>
          </p:nvSpPr>
          <p:spPr>
            <a:xfrm>
              <a:off x="2057400" y="167652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>
              <a:off x="3276720" y="167652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2057400" y="281952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3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humans, the presence of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reckl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due to a dominant gen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F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th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n-freckle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ndition is due to its recessive allel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f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mpled cheeks (D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re dominant to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n-dimpled cheeks (d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persons with freckles and dimpled cheeks have two children:  one has freckles but no dimples and one has dimples but no freck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arents?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arents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_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x  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hildren:  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d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ff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possible phenotypes and genotypes of the children that they could produce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ross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  x  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is is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dihybrid cros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member the formul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er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 = # of 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aaBb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CCDdee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AABbCcDD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MmNnOoPpQq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3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UUVVWWXXYYZz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ossible gametes for both:  FD  Fd  fD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Fd     fD   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FFDd 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49" name="Group 11"/>
          <p:cNvGrpSpPr/>
          <p:nvPr/>
        </p:nvGrpSpPr>
        <p:grpSpPr>
          <a:xfrm>
            <a:off x="1295280" y="2971800"/>
            <a:ext cx="4800600" cy="3048120"/>
            <a:chOff x="1295280" y="2971800"/>
            <a:chExt cx="4800600" cy="3048120"/>
          </a:xfrm>
        </p:grpSpPr>
        <p:sp>
          <p:nvSpPr>
            <p:cNvPr id="250" name="Rectangle 4"/>
            <p:cNvSpPr/>
            <p:nvPr/>
          </p:nvSpPr>
          <p:spPr>
            <a:xfrm>
              <a:off x="1295280" y="2971800"/>
              <a:ext cx="4800600" cy="30481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1" name="Line 5"/>
            <p:cNvSpPr/>
            <p:nvPr/>
          </p:nvSpPr>
          <p:spPr>
            <a:xfrm>
              <a:off x="373392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2" name="Line 6"/>
            <p:cNvSpPr/>
            <p:nvPr/>
          </p:nvSpPr>
          <p:spPr>
            <a:xfrm>
              <a:off x="243828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7"/>
            <p:cNvSpPr/>
            <p:nvPr/>
          </p:nvSpPr>
          <p:spPr>
            <a:xfrm>
              <a:off x="495288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4" name="Line 8"/>
            <p:cNvSpPr/>
            <p:nvPr/>
          </p:nvSpPr>
          <p:spPr>
            <a:xfrm>
              <a:off x="1295280" y="449568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5" name="Line 9"/>
            <p:cNvSpPr/>
            <p:nvPr/>
          </p:nvSpPr>
          <p:spPr>
            <a:xfrm>
              <a:off x="1295280" y="373392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10"/>
            <p:cNvSpPr/>
            <p:nvPr/>
          </p:nvSpPr>
          <p:spPr>
            <a:xfrm>
              <a:off x="1295280" y="525780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eno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reckles/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reckles/no 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 freckles/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 freckles/no 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ic ratio will always been 9:3:3:1 for all F1 dihybrid cross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Genotypic ratio: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4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s child will have a genotype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swer: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/16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ross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ossible gametes: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D  Fd  fD  fd  x  Fd  f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D      Fd     fD    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FFDd   FFdd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FfDd  Ffdd   ffDd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swer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72" name="Group 12"/>
          <p:cNvGrpSpPr/>
          <p:nvPr/>
        </p:nvGrpSpPr>
        <p:grpSpPr>
          <a:xfrm>
            <a:off x="1371600" y="3581280"/>
            <a:ext cx="4800600" cy="1523880"/>
            <a:chOff x="1371600" y="3581280"/>
            <a:chExt cx="4800600" cy="1523880"/>
          </a:xfrm>
        </p:grpSpPr>
        <p:sp>
          <p:nvSpPr>
            <p:cNvPr id="273" name="Rectangle 5"/>
            <p:cNvSpPr/>
            <p:nvPr/>
          </p:nvSpPr>
          <p:spPr>
            <a:xfrm>
              <a:off x="1371600" y="3581280"/>
              <a:ext cx="4800600" cy="15238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4" name="Line 6"/>
            <p:cNvSpPr/>
            <p:nvPr/>
          </p:nvSpPr>
          <p:spPr>
            <a:xfrm>
              <a:off x="381024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Line 7"/>
            <p:cNvSpPr/>
            <p:nvPr/>
          </p:nvSpPr>
          <p:spPr>
            <a:xfrm>
              <a:off x="251460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502920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7" name="Line 10"/>
            <p:cNvSpPr/>
            <p:nvPr/>
          </p:nvSpPr>
          <p:spPr>
            <a:xfrm>
              <a:off x="1371600" y="434340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7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ixteen percent of the human population is known to be able to wiggle their ea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is trait is determined to be a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cessive gen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se is 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opulation genetic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ques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Use the following equation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 = p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+ 2pq + q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of the population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omozygous dominant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for this trai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= 16% or .16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2 =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1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 = .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n us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 = p + 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 = p + .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- .4 = 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 = .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ow use 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 answer:  .6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= .36 or 36%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of the population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terozygou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 this trai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e know that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 = .4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d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 = .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w use 2pq for answer:  2(.6)(.4) = .48 or 48%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 dogs, the inheritance of hair color involves a gene B for black hair and gene b for brown hair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dominant 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is also involved.  It must be present for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colo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to be synthesiz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f this gene is not present,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blon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ndition resul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, Bb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black hai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C, C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col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brown hai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blo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dogs, wire-haired is due to a dominant gene (W), smooth-haired is due to its recessive allele (w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, Ww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wire 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smooth 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brown haired male, whose father was a blond, is mated with a black haired female, whose mother was brown haired and her father was blon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ale: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Cc (gametes:  bC  b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emale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Cc (gametes:  BC  Bc  bC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at is the expected ratios of their offspring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Bc     b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BbCC   BbCc   bbCC  bbC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BbCc   Bbcc   bbCc  bbc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fspring ratios: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lack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rown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lond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/8 or 1/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96" name="Group 2"/>
          <p:cNvGrpSpPr/>
          <p:nvPr/>
        </p:nvGrpSpPr>
        <p:grpSpPr>
          <a:xfrm>
            <a:off x="1447920" y="2514600"/>
            <a:ext cx="4800600" cy="1523880"/>
            <a:chOff x="1447920" y="2514600"/>
            <a:chExt cx="4800600" cy="1523880"/>
          </a:xfrm>
        </p:grpSpPr>
        <p:sp>
          <p:nvSpPr>
            <p:cNvPr id="297" name="Rectangle 7"/>
            <p:cNvSpPr/>
            <p:nvPr/>
          </p:nvSpPr>
          <p:spPr>
            <a:xfrm>
              <a:off x="1447920" y="2514600"/>
              <a:ext cx="4800600" cy="15238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8" name="Line 6"/>
            <p:cNvSpPr/>
            <p:nvPr/>
          </p:nvSpPr>
          <p:spPr>
            <a:xfrm>
              <a:off x="388656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9" name="Line 5"/>
            <p:cNvSpPr/>
            <p:nvPr/>
          </p:nvSpPr>
          <p:spPr>
            <a:xfrm>
              <a:off x="259092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Line 4"/>
            <p:cNvSpPr/>
            <p:nvPr/>
          </p:nvSpPr>
          <p:spPr>
            <a:xfrm>
              <a:off x="510552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Line 3"/>
            <p:cNvSpPr/>
            <p:nvPr/>
          </p:nvSpPr>
          <p:spPr>
            <a:xfrm>
              <a:off x="1447920" y="327672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0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8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enry Anonymous, a film star, was involved in a paternity case.  The woman bringing suit had two children, on whos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as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the other whos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as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-308520">
              <a:lnSpc>
                <a:spcPct val="1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e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wa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, the same as Henry’s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judge in the case awarded damages to the woman damages to the woman, saying that Henry had to be the father of at least one of the childr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8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viously, the judge should be sentenced to Biology.  For Henry to have been the father of both children, h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would have had to be wha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I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Answe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     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08" name="Group 5"/>
          <p:cNvGrpSpPr/>
          <p:nvPr/>
        </p:nvGrpSpPr>
        <p:grpSpPr>
          <a:xfrm>
            <a:off x="3581280" y="3809880"/>
            <a:ext cx="2514600" cy="2286000"/>
            <a:chOff x="3581280" y="3809880"/>
            <a:chExt cx="2514600" cy="2286000"/>
          </a:xfrm>
        </p:grpSpPr>
        <p:sp>
          <p:nvSpPr>
            <p:cNvPr id="309" name="Rectangle 6"/>
            <p:cNvSpPr/>
            <p:nvPr/>
          </p:nvSpPr>
          <p:spPr>
            <a:xfrm>
              <a:off x="3581280" y="3809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Line 7"/>
            <p:cNvSpPr/>
            <p:nvPr/>
          </p:nvSpPr>
          <p:spPr>
            <a:xfrm>
              <a:off x="4800600" y="3809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>
              <a:off x="3581280" y="4952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f a homozygous wire-haired dog is mated with a smooth-haired dog, what type of offspring could be produc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3581280" y="4114800"/>
            <a:ext cx="2514600" cy="2286000"/>
            <a:chOff x="3581280" y="4114800"/>
            <a:chExt cx="2514600" cy="2286000"/>
          </a:xfrm>
        </p:grpSpPr>
        <p:sp>
          <p:nvSpPr>
            <p:cNvPr id="121" name="Rectangle 4"/>
            <p:cNvSpPr/>
            <p:nvPr/>
          </p:nvSpPr>
          <p:spPr>
            <a:xfrm>
              <a:off x="3581280" y="411480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>
              <a:off x="4800600" y="411480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>
              <a:off x="3581280" y="525780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g                                 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 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ll 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2743200" y="2743200"/>
            <a:ext cx="3048120" cy="2286000"/>
            <a:chOff x="2743200" y="2743200"/>
            <a:chExt cx="3048120" cy="2286000"/>
          </a:xfrm>
        </p:grpSpPr>
        <p:grpSp>
          <p:nvGrpSpPr>
            <p:cNvPr id="128" name="Group 4"/>
            <p:cNvGrpSpPr/>
            <p:nvPr/>
          </p:nvGrpSpPr>
          <p:grpSpPr>
            <a:xfrm>
              <a:off x="2743200" y="2743200"/>
              <a:ext cx="2514600" cy="2286000"/>
              <a:chOff x="2743200" y="2743200"/>
              <a:chExt cx="2514600" cy="2286000"/>
            </a:xfrm>
          </p:grpSpPr>
          <p:sp>
            <p:nvSpPr>
              <p:cNvPr id="129" name="Rectangle 5"/>
              <p:cNvSpPr/>
              <p:nvPr/>
            </p:nvSpPr>
            <p:spPr>
              <a:xfrm>
                <a:off x="2743200" y="274320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0" name="Line 6"/>
              <p:cNvSpPr/>
              <p:nvPr/>
            </p:nvSpPr>
            <p:spPr>
              <a:xfrm>
                <a:off x="3962520" y="274320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1" name="Line 7"/>
              <p:cNvSpPr/>
              <p:nvPr/>
            </p:nvSpPr>
            <p:spPr>
              <a:xfrm>
                <a:off x="2743200" y="388620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32" name="AutoShape 8"/>
            <p:cNvSpPr/>
            <p:nvPr/>
          </p:nvSpPr>
          <p:spPr>
            <a:xfrm>
              <a:off x="533412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type(s) of offspring could be produced in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ust breed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to get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sults of F1 Cross:  Ww  x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: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:  3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1752480" y="2743200"/>
            <a:ext cx="3048120" cy="2286000"/>
            <a:chOff x="1752480" y="2743200"/>
            <a:chExt cx="3048120" cy="2286000"/>
          </a:xfrm>
        </p:grpSpPr>
        <p:grpSp>
          <p:nvGrpSpPr>
            <p:cNvPr id="140" name="Group 5"/>
            <p:cNvGrpSpPr/>
            <p:nvPr/>
          </p:nvGrpSpPr>
          <p:grpSpPr>
            <a:xfrm>
              <a:off x="1752480" y="2743200"/>
              <a:ext cx="2514600" cy="2286000"/>
              <a:chOff x="1752480" y="2743200"/>
              <a:chExt cx="2514600" cy="2286000"/>
            </a:xfrm>
          </p:grpSpPr>
          <p:sp>
            <p:nvSpPr>
              <p:cNvPr id="141" name="Rectangle 6"/>
              <p:cNvSpPr/>
              <p:nvPr/>
            </p:nvSpPr>
            <p:spPr>
              <a:xfrm>
                <a:off x="1752480" y="274320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2" name="Line 7"/>
              <p:cNvSpPr/>
              <p:nvPr/>
            </p:nvSpPr>
            <p:spPr>
              <a:xfrm>
                <a:off x="2971800" y="274320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3" name="Line 8"/>
              <p:cNvSpPr/>
              <p:nvPr/>
            </p:nvSpPr>
            <p:spPr>
              <a:xfrm>
                <a:off x="1752480" y="388620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44" name="AutoShape 9"/>
            <p:cNvSpPr/>
            <p:nvPr/>
          </p:nvSpPr>
          <p:spPr>
            <a:xfrm>
              <a:off x="434340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wire-haired dogs are mated.  Among the offspring of their first litter is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smooth-haired pu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f these, two wire-haired dogs mate again, what are the chances that they will produc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another smooth-haired pup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chances that the pup will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ire-haired pup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05:02:52Z</dcterms:created>
  <dc:creator>Cheryl Massengale</dc:creator>
  <dc:description/>
  <dc:language>en-US</dc:language>
  <cp:lastModifiedBy>LEGION</cp:lastModifiedBy>
  <dcterms:modified xsi:type="dcterms:W3CDTF">2016-12-07T12:35:06Z</dcterms:modified>
  <cp:revision>28</cp:revision>
  <dc:subject/>
  <dc:title>GENETIC PROBLEMS</dc:title>
</cp:coreProperties>
</file>