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0F35-8615-44EA-B543-88B1393A8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28E-EEAF-4E6C-BAEA-12A3BD13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C0F-4716-470B-822A-3C3D4FB9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383-CD0C-4E2B-B64F-380C8E02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AB0-B33F-48F5-A703-0B4AC130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0753-A81A-4373-8F8F-3452E40E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9A87-B0ED-4363-91CB-4904E08E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7CC0-B083-4248-B595-C1AAB740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8F8A-AAEB-4E61-93EA-EDB76CCD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7DA8-381C-4CE2-8841-E5D86DC2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722-8883-495B-9F8D-4E5E57CC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0E03-674F-46CB-A826-1C651851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178-882A-43D8-BC93-A4F0D582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26E7-2F1D-48D2-BF1A-6439ED8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1A57-2FA4-4587-A4AE-4F337496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8EAE-1FBA-4524-B8A4-61DE29B5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27E1-0D30-46B6-AAC3-C4036B3C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1E10-6BE7-49AE-AD29-98C50F83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52E-3EAA-45CF-98A1-50E380B2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C9E-77A8-4BC8-BE3F-933E9236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7A6-7AE5-4825-87BA-49C91A09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FDD-BF37-45FA-A421-69FE0CB9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000-389E-4738-B08D-78DCCFA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7B4-E506-4D42-9189-72B92418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ED5-D080-48B2-BE24-89BEA25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A28F-7C92-4141-BB63-727FAB26C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2728-5A52-47CA-89D4-74AF73F25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et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Comic Sans MS"/>
              </a:rPr>
              <a:t>ADP, ATP and Cellular Respiration</a:t>
            </a:r>
            <a:endParaRPr b="0" lang="en-US" sz="7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n is ATP Made in the Body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uring a Process called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hat takes place in both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Picture 11" descr="Copy of heart[1]"/>
          <p:cNvPicPr/>
          <p:nvPr/>
        </p:nvPicPr>
        <p:blipFill>
          <a:blip r:embed="rId1"/>
          <a:stretch/>
        </p:blipFill>
        <p:spPr>
          <a:xfrm>
            <a:off x="4572000" y="2511360"/>
            <a:ext cx="41911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cludes pathways that require oxyg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xidiz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and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duc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breakdown is therefore an </a:t>
            </a:r>
            <a:r>
              <a:rPr b="1" i="1" lang="en-US" sz="3600" spc="-1" strike="noStrike">
                <a:solidFill>
                  <a:srgbClr val="ffcc66"/>
                </a:solidFill>
                <a:latin typeface="Comic Sans MS"/>
              </a:rPr>
              <a:t>oxidation-reduc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reakdown of one glucose results in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36 to 38 ATP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olecule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verall Equation for 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5791320"/>
            <a:ext cx="91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6CO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6H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0 + e</a:t>
            </a:r>
            <a:r>
              <a:rPr b="1" lang="en-US" sz="44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36-38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ATP’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19320" y="2430360"/>
            <a:ext cx="60195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    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+ 6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276720" y="41911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YIEL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495680" y="3429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4572000" y="50292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Type of Process is Cellular Respiratio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 Oxidation-Reduction Process or REDOX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xidation of GLUCOSE --&gt; C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+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removed from C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tion 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  to 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passed to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at Carries the Electron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nicotinadenine dinucleotide) acts as the energy carri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D</a:t>
            </a:r>
            <a:r>
              <a:rPr b="1" lang="en-US" sz="29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enzy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D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it picks up two electrons and one hydrogen 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6576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alcferm"/>
          <p:cNvPicPr/>
          <p:nvPr/>
        </p:nvPicPr>
        <p:blipFill>
          <a:blip r:embed="rId1"/>
          <a:srcRect l="27119" t="27458" r="36729" b="0"/>
          <a:stretch/>
        </p:blipFill>
        <p:spPr>
          <a:xfrm>
            <a:off x="480960" y="1600200"/>
            <a:ext cx="388944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re There Any Other Electron Carrier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YES! Another Co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D+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Flavin adenine dinucleotid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to FAD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6" descr="etransport[1]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44193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Other Cellular Respiration Fac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etabolic Pathwa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hat breaks down carbohydr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s High-energy Glucose is broken into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also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atabol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because larger Glucose breaks into smaller molecu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are the Stages of Cellular Respiration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ycolys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Krebs Cyc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Electron Transport Chai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5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re Does Cellular Respiration Take Plac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t actually takes place in two parts of the cell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28600" y="38098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ycolysis occurs in the 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2860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Krebs Cycle &amp; ETC Tak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place in the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14" descr="mitochondria[1]"/>
          <p:cNvPicPr/>
          <p:nvPr/>
        </p:nvPicPr>
        <p:blipFill>
          <a:blip r:embed="rId1"/>
          <a:stretch/>
        </p:blipFill>
        <p:spPr>
          <a:xfrm>
            <a:off x="4245120" y="1676520"/>
            <a:ext cx="4765680" cy="4876560"/>
          </a:xfrm>
          <a:prstGeom prst="rect">
            <a:avLst/>
          </a:prstGeom>
          <a:ln w="0">
            <a:noFill/>
          </a:ln>
        </p:spPr>
      </p:pic>
      <p:sp>
        <p:nvSpPr>
          <p:cNvPr id="180" name="Line 15"/>
          <p:cNvSpPr/>
          <p:nvPr/>
        </p:nvSpPr>
        <p:spPr>
          <a:xfrm flipV="1">
            <a:off x="3733920" y="5714640"/>
            <a:ext cx="2743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Review of Mitochondria Structur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mooth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ut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inn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Folds call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rista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Space inside cristae called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t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4" name="Picture 5" descr="mitochondria[1]"/>
          <p:cNvPicPr/>
          <p:nvPr/>
        </p:nvPicPr>
        <p:blipFill>
          <a:blip r:embed="rId1"/>
          <a:stretch/>
        </p:blipFill>
        <p:spPr>
          <a:xfrm>
            <a:off x="4648320" y="1905120"/>
            <a:ext cx="4190760" cy="44956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What Is ATP?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nergy used by all Cel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8600" y="3200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denosine Triphosph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" y="4495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rganic molecule containing high-energy Phosphate bond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Diagram of the Proces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87" name="Picture 7" descr="Overview[1]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76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33520" y="4800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8600" y="4724280"/>
            <a:ext cx="17524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Line 10"/>
          <p:cNvSpPr/>
          <p:nvPr/>
        </p:nvSpPr>
        <p:spPr>
          <a:xfrm flipV="1">
            <a:off x="1143000" y="4266720"/>
            <a:ext cx="76212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200400" y="5715000"/>
            <a:ext cx="17524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4267080" y="4343400"/>
            <a:ext cx="99072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7467480" y="1600200"/>
            <a:ext cx="16765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7162560" y="2819520"/>
            <a:ext cx="9903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akes place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3048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aerobic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(Doesn’t Use Oxyge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3962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quires input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14400" y="51814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ucose split into two molecules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ate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ic Aci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NADH and 4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yruvate is oxidized to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cetyl CoA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remov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Glycolysis Diagram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06" name="Picture 7" descr="glyco[1]"/>
          <p:cNvPicPr/>
          <p:nvPr/>
        </p:nvPicPr>
        <p:blipFill>
          <a:blip r:embed="rId1"/>
          <a:stretch/>
        </p:blipFill>
        <p:spPr>
          <a:xfrm>
            <a:off x="2895480" y="380880"/>
            <a:ext cx="5972400" cy="6162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Ferment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752480"/>
            <a:ext cx="845820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ccurs when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NOT presen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anaerobic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ctic Aci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fermentation in muscle cells (mak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uscles tir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coholic fermentation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in yeast (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thanol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Nets only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 Little Krebs Cycle Histo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Discovered b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ns Krebs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193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He received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bel Prize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physiology or medicine in 1953 for his disco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orced to leave Germany prior to WWII because he was Jew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6" descr="krebs"/>
          <p:cNvPicPr/>
          <p:nvPr/>
        </p:nvPicPr>
        <p:blipFill>
          <a:blip r:embed="rId1"/>
          <a:stretch/>
        </p:blipFill>
        <p:spPr>
          <a:xfrm>
            <a:off x="762120" y="1828800"/>
            <a:ext cx="3284280" cy="4648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quires Oxygen (Aerobic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clical series of oxidation reactions that give off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produce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ne ATP per cyc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urn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ic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er glucose molecu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duce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o ATP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kes place in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atrix of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ach turn of the Krebs Cycle 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NADH, 1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Therefore, For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ach Glucose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molecule, the Krebs Cycle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6NADH, 2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4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4419720" y="5791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267080" y="5791320"/>
            <a:ext cx="838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80880" y="646920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TS: 3NADH, 1ATP, 1FAD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, &amp; 2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lectron Transport Chain Summa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4 ATP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ccurs Acros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ner Mitochondrial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Uses coenzym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+ and FAD+ to accept e- from gluco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H = 3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D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2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Chemical Structure of ATP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03" name="Picture 10" descr="atp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06668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64832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0" y="1676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Electron Transport Chain Anima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Does ATP Do for You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It supplies YOU wi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ENERGY!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1" descr="ag00019_"/>
          <p:cNvPicPr/>
          <p:nvPr/>
        </p:nvPicPr>
        <p:blipFill>
          <a:blip r:embed="rId1"/>
          <a:stretch/>
        </p:blipFill>
        <p:spPr>
          <a:xfrm>
            <a:off x="2666880" y="2819520"/>
            <a:ext cx="3810240" cy="35240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How Do We Get Energy From ATP?</a:t>
            </a:r>
            <a:endParaRPr b="0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By breaking the high- energy bonds between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st two phosphates in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11" descr="Copy (3) of atp[1]"/>
          <p:cNvPicPr/>
          <p:nvPr/>
        </p:nvPicPr>
        <p:blipFill>
          <a:blip r:embed="rId1"/>
          <a:stretch/>
        </p:blipFill>
        <p:spPr>
          <a:xfrm>
            <a:off x="426708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is the Process Called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17" name="Picture 4" descr="option2[1]"/>
          <p:cNvPicPr/>
          <p:nvPr/>
        </p:nvPicPr>
        <p:blipFill>
          <a:blip r:embed="rId1"/>
          <a:stretch/>
        </p:blipFill>
        <p:spPr>
          <a:xfrm>
            <a:off x="1066680" y="2057400"/>
            <a:ext cx="7315200" cy="4454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LYSIS (Addin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3429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57200" y="396252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Does That Happe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23" name="Picture 6" descr="bd13684_"/>
          <p:cNvPicPr/>
          <p:nvPr/>
        </p:nvPicPr>
        <p:blipFill>
          <a:blip r:embed="rId1"/>
          <a:stretch/>
        </p:blipFill>
        <p:spPr>
          <a:xfrm>
            <a:off x="380880" y="14479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1"/>
          <p:cNvSpPr txBox="1"/>
          <p:nvPr/>
        </p:nvSpPr>
        <p:spPr>
          <a:xfrm>
            <a:off x="304920" y="57913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25" name="Picture 16" descr="Copy of C7_atp_2[1]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2286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n 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is ATP Re-Mad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verse of the previous process occur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6" descr="equil[1]"/>
          <p:cNvPicPr/>
          <p:nvPr/>
        </p:nvPicPr>
        <p:blipFill>
          <a:blip r:embed="rId1"/>
          <a:stretch/>
        </p:blipFill>
        <p:spPr>
          <a:xfrm>
            <a:off x="5486400" y="2819520"/>
            <a:ext cx="31734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838080" y="3276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other Enzyme is used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4952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The ADP-ATP Cycle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35" name="Picture 3" descr="ATP-ADP Cycle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049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-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676520" y="2057040"/>
            <a:ext cx="19047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00800" y="26668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4723920" y="3809880"/>
            <a:ext cx="20574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3657240" y="3809880"/>
            <a:ext cx="30481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5:36:14Z</dcterms:created>
  <dc:creator>Cheryl massengale</dc:creator>
  <dc:description/>
  <dc:language>en-US</dc:language>
  <cp:lastModifiedBy>LEGION</cp:lastModifiedBy>
  <dcterms:modified xsi:type="dcterms:W3CDTF">2016-12-07T12:34:45Z</dcterms:modified>
  <cp:revision>36</cp:revision>
  <dc:subject/>
  <dc:title>ADP, ATP and Cellular Respiration Powerpoint</dc:title>
</cp:coreProperties>
</file>