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gif" ContentType="image/gif"/>
  <Override PartName="/ppt/media/image15.png" ContentType="image/png"/>
  <Override PartName="/ppt/media/image14.png" ContentType="image/png"/>
  <Override PartName="/ppt/media/image5.gif" ContentType="image/gif"/>
  <Override PartName="/ppt/media/image9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7.png" ContentType="image/png"/>
  <Override PartName="/ppt/media/image4.gif" ContentType="image/gif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7F43-9445-4253-B1BA-0E9FFF92B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P, ATP and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is ATP Made in the Bod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uring a Process called Cellular Respiration that takes place in both Plants &amp;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s pathways that require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is oxidized and O2 is re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ucose breakdown is therefore an oxidation-reduction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eakdown of one glucose results in 36 to 38 ATP molecul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all Equation for 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 + 6H20 + e- + 36-38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  +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IEL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Type of Process is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Oxidation-Reduction Process or REDOX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xidation of GLUCOSE --&gt; CO2 + H2O (e- removed from C6H12O6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tion  O2  to  H2O (e- passed to 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Carries the Electron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(nicotinadenine dinucleotide) acts as the energy carri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D+ is a coenz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Reduced to NADH when it picks up two electrons and one hydrogen 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There Any Other Electron Carri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ES! Another Co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AD+ (Flavin adenine dinucleotid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uced to FADH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ther Cellular Respiration F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Pathway that breaks down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Exergonic as High-energy Glucose is broken into CO2 and 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also Catabolic because larger Glucose breaks into smaller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Stages of Cellular Respira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lectron Transport Ch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re Does Cellular Respiration Take Plac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actually takes place in two parts of the cell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occurs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&amp; ETC Take place in the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view of Mitochondria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mooth out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ed inner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olds called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pace inside cristae called the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used by all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c molecule containing high-energy Phosphate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agram of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aerobic (Doesn’t Use Oxy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input of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ucose split into two molecules of Pyruvate or Pyruvic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lycolysis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so produces 2 NADH and 4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uvate is oxidized to Acetyl CoA and CO2 is remo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lycolysis Diagra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when O2 NOT present (an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Lactic Acid fermentation in muscle cells (makes muscles tired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lled Alcoholic fermentation in yeast (produces ethano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ts only 2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Little Krebs Cycle Hi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covered by Hans Krebs in 193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 received the Nobel Prize in physiology or medicine in 1953 for his discove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ced to leave Germany prior to WWII because he was Jewi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quires Oxygen (Aerob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yclical series of oxidation reactions that give off CO2 and produce one ATP per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urns twice per glucos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roduces two ATP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akes place in matrix of mitochondr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rebs Cycle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turn of the Krebs Cycle also produces 3NADH, 1FADH2, and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refore, For each Glucose molecule, the Krebs Cycle produces 6NADH, 2FADH2, 4CO2, and 2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rebs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TS: 3NADH, 1ATP, 1FADH2, &amp; 2C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4 ATP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O Produc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ccurs Across Inner Mitochondrial membra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s coenzymes NAD+ and FAD+ to accept e- from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DH = 3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ADH2 = 2 ATP’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Structure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lectron Transport Chain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es ATP Do for You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supplies YOU with ENERG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We Get Energy From ATP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y breaking the high- energy bonds between the last two phosphates in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the Process Call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 (Adding H2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That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 Enzy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is ATP Re-Mad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verse of the previous process occu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Enzyme is us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DP-ATP Cyc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-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P Synthe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0E99-8748-48BE-871B-9A74B691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15C2-D6CB-418C-9C55-6CC28706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5B8-66C3-4D91-8BF7-3C158E40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C7E-8A1E-4F9B-8AB5-A4E5CF94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AF50-989C-4CBB-BB2B-C83F7BE8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35C4-FAC3-4238-AA5F-52D2C847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66AA-47E6-4E52-90D5-33ECBE64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0C4D-CFAB-42FF-B11F-DDD1DAE0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A3B4-406D-497B-A615-6A638B48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C7F4-ACEA-4BF9-956D-754C954D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B717-35F0-440E-8974-F52B0AA5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8DF-B19C-4383-960B-A46F3364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904F-43D0-459C-B817-4139EEFF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0C14-BADE-4E05-B4E9-62503541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B449-E3BB-4414-BEA8-3573B739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97F7-0A56-4FD1-86A9-4AAB6CF3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7EF77-330E-42C2-A93F-8BBA7234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13E-D984-41BE-8EA5-F1779C55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C2A-3E5E-4B2C-878A-D7BFB30A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F65-AFF0-4CB5-9273-66E886E4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49B-DAB1-41A8-B7CA-BD4DBA94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481-653B-4DFF-B057-A8C4ECDE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A56-B09B-4E8E-8290-DC9995D0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6D09-917C-4029-AECA-147D39D8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EE7C-B635-422C-B359-263601C15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FBC4-5A2C-40B5-8C55-228DF4DBF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science.smith.edu/departments/Biology/Bio231/etc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cc66"/>
                </a:solidFill>
                <a:latin typeface="Comic Sans MS"/>
              </a:rPr>
              <a:t>ADP, ATP and Cellular Respiration</a:t>
            </a:r>
            <a:endParaRPr b="0" lang="en-US" sz="72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n is ATP Made in the Body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uring a Process called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that takes place in both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lants &amp; Anima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4" name="Picture 11" descr="Copy of heart[1]"/>
          <p:cNvPicPr/>
          <p:nvPr/>
        </p:nvPicPr>
        <p:blipFill>
          <a:blip r:embed="rId1"/>
          <a:stretch/>
        </p:blipFill>
        <p:spPr>
          <a:xfrm>
            <a:off x="4572000" y="2511360"/>
            <a:ext cx="4191120" cy="38131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ncludes pathways that require oxyge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xidiz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and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duc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ucose breakdown is therefore an </a:t>
            </a:r>
            <a:r>
              <a:rPr b="1" i="1" lang="en-US" sz="3600" spc="-1" strike="noStrike">
                <a:solidFill>
                  <a:srgbClr val="ffcc66"/>
                </a:solidFill>
                <a:latin typeface="Comic Sans MS"/>
              </a:rPr>
              <a:t>oxidation-reduction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Breakdown of one glucose results in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36 to 38 ATP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olecules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4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verall Equation for Cellular Respir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0" y="5791320"/>
            <a:ext cx="91440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6CO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6H</a:t>
            </a:r>
            <a:r>
              <a:rPr b="1" lang="en-US" sz="44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0 + e</a:t>
            </a:r>
            <a:r>
              <a:rPr b="1" lang="en-US" sz="44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 + 36-38</a:t>
            </a: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ATP’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1219320" y="2430360"/>
            <a:ext cx="601956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C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6    </a:t>
            </a: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+ 6O</a:t>
            </a:r>
            <a:r>
              <a:rPr b="1" lang="en-US" sz="4800" spc="-1" strike="noStrike" baseline="-30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276720" y="41911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YIEL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4495680" y="3429000"/>
            <a:ext cx="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4572000" y="5029200"/>
            <a:ext cx="0" cy="838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Type of Process is Cellular Respiratio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 Oxidation-Reduction Process or REDOX Reactio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xidation of GLUCOSE --&gt; C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+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removed from C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1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tion  O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  to  H</a:t>
            </a:r>
            <a:r>
              <a:rPr b="1" lang="en-US" sz="3600" spc="-1" strike="noStrike" baseline="-30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e</a:t>
            </a:r>
            <a:r>
              <a:rPr b="1" lang="en-US" sz="3600" spc="-1" strike="noStrike" baseline="30000">
                <a:solidFill>
                  <a:srgbClr val="ffcc66"/>
                </a:solidFill>
                <a:latin typeface="Comic Sans MS"/>
              </a:rPr>
              <a:t>-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passed to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9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What Carries the Electron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(nicotinadenine dinucleotide) acts as the energy carri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NAD</a:t>
            </a:r>
            <a:r>
              <a:rPr b="1" lang="en-US" sz="2900" spc="-1" strike="noStrike" baseline="30000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enzym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t’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ADH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it picks up two electrons and one hydrogen 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365760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3" name="Picture 7" descr="alcferm"/>
          <p:cNvPicPr/>
          <p:nvPr/>
        </p:nvPicPr>
        <p:blipFill>
          <a:blip r:embed="rId1"/>
          <a:srcRect l="27119" t="27458" r="36729" b="0"/>
          <a:stretch/>
        </p:blipFill>
        <p:spPr>
          <a:xfrm>
            <a:off x="480960" y="1600200"/>
            <a:ext cx="3889440" cy="4876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re There Any Other Electron Carriers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288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YES! Another Co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AD+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(Flavin adenine dinucleotide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duc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to FADH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7" name="Picture 6" descr="etransport[1]"/>
          <p:cNvPicPr/>
          <p:nvPr/>
        </p:nvPicPr>
        <p:blipFill>
          <a:blip r:embed="rId1"/>
          <a:stretch/>
        </p:blipFill>
        <p:spPr>
          <a:xfrm>
            <a:off x="228600" y="1905120"/>
            <a:ext cx="4572000" cy="44193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Other Cellular Respiration Facts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etabolic Pathway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hat breaks down carbohydr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Exergon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s High-energy Glucose is broken into CO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cess is also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atabolic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because larger Glucose breaks into smaller molecul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are the Stages of Cellular Respiration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Glycolysi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Krebs Cycl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Electron Transport Chai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ere Does Cellular Respiration Take Plac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38098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t actually takes place in two parts of the cell: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28600" y="380988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ycolysis occurs in the 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28600" y="495288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Krebs Cycle &amp; ETC Tak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place in the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9" name="Picture 14" descr="mitochondria[1]"/>
          <p:cNvPicPr/>
          <p:nvPr/>
        </p:nvPicPr>
        <p:blipFill>
          <a:blip r:embed="rId1"/>
          <a:stretch/>
        </p:blipFill>
        <p:spPr>
          <a:xfrm>
            <a:off x="4245120" y="1676520"/>
            <a:ext cx="4765680" cy="4876560"/>
          </a:xfrm>
          <a:prstGeom prst="rect">
            <a:avLst/>
          </a:prstGeom>
          <a:ln w="0">
            <a:noFill/>
          </a:ln>
        </p:spPr>
      </p:pic>
      <p:sp>
        <p:nvSpPr>
          <p:cNvPr id="180" name="Line 15"/>
          <p:cNvSpPr/>
          <p:nvPr/>
        </p:nvSpPr>
        <p:spPr>
          <a:xfrm flipV="1">
            <a:off x="3733920" y="5714640"/>
            <a:ext cx="27432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Review of Mitochondria Structure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mooth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ut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olded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inner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Folds called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rista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Space inside cristae called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atrix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4" name="Picture 5" descr="mitochondria[1]"/>
          <p:cNvPicPr/>
          <p:nvPr/>
        </p:nvPicPr>
        <p:blipFill>
          <a:blip r:embed="rId1"/>
          <a:stretch/>
        </p:blipFill>
        <p:spPr>
          <a:xfrm>
            <a:off x="4648320" y="1905120"/>
            <a:ext cx="4190760" cy="449568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What Is ATP?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04920" y="2133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nergy used by all Cell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28600" y="3200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denosine Triphosphat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457200" y="4495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rganic molecule containing high-energy Phosphate bond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Diagram of the Process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87" name="Picture 7" descr="Overview[1]"/>
          <p:cNvPicPr/>
          <p:nvPr/>
        </p:nvPicPr>
        <p:blipFill>
          <a:blip r:embed="rId1"/>
          <a:stretch/>
        </p:blipFill>
        <p:spPr>
          <a:xfrm>
            <a:off x="533520" y="1600200"/>
            <a:ext cx="8153280" cy="4876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>
            <a:off x="533520" y="4800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28600" y="4724280"/>
            <a:ext cx="17524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Cytoplas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Line 10"/>
          <p:cNvSpPr/>
          <p:nvPr/>
        </p:nvSpPr>
        <p:spPr>
          <a:xfrm flipV="1">
            <a:off x="1143000" y="4266720"/>
            <a:ext cx="76212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200400" y="5715000"/>
            <a:ext cx="17524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in Matrix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Line 12"/>
          <p:cNvSpPr/>
          <p:nvPr/>
        </p:nvSpPr>
        <p:spPr>
          <a:xfrm flipV="1">
            <a:off x="4267080" y="4343400"/>
            <a:ext cx="99072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7467480" y="1600200"/>
            <a:ext cx="167652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ccurs across Crista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Line 14"/>
          <p:cNvSpPr/>
          <p:nvPr/>
        </p:nvSpPr>
        <p:spPr>
          <a:xfrm flipH="1">
            <a:off x="7162560" y="2819520"/>
            <a:ext cx="99036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2209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akes place in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toplasm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62120" y="3048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aerobic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(Doesn’t Use Oxygen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762120" y="39625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Requires input of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914400" y="51814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Glucose split into two molecules of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ate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yruvic Aci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Glycolysis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NADH and 4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Pyruvate is oxidized to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cetyl CoA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an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is remove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27432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Glycolysis Diagram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06" name="Picture 7" descr="glyco[1]"/>
          <p:cNvPicPr/>
          <p:nvPr/>
        </p:nvPicPr>
        <p:blipFill>
          <a:blip r:embed="rId1"/>
          <a:stretch/>
        </p:blipFill>
        <p:spPr>
          <a:xfrm>
            <a:off x="2895480" y="380880"/>
            <a:ext cx="5972400" cy="6162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Fermentation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57200" y="1752480"/>
            <a:ext cx="845820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Occurs when O</a:t>
            </a:r>
            <a:r>
              <a:rPr b="1" lang="en-US" sz="36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NOT present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anaerobic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ctic Aci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fermentation in muscle cells (mak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uscles tired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Called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lcoholic fermentation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in yeast (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thanol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2251"/>
              </a:spcBef>
              <a:buClr>
                <a:srgbClr val="ffcc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Nets only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A Little Krebs Cycle Histo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1640" y="17521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Discovered by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ns Krebs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1937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He received 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obel Prize</a:t>
            </a: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 in physiology or medicine in 1953 for his discovery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Forced to leave Germany prior to WWII because he was Jewish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13" name="Picture 6" descr="krebs"/>
          <p:cNvPicPr/>
          <p:nvPr/>
        </p:nvPicPr>
        <p:blipFill>
          <a:blip r:embed="rId1"/>
          <a:stretch/>
        </p:blipFill>
        <p:spPr>
          <a:xfrm>
            <a:off x="762120" y="1828800"/>
            <a:ext cx="3284280" cy="4648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quires Oxygen (Aerobic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yclical series of oxidation reactions that give off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CO</a:t>
            </a:r>
            <a:r>
              <a:rPr b="1" lang="en-US" sz="32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produce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ne ATP per cyc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urn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ic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per glucose molecul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oduces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two ATP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akes place in 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matrix of mitochondri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 Summary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Each turn of the Krebs Cycle also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3NADH, 1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Therefore, For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ach Glucose</a:t>
            </a: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 molecule, the Krebs Cycle produces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6NADH, 2FAD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4CO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2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Comic Sans MS"/>
              </a:rPr>
              <a:t>Krebs Cycle</a:t>
            </a:r>
            <a:endParaRPr b="0" lang="en-US" sz="5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48006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8"/>
          <p:cNvSpPr/>
          <p:nvPr/>
        </p:nvSpPr>
        <p:spPr>
          <a:xfrm>
            <a:off x="4419720" y="5791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4267080" y="5791320"/>
            <a:ext cx="838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AT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380880" y="646920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NETS: 3NADH, 1ATP, 1FADH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, &amp; 2C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omic Sans MS"/>
              </a:rPr>
              <a:t>Electron Transport Chain Summary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4 ATP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 Produc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Occurs Acros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ner Mitochondrial membran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Comic Sans MS"/>
              </a:rPr>
              <a:t>Uses coenzym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+ and FAD+ to accept e- from gluco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NADH = 3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AD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= 2 ATP’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Chemical Structure of ATP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03" name="Picture 10" descr="atp"/>
          <p:cNvPicPr/>
          <p:nvPr/>
        </p:nvPicPr>
        <p:blipFill>
          <a:blip r:embed="rId1"/>
          <a:stretch/>
        </p:blipFill>
        <p:spPr>
          <a:xfrm>
            <a:off x="685800" y="1523880"/>
            <a:ext cx="7696080" cy="4535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066680" y="5410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Phosphat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648320" y="5562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bose Suga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0" y="16765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 Bas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33"/>
                </a:solidFill>
                <a:uFillTx/>
                <a:latin typeface="Comic Sans MS"/>
                <a:hlinkClick r:id="rId1"/>
              </a:rPr>
              <a:t>Electron Transport Chain Animation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What Does ATP Do for You?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It supplies YOU with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ENERGY!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0" name="Picture 11" descr="ag00019_"/>
          <p:cNvPicPr/>
          <p:nvPr/>
        </p:nvPicPr>
        <p:blipFill>
          <a:blip r:embed="rId1"/>
          <a:stretch/>
        </p:blipFill>
        <p:spPr>
          <a:xfrm>
            <a:off x="2666880" y="2819520"/>
            <a:ext cx="3810240" cy="35240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Comic Sans MS"/>
              </a:rPr>
              <a:t>How Do We Get Energy From ATP?</a:t>
            </a:r>
            <a:endParaRPr b="0" lang="en-US" sz="40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By breaking the high- energy bonds between the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st two phosphates in ATP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4" name="Picture 11" descr="Copy (3) of atp[1]"/>
          <p:cNvPicPr/>
          <p:nvPr/>
        </p:nvPicPr>
        <p:blipFill>
          <a:blip r:embed="rId1"/>
          <a:stretch/>
        </p:blipFill>
        <p:spPr>
          <a:xfrm>
            <a:off x="4267080" y="19051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What is the Process Called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17" name="Picture 4" descr="option2[1]"/>
          <p:cNvPicPr/>
          <p:nvPr/>
        </p:nvPicPr>
        <p:blipFill>
          <a:blip r:embed="rId1"/>
          <a:stretch/>
        </p:blipFill>
        <p:spPr>
          <a:xfrm>
            <a:off x="1066680" y="2057400"/>
            <a:ext cx="7315200" cy="4454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YDROLYSIS (Adding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34290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457200" y="3962520"/>
            <a:ext cx="6094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Does That Happen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23" name="Picture 6" descr="bd13684_"/>
          <p:cNvPicPr/>
          <p:nvPr/>
        </p:nvPicPr>
        <p:blipFill>
          <a:blip r:embed="rId1"/>
          <a:stretch/>
        </p:blipFill>
        <p:spPr>
          <a:xfrm>
            <a:off x="380880" y="1447920"/>
            <a:ext cx="259092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1"/>
          <p:cNvSpPr txBox="1"/>
          <p:nvPr/>
        </p:nvSpPr>
        <p:spPr>
          <a:xfrm>
            <a:off x="304920" y="5791320"/>
            <a:ext cx="2209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TPa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125" name="Picture 16" descr="Copy of C7_atp_2[1]"/>
          <p:cNvPicPr/>
          <p:nvPr/>
        </p:nvPicPr>
        <p:blipFill>
          <a:blip r:embed="rId2"/>
          <a:stretch/>
        </p:blipFill>
        <p:spPr>
          <a:xfrm>
            <a:off x="3429000" y="14479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7"/>
          <p:cNvSpPr/>
          <p:nvPr/>
        </p:nvSpPr>
        <p:spPr>
          <a:xfrm>
            <a:off x="228600" y="17524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n Enzyme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mic Sans MS"/>
              </a:rPr>
              <a:t>How is ATP Re-Made?</a:t>
            </a:r>
            <a:endParaRPr b="0" lang="en-US" sz="4400" spc="-1" strike="noStrike">
              <a:solidFill>
                <a:srgbClr val="ffcc66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verse of the previous process occurs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Picture 6" descr="equil[1]"/>
          <p:cNvPicPr/>
          <p:nvPr/>
        </p:nvPicPr>
        <p:blipFill>
          <a:blip r:embed="rId1"/>
          <a:stretch/>
        </p:blipFill>
        <p:spPr>
          <a:xfrm>
            <a:off x="5486400" y="2819520"/>
            <a:ext cx="31734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838080" y="32767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nother Enzyme is used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838080" y="49528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Comic Sans MS"/>
              </a:rPr>
              <a:t>The ADP-ATP Cycle</a:t>
            </a:r>
            <a:endParaRPr b="0" lang="en-US" sz="4800" spc="-1" strike="noStrike">
              <a:solidFill>
                <a:srgbClr val="ffcc66"/>
              </a:solidFill>
              <a:latin typeface="Comic Sans MS"/>
            </a:endParaRPr>
          </a:p>
        </p:txBody>
      </p:sp>
      <p:pic>
        <p:nvPicPr>
          <p:cNvPr id="135" name="Picture 3" descr="ATP-ADP Cycle"/>
          <p:cNvPicPr/>
          <p:nvPr/>
        </p:nvPicPr>
        <p:blipFill>
          <a:blip r:embed="rId1"/>
          <a:stretch/>
        </p:blipFill>
        <p:spPr>
          <a:xfrm>
            <a:off x="2057400" y="160020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30492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-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676520" y="2057040"/>
            <a:ext cx="190476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00800" y="26668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omic Sans MS"/>
              </a:rPr>
              <a:t>ATP Synthetas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4723920" y="3809880"/>
            <a:ext cx="205740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3657240" y="3809880"/>
            <a:ext cx="3048120" cy="1676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5:36:14Z</dcterms:created>
  <dc:creator>Cheryl massengale</dc:creator>
  <dc:description/>
  <dc:language>en-US</dc:language>
  <cp:lastModifiedBy>LEGION</cp:lastModifiedBy>
  <dcterms:modified xsi:type="dcterms:W3CDTF">2016-12-07T12:34:45Z</dcterms:modified>
  <cp:revision>36</cp:revision>
  <dc:subject/>
  <dc:title>ADP, ATP and Cellular Respiration Powerpoint</dc:title>
</cp:coreProperties>
</file>