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8.wmf" ContentType="image/x-wmf"/>
  <Override PartName="/ppt/media/image30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9.jpeg" ContentType="image/jpeg"/>
  <Override PartName="/ppt/media/image23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6675-DA63-4B01-A674-6654FA88CD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1F3-60A5-4DFE-84E9-E7A78310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E3A-7D90-4CFF-956A-FC51B5EB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C8A-3EB6-4750-89DC-EC5F0CFE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0D8-6F70-4459-B0B4-E6ED796B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F59-518F-4A23-B9BC-0CDFBC50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BE6-C313-4358-A3BD-39EA3778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3C4-17E5-4C0F-8F8A-8537C548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801-5680-4B79-AF58-43F07C38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162-2581-4654-B938-85BB4792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37B-6BC7-414D-B441-80420463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ACD-3BC8-4CA9-86E5-0449EB6B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07C-55AB-4378-A584-85090030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13FB-FE40-479F-A487-561E3874F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763120" cy="6588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58200" cy="20080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2400" cy="11764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n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22482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me Acid-B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http://wps.prenhall.com/wps/media/objects/340/348272/Instructor_Resources/Chapter_01/Text_Images/FG01_07-038UN.JPG"/>
          <p:cNvPicPr/>
          <p:nvPr/>
        </p:nvPicPr>
        <p:blipFill>
          <a:blip r:embed="rId1"/>
          <a:stretch/>
        </p:blipFill>
        <p:spPr>
          <a:xfrm>
            <a:off x="533520" y="1400040"/>
            <a:ext cx="7696080" cy="54579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wps.prenhall.com/wps/media/objects/340/348272/Instructor_Resources/Chapter_01/Text_Images/FG01_07-052UN.JPG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http://wps.prenhall.com/wps/media/objects/340/348272/Instructor_Resources/Chapter_01/Text_Images/FG01_07-053UN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06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Effect of Resonance on p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772400" cy="12589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Favors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248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772400" cy="28843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rboxylic Acids can be Separated from non-acidic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86960" cy="48135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153640" cy="3260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mation of a new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816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wps.prenhall.com/wps/media/objects/340/348272/Instructor_Resources/Chapter_01/Text_Images/FG01_07-055UN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2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Lewis Base = </a:t>
            </a:r>
            <a:r>
              <a:rPr b="1" lang="en-US" sz="4400" spc="-1" strike="noStrike">
                <a:solidFill>
                  <a:srgbClr val="33cccc"/>
                </a:solidFill>
                <a:latin typeface="Times New Roman"/>
              </a:rPr>
              <a:t>Nucleophile</a:t>
            </a:r>
            <a:br>
              <a:rPr sz="4400"/>
            </a:b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wis Acid =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Electrop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Acid-Base Comp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58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7315200" cy="75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934320" cy="6001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5358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29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Conjugate Base</a:t>
            </a:r>
            <a:br>
              <a:rPr sz="44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i.e. Which H is most acidic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458200" cy="2568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asuring Acid Strength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Rectangle 3"/>
          <p:cNvGrpSpPr/>
          <p:nvPr/>
        </p:nvGrpSpPr>
        <p:grpSpPr>
          <a:xfrm>
            <a:off x="0" y="2200320"/>
            <a:ext cx="9144000" cy="1542960"/>
            <a:chOff x="0" y="2200320"/>
            <a:chExt cx="9144000" cy="1542960"/>
          </a:xfrm>
        </p:grpSpPr>
        <p:pic>
          <p:nvPicPr>
            <p:cNvPr id="56" name="Rectangle 3" descr=""/>
            <p:cNvPicPr/>
            <p:nvPr/>
          </p:nvPicPr>
          <p:blipFill>
            <a:blip r:embed="rId1"/>
            <a:stretch/>
          </p:blipFill>
          <p:spPr>
            <a:xfrm>
              <a:off x="0" y="2200320"/>
              <a:ext cx="91440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2200320"/>
              <a:ext cx="9144000" cy="15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2362320" y="2362320"/>
            <a:ext cx="624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deprotonating one of the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tons, one can distribute the charge onto three atoms and give a major resonance structure with the charge on the Oxygen (the third structure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Strength defined by pK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219320" y="1282680"/>
            <a:ext cx="7086600" cy="4592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on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3600"/>
            </a:br>
            <a:r>
              <a:rPr b="0" lang="en-US" sz="3600" spc="-1" strike="noStrike" u="sng">
                <a:solidFill>
                  <a:srgbClr val="009900"/>
                </a:solidFill>
                <a:uFillTx/>
                <a:latin typeface="Times New Roman"/>
              </a:rPr>
              <a:t>Arrhenius Acid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forms H</a:t>
            </a:r>
            <a:r>
              <a:rPr b="0" lang="en-US" sz="36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Bronsted-Lowry Acid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onates a H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wps.prenhall.com/wps/media/objects/340/348272/Instructor_Resources/Chapter_01/Text_Images/FG01_07-035UN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652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onance Stab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ronger Acid Controls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924680" cy="300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action Described with Arrows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Cl donates a proton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 accepts a pr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02p31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My Documents\My Pictures\Chapter 1\acid strengths.bmp"/>
          <p:cNvPicPr/>
          <p:nvPr/>
        </p:nvPicPr>
        <p:blipFill>
          <a:blip r:embed="rId1"/>
          <a:stretch/>
        </p:blipFill>
        <p:spPr>
          <a:xfrm>
            <a:off x="457200" y="41400"/>
            <a:ext cx="7620120" cy="675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8:50:37Z</dcterms:created>
  <dc:creator>WILLIAM PRICE</dc:creator>
  <dc:description/>
  <dc:language>en-US</dc:language>
  <cp:lastModifiedBy>LEGION</cp:lastModifiedBy>
  <dcterms:modified xsi:type="dcterms:W3CDTF">2017-01-26T09:10:41Z</dcterms:modified>
  <cp:revision>26</cp:revision>
  <dc:subject/>
  <dc:title>Acids and Bases</dc:title>
</cp:coreProperties>
</file>