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8.wmf" ContentType="image/x-wmf"/>
  <Override PartName="/ppt/media/image30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4.jpeg" ContentType="image/jpeg"/>
  <Override PartName="/ppt/media/image12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9.jpeg" ContentType="image/jpeg"/>
  <Override PartName="/ppt/media/image23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22D8-6765-48B2-B0A9-61A4F3B6E4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799-E577-4FE2-A1A8-C2B6EB4B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B73-8D15-43E0-BC84-47BFB315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948D-0BA2-49A5-B116-363B39CC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422-F8DA-4A43-9376-90763CA3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7DC-2162-45AF-9E22-345CD375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BBA-4311-43A6-BE0C-55A91DEF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8A2-1263-4B0B-82A5-911C97C8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D68-A373-44D3-891B-C2B93A9C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01F-F3AA-4107-8DC2-8504270E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BA9-164F-49B1-BC5F-5C9C3763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E9B-2BF7-403D-9B4A-655B2306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AAB-B756-4024-8764-5DCCE747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C405-62BE-4F88-AF07-ADBE3AFD0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763120" cy="6588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458200" cy="20080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772400" cy="11764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n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22482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ome Acid-Base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http://wps.prenhall.com/wps/media/objects/340/348272/Instructor_Resources/Chapter_01/Text_Images/FG01_07-038UN.JPG"/>
          <p:cNvPicPr/>
          <p:nvPr/>
        </p:nvPicPr>
        <p:blipFill>
          <a:blip r:embed="rId1"/>
          <a:stretch/>
        </p:blipFill>
        <p:spPr>
          <a:xfrm>
            <a:off x="533520" y="1400040"/>
            <a:ext cx="7696080" cy="54579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wps.prenhall.com/wps/media/objects/340/348272/Instructor_Resources/Chapter_01/Text_Images/FG01_07-052UN.JPG"/>
          <p:cNvPicPr/>
          <p:nvPr/>
        </p:nvPicPr>
        <p:blipFill>
          <a:blip r:embed="rId1"/>
          <a:stretch/>
        </p:blipFill>
        <p:spPr>
          <a:xfrm>
            <a:off x="1187280" y="0"/>
            <a:ext cx="6769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http://wps.prenhall.com/wps/media/objects/340/348272/Instructor_Resources/Chapter_01/Text_Images/FG01_07-053UN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06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Effect of Resonance on p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772400" cy="12589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Favors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248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772400" cy="28843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arboxylic Acids can be Separated from non-acidic Compoun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86960" cy="48135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153640" cy="3260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mation of a new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8160" cy="4572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wps.prenhall.com/wps/media/objects/340/348272/Instructor_Resources/Chapter_01/Text_Images/FG01_07-055UN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26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Lewis Base = </a:t>
            </a:r>
            <a:r>
              <a:rPr b="1" lang="en-US" sz="4400" spc="-1" strike="noStrike">
                <a:solidFill>
                  <a:srgbClr val="33cccc"/>
                </a:solidFill>
                <a:latin typeface="Times New Roman"/>
              </a:rPr>
              <a:t>Nucleophile</a:t>
            </a:r>
            <a:br>
              <a:rPr sz="4400"/>
            </a:b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Lewis Acid = </a:t>
            </a: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Electrop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Acid-Base Compl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58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1295280" y="3581280"/>
            <a:ext cx="7315200" cy="752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1295280" y="4876920"/>
            <a:ext cx="6934320" cy="6001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5358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29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Conjugate Base</a:t>
            </a:r>
            <a:br>
              <a:rPr sz="44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i.e. Which H is most acidic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458200" cy="2568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asuring Acid Strength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Rectangle 3"/>
          <p:cNvGrpSpPr/>
          <p:nvPr/>
        </p:nvGrpSpPr>
        <p:grpSpPr>
          <a:xfrm>
            <a:off x="0" y="2200320"/>
            <a:ext cx="9144000" cy="1542960"/>
            <a:chOff x="0" y="2200320"/>
            <a:chExt cx="9144000" cy="1542960"/>
          </a:xfrm>
        </p:grpSpPr>
        <p:pic>
          <p:nvPicPr>
            <p:cNvPr id="56" name="Rectangle 3" descr=""/>
            <p:cNvPicPr/>
            <p:nvPr/>
          </p:nvPicPr>
          <p:blipFill>
            <a:blip r:embed="rId1"/>
            <a:stretch/>
          </p:blipFill>
          <p:spPr>
            <a:xfrm>
              <a:off x="0" y="2200320"/>
              <a:ext cx="91440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2200320"/>
              <a:ext cx="9144000" cy="15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2362320" y="2362320"/>
            <a:ext cx="6248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deprotonating one of the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otons, one can distribute the charge onto three atoms and give a major resonance structure with the charge on the Oxygen (the third structure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Strength defined by pK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219320" y="1282680"/>
            <a:ext cx="7086600" cy="4592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ociation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3600"/>
            </a:br>
            <a:r>
              <a:rPr b="0" lang="en-US" sz="3600" spc="-1" strike="noStrike" u="sng">
                <a:solidFill>
                  <a:srgbClr val="009900"/>
                </a:solidFill>
                <a:uFillTx/>
                <a:latin typeface="Times New Roman"/>
              </a:rPr>
              <a:t>Arrhenius Acid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forms H</a:t>
            </a:r>
            <a:r>
              <a:rPr b="0" lang="en-US" sz="36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0" lang="en-US" sz="36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br>
              <a:rPr sz="3600"/>
            </a:b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Bronsted-Lowry Acid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donates a H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http://wps.prenhall.com/wps/media/objects/340/348272/Instructor_Resources/Chapter_01/Text_Images/FG01_07-035UN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652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onance Stab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276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tronger Acid Controls 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7924680" cy="30067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action Described with Arrows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Cl donates a proton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 accepts a pro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02p31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My Documents\My Pictures\Chapter 1\acid strengths.bmp"/>
          <p:cNvPicPr/>
          <p:nvPr/>
        </p:nvPicPr>
        <p:blipFill>
          <a:blip r:embed="rId1"/>
          <a:stretch/>
        </p:blipFill>
        <p:spPr>
          <a:xfrm>
            <a:off x="457200" y="41400"/>
            <a:ext cx="7620120" cy="6751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8:50:37Z</dcterms:created>
  <dc:creator>WILLIAM PRICE</dc:creator>
  <dc:description/>
  <dc:language>en-US</dc:language>
  <cp:lastModifiedBy>LEGION</cp:lastModifiedBy>
  <dcterms:modified xsi:type="dcterms:W3CDTF">2017-01-26T09:10:41Z</dcterms:modified>
  <cp:revision>26</cp:revision>
  <dc:subject/>
  <dc:title>Acids and Bases</dc:title>
</cp:coreProperties>
</file>