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ive the names of the follow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 HBr (aq)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bromic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bromous ac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 H2C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 hydro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 carbon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 nonoxy acid begins with the prefix hydro- and ends with -ic acid. In a nonoxy acid, the negative anion end in -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H2C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arbon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an oxyacid is named with the stem of the anion (carbonate) chang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g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______  Al(OH)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umin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ch the formulas with th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4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5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2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3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AB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A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, Bas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S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Cl2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tassiui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(OH)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r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brom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onsted-Lowry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are hydrogen ion (H+)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are hydrogen ion (H+)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          +      H2O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H3O+         +       Cl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onor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cepto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+                  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rhenius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s produce H+ in aqueous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H+(aq)  +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 produce OH- in aqueous solution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a+(aq)  +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H+ (as H3O+)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a negative ion (-)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sour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 met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bases to form salts and 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OH-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te bitter, cha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electrol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 soapy, slipp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 with acids to form salts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olution in each of the following as: 1) acid   2) base  or 3)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__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__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__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__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__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_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ach solution a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cid   2) base  or 3)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_1_  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_2_  so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_1_  coff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_1_ 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_3_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 _1_ grape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 Check A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1.  Sour ta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2.  Produces OH- in aqueous solution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3. 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4. 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 5. 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B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each as a characteristic of an A) acid  or B)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1. Sour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2. Produces OH- in aqueous solutions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B_  3. Chalky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 B  4. Is an electrol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A_  5. Produces H+ in aqueous sol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chl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t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P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ospho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lfur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3COOH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e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EDCE-B35B-42D2-8B6F-55C35B1A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5BF-1F83-40BE-B724-3D71AC30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76B-DB63-4115-B67B-0DAF388C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13C-D50B-44B5-B695-7B03E725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5D8C-0ECA-46D4-AE7D-FD1001F0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1AA-D5F5-4FC6-82DF-0DA4DC8C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B53-1317-4F40-B53A-B6FDE3DC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136B-84C5-4D2D-BA36-2874C5E3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04E-B05D-4A1E-A76F-2B2861E7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0D6-B272-4C6A-A968-AA9D116E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491-EBFA-41A1-A457-1974F76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6E6-0D6F-4460-A9D1-176BB34A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4540-5FBC-4864-B6E4-96AE93D07911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Give the names of the following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HBr 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bromic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bromous acid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.  hydro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 carbon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. 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 nonoxy acid begins with the prefix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ends wit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-ic acid.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 a nonoxy acid, the negative anion end in -</a:t>
            </a:r>
            <a:r>
              <a:rPr b="1" i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ide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.</a:t>
            </a:r>
            <a:r>
              <a:rPr b="1" i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 carbon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name of an oxyacid is named with the stem of the anion (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carbonat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hanged to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Al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umin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___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9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atch the formulas with the name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4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ydrochlo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5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sod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) nitrous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5) calc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36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5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_____________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_______________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80880" y="1905120"/>
            <a:ext cx="8382240" cy="53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cid, Base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Nam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r Sal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  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lcium chlor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tassiui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ium hydroxid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B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ydrobrom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ic acid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Oval 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Oval 3"/>
          <p:cNvSpPr/>
          <p:nvPr/>
        </p:nvSpPr>
        <p:spPr>
          <a:xfrm>
            <a:off x="6248520" y="51055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Oval 4"/>
          <p:cNvSpPr/>
          <p:nvPr/>
        </p:nvSpPr>
        <p:spPr>
          <a:xfrm>
            <a:off x="2743200" y="4952880"/>
            <a:ext cx="3808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3429000" y="50292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onsted-Lowry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on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are hydrogen ion (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acceptor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         +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+     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donor         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acceptor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9900"/>
                </a:solidFill>
                <a:latin typeface="Arial"/>
              </a:rPr>
              <a:t>      +                   -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3962520" y="3733920"/>
            <a:ext cx="106668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533520" y="4724280"/>
            <a:ext cx="76176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971800" y="4419720"/>
            <a:ext cx="762120" cy="7617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343400" y="4876920"/>
            <a:ext cx="6094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5715000" y="4495680"/>
            <a:ext cx="762120" cy="7621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5715000" y="4343400"/>
            <a:ext cx="3808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7772400" y="4419720"/>
            <a:ext cx="762120" cy="838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rhenius 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ids 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  + Cl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00ffff"/>
              </a:buClr>
              <a:buSzPct val="11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ses 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water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NaOH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Na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  +  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438280" y="312408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2514600" y="5791320"/>
            <a:ext cx="16765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(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a negative ion (-) to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sour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rrode metals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MS LineDraw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bases to form salts and wa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Object 4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0574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roduce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ons in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aste bitter, chalk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re electrolyt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eel soapy, slippery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cc6600"/>
              </a:buClr>
              <a:buSzPct val="13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act with acids to form salts and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Object 6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99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the solution in each of the following as: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___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___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___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___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___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___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scribe each solution as: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acid   2) base  or 3)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da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2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soap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coffe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in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E.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3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.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_1_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grapefrui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 Check AB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dentify each as characteristic of an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A) acid  or B) bas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1.  Sour tast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2.  Produce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3.  Chalky tas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4.  Is an electroly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_ 5.  Produces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aqueous solution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2193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AB2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as a characteristic of an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A) acid  or B)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1. Sour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. Produces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3. Chalky tas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, B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Is an electroly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5. Produces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n aqueous solution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Common 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hydr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hlo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9840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itr</a:t>
            </a:r>
            <a:r>
              <a:rPr b="1" lang="en-US" sz="30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ospho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ulfur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C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OH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et</a:t>
            </a:r>
            <a:r>
              <a:rPr b="1" lang="en-US" sz="3400" spc="-1" strike="noStrike">
                <a:solidFill>
                  <a:srgbClr val="99ff33"/>
                </a:solidFill>
                <a:latin typeface="Arial"/>
              </a:rPr>
              <a:t>ic acid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1:59:49Z</dcterms:created>
  <dc:creator>Karen Timberlake</dc:creator>
  <dc:description/>
  <dc:language>en-US</dc:language>
  <cp:lastModifiedBy>LEGION</cp:lastModifiedBy>
  <dcterms:modified xsi:type="dcterms:W3CDTF">2017-01-26T09:09:07Z</dcterms:modified>
  <cp:revision>12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