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9F22-0D48-460A-B8C4-2992B626E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DE9D-7F0A-4415-A2CB-B3DE682FF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09D4-2AF6-472C-A72C-F3B5DC16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52655-0A2A-439F-801B-905EB0BB0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8648E-0F10-470F-BC4B-C7A5B4C2B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95CA9-70B3-40A4-A8B4-EE4BAA968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4C5AE-B5CB-4619-9EED-FFDBBDD89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447C3-7F0E-46B7-80FC-E3085A53C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F31D4-5E93-4B67-8D1D-EAD2469C1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8318D-BE4B-450E-B636-1F272A8FF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9C43A-756F-4C74-A3AC-0D7206C07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956C2-D216-487B-8AB2-03D2608D0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D315-4D47-4ECA-A4C2-7693B9E6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8077-8591-442B-80C4-CE1140348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6263-A3E7-41C7-B448-CB8611601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3F1DC-427B-4DAC-81AD-9F564B962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69BE5-8AF3-441A-8729-F4AEAD174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4F097-2358-4C5F-B6AF-70FFEEF62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3115-8F5B-45D6-9914-4F1557FC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C993C-C8A1-487C-9980-41D400D77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1533-F53E-4B23-8CB7-461256FB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20E68-5D2E-4015-95C5-026C8EC2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B1843-3797-42A1-BD0E-0F71B809E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14ED-9733-4C42-B1E4-8163B568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9BFD-F48E-4AAD-B7B2-F76F65FD8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316C-08FC-4F58-B46A-3214CA791497}" type="datetime2">
              <a:rPr b="0" lang="ur-PK" sz="1400" spc="-1" strike="noStrike">
                <a:solidFill>
                  <a:srgbClr val="000000"/>
                </a:solidFill>
                <a:latin typeface="Times New Roman"/>
              </a:rPr>
              <a:t>جمعہ, 31,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634B-777F-4B02-96AA-68DF8EE59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2A4C-3074-4E25-A95C-9ACB01AF55AE}" type="datetime2">
              <a:rPr b="0" lang="ur-PK" sz="1400" spc="-1" strike="noStrike">
                <a:solidFill>
                  <a:srgbClr val="ffffff"/>
                </a:solidFill>
                <a:latin typeface="Times New Roman"/>
              </a:rPr>
              <a:t>جمعہ, 31,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4A32-E35F-4299-A632-95C5FE1462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