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099A-F52F-4707-BADA-B8353C443D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21C-F3D4-4CC1-9D01-2C44DB6C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70F-1730-42ED-9951-D8A2D224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644-A3F8-4A18-BAA3-08321918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8D5-234D-4C93-9556-A030FEAF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436-39C3-4D75-9556-2D899591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87B-950D-4116-B6B7-35CED76D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961-2886-4932-8C3F-9F7DD991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491-4606-47B0-9CE0-A1745C64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445-3EA6-48C7-BCAF-691CAB90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DE2-1F18-4446-ABBA-9D3540DB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DE3-6408-4587-9E5C-7D18B81C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3D2-6227-4F71-9F4B-D5DEC8F2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E249-D598-4D00-B9D6-571B68039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LEGION</cp:lastModifiedBy>
  <dcterms:modified xsi:type="dcterms:W3CDTF">2017-01-26T09:43:13Z</dcterms:modified>
  <cp:revision>10</cp:revision>
  <dc:subject/>
  <dc:title>Simple way to remember ions</dc:title>
</cp:coreProperties>
</file>