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FB46-5BCA-4C7B-9626-31A3EAF2B3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7FD-AB08-46C4-A888-05149877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BD8-B9EB-42E9-94AA-E3BAC2E7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615-E657-4259-ADA3-28AF960F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6BB-6C12-4E93-81C2-61C77D04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F4C-454C-4330-B7E1-EA4823BB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E23-3246-4114-96F4-87F3AA3B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724-C54C-4AA9-BE6A-6739BDB7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08C-0D40-41B8-AC3F-4CC8A3CD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055-C2D8-4242-A936-3BB1254F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25A-7104-4B5C-B3FA-9ACF086D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6CC-56F5-47C9-95DF-5C4910C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532-C6BA-40AA-8D03-A7AF3A63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6413-E9F3-4B71-8843-AF29F4B52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LEGION</cp:lastModifiedBy>
  <dcterms:modified xsi:type="dcterms:W3CDTF">2017-01-26T09:43:13Z</dcterms:modified>
  <cp:revision>10</cp:revision>
  <dc:subject/>
  <dc:title>Simple way to remember ions</dc:title>
</cp:coreProperties>
</file>