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HM 10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inex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FF4A7-166D-40A0-AB64-302E106F84C8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Acids and Bas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PGCC CHM 101 Sinex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9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cids and Bas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GCC CHM 101 Sinex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0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cids and Bas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GCC CHM 101 Sinex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1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cids and Bas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GCC CHM 101 Sinex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+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eak Aci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artial dissociation of H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ould the solution be conductive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4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+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eak Aci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artial dissociation of H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ould the solution be conductive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5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+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eak Aci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artial dissociation of H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ould the solution be conductive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6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+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eak Aci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artial dissociation of H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ould the solution be conductive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+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eak Aci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A    H+   +   A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t any one time, only a fraction of the molecules are dissociated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9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+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eak Aci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A    H+   +   A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t any one time, only a fraction of the molecules are dissociated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0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+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eak Aci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A    H+   +   A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t any one time, only a fraction of the molecules are dissociated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1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+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eak Aci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A    H+   +   A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t any one time, only a fraction of the molecules are dissociated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Strong and Weak Acids/Bas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Strong acids/bases – 100% dissociation into io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HCl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NaO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HNO3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KO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H2SO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Weak acids/bases – partial dissociation, 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both ions and molecul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CH3COOH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NH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4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trong and Weak Acids/Bas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trong acids/bases – 100% dissociation into io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Cl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aO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NO3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KO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2SO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eak acids/bases – partial dissociation,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oth ions and molecul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H3COOH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H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5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trong and Weak Acids/Bas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trong acids/bases – 100% dissociation into io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Cl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aO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NO3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KO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2SO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eak acids/bases – partial dissociation,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oth ions and molecul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H3COOH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H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6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trong and Weak Acids/Bas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trong acids/bases – 100% dissociation into io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Cl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aO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NO3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KO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2SO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eak acids/bases – partial dissociation,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oth ions and molecul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H3COOH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H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p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neutral @ 25o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(H+) = (OH-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distilled wat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acidi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(H+) &gt; (OH-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basic or alkalin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(H+) &lt; (OH-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natural waters pH = 6.5 - 8.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normal rain (CO2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pH = 5.3 – 5.7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acid rain (NOx, SOx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pH of 4.2 - 4.4 in Washington DC are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0-14 scale for the chemist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fish populatio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drop off pH &lt; 6 and to zero pH &lt; 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9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eutral @ 25o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(H+) = (OH-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istilled wat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cidi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(H+) &gt; (OH-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asic or alkalin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(H+) &lt; (OH-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atural waters pH = 6.5 - 8.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ormal rain (CO2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H = 5.3 – 5.7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cid rain (NOx, SOx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H of 4.2 - 4.4 in Washington DC are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-14 scale for the chemist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ish populatio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rop off pH &lt; 6 and to zero pH &lt; 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0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eutral @ 25o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(H+) = (OH-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istilled wat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cidi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(H+) &gt; (OH-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asic or alkalin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(H+) &lt; (OH-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atural waters pH = 6.5 - 8.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ormal rain (CO2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H = 5.3 – 5.7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cid rain (NOx, SOx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H of 4.2 - 4.4 in Washington DC are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-14 scale for the chemist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ish populatio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rop off pH &lt; 6 and to zero pH &lt; 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1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eutral @ 25o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(H+) = (OH-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istilled wat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cidi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(H+) &gt; (OH-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asic or alkalin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(H+) &lt; (OH-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atural waters pH = 6.5 - 8.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ormal rain (CO2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H = 5.3 – 5.7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cid rain (NOx, SOx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H of 4.2 - 4.4 in Washington DC are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-14 scale for the chemist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ish populatio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rop off pH &lt; 6 and to zero pH &lt; 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You are here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ttp://nadp.sws.uiuc.edu/isopleth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H of Rainwat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cross United States in 200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hy is the eastern US more acidic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ir mass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4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You are here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ttp://nadp.sws.uiuc.edu/isopleth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H of Rainwat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cross United States in 200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hy is the eastern US more acidic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ir mass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5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You are here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ttp://nadp.sws.uiuc.edu/isopleth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H of Rainwat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cross United States in 200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hy is the eastern US more acidic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ir mass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6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You are here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ttp://nadp.sws.uiuc.edu/isopleth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H of Rainwat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cross United States in 200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hy is the eastern US more acidic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ir mass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What is acid rain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CO2 (g)  +   H2O    H2CO3    H+  +  HCO3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Dissolved carbon dioxide lowers the p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Atmospheric pollutants from combus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NO, NO2  +   H2O  …     HNO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SO2, SO3   +   H2O …    H2SO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bot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strong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aci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pH &lt; 5.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9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hat is acid rain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O2 (g)  +   H2O    H2CO3    H+  +  HCO3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issolved carbon dioxide lowers the p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tmospheric pollutants from combus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O, NO2  +   H2O  …     HNO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O2, SO3   +   H2O …    H2SO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ot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trong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ci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H &lt; 5.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0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hat is acid rain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O2 (g)  +   H2O    H2CO3    H+  +  HCO3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issolved carbon dioxide lowers the p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tmospheric pollutants from combus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O, NO2  +   H2O  …     HNO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O2, SO3   +   H2O …    H2SO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ot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trong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ci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H &lt; 5.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1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hat is acid rain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O2 (g)  +   H2O    H2CO3    H+  +  HCO3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issolved carbon dioxide lowers the p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tmospheric pollutants from combus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O, NO2  +   H2O  …     HNO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O2, SO3   +   H2O …    H2SO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ot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trong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ci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H &lt; 5.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Behavior of oxides in water– Group 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amphoteri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acidi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3A  4A  5A  6A  7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1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2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8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Group 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basic:   Na2O  +   H2O    2NaO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(O-2  +  H2O    2OH-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acidic:  CO2   +   H2O    H2CO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4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ehavior of oxides in water– Group 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mphoteri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cidi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A  4A  5A  6A  7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8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roup 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asic:   Na2O  +   H2O    2NaO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(O-2  +  H2O    2OH-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cidic:  CO2   +   H2O    H2CO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5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ehavior of oxides in water– Group 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mphoteri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cidi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A  4A  5A  6A  7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8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roup 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asic:   Na2O  +   H2O    2NaO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(O-2  +  H2O    2OH-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cidic:  CO2   +   H2O    H2CO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6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ehavior of oxides in water– Group 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mphoteri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cidi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A  4A  5A  6A  7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8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roup 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asic:   Na2O  +   H2O    2NaO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(O-2  +  H2O    2OH-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cidic:  CO2   +   H2O    H2CO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hen life goes either wa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mphoteric (amphiprotic) substanc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CO3-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2CO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O3-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cting like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 bas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cting like an aci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ccepts H+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onates H+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9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hen life goes either wa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mphoteric (amphiprotic) substanc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CO3-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2CO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O3-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cting like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 bas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cting like an aci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ccepts H+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onates H+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0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hen life goes either wa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mphoteric (amphiprotic) substanc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CO3-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2CO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O3-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cting like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 bas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cting like an aci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ccepts H+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onates H+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1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hen life goes either wa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mphoteric (amphiprotic) substanc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CO3-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2CO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O3-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cting like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 bas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cting like an aci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ccepts H+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onates H+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p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The biological view in the human bod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gastric juic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vaginal flui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urin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saliv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cerebrospinal flui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bloo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pancreatic juic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bil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acidi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basic/alkalin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Tortora &amp; Grabowski, Prin. of Anatomy &amp; Physiology, 10th ed., Wiley (2003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4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biological view in the human bod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astric juic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vaginal flui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urin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aliv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erebrospinal flui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loo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ancreatic juic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il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cidi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asic/alkalin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ortora &amp; Grabowski, Prin. of Anatomy &amp; Physiology, 10th ed., Wiley (2003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5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biological view in the human bod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astric juic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vaginal flui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urin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aliv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erebrospinal flui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loo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ancreatic juic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il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cidi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asic/alkalin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ortora &amp; Grabowski, Prin. of Anatomy &amp; Physiology, 10th ed., Wiley (2003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6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biological view in the human bod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astric juic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vaginal flui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urin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aliv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erebrospinal flui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loo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ancreatic juic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il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cidi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asic/alkalin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ortora &amp; Grabowski, Prin. of Anatomy &amp; Physiology, 10th ed., Wiley (2003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oes the pH influence the activity of an enzyme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rypsin is a digestive enzyme. Where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ntestinal pH range 7.0-8.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9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oes the pH influence the activity of an enzyme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rypsin is a digestive enzyme. Where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ntestinal pH range 7.0-8.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0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oes the pH influence the activity of an enzyme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rypsin is a digestive enzyme. Where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ntestinal pH range 7.0-8.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1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oes the pH influence the activity of an enzyme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rypsin is a digestive enzyme. Where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ntestinal pH range 7.0-8.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eneral properti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CI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aste sou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urn litmu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eact with active metals – Fe, Z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eact with bas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AS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aste bitt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urn litmu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eel soapy or slippery (react with fats to make soap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eact with aci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lue to re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ed to blu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4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eneral properti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CI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aste sou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urn litmu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eact with active metals – Fe, Z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eact with bas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AS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aste bitt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urn litmu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eel soapy or slippery (react with fats to make soap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eact with aci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lue to re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ed to blu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5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eneral properti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CI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aste sou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urn litmu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eact with active metals – Fe, Z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eact with bas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AS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aste bitt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urn litmu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eel soapy or slippery (react with fats to make soap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eact with aci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lue to re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ed to blu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6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eneral properti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CI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aste sou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urn litmu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eact with active metals – Fe, Z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eact with bas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AS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aste bitt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urn litmu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eel soapy or slippery (react with fats to make soap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eact with aci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lue to re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ed to blu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amino acid glycine - amphoteri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t’s an acid and a base!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Loss of H+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ain of H+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2N-CH2-COO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3N+-CH2-COO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2N-CH2-COO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hime structur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4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amino acid glycine - amphoteri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t’s an acid and a base!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Loss of H+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ain of H+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2N-CH2-COO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3N+-CH2-COO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2N-CH2-COO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hime structur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5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amino acid glycine - amphoteri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t’s an acid and a base!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Loss of H+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ain of H+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2N-CH2-COO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3N+-CH2-COO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2N-CH2-COO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hime structur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6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amino acid glycine - amphoteri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t’s an acid and a base!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Loss of H+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ain of H+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2N-CH2-COO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3N+-CH2-COO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2N-CH2-COO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hime structur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The amino acid glycine - Zwitterion formation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Transfer of H+  from carboxylic acid group to amine group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H2N-CH2-COO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H3N+-CH2-COO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A dipolar ion form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intramolecular acid-base reac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Chime structur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9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amino acid glycine - Zwitterion formation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ransfer of H+  from carboxylic acid group to amine group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2N-CH2-COO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3N+-CH2-COO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 dipolar ion form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ntramolecular acid-base reac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hime structur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0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amino acid glycine - Zwitterion formation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ransfer of H+  from carboxylic acid group to amine group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2N-CH2-COO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3N+-CH2-COO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 dipolar ion form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ntramolecular acid-base reac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hime structur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1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amino acid glycine - Zwitterion formation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ransfer of H+  from carboxylic acid group to amine group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2N-CH2-COO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3N+-CH2-COO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 dipolar ion form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ntramolecular acid-base reac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hime structur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how how water can be amphoteric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2O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4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how how water can be amphoteric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2O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5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how how water can be amphoteric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2O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6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how how water can be amphoteric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2O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Dilu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water (solvent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solut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concentrated, Minitia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diluted, Mfina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adding water lowers the solute concentr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moles of solute remain constan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Vinitia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Vfina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molesinitial =  molesfina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Mfinal x Vfinal = Minitial x Vinitia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9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ilu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ater (solvent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olut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oncentrated, Minitia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iluted, Mfina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dding water lowers the solute concentr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oles of solute remain constan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Vinitia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Vfina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olesinitial =  molesfina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final x Vfinal = Minitial x Vinitia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0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ilu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ater (solvent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olut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oncentrated, Minitia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iluted, Mfina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dding water lowers the solute concentr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oles of solute remain constan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Vinitia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Vfina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olesinitial =  molesfina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final x Vfinal = Minitial x Vinitia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1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ilu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ater (solvent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olut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oncentrated, Minitia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iluted, Mfina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dding water lowers the solute concentr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oles of solute remain constan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Vinitia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Vfina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olesinitial =  molesfina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final x Vfinal = Minitial x Vinitia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Titration Calcul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HCl   +   NaOH            NaCl   +   HO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at equivalence point: moleHCl = moleNaO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moles = M x V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Macid x Vinitial acid = Mbase x Vburet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A way to analyze solutions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indicato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4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itration Calcul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Cl   +   NaOH            NaCl   +   HO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t equivalence point: moleHCl = moleNaO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oles = M x V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acid x Vinitial acid = Mbase x Vburet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 way to analyze solutions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ndicato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5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itration Calcul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Cl   +   NaOH            NaCl   +   HO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t equivalence point: moleHCl = moleNaO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oles = M x V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acid x Vinitial acid = Mbase x Vburet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 way to analyze solutions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ndicato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6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itration Calcul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Cl   +   NaOH            NaCl   +   HO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t equivalence point: moleHCl = moleNaO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oles = M x V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acid x Vinitial acid = Mbase x Vburet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 way to analyze solutions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ndicato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Definitio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Acids – produce H+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Bases - produce OH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Acids – donate H+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Bases – accept H+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Acids – accept e- pai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Bases – donate e- pair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Arreheniu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Bronsted-Lowr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Lewi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only in wat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any solven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used in organic chemistry,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wider range of substanc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9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efinitio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cids – produce H+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ases - produce OH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cids – donate H+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ases – accept H+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cids – accept e- pai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ases – donate e- pair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rreheniu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ronsted-Lowr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Lewi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only in wat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ny solven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used in organic chemistry,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ider range of substanc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0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efinitio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cids – produce H+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ases - produce OH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cids – donate H+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ases – accept H+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cids – accept e- pai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ases – donate e- pair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rreheniu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ronsted-Lowr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Lewi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only in wat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ny solven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used in organic chemistry,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ider range of substanc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1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efinitio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cids – produce H+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ases - produce OH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cids – donate H+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ases – accept H+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cids – accept e- pai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ases – donate e- pair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rreheniu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ronsted-Lowr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Lewi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only in wat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ny solven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used in organic chemistry,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ider range of substanc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Exampl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Arrheniu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Bronsted-Lowr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Lewi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HC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NaO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HC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NH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:NH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BF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HC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The hydrogen ion in aqueous solu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H+   +   H2O      H3O+    (hydronium ion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4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xampl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rrheniu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ronsted-Lowr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Lewi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C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aO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C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H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:NH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F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C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hydrogen ion in aqueous solu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+   +   H2O      H3O+    (hydronium ion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5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xampl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rrheniu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ronsted-Lowr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Lewi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C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aO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C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H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:NH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F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C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hydrogen ion in aqueous solu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+   +   H2O      H3O+    (hydronium ion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6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xampl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rrheniu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ronsted-Lowr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Lewi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C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aO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C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H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:NH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F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C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hydrogen ion in aqueous solu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+   +   H2O      H3O+    (hydronium ion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Bronsted-Lowry Concep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onjugate pair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Cl     Cl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H3COOH    CH3COO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H4+     NH3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NO3   NO3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ow does a conjugate pair differ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+ transf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9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Bronsted-Lowry Concep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onjugate pair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Cl     Cl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H3COOH    CH3COO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H4+     NH3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NO3   NO3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ow does a conjugate pair differ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+ transf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0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Bronsted-Lowry Concep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onjugate pair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Cl     Cl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H3COOH    CH3COO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H4+     NH3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NO3   NO3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ow does a conjugate pair differ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+ transf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1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Bronsted-Lowry Concep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onjugate pair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Cl     Cl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H3COOH    CH3COO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H4+     NH3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NO3   NO3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ow does a conjugate pair differ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+ transf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Neutraliz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In general:  Acid   +   Base     Salt   +  Wat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All neutralization reactions are double displacement reaction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HCl   +   NaOH        NaCl   +   HO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HCl   +   Mg(OH)2   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H2SO4   +   NaHCO3  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4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eutraliz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n general:  Acid   +   Base     Salt   +  Wat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ll neutralization reactions are double displacement reaction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Cl   +   NaOH        NaCl   +   HO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Cl   +   Mg(OH)2   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2SO4   +   NaHCO3  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5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eutraliz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n general:  Acid   +   Base     Salt   +  Wat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ll neutralization reactions are double displacement reaction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Cl   +   NaOH        NaCl   +   HO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Cl   +   Mg(OH)2   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2SO4   +   NaHCO3  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6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eutraliz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n general:  Acid   +   Base     Salt   +  Wat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ll neutralization reactions are double displacement reaction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Cl   +   NaOH        NaCl   +   HO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Cl   +   Mg(OH)2   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2SO4   +   NaHCO3  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2O      H+   +   OH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oes pure water conduct electrical current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(H+)(OH-) = 10-1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or pure water:  (H+)  =  (OH-)  = 10-7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is is neutrality and at 25oC is a pH = 7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ater is a very, very, very weak electrolyt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ow are (H+) and (OH-) related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at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9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2O      H+   +   OH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oes pure water conduct electrical current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(H+)(OH-) = 10-1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or pure water:  (H+)  =  (OH-)  = 10-7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is is neutrality and at 25oC is a pH = 7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ater is a very, very, very weak electrolyt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ow are (H+) and (OH-) related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at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0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2O      H+   +   OH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oes pure water conduct electrical current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(H+)(OH-) = 10-1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or pure water:  (H+)  =  (OH-)  = 10-7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is is neutrality and at 25oC is a pH = 7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ater is a very, very, very weak electrolyt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ow are (H+) and (OH-) related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at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1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2O      H+   +   OH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oes pure water conduct electrical current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(H+)(OH-) = 10-1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or pure water:  (H+)  =  (OH-)  = 10-7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is is neutrality and at 25oC is a pH = 7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ater is a very, very, very weak electrolyt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ow are (H+) and (OH-) related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at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Let’s examine the behavior of an acid, HA, in aqueous solution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hat happens to the HA molecules in solution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3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Let’s examine the behavior of an acid, HA, in aqueous solution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hat happens to the HA molecules in solution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Let’s examine the behavior of an acid, HA, in aqueous solution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hat happens to the HA molecules in solution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Let’s examine the behavior of an acid, HA, in aqueous solution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hat happens to the HA molecules in solution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+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trong Aci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00% dissociation of H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ould the solution be conductive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9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+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trong Aci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00% dissociation of H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ould the solution be conductive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0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+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trong Aci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00% dissociation of H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ould the solution be conductive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1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+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trong Aci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00% dissociation of H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ould the solution be conductive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700D2-8D0C-46C0-85CB-EAD6E48E7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9F94C-7DD4-49AE-B9E1-6B836437D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8DEA3-74BC-412F-BBD9-8D84C15CB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B55DE-78FE-4A52-A91B-8535E10C3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C8CEE-7E71-4C0E-A04B-1B45CFDD3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E0B7A-5066-44A0-91FF-CF3D54F48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A0D87-7221-459C-A3D2-EF9915CB9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2F6CB-251F-4B08-8D2A-E6B8EBDFC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BDE8F-2576-4DC4-8161-B25BAC811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F029B-5AC4-44A2-AC75-08F0AEBD0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BEF2C-C22B-4E78-A69E-58794F939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A3286-C6E0-46A4-815F-38E86A189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88FCF-833D-417E-88E4-4BD8218C52BD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99ff"/>
                </a:solidFill>
                <a:latin typeface="Comic Sans MS"/>
              </a:rPr>
              <a:t>Acids and Bases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480024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GCC CHM 101 Sinex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102,-1)"/>
                                      </p:to>
                                    </p:set>
                                    <p:set>
                                      <p:cBhvr>
                                        <p:cTn id="7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102,-1)"/>
                                      </p:to>
                                    </p:set>
                                    <p:set>
                                      <p:cBhvr>
                                        <p:cTn id="8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AutoShape 2"/>
          <p:cNvSpPr/>
          <p:nvPr/>
        </p:nvSpPr>
        <p:spPr>
          <a:xfrm>
            <a:off x="2743200" y="1295280"/>
            <a:ext cx="3657600" cy="4876920"/>
          </a:xfrm>
          <a:prstGeom prst="can">
            <a:avLst>
              <a:gd name="adj" fmla="val 11263"/>
            </a:avLst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" name="Oval 3"/>
          <p:cNvSpPr/>
          <p:nvPr/>
        </p:nvSpPr>
        <p:spPr>
          <a:xfrm rot="2418000">
            <a:off x="3790800" y="3020760"/>
            <a:ext cx="38124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Oval 4"/>
          <p:cNvSpPr/>
          <p:nvPr/>
        </p:nvSpPr>
        <p:spPr>
          <a:xfrm rot="2418000">
            <a:off x="3676320" y="2990880"/>
            <a:ext cx="152280" cy="15228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" name="Oval 5"/>
          <p:cNvSpPr/>
          <p:nvPr/>
        </p:nvSpPr>
        <p:spPr>
          <a:xfrm rot="2395200">
            <a:off x="4419720" y="3886200"/>
            <a:ext cx="38088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" name="Oval 6"/>
          <p:cNvSpPr/>
          <p:nvPr/>
        </p:nvSpPr>
        <p:spPr>
          <a:xfrm rot="2395200">
            <a:off x="4362120" y="3602160"/>
            <a:ext cx="152280" cy="15228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Oval 7"/>
          <p:cNvSpPr/>
          <p:nvPr/>
        </p:nvSpPr>
        <p:spPr>
          <a:xfrm rot="20466600">
            <a:off x="2966760" y="3327480"/>
            <a:ext cx="38088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" name="Oval 8"/>
          <p:cNvSpPr/>
          <p:nvPr/>
        </p:nvSpPr>
        <p:spPr>
          <a:xfrm rot="20466600">
            <a:off x="2841480" y="3563640"/>
            <a:ext cx="152640" cy="15228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" name="Oval 9"/>
          <p:cNvSpPr/>
          <p:nvPr/>
        </p:nvSpPr>
        <p:spPr>
          <a:xfrm rot="6787800">
            <a:off x="4114440" y="2361960"/>
            <a:ext cx="38088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" name="Oval 10"/>
          <p:cNvSpPr/>
          <p:nvPr/>
        </p:nvSpPr>
        <p:spPr>
          <a:xfrm rot="6787800">
            <a:off x="4116240" y="2057040"/>
            <a:ext cx="152280" cy="15264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Oval 11"/>
          <p:cNvSpPr/>
          <p:nvPr/>
        </p:nvSpPr>
        <p:spPr>
          <a:xfrm rot="7019400">
            <a:off x="5146200" y="3647880"/>
            <a:ext cx="380880" cy="3812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Oval 12"/>
          <p:cNvSpPr/>
          <p:nvPr/>
        </p:nvSpPr>
        <p:spPr>
          <a:xfrm rot="7019400">
            <a:off x="5347800" y="3507840"/>
            <a:ext cx="152640" cy="15264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Oval 13"/>
          <p:cNvSpPr/>
          <p:nvPr/>
        </p:nvSpPr>
        <p:spPr>
          <a:xfrm rot="13236000">
            <a:off x="3827160" y="5511960"/>
            <a:ext cx="38088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" name="Oval 14"/>
          <p:cNvSpPr/>
          <p:nvPr/>
        </p:nvSpPr>
        <p:spPr>
          <a:xfrm rot="13236000">
            <a:off x="4168080" y="5770080"/>
            <a:ext cx="152280" cy="15264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Oval 15"/>
          <p:cNvSpPr/>
          <p:nvPr/>
        </p:nvSpPr>
        <p:spPr>
          <a:xfrm rot="18126000">
            <a:off x="5297400" y="4963680"/>
            <a:ext cx="381240" cy="3812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" name="Oval 16"/>
          <p:cNvSpPr/>
          <p:nvPr/>
        </p:nvSpPr>
        <p:spPr>
          <a:xfrm rot="18126000">
            <a:off x="5302080" y="5324400"/>
            <a:ext cx="152640" cy="15264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" name="Oval 17"/>
          <p:cNvSpPr/>
          <p:nvPr/>
        </p:nvSpPr>
        <p:spPr>
          <a:xfrm rot="3561600">
            <a:off x="3238560" y="5094000"/>
            <a:ext cx="38088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" name="Oval 18"/>
          <p:cNvSpPr/>
          <p:nvPr/>
        </p:nvSpPr>
        <p:spPr>
          <a:xfrm rot="3561600">
            <a:off x="3184200" y="4997520"/>
            <a:ext cx="152280" cy="15228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" name="Oval 19"/>
          <p:cNvSpPr/>
          <p:nvPr/>
        </p:nvSpPr>
        <p:spPr>
          <a:xfrm rot="18023400">
            <a:off x="5371920" y="2371680"/>
            <a:ext cx="38088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" name="Oval 20"/>
          <p:cNvSpPr/>
          <p:nvPr/>
        </p:nvSpPr>
        <p:spPr>
          <a:xfrm rot="18023400">
            <a:off x="5383080" y="2734560"/>
            <a:ext cx="152280" cy="15264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" name="Oval 21"/>
          <p:cNvSpPr/>
          <p:nvPr/>
        </p:nvSpPr>
        <p:spPr>
          <a:xfrm>
            <a:off x="4495680" y="5181480"/>
            <a:ext cx="381240" cy="3812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" name="Oval 22"/>
          <p:cNvSpPr/>
          <p:nvPr/>
        </p:nvSpPr>
        <p:spPr>
          <a:xfrm>
            <a:off x="4343400" y="5334120"/>
            <a:ext cx="152280" cy="15228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" name="Oval 23"/>
          <p:cNvSpPr/>
          <p:nvPr/>
        </p:nvSpPr>
        <p:spPr>
          <a:xfrm rot="6916200">
            <a:off x="4538160" y="3039480"/>
            <a:ext cx="380880" cy="3812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Oval 24"/>
          <p:cNvSpPr/>
          <p:nvPr/>
        </p:nvSpPr>
        <p:spPr>
          <a:xfrm rot="6916200">
            <a:off x="4732200" y="2896920"/>
            <a:ext cx="152280" cy="15264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" name="Oval 25"/>
          <p:cNvSpPr/>
          <p:nvPr/>
        </p:nvSpPr>
        <p:spPr>
          <a:xfrm rot="19751400">
            <a:off x="3352680" y="3886200"/>
            <a:ext cx="38124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" name="Oval 26"/>
          <p:cNvSpPr/>
          <p:nvPr/>
        </p:nvSpPr>
        <p:spPr>
          <a:xfrm rot="19751400">
            <a:off x="3094200" y="4358880"/>
            <a:ext cx="152280" cy="15228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" name="Oval 27"/>
          <p:cNvSpPr/>
          <p:nvPr/>
        </p:nvSpPr>
        <p:spPr>
          <a:xfrm rot="3187800">
            <a:off x="5149800" y="4327200"/>
            <a:ext cx="38088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Oval 28"/>
          <p:cNvSpPr/>
          <p:nvPr/>
        </p:nvSpPr>
        <p:spPr>
          <a:xfrm rot="3187800">
            <a:off x="5073120" y="4250880"/>
            <a:ext cx="152640" cy="15264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5" name="Oval 29"/>
          <p:cNvSpPr/>
          <p:nvPr/>
        </p:nvSpPr>
        <p:spPr>
          <a:xfrm rot="7006200">
            <a:off x="3927240" y="4410000"/>
            <a:ext cx="38124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" name="Oval 30"/>
          <p:cNvSpPr/>
          <p:nvPr/>
        </p:nvSpPr>
        <p:spPr>
          <a:xfrm rot="7006200">
            <a:off x="4127040" y="4269960"/>
            <a:ext cx="152280" cy="15264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77" name="Group 31"/>
          <p:cNvGrpSpPr/>
          <p:nvPr/>
        </p:nvGrpSpPr>
        <p:grpSpPr>
          <a:xfrm>
            <a:off x="533520" y="1905120"/>
            <a:ext cx="532800" cy="380880"/>
            <a:chOff x="533520" y="1905120"/>
            <a:chExt cx="532800" cy="380880"/>
          </a:xfrm>
        </p:grpSpPr>
        <p:sp>
          <p:nvSpPr>
            <p:cNvPr id="278" name="Oval 32"/>
            <p:cNvSpPr/>
            <p:nvPr/>
          </p:nvSpPr>
          <p:spPr>
            <a:xfrm>
              <a:off x="685440" y="1905120"/>
              <a:ext cx="380880" cy="3808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9" name="Oval 33"/>
            <p:cNvSpPr/>
            <p:nvPr/>
          </p:nvSpPr>
          <p:spPr>
            <a:xfrm>
              <a:off x="533520" y="2057400"/>
              <a:ext cx="151920" cy="152640"/>
            </a:xfrm>
            <a:prstGeom prst="ellipse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80" name="Text Box 34"/>
          <p:cNvSpPr/>
          <p:nvPr/>
        </p:nvSpPr>
        <p:spPr>
          <a:xfrm>
            <a:off x="1244520" y="1828800"/>
            <a:ext cx="74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1" name="Oval 35"/>
          <p:cNvSpPr/>
          <p:nvPr/>
        </p:nvSpPr>
        <p:spPr>
          <a:xfrm>
            <a:off x="5867280" y="3809880"/>
            <a:ext cx="381240" cy="3812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2" name="Oval 36"/>
          <p:cNvSpPr/>
          <p:nvPr/>
        </p:nvSpPr>
        <p:spPr>
          <a:xfrm>
            <a:off x="5715000" y="3962520"/>
            <a:ext cx="152280" cy="15228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3" name="Oval 37"/>
          <p:cNvSpPr/>
          <p:nvPr/>
        </p:nvSpPr>
        <p:spPr>
          <a:xfrm rot="988200">
            <a:off x="3197160" y="2382840"/>
            <a:ext cx="38124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" name="Oval 38"/>
          <p:cNvSpPr/>
          <p:nvPr/>
        </p:nvSpPr>
        <p:spPr>
          <a:xfrm rot="988200">
            <a:off x="3044880" y="2457360"/>
            <a:ext cx="152280" cy="15264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5" name="Oval 39"/>
          <p:cNvSpPr/>
          <p:nvPr/>
        </p:nvSpPr>
        <p:spPr>
          <a:xfrm rot="20619600">
            <a:off x="4645080" y="4549320"/>
            <a:ext cx="380880" cy="3812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" name="Oval 40"/>
          <p:cNvSpPr/>
          <p:nvPr/>
        </p:nvSpPr>
        <p:spPr>
          <a:xfrm rot="20619600">
            <a:off x="4513320" y="4774680"/>
            <a:ext cx="152280" cy="15264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7" name="Oval 41"/>
          <p:cNvSpPr/>
          <p:nvPr/>
        </p:nvSpPr>
        <p:spPr>
          <a:xfrm rot="9748200">
            <a:off x="5413320" y="2993760"/>
            <a:ext cx="38088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" name="Oval 42"/>
          <p:cNvSpPr/>
          <p:nvPr/>
        </p:nvSpPr>
        <p:spPr>
          <a:xfrm rot="9748200">
            <a:off x="5770440" y="2990160"/>
            <a:ext cx="152640" cy="15228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9" name="Oval 43"/>
          <p:cNvSpPr/>
          <p:nvPr/>
        </p:nvSpPr>
        <p:spPr>
          <a:xfrm rot="988200">
            <a:off x="5711760" y="5583240"/>
            <a:ext cx="38124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" name="Oval 44"/>
          <p:cNvSpPr/>
          <p:nvPr/>
        </p:nvSpPr>
        <p:spPr>
          <a:xfrm rot="988200">
            <a:off x="5559480" y="5657760"/>
            <a:ext cx="152280" cy="15264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1" name="Oval 45"/>
          <p:cNvSpPr/>
          <p:nvPr/>
        </p:nvSpPr>
        <p:spPr>
          <a:xfrm>
            <a:off x="685800" y="3657600"/>
            <a:ext cx="38088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2" name="Oval 46"/>
          <p:cNvSpPr/>
          <p:nvPr/>
        </p:nvSpPr>
        <p:spPr>
          <a:xfrm>
            <a:off x="762120" y="2895480"/>
            <a:ext cx="152280" cy="15264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" name="Text Box 47"/>
          <p:cNvSpPr/>
          <p:nvPr/>
        </p:nvSpPr>
        <p:spPr>
          <a:xfrm>
            <a:off x="1223640" y="2666880"/>
            <a:ext cx="61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" name="Text Box 48"/>
          <p:cNvSpPr/>
          <p:nvPr/>
        </p:nvSpPr>
        <p:spPr>
          <a:xfrm>
            <a:off x="1256400" y="3581280"/>
            <a:ext cx="517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5" name="Text Box 49"/>
          <p:cNvSpPr/>
          <p:nvPr/>
        </p:nvSpPr>
        <p:spPr>
          <a:xfrm>
            <a:off x="6580080" y="2921040"/>
            <a:ext cx="215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eak Aci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Text Box 50"/>
          <p:cNvSpPr/>
          <p:nvPr/>
        </p:nvSpPr>
        <p:spPr>
          <a:xfrm>
            <a:off x="2109960" y="304920"/>
            <a:ext cx="494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Partial dissociation of H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7" name="Text Box 51"/>
          <p:cNvSpPr/>
          <p:nvPr/>
        </p:nvSpPr>
        <p:spPr>
          <a:xfrm>
            <a:off x="6553080" y="4191120"/>
            <a:ext cx="2362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Would the solution be conductive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28" dur="2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9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30" dur="2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1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32" dur="2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3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34" dur="2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5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36" dur="2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7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38" dur="2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45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0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2"/>
          <p:cNvSpPr/>
          <p:nvPr/>
        </p:nvSpPr>
        <p:spPr>
          <a:xfrm>
            <a:off x="304920" y="5029200"/>
            <a:ext cx="2209680" cy="1066680"/>
          </a:xfrm>
          <a:prstGeom prst="rect">
            <a:avLst/>
          </a:prstGeom>
          <a:solidFill>
            <a:srgbClr val="ffff99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" name="AutoShape 3"/>
          <p:cNvSpPr/>
          <p:nvPr/>
        </p:nvSpPr>
        <p:spPr>
          <a:xfrm>
            <a:off x="2743200" y="1295280"/>
            <a:ext cx="3657600" cy="4876920"/>
          </a:xfrm>
          <a:prstGeom prst="can">
            <a:avLst>
              <a:gd name="adj" fmla="val 11263"/>
            </a:avLst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1" name="Oval 4"/>
          <p:cNvSpPr/>
          <p:nvPr/>
        </p:nvSpPr>
        <p:spPr>
          <a:xfrm rot="2418000">
            <a:off x="3790800" y="3020760"/>
            <a:ext cx="38124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2" name="Oval 5"/>
          <p:cNvSpPr/>
          <p:nvPr/>
        </p:nvSpPr>
        <p:spPr>
          <a:xfrm rot="2418000">
            <a:off x="3676320" y="2990880"/>
            <a:ext cx="152280" cy="15228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" name="Oval 6"/>
          <p:cNvSpPr/>
          <p:nvPr/>
        </p:nvSpPr>
        <p:spPr>
          <a:xfrm rot="2395200">
            <a:off x="4476600" y="3629160"/>
            <a:ext cx="38124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" name="Oval 7"/>
          <p:cNvSpPr/>
          <p:nvPr/>
        </p:nvSpPr>
        <p:spPr>
          <a:xfrm rot="2395200">
            <a:off x="4362120" y="3602160"/>
            <a:ext cx="152280" cy="15228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" name="Oval 8"/>
          <p:cNvSpPr/>
          <p:nvPr/>
        </p:nvSpPr>
        <p:spPr>
          <a:xfrm rot="20466600">
            <a:off x="2966760" y="3327480"/>
            <a:ext cx="38088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6" name="Oval 9"/>
          <p:cNvSpPr/>
          <p:nvPr/>
        </p:nvSpPr>
        <p:spPr>
          <a:xfrm rot="20466600">
            <a:off x="2841480" y="3563640"/>
            <a:ext cx="152640" cy="15228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" name="Oval 10"/>
          <p:cNvSpPr/>
          <p:nvPr/>
        </p:nvSpPr>
        <p:spPr>
          <a:xfrm rot="6787800">
            <a:off x="3931920" y="2203200"/>
            <a:ext cx="38088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" name="Oval 11"/>
          <p:cNvSpPr/>
          <p:nvPr/>
        </p:nvSpPr>
        <p:spPr>
          <a:xfrm rot="6787800">
            <a:off x="4116240" y="2057040"/>
            <a:ext cx="152280" cy="15264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Oval 12"/>
          <p:cNvSpPr/>
          <p:nvPr/>
        </p:nvSpPr>
        <p:spPr>
          <a:xfrm rot="7019400">
            <a:off x="5146200" y="3647880"/>
            <a:ext cx="380880" cy="3812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0" name="Oval 13"/>
          <p:cNvSpPr/>
          <p:nvPr/>
        </p:nvSpPr>
        <p:spPr>
          <a:xfrm rot="7019400">
            <a:off x="5347800" y="3507840"/>
            <a:ext cx="152640" cy="15264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Oval 14"/>
          <p:cNvSpPr/>
          <p:nvPr/>
        </p:nvSpPr>
        <p:spPr>
          <a:xfrm rot="13236000">
            <a:off x="3504960" y="5562720"/>
            <a:ext cx="38088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" name="Oval 15"/>
          <p:cNvSpPr/>
          <p:nvPr/>
        </p:nvSpPr>
        <p:spPr>
          <a:xfrm rot="13236000">
            <a:off x="4168080" y="5770080"/>
            <a:ext cx="152280" cy="15264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" name="Oval 16"/>
          <p:cNvSpPr/>
          <p:nvPr/>
        </p:nvSpPr>
        <p:spPr>
          <a:xfrm rot="18126000">
            <a:off x="5715000" y="4800240"/>
            <a:ext cx="38088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4" name="Oval 17"/>
          <p:cNvSpPr/>
          <p:nvPr/>
        </p:nvSpPr>
        <p:spPr>
          <a:xfrm rot="18126000">
            <a:off x="5302080" y="5324400"/>
            <a:ext cx="152640" cy="15264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5" name="Oval 18"/>
          <p:cNvSpPr/>
          <p:nvPr/>
        </p:nvSpPr>
        <p:spPr>
          <a:xfrm rot="3561600">
            <a:off x="3238560" y="5094000"/>
            <a:ext cx="38088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" name="Oval 19"/>
          <p:cNvSpPr/>
          <p:nvPr/>
        </p:nvSpPr>
        <p:spPr>
          <a:xfrm rot="3561600">
            <a:off x="3184200" y="4997520"/>
            <a:ext cx="152280" cy="15228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7" name="Oval 20"/>
          <p:cNvSpPr/>
          <p:nvPr/>
        </p:nvSpPr>
        <p:spPr>
          <a:xfrm rot="18023400">
            <a:off x="5638680" y="2057400"/>
            <a:ext cx="380880" cy="3812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" name="Oval 21"/>
          <p:cNvSpPr/>
          <p:nvPr/>
        </p:nvSpPr>
        <p:spPr>
          <a:xfrm rot="18023400">
            <a:off x="5383080" y="2734560"/>
            <a:ext cx="152280" cy="15264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9" name="Oval 22"/>
          <p:cNvSpPr/>
          <p:nvPr/>
        </p:nvSpPr>
        <p:spPr>
          <a:xfrm>
            <a:off x="4495680" y="5181480"/>
            <a:ext cx="381240" cy="3812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" name="Oval 23"/>
          <p:cNvSpPr/>
          <p:nvPr/>
        </p:nvSpPr>
        <p:spPr>
          <a:xfrm>
            <a:off x="4343400" y="5334120"/>
            <a:ext cx="152280" cy="15228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" name="Oval 24"/>
          <p:cNvSpPr/>
          <p:nvPr/>
        </p:nvSpPr>
        <p:spPr>
          <a:xfrm rot="6916200">
            <a:off x="4538160" y="3039480"/>
            <a:ext cx="380880" cy="3812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Oval 25"/>
          <p:cNvSpPr/>
          <p:nvPr/>
        </p:nvSpPr>
        <p:spPr>
          <a:xfrm rot="6916200">
            <a:off x="4732200" y="2896920"/>
            <a:ext cx="152280" cy="15264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3" name="Oval 26"/>
          <p:cNvSpPr/>
          <p:nvPr/>
        </p:nvSpPr>
        <p:spPr>
          <a:xfrm rot="19751400">
            <a:off x="3189240" y="4075200"/>
            <a:ext cx="38088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" name="Oval 27"/>
          <p:cNvSpPr/>
          <p:nvPr/>
        </p:nvSpPr>
        <p:spPr>
          <a:xfrm rot="19751400">
            <a:off x="3094200" y="4358880"/>
            <a:ext cx="152280" cy="15228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5" name="Oval 28"/>
          <p:cNvSpPr/>
          <p:nvPr/>
        </p:nvSpPr>
        <p:spPr>
          <a:xfrm rot="3187800">
            <a:off x="5149800" y="4327200"/>
            <a:ext cx="38088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6" name="Oval 29"/>
          <p:cNvSpPr/>
          <p:nvPr/>
        </p:nvSpPr>
        <p:spPr>
          <a:xfrm rot="3187800">
            <a:off x="5073120" y="4250880"/>
            <a:ext cx="152640" cy="15264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7" name="Oval 30"/>
          <p:cNvSpPr/>
          <p:nvPr/>
        </p:nvSpPr>
        <p:spPr>
          <a:xfrm rot="7006200">
            <a:off x="3927240" y="4410000"/>
            <a:ext cx="38124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8" name="Oval 31"/>
          <p:cNvSpPr/>
          <p:nvPr/>
        </p:nvSpPr>
        <p:spPr>
          <a:xfrm rot="7006200">
            <a:off x="4127040" y="4269960"/>
            <a:ext cx="152280" cy="15264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29" name="Group 32"/>
          <p:cNvGrpSpPr/>
          <p:nvPr/>
        </p:nvGrpSpPr>
        <p:grpSpPr>
          <a:xfrm>
            <a:off x="533520" y="1905120"/>
            <a:ext cx="532800" cy="380880"/>
            <a:chOff x="533520" y="1905120"/>
            <a:chExt cx="532800" cy="380880"/>
          </a:xfrm>
        </p:grpSpPr>
        <p:sp>
          <p:nvSpPr>
            <p:cNvPr id="330" name="Oval 33"/>
            <p:cNvSpPr/>
            <p:nvPr/>
          </p:nvSpPr>
          <p:spPr>
            <a:xfrm>
              <a:off x="685440" y="1905120"/>
              <a:ext cx="380880" cy="3808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1" name="Oval 34"/>
            <p:cNvSpPr/>
            <p:nvPr/>
          </p:nvSpPr>
          <p:spPr>
            <a:xfrm>
              <a:off x="533520" y="2057400"/>
              <a:ext cx="151920" cy="152640"/>
            </a:xfrm>
            <a:prstGeom prst="ellipse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32" name="Text Box 35"/>
          <p:cNvSpPr/>
          <p:nvPr/>
        </p:nvSpPr>
        <p:spPr>
          <a:xfrm>
            <a:off x="1244520" y="1828800"/>
            <a:ext cx="74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3" name="Oval 36"/>
          <p:cNvSpPr/>
          <p:nvPr/>
        </p:nvSpPr>
        <p:spPr>
          <a:xfrm>
            <a:off x="5867280" y="3809880"/>
            <a:ext cx="381240" cy="3812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4" name="Oval 37"/>
          <p:cNvSpPr/>
          <p:nvPr/>
        </p:nvSpPr>
        <p:spPr>
          <a:xfrm>
            <a:off x="5715000" y="3962520"/>
            <a:ext cx="152280" cy="15228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5" name="Oval 38"/>
          <p:cNvSpPr/>
          <p:nvPr/>
        </p:nvSpPr>
        <p:spPr>
          <a:xfrm rot="988200">
            <a:off x="3197160" y="2382840"/>
            <a:ext cx="38124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6" name="Oval 39"/>
          <p:cNvSpPr/>
          <p:nvPr/>
        </p:nvSpPr>
        <p:spPr>
          <a:xfrm rot="988200">
            <a:off x="3044880" y="2457360"/>
            <a:ext cx="152280" cy="15264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7" name="Oval 40"/>
          <p:cNvSpPr/>
          <p:nvPr/>
        </p:nvSpPr>
        <p:spPr>
          <a:xfrm rot="20619600">
            <a:off x="4645080" y="4549320"/>
            <a:ext cx="380880" cy="3812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8" name="Oval 41"/>
          <p:cNvSpPr/>
          <p:nvPr/>
        </p:nvSpPr>
        <p:spPr>
          <a:xfrm rot="20619600">
            <a:off x="4513320" y="4774680"/>
            <a:ext cx="152280" cy="15264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9" name="Oval 42"/>
          <p:cNvSpPr/>
          <p:nvPr/>
        </p:nvSpPr>
        <p:spPr>
          <a:xfrm rot="9748200">
            <a:off x="5413320" y="2993760"/>
            <a:ext cx="38088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0" name="Oval 43"/>
          <p:cNvSpPr/>
          <p:nvPr/>
        </p:nvSpPr>
        <p:spPr>
          <a:xfrm rot="9748200">
            <a:off x="5770440" y="2990160"/>
            <a:ext cx="152640" cy="15228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1" name="Oval 44"/>
          <p:cNvSpPr/>
          <p:nvPr/>
        </p:nvSpPr>
        <p:spPr>
          <a:xfrm rot="988200">
            <a:off x="5711760" y="5583240"/>
            <a:ext cx="38124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2" name="Oval 45"/>
          <p:cNvSpPr/>
          <p:nvPr/>
        </p:nvSpPr>
        <p:spPr>
          <a:xfrm rot="988200">
            <a:off x="5559480" y="5657760"/>
            <a:ext cx="152280" cy="15264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3" name="Oval 46"/>
          <p:cNvSpPr/>
          <p:nvPr/>
        </p:nvSpPr>
        <p:spPr>
          <a:xfrm>
            <a:off x="685800" y="3657600"/>
            <a:ext cx="38088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4" name="Oval 47"/>
          <p:cNvSpPr/>
          <p:nvPr/>
        </p:nvSpPr>
        <p:spPr>
          <a:xfrm>
            <a:off x="762120" y="2895480"/>
            <a:ext cx="152280" cy="15264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5" name="Text Box 48"/>
          <p:cNvSpPr/>
          <p:nvPr/>
        </p:nvSpPr>
        <p:spPr>
          <a:xfrm>
            <a:off x="1223640" y="2666880"/>
            <a:ext cx="61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6" name="Text Box 49"/>
          <p:cNvSpPr/>
          <p:nvPr/>
        </p:nvSpPr>
        <p:spPr>
          <a:xfrm>
            <a:off x="1256400" y="3581280"/>
            <a:ext cx="517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7" name="Text Box 50"/>
          <p:cNvSpPr/>
          <p:nvPr/>
        </p:nvSpPr>
        <p:spPr>
          <a:xfrm>
            <a:off x="6580080" y="2921040"/>
            <a:ext cx="215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eak Aci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8" name="Text Box 51"/>
          <p:cNvSpPr/>
          <p:nvPr/>
        </p:nvSpPr>
        <p:spPr>
          <a:xfrm>
            <a:off x="1905120" y="60958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9" name="Text Box 52"/>
          <p:cNvSpPr/>
          <p:nvPr/>
        </p:nvSpPr>
        <p:spPr>
          <a:xfrm>
            <a:off x="3035880" y="457200"/>
            <a:ext cx="314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A  </a:t>
            </a:r>
            <a:r>
              <a:rPr b="0" lang="en-US" sz="3200" spc="-1" strike="noStrike">
                <a:solidFill>
                  <a:srgbClr val="000000"/>
                </a:solidFill>
                <a:latin typeface="Wingdings 3"/>
                <a:ea typeface="Wingdings 3"/>
              </a:rPr>
              <a:t>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+ 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0" name="Line 53"/>
          <p:cNvSpPr/>
          <p:nvPr/>
        </p:nvSpPr>
        <p:spPr>
          <a:xfrm>
            <a:off x="2971800" y="304920"/>
            <a:ext cx="9144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1" name="Line 54"/>
          <p:cNvSpPr/>
          <p:nvPr/>
        </p:nvSpPr>
        <p:spPr>
          <a:xfrm flipH="1">
            <a:off x="4724280" y="1066680"/>
            <a:ext cx="9144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2" name="Oval 55"/>
          <p:cNvSpPr/>
          <p:nvPr/>
        </p:nvSpPr>
        <p:spPr>
          <a:xfrm>
            <a:off x="1752480" y="5334120"/>
            <a:ext cx="38124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3" name="Oval 56"/>
          <p:cNvSpPr/>
          <p:nvPr/>
        </p:nvSpPr>
        <p:spPr>
          <a:xfrm>
            <a:off x="609480" y="5486400"/>
            <a:ext cx="152640" cy="15228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4" name="Text Box 57"/>
          <p:cNvSpPr/>
          <p:nvPr/>
        </p:nvSpPr>
        <p:spPr>
          <a:xfrm>
            <a:off x="6477120" y="3809880"/>
            <a:ext cx="26668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At any one time, 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Comic Sans MS"/>
              </a:rPr>
              <a:t>only a fraction</a:t>
            </a: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 of the molecules are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dissociated</a:t>
            </a: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56" dur="2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7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58" dur="2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9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60" dur="2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1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62" dur="2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3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64" dur="2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5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66" dur="2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73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8" nodeType="withEffect" fill="hold" presetClass="path" presetID="63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479" dur="2000" fill="hold"/>
                                        <p:tgtEl>
                                          <p:spTgt spid="3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2" nodeType="withEffect" fill="hold" presetClass="pat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483" dur="2000" fill="hold"/>
                                        <p:tgtEl>
                                          <p:spTgt spid="3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8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3" autoRev="1" nodeType="withEffect" fill="hold" presetClass="pat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3.98058E-006 L -0.05417 -0.00554 E">
                                      <p:cBhvr>
                                        <p:cTn id="494" dur="2000" fill="hold"/>
                                        <p:tgtEl>
                                          <p:spTgt spid="3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5" autoRev="1" nodeType="withEffect" fill="hold" presetClass="path" presetID="63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3.86963E-006 L 0.05833 3.86963E-006 E">
                                      <p:cBhvr>
                                        <p:cTn id="496" dur="2000" fill="hold"/>
                                        <p:tgtEl>
                                          <p:spTgt spid="3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03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Strong and Weak Acids/Bas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7" name="Text Box 5"/>
          <p:cNvSpPr/>
          <p:nvPr/>
        </p:nvSpPr>
        <p:spPr>
          <a:xfrm>
            <a:off x="610200" y="1371600"/>
            <a:ext cx="8215200" cy="27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Comic Sans MS"/>
              </a:rPr>
              <a:t>Strong acids/base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– 100% dissociation into ion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ff6699"/>
                </a:solidFill>
                <a:latin typeface="Comic Sans MS"/>
              </a:rPr>
              <a:t>HCl</a:t>
            </a:r>
            <a:r>
              <a:rPr b="0" lang="en-US" sz="36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0099ff"/>
                </a:solidFill>
                <a:latin typeface="Comic Sans MS"/>
              </a:rPr>
              <a:t>NaOH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ff6699"/>
                </a:solidFill>
                <a:latin typeface="Comic Sans MS"/>
              </a:rPr>
              <a:t>HNO</a:t>
            </a:r>
            <a:r>
              <a:rPr b="0" lang="en-US" sz="3600" spc="-1" strike="noStrike" baseline="-25000">
                <a:solidFill>
                  <a:srgbClr val="ff6699"/>
                </a:solidFill>
                <a:latin typeface="Comic Sans MS"/>
              </a:rPr>
              <a:t>3</a:t>
            </a:r>
            <a:r>
              <a:rPr b="0" lang="en-US" sz="36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0099ff"/>
                </a:solidFill>
                <a:latin typeface="Comic Sans MS"/>
              </a:rPr>
              <a:t>KOH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ff6699"/>
                </a:solidFill>
                <a:latin typeface="Comic Sans MS"/>
              </a:rPr>
              <a:t>H</a:t>
            </a:r>
            <a:r>
              <a:rPr b="0" lang="en-US" sz="3600" spc="-1" strike="noStrike" baseline="-25000">
                <a:solidFill>
                  <a:srgbClr val="ff6699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ff6699"/>
                </a:solidFill>
                <a:latin typeface="Comic Sans MS"/>
              </a:rPr>
              <a:t>SO</a:t>
            </a:r>
            <a:r>
              <a:rPr b="0" lang="en-US" sz="3600" spc="-1" strike="noStrike" baseline="-25000">
                <a:solidFill>
                  <a:srgbClr val="ff6699"/>
                </a:solidFill>
                <a:latin typeface="Comic Sans MS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8" name="Text Box 6"/>
          <p:cNvSpPr/>
          <p:nvPr/>
        </p:nvSpPr>
        <p:spPr>
          <a:xfrm>
            <a:off x="609480" y="4267080"/>
            <a:ext cx="8229600" cy="25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Comic Sans MS"/>
              </a:rPr>
              <a:t>Weak acids/base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– partial dissociation,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oth ions and molecul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ff6699"/>
                </a:solidFill>
                <a:latin typeface="Comic Sans MS"/>
              </a:rPr>
              <a:t>CH</a:t>
            </a:r>
            <a:r>
              <a:rPr b="0" lang="en-US" sz="3600" spc="-1" strike="noStrike" baseline="-25000">
                <a:solidFill>
                  <a:srgbClr val="ff6699"/>
                </a:solidFill>
                <a:latin typeface="Comic Sans MS"/>
              </a:rPr>
              <a:t>3</a:t>
            </a:r>
            <a:r>
              <a:rPr b="0" lang="en-US" sz="3600" spc="-1" strike="noStrike">
                <a:solidFill>
                  <a:srgbClr val="ff6699"/>
                </a:solidFill>
                <a:latin typeface="Comic Sans MS"/>
              </a:rPr>
              <a:t>COOH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0099ff"/>
                </a:solidFill>
                <a:latin typeface="Comic Sans MS"/>
              </a:rPr>
              <a:t>NH</a:t>
            </a:r>
            <a:r>
              <a:rPr b="0" lang="en-US" sz="3600" spc="-1" strike="noStrike" baseline="-25000">
                <a:solidFill>
                  <a:srgbClr val="0099ff"/>
                </a:solidFill>
                <a:latin typeface="Comic Sans MS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9" name="Line 13"/>
          <p:cNvSpPr/>
          <p:nvPr/>
        </p:nvSpPr>
        <p:spPr>
          <a:xfrm flipH="1" flipV="1">
            <a:off x="3657240" y="6172200"/>
            <a:ext cx="228600" cy="4572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2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9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Line 2"/>
          <p:cNvSpPr/>
          <p:nvPr/>
        </p:nvSpPr>
        <p:spPr>
          <a:xfrm flipV="1">
            <a:off x="1371600" y="3580920"/>
            <a:ext cx="1828800" cy="1752840"/>
          </a:xfrm>
          <a:prstGeom prst="line">
            <a:avLst/>
          </a:prstGeom>
          <a:ln w="507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2" name="Line 3"/>
          <p:cNvSpPr/>
          <p:nvPr/>
        </p:nvSpPr>
        <p:spPr>
          <a:xfrm flipH="1" flipV="1">
            <a:off x="3505320" y="3581280"/>
            <a:ext cx="838080" cy="1828800"/>
          </a:xfrm>
          <a:prstGeom prst="line">
            <a:avLst/>
          </a:prstGeom>
          <a:ln w="507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3" name="Rectangle 4"/>
          <p:cNvSpPr/>
          <p:nvPr/>
        </p:nvSpPr>
        <p:spPr>
          <a:xfrm>
            <a:off x="0" y="2362320"/>
            <a:ext cx="4572000" cy="1066680"/>
          </a:xfrm>
          <a:prstGeom prst="rect">
            <a:avLst/>
          </a:prstGeom>
          <a:gradFill rotWithShape="0">
            <a:gsLst>
              <a:gs pos="0">
                <a:srgbClr val="760000"/>
              </a:gs>
              <a:gs pos="100000">
                <a:srgbClr val="ff00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4" name="Rectangle 5"/>
          <p:cNvSpPr/>
          <p:nvPr/>
        </p:nvSpPr>
        <p:spPr>
          <a:xfrm>
            <a:off x="2743200" y="2362320"/>
            <a:ext cx="914400" cy="1066680"/>
          </a:xfrm>
          <a:prstGeom prst="rect">
            <a:avLst/>
          </a:prstGeom>
          <a:gradFill rotWithShape="0">
            <a:gsLst>
              <a:gs pos="0">
                <a:srgbClr val="eb6247"/>
              </a:gs>
              <a:gs pos="100000">
                <a:srgbClr val="ffff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5" name="Rectangle 6"/>
          <p:cNvSpPr/>
          <p:nvPr/>
        </p:nvSpPr>
        <p:spPr>
          <a:xfrm>
            <a:off x="4572000" y="2362320"/>
            <a:ext cx="4572000" cy="10666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76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" name="Rectangle 7"/>
          <p:cNvSpPr/>
          <p:nvPr/>
        </p:nvSpPr>
        <p:spPr>
          <a:xfrm>
            <a:off x="4114800" y="2362320"/>
            <a:ext cx="1828800" cy="106668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100000">
                <a:srgbClr val="0066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7" name="Rectangle 8"/>
          <p:cNvSpPr/>
          <p:nvPr/>
        </p:nvSpPr>
        <p:spPr>
          <a:xfrm>
            <a:off x="3124080" y="2362320"/>
            <a:ext cx="228600" cy="10666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8" name="Rectangle 9"/>
          <p:cNvSpPr/>
          <p:nvPr/>
        </p:nvSpPr>
        <p:spPr>
          <a:xfrm>
            <a:off x="1981080" y="2362320"/>
            <a:ext cx="228600" cy="10666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9" name="Text Box 10"/>
          <p:cNvSpPr/>
          <p:nvPr/>
        </p:nvSpPr>
        <p:spPr>
          <a:xfrm>
            <a:off x="4103280" y="457200"/>
            <a:ext cx="869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Comic Sans MS"/>
              </a:rPr>
              <a:t>pH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0" name="Text Box 11"/>
          <p:cNvSpPr/>
          <p:nvPr/>
        </p:nvSpPr>
        <p:spPr>
          <a:xfrm>
            <a:off x="-70200" y="19810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1" name="Text Box 12"/>
          <p:cNvSpPr/>
          <p:nvPr/>
        </p:nvSpPr>
        <p:spPr>
          <a:xfrm>
            <a:off x="767880" y="19810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2" name="Text Box 13"/>
          <p:cNvSpPr/>
          <p:nvPr/>
        </p:nvSpPr>
        <p:spPr>
          <a:xfrm>
            <a:off x="1682280" y="19810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3" name="Text Box 14"/>
          <p:cNvSpPr/>
          <p:nvPr/>
        </p:nvSpPr>
        <p:spPr>
          <a:xfrm>
            <a:off x="2596680" y="19810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4" name="Text Box 15"/>
          <p:cNvSpPr/>
          <p:nvPr/>
        </p:nvSpPr>
        <p:spPr>
          <a:xfrm>
            <a:off x="3511080" y="19810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5" name="Text Box 16"/>
          <p:cNvSpPr/>
          <p:nvPr/>
        </p:nvSpPr>
        <p:spPr>
          <a:xfrm>
            <a:off x="4425480" y="19810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6" name="Text Box 17"/>
          <p:cNvSpPr/>
          <p:nvPr/>
        </p:nvSpPr>
        <p:spPr>
          <a:xfrm>
            <a:off x="5339880" y="19810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7" name="Text Box 18"/>
          <p:cNvSpPr/>
          <p:nvPr/>
        </p:nvSpPr>
        <p:spPr>
          <a:xfrm>
            <a:off x="6254280" y="19810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8" name="Text Box 19"/>
          <p:cNvSpPr/>
          <p:nvPr/>
        </p:nvSpPr>
        <p:spPr>
          <a:xfrm>
            <a:off x="7078680" y="198108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9" name="Text Box 20"/>
          <p:cNvSpPr/>
          <p:nvPr/>
        </p:nvSpPr>
        <p:spPr>
          <a:xfrm>
            <a:off x="7975080" y="198108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0" name="Text Box 21"/>
          <p:cNvSpPr/>
          <p:nvPr/>
        </p:nvSpPr>
        <p:spPr>
          <a:xfrm>
            <a:off x="8785440" y="198108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1" name="Text Box 22"/>
          <p:cNvSpPr/>
          <p:nvPr/>
        </p:nvSpPr>
        <p:spPr>
          <a:xfrm>
            <a:off x="3412080" y="3962520"/>
            <a:ext cx="2295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eutral @ 2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 = (O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stilled wat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2" name="Text Box 23"/>
          <p:cNvSpPr/>
          <p:nvPr/>
        </p:nvSpPr>
        <p:spPr>
          <a:xfrm>
            <a:off x="1265760" y="3962520"/>
            <a:ext cx="1724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cidic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 &gt; (O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3" name="Text Box 24"/>
          <p:cNvSpPr/>
          <p:nvPr/>
        </p:nvSpPr>
        <p:spPr>
          <a:xfrm>
            <a:off x="6082200" y="3962520"/>
            <a:ext cx="248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asic or alkalin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 &lt; (O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4" name="Line 25"/>
          <p:cNvSpPr/>
          <p:nvPr/>
        </p:nvSpPr>
        <p:spPr>
          <a:xfrm flipV="1">
            <a:off x="4572000" y="3580920"/>
            <a:ext cx="0" cy="381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5" name="Line 26"/>
          <p:cNvSpPr/>
          <p:nvPr/>
        </p:nvSpPr>
        <p:spPr>
          <a:xfrm>
            <a:off x="4572000" y="2362320"/>
            <a:ext cx="0" cy="1066680"/>
          </a:xfrm>
          <a:prstGeom prst="line">
            <a:avLst/>
          </a:prstGeom>
          <a:ln w="57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6" name="Rectangle 27"/>
          <p:cNvSpPr/>
          <p:nvPr/>
        </p:nvSpPr>
        <p:spPr>
          <a:xfrm>
            <a:off x="0" y="2362320"/>
            <a:ext cx="9144000" cy="10666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7" name="Text Box 28"/>
          <p:cNvSpPr/>
          <p:nvPr/>
        </p:nvSpPr>
        <p:spPr>
          <a:xfrm>
            <a:off x="6400800" y="5334120"/>
            <a:ext cx="220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atural waters pH = 6.5 - 8.5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8" name="Text Box 29"/>
          <p:cNvSpPr/>
          <p:nvPr/>
        </p:nvSpPr>
        <p:spPr>
          <a:xfrm>
            <a:off x="369360" y="5334120"/>
            <a:ext cx="265248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rmal rain (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H = 5.3 – 5.7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9" name="Text Box 30"/>
          <p:cNvSpPr/>
          <p:nvPr/>
        </p:nvSpPr>
        <p:spPr>
          <a:xfrm>
            <a:off x="0" y="0"/>
            <a:ext cx="312408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cid rain (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H of 4.2 - 4.4 in Washington DC are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0" name="Text Box 31"/>
          <p:cNvSpPr/>
          <p:nvPr/>
        </p:nvSpPr>
        <p:spPr>
          <a:xfrm>
            <a:off x="2568600" y="1295280"/>
            <a:ext cx="39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-14 scale for the chemis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1" name="Text Box 32"/>
          <p:cNvSpPr/>
          <p:nvPr/>
        </p:nvSpPr>
        <p:spPr>
          <a:xfrm>
            <a:off x="3276720" y="5334120"/>
            <a:ext cx="289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sh populatio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rop off pH &lt; 6 and to zero pH &lt; 5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2" name="Line 33"/>
          <p:cNvSpPr/>
          <p:nvPr/>
        </p:nvSpPr>
        <p:spPr>
          <a:xfrm>
            <a:off x="1905120" y="1143000"/>
            <a:ext cx="152280" cy="106668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3" name="Line 34"/>
          <p:cNvSpPr/>
          <p:nvPr/>
        </p:nvSpPr>
        <p:spPr>
          <a:xfrm flipH="1" flipV="1">
            <a:off x="5257800" y="3581280"/>
            <a:ext cx="1295280" cy="182880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36" dur="1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41" dur="1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51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61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6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4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nodeType="clickEffect" fill="hold">
                      <p:stCondLst>
                        <p:cond delay="indefinite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2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nodeType="clickEffect" fill="hold">
                      <p:stCondLst>
                        <p:cond delay="indefinite"/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5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Picture 4" descr="phlab"/>
          <p:cNvPicPr/>
          <p:nvPr/>
        </p:nvPicPr>
        <p:blipFill>
          <a:blip r:embed="rId1"/>
          <a:srcRect l="0" t="10632" r="0" b="0"/>
          <a:stretch/>
        </p:blipFill>
        <p:spPr>
          <a:xfrm>
            <a:off x="1219320" y="1295280"/>
            <a:ext cx="6696000" cy="4324320"/>
          </a:xfrm>
          <a:prstGeom prst="rect">
            <a:avLst/>
          </a:prstGeom>
          <a:ln w="0">
            <a:noFill/>
          </a:ln>
        </p:spPr>
      </p:pic>
      <p:sp>
        <p:nvSpPr>
          <p:cNvPr id="396" name="AutoShape 6"/>
          <p:cNvSpPr/>
          <p:nvPr/>
        </p:nvSpPr>
        <p:spPr>
          <a:xfrm>
            <a:off x="7696080" y="1752480"/>
            <a:ext cx="1447920" cy="1600200"/>
          </a:xfrm>
          <a:prstGeom prst="wedgeEllipseCallout">
            <a:avLst>
              <a:gd name="adj1" fmla="val -102083"/>
              <a:gd name="adj2" fmla="val 29069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ou are here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7" name="Text Box 7"/>
          <p:cNvSpPr/>
          <p:nvPr/>
        </p:nvSpPr>
        <p:spPr>
          <a:xfrm>
            <a:off x="2406600" y="6461280"/>
            <a:ext cx="43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ttp://nadp.sws.uiuc.edu/isopleth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8" name="Text Box 8"/>
          <p:cNvSpPr/>
          <p:nvPr/>
        </p:nvSpPr>
        <p:spPr>
          <a:xfrm>
            <a:off x="2462400" y="255600"/>
            <a:ext cx="4217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Comic Sans MS"/>
              </a:rPr>
              <a:t>pH of Rainwater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across United States in 200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99" name="Group 12"/>
          <p:cNvGrpSpPr/>
          <p:nvPr/>
        </p:nvGrpSpPr>
        <p:grpSpPr>
          <a:xfrm>
            <a:off x="7999560" y="3440520"/>
            <a:ext cx="468000" cy="2279520"/>
            <a:chOff x="7999560" y="3440520"/>
            <a:chExt cx="468000" cy="2279520"/>
          </a:xfrm>
        </p:grpSpPr>
        <p:sp>
          <p:nvSpPr>
            <p:cNvPr id="400" name="Line 9"/>
            <p:cNvSpPr/>
            <p:nvPr/>
          </p:nvSpPr>
          <p:spPr>
            <a:xfrm flipH="1">
              <a:off x="7999560" y="3503520"/>
              <a:ext cx="2880" cy="22100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01" name="Text Box 10"/>
            <p:cNvSpPr/>
            <p:nvPr/>
          </p:nvSpPr>
          <p:spPr>
            <a:xfrm rot="5404200">
              <a:off x="7126920" y="4380480"/>
              <a:ext cx="2279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ff"/>
                  </a:solidFill>
                  <a:latin typeface="Comic Sans MS"/>
                </a:rPr>
                <a:t>Increasing acidity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402" name="Rectangle 13"/>
          <p:cNvSpPr/>
          <p:nvPr/>
        </p:nvSpPr>
        <p:spPr>
          <a:xfrm>
            <a:off x="1219320" y="4419720"/>
            <a:ext cx="152388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3" name="Text Box 14"/>
          <p:cNvSpPr/>
          <p:nvPr/>
        </p:nvSpPr>
        <p:spPr>
          <a:xfrm>
            <a:off x="1578240" y="5715000"/>
            <a:ext cx="598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5050"/>
                </a:solidFill>
                <a:latin typeface="Comic Sans MS"/>
              </a:rPr>
              <a:t>Why is the eastern US more acidic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4" name="AutoShape 15"/>
          <p:cNvSpPr/>
          <p:nvPr/>
        </p:nvSpPr>
        <p:spPr>
          <a:xfrm>
            <a:off x="-2666880" y="2590920"/>
            <a:ext cx="2666880" cy="838080"/>
          </a:xfrm>
          <a:custGeom>
            <a:avLst/>
            <a:gdLst>
              <a:gd name="textAreaLeft" fmla="*/ 371880 w 2666880"/>
              <a:gd name="textAreaRight" fmla="*/ 2295000 w 2666880"/>
              <a:gd name="textAreaTop" fmla="*/ 191880 h 838080"/>
              <a:gd name="textAreaBottom" fmla="*/ 646200 h 838080"/>
            </a:gdLst>
            <a:ahLst/>
            <a:rect l="textAreaLeft" t="textAreaTop" r="textAreaRight" b="textAreaBottom"/>
            <a:pathLst>
              <a:path w="21600" h="21600">
                <a:moveTo>
                  <a:pt x="0" y="4950"/>
                </a:moveTo>
                <a:lnTo>
                  <a:pt x="16038" y="4950"/>
                </a:lnTo>
                <a:lnTo>
                  <a:pt x="16038" y="0"/>
                </a:lnTo>
                <a:lnTo>
                  <a:pt x="21600" y="10800"/>
                </a:lnTo>
                <a:lnTo>
                  <a:pt x="16038" y="21600"/>
                </a:lnTo>
                <a:lnTo>
                  <a:pt x="16038" y="16650"/>
                </a:lnTo>
                <a:lnTo>
                  <a:pt x="0" y="16650"/>
                </a:lnTo>
                <a:lnTo>
                  <a:pt x="3013" y="10800"/>
                </a:lnTo>
                <a:lnTo>
                  <a:pt x="0" y="495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ir mass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nodeType="clickEffect" fill="hold">
                      <p:stCondLst>
                        <p:cond delay="indefinite"/>
                      </p:stCondLst>
                      <p:childTnLst>
                        <p:par>
                          <p:cTn id="6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0" dur="2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nodeType="clickEffect" fill="hold">
                      <p:stCondLst>
                        <p:cond delay="indefinite"/>
                      </p:stCondLst>
                      <p:childTnLst>
                        <p:par>
                          <p:cTn id="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5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nodeType="clickEffect" fill="hold">
                      <p:stCondLst>
                        <p:cond delay="indefinite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32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nodeType="clickEffect" fill="hold">
                      <p:stCondLst>
                        <p:cond delay="indefinite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125 -0.00556 L 1.3125 -0.00556 E">
                                      <p:cBhvr>
                                        <p:cTn id="636" dur="10000" fill="hold"/>
                                        <p:tgtEl>
                                          <p:spTgt spid="4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omic Sans MS"/>
              </a:rPr>
              <a:t>What is acid rain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7" name="Text Box 5"/>
          <p:cNvSpPr/>
          <p:nvPr/>
        </p:nvSpPr>
        <p:spPr>
          <a:xfrm>
            <a:off x="630000" y="2286000"/>
            <a:ext cx="78516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(g)  +  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  </a:t>
            </a:r>
            <a:r>
              <a:rPr b="0" lang="en-US" sz="3200" spc="-1" strike="noStrike">
                <a:solidFill>
                  <a:srgbClr val="000000"/>
                </a:solidFill>
                <a:latin typeface="Wingdings 3"/>
                <a:ea typeface="Wingdings 3"/>
              </a:rPr>
              <a:t>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Wingdings 3"/>
                <a:ea typeface="Wingdings 3"/>
              </a:rPr>
              <a:t>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H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omic Sans MS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+  H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8" name="Text Box 6"/>
          <p:cNvSpPr/>
          <p:nvPr/>
        </p:nvSpPr>
        <p:spPr>
          <a:xfrm>
            <a:off x="341640" y="1523880"/>
            <a:ext cx="772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issolved carbon dioxide lowers the pH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9" name="Text Box 7"/>
          <p:cNvSpPr/>
          <p:nvPr/>
        </p:nvSpPr>
        <p:spPr>
          <a:xfrm>
            <a:off x="219960" y="3352680"/>
            <a:ext cx="805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tmospheric pollutants from combus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0" name="Text Box 8"/>
          <p:cNvSpPr/>
          <p:nvPr/>
        </p:nvSpPr>
        <p:spPr>
          <a:xfrm>
            <a:off x="535680" y="4191120"/>
            <a:ext cx="5827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O, N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+  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  …  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HNO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Comic Sans MS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1" name="Text Box 9"/>
          <p:cNvSpPr/>
          <p:nvPr/>
        </p:nvSpPr>
        <p:spPr>
          <a:xfrm>
            <a:off x="698760" y="5181480"/>
            <a:ext cx="57348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, S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+  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 … 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H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SO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Comic Sans MS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2" name="Text Box 10"/>
          <p:cNvSpPr/>
          <p:nvPr/>
        </p:nvSpPr>
        <p:spPr>
          <a:xfrm>
            <a:off x="6777720" y="4191120"/>
            <a:ext cx="1543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both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strong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acid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3" name="Line 11"/>
          <p:cNvSpPr/>
          <p:nvPr/>
        </p:nvSpPr>
        <p:spPr>
          <a:xfrm>
            <a:off x="533520" y="3200400"/>
            <a:ext cx="7848360" cy="0"/>
          </a:xfrm>
          <a:prstGeom prst="line">
            <a:avLst/>
          </a:prstGeom>
          <a:ln w="7632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4" name="Text Box 12"/>
          <p:cNvSpPr/>
          <p:nvPr/>
        </p:nvSpPr>
        <p:spPr>
          <a:xfrm>
            <a:off x="3637440" y="5943600"/>
            <a:ext cx="175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cc33"/>
                </a:solidFill>
                <a:latin typeface="Comic Sans MS"/>
              </a:rPr>
              <a:t>pH &lt; 5.3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7" dur="indefinite" restart="never" nodeType="tmRoot">
          <p:childTnLst>
            <p:seq>
              <p:cTn id="638" dur="indefinite" nodeType="mainSeq">
                <p:childTnLst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3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6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9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nodeType="clickEffect" fill="hold">
                      <p:stCondLst>
                        <p:cond delay="indefinite"/>
                      </p:stCondLst>
                      <p:childTnLst>
                        <p:par>
                          <p:cTn id="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4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7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0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5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8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6" name="Group 2"/>
          <p:cNvGrpSpPr/>
          <p:nvPr/>
        </p:nvGrpSpPr>
        <p:grpSpPr>
          <a:xfrm>
            <a:off x="380880" y="1066680"/>
            <a:ext cx="8391600" cy="5151240"/>
            <a:chOff x="380880" y="1066680"/>
            <a:chExt cx="8391600" cy="5151240"/>
          </a:xfrm>
        </p:grpSpPr>
        <p:pic>
          <p:nvPicPr>
            <p:cNvPr id="417" name="Picture 3" descr="periodic_table"/>
            <p:cNvPicPr/>
            <p:nvPr/>
          </p:nvPicPr>
          <p:blipFill>
            <a:blip r:embed="rId1"/>
            <a:srcRect l="0" t="7546" r="0" b="0"/>
            <a:stretch/>
          </p:blipFill>
          <p:spPr>
            <a:xfrm>
              <a:off x="380880" y="1066680"/>
              <a:ext cx="8391600" cy="515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8" name="Rectangle 4"/>
            <p:cNvSpPr/>
            <p:nvPr/>
          </p:nvSpPr>
          <p:spPr>
            <a:xfrm>
              <a:off x="2442960" y="4346280"/>
              <a:ext cx="457200" cy="45720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105</a:t>
              </a:r>
              <a:endParaRPr b="0" lang="en-US" sz="9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Db</a:t>
              </a:r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9" name="Rectangle 5"/>
            <p:cNvSpPr/>
            <p:nvPr/>
          </p:nvSpPr>
          <p:spPr>
            <a:xfrm>
              <a:off x="3357360" y="4346280"/>
              <a:ext cx="457200" cy="45720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107</a:t>
              </a:r>
              <a:endParaRPr b="0" lang="en-US" sz="9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Bh</a:t>
              </a:r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420" name="Text Box 10"/>
          <p:cNvSpPr/>
          <p:nvPr/>
        </p:nvSpPr>
        <p:spPr>
          <a:xfrm>
            <a:off x="507600" y="380880"/>
            <a:ext cx="814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Comic Sans MS"/>
              </a:rPr>
              <a:t>Behavior of oxides in water– Group A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1" name="Rectangle 22"/>
          <p:cNvSpPr/>
          <p:nvPr/>
        </p:nvSpPr>
        <p:spPr>
          <a:xfrm>
            <a:off x="609480" y="2514600"/>
            <a:ext cx="990720" cy="2362320"/>
          </a:xfrm>
          <a:prstGeom prst="rect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2" name="Rectangle 23"/>
          <p:cNvSpPr/>
          <p:nvPr/>
        </p:nvSpPr>
        <p:spPr>
          <a:xfrm>
            <a:off x="7391520" y="1981080"/>
            <a:ext cx="914400" cy="2362320"/>
          </a:xfrm>
          <a:prstGeom prst="rect">
            <a:avLst/>
          </a:pr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3" name="Rectangle 25"/>
          <p:cNvSpPr/>
          <p:nvPr/>
        </p:nvSpPr>
        <p:spPr>
          <a:xfrm>
            <a:off x="6477120" y="2514600"/>
            <a:ext cx="914400" cy="457200"/>
          </a:xfrm>
          <a:prstGeom prst="rect">
            <a:avLst/>
          </a:pr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4" name="Rectangle 26"/>
          <p:cNvSpPr/>
          <p:nvPr/>
        </p:nvSpPr>
        <p:spPr>
          <a:xfrm>
            <a:off x="609480" y="1981080"/>
            <a:ext cx="533520" cy="533520"/>
          </a:xfrm>
          <a:prstGeom prst="rect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5" name="Rectangle 27"/>
          <p:cNvSpPr/>
          <p:nvPr/>
        </p:nvSpPr>
        <p:spPr>
          <a:xfrm>
            <a:off x="1143000" y="1981080"/>
            <a:ext cx="457200" cy="53352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6" name="Rectangle 29"/>
          <p:cNvSpPr/>
          <p:nvPr/>
        </p:nvSpPr>
        <p:spPr>
          <a:xfrm>
            <a:off x="6019920" y="2514600"/>
            <a:ext cx="457200" cy="45720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7" name="Rectangle 30"/>
          <p:cNvSpPr/>
          <p:nvPr/>
        </p:nvSpPr>
        <p:spPr>
          <a:xfrm>
            <a:off x="6477120" y="2971800"/>
            <a:ext cx="914400" cy="137160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8" name="Rectangle 31"/>
          <p:cNvSpPr/>
          <p:nvPr/>
        </p:nvSpPr>
        <p:spPr>
          <a:xfrm>
            <a:off x="8001000" y="5638680"/>
            <a:ext cx="457200" cy="45720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9" name="Rectangle 33"/>
          <p:cNvSpPr/>
          <p:nvPr/>
        </p:nvSpPr>
        <p:spPr>
          <a:xfrm>
            <a:off x="1600200" y="1066680"/>
            <a:ext cx="533520" cy="533520"/>
          </a:xfrm>
          <a:prstGeom prst="rect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0" name="Rectangle 34"/>
          <p:cNvSpPr/>
          <p:nvPr/>
        </p:nvSpPr>
        <p:spPr>
          <a:xfrm>
            <a:off x="3200400" y="1066680"/>
            <a:ext cx="533520" cy="533520"/>
          </a:xfrm>
          <a:prstGeom prst="rect">
            <a:avLst/>
          </a:prstGeom>
          <a:solidFill>
            <a:srgbClr val="00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1" name="Text Box 36"/>
          <p:cNvSpPr/>
          <p:nvPr/>
        </p:nvSpPr>
        <p:spPr>
          <a:xfrm>
            <a:off x="2210040" y="1066680"/>
            <a:ext cx="91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asic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2" name="Text Box 37"/>
          <p:cNvSpPr/>
          <p:nvPr/>
        </p:nvSpPr>
        <p:spPr>
          <a:xfrm>
            <a:off x="3781800" y="1066680"/>
            <a:ext cx="183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mphoteric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3" name="Text Box 38"/>
          <p:cNvSpPr/>
          <p:nvPr/>
        </p:nvSpPr>
        <p:spPr>
          <a:xfrm>
            <a:off x="6484320" y="1066680"/>
            <a:ext cx="99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cidic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4" name="Rectangle 24"/>
          <p:cNvSpPr/>
          <p:nvPr/>
        </p:nvSpPr>
        <p:spPr>
          <a:xfrm>
            <a:off x="6019920" y="1981080"/>
            <a:ext cx="1371600" cy="533520"/>
          </a:xfrm>
          <a:prstGeom prst="rect">
            <a:avLst/>
          </a:pr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35" name="Group 11"/>
          <p:cNvGrpSpPr/>
          <p:nvPr/>
        </p:nvGrpSpPr>
        <p:grpSpPr>
          <a:xfrm>
            <a:off x="6019920" y="1981080"/>
            <a:ext cx="1828800" cy="2362320"/>
            <a:chOff x="6019920" y="1981080"/>
            <a:chExt cx="1828800" cy="2362320"/>
          </a:xfrm>
        </p:grpSpPr>
        <p:sp>
          <p:nvSpPr>
            <p:cNvPr id="436" name="Line 12"/>
            <p:cNvSpPr/>
            <p:nvPr/>
          </p:nvSpPr>
          <p:spPr>
            <a:xfrm>
              <a:off x="6019920" y="1981080"/>
              <a:ext cx="0" cy="457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7" name="Line 13"/>
            <p:cNvSpPr/>
            <p:nvPr/>
          </p:nvSpPr>
          <p:spPr>
            <a:xfrm>
              <a:off x="6019920" y="2438280"/>
              <a:ext cx="4572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8" name="Line 14"/>
            <p:cNvSpPr/>
            <p:nvPr/>
          </p:nvSpPr>
          <p:spPr>
            <a:xfrm>
              <a:off x="6477120" y="2438280"/>
              <a:ext cx="0" cy="533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9" name="Line 15"/>
            <p:cNvSpPr/>
            <p:nvPr/>
          </p:nvSpPr>
          <p:spPr>
            <a:xfrm>
              <a:off x="6477120" y="2971800"/>
              <a:ext cx="4572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0" name="Line 16"/>
            <p:cNvSpPr/>
            <p:nvPr/>
          </p:nvSpPr>
          <p:spPr>
            <a:xfrm>
              <a:off x="6934320" y="2971800"/>
              <a:ext cx="0" cy="457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1" name="Line 17"/>
            <p:cNvSpPr/>
            <p:nvPr/>
          </p:nvSpPr>
          <p:spPr>
            <a:xfrm>
              <a:off x="6934320" y="3429000"/>
              <a:ext cx="4572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2" name="Line 18"/>
            <p:cNvSpPr/>
            <p:nvPr/>
          </p:nvSpPr>
          <p:spPr>
            <a:xfrm>
              <a:off x="7391520" y="3429000"/>
              <a:ext cx="0" cy="457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3" name="Line 19"/>
            <p:cNvSpPr/>
            <p:nvPr/>
          </p:nvSpPr>
          <p:spPr>
            <a:xfrm>
              <a:off x="7391520" y="3886200"/>
              <a:ext cx="4572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4" name="Line 20"/>
            <p:cNvSpPr/>
            <p:nvPr/>
          </p:nvSpPr>
          <p:spPr>
            <a:xfrm>
              <a:off x="7848720" y="3886200"/>
              <a:ext cx="0" cy="457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445" name="Rectangle 40"/>
          <p:cNvSpPr/>
          <p:nvPr/>
        </p:nvSpPr>
        <p:spPr>
          <a:xfrm>
            <a:off x="5943600" y="1600200"/>
            <a:ext cx="2362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6" name="Rectangle 41"/>
          <p:cNvSpPr/>
          <p:nvPr/>
        </p:nvSpPr>
        <p:spPr>
          <a:xfrm>
            <a:off x="6019920" y="1600200"/>
            <a:ext cx="22860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A  4A  5A  6A  7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7" name="Rectangle 42"/>
          <p:cNvSpPr/>
          <p:nvPr/>
        </p:nvSpPr>
        <p:spPr>
          <a:xfrm>
            <a:off x="685800" y="1219320"/>
            <a:ext cx="380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8" name="Rectangle 43"/>
          <p:cNvSpPr/>
          <p:nvPr/>
        </p:nvSpPr>
        <p:spPr>
          <a:xfrm>
            <a:off x="1143000" y="1676520"/>
            <a:ext cx="380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9" name="Rectangle 44"/>
          <p:cNvSpPr/>
          <p:nvPr/>
        </p:nvSpPr>
        <p:spPr>
          <a:xfrm>
            <a:off x="8381880" y="1143000"/>
            <a:ext cx="38124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8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0" name="Rectangle 45"/>
          <p:cNvSpPr/>
          <p:nvPr/>
        </p:nvSpPr>
        <p:spPr>
          <a:xfrm>
            <a:off x="1600200" y="2590920"/>
            <a:ext cx="434340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oup 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1" name="Rectangle 35"/>
          <p:cNvSpPr/>
          <p:nvPr/>
        </p:nvSpPr>
        <p:spPr>
          <a:xfrm>
            <a:off x="5867280" y="1066680"/>
            <a:ext cx="533520" cy="533520"/>
          </a:xfrm>
          <a:prstGeom prst="rect">
            <a:avLst/>
          </a:prstGeom>
          <a:solidFill>
            <a:srgbClr val="99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2" name="Rectangle 46"/>
          <p:cNvSpPr/>
          <p:nvPr/>
        </p:nvSpPr>
        <p:spPr>
          <a:xfrm>
            <a:off x="228600" y="4876920"/>
            <a:ext cx="8686800" cy="137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3" name="Text Box 48"/>
          <p:cNvSpPr/>
          <p:nvPr/>
        </p:nvSpPr>
        <p:spPr>
          <a:xfrm>
            <a:off x="1472040" y="5029200"/>
            <a:ext cx="6302880" cy="12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basic:   Na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O  +   H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O  </a:t>
            </a:r>
            <a:r>
              <a:rPr b="0" lang="en-US" sz="32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  2NaOH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(O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omic Sans MS"/>
              </a:rPr>
              <a:t>-2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  +  H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O  </a:t>
            </a:r>
            <a:r>
              <a:rPr b="0" lang="en-US" sz="32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  2OH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omic Sans MS"/>
              </a:rPr>
              <a:t>-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4" name="Text Box 49"/>
          <p:cNvSpPr/>
          <p:nvPr/>
        </p:nvSpPr>
        <p:spPr>
          <a:xfrm>
            <a:off x="1607040" y="6172200"/>
            <a:ext cx="5882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Comic Sans MS"/>
              </a:rPr>
              <a:t>acidic:  CO</a:t>
            </a:r>
            <a:r>
              <a:rPr b="0" lang="en-US" sz="3200" spc="-1" strike="noStrike" baseline="-25000">
                <a:solidFill>
                  <a:srgbClr val="0099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9900"/>
                </a:solidFill>
                <a:latin typeface="Comic Sans MS"/>
              </a:rPr>
              <a:t>   +   H</a:t>
            </a:r>
            <a:r>
              <a:rPr b="0" lang="en-US" sz="3200" spc="-1" strike="noStrike" baseline="-25000">
                <a:solidFill>
                  <a:srgbClr val="0099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9900"/>
                </a:solidFill>
                <a:latin typeface="Comic Sans MS"/>
              </a:rPr>
              <a:t>O  </a:t>
            </a:r>
            <a:r>
              <a:rPr b="0" lang="en-US" sz="3200" spc="-1" strike="noStrike">
                <a:solidFill>
                  <a:srgbClr val="0099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9900"/>
                </a:solidFill>
                <a:latin typeface="Comic Sans MS"/>
              </a:rPr>
              <a:t>  H</a:t>
            </a:r>
            <a:r>
              <a:rPr b="0" lang="en-US" sz="3200" spc="-1" strike="noStrike" baseline="-25000">
                <a:solidFill>
                  <a:srgbClr val="0099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9900"/>
                </a:solidFill>
                <a:latin typeface="Comic Sans MS"/>
              </a:rPr>
              <a:t>CO</a:t>
            </a:r>
            <a:r>
              <a:rPr b="0" lang="en-US" sz="3200" spc="-1" strike="noStrike" baseline="-25000">
                <a:solidFill>
                  <a:srgbClr val="009900"/>
                </a:solidFill>
                <a:latin typeface="Comic Sans MS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5" name="Rectangle 1024"/>
          <p:cNvSpPr/>
          <p:nvPr/>
        </p:nvSpPr>
        <p:spPr>
          <a:xfrm>
            <a:off x="6019920" y="2971800"/>
            <a:ext cx="457200" cy="91440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6" name="Rectangle 1025"/>
          <p:cNvSpPr/>
          <p:nvPr/>
        </p:nvSpPr>
        <p:spPr>
          <a:xfrm>
            <a:off x="6019920" y="3886200"/>
            <a:ext cx="457200" cy="457200"/>
          </a:xfrm>
          <a:prstGeom prst="rect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9" dur="indefinite" restart="never" nodeType="tmRoot">
          <p:childTnLst>
            <p:seq>
              <p:cTn id="670" dur="indefinite" nodeType="mainSeq">
                <p:childTnLst>
                  <p:par>
                    <p:cTn id="671" nodeType="clickEffect" fill="hold">
                      <p:stCondLst>
                        <p:cond delay="indefinite"/>
                      </p:stCondLst>
                      <p:childTnLst>
                        <p:par>
                          <p:cTn id="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5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8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1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4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7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nodeType="clickEffect" fill="hold">
                      <p:stCondLst>
                        <p:cond delay="indefinite"/>
                      </p:stCondLst>
                      <p:childTnLst>
                        <p:par>
                          <p:cTn id="6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2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5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8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1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4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7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0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nodeType="clickEffect" fill="hold">
                      <p:stCondLst>
                        <p:cond delay="indefinite"/>
                      </p:stCondLst>
                      <p:childTnLst>
                        <p:par>
                          <p:cTn id="7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5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8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1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4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7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nodeType="clickEffect" fill="hold">
                      <p:stCondLst>
                        <p:cond delay="indefinite"/>
                      </p:stCondLst>
                      <p:childTnLst>
                        <p:par>
                          <p:cTn id="7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34" dur="1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nodeType="clickEffect" fill="hold">
                      <p:stCondLst>
                        <p:cond delay="indefinite"/>
                      </p:stCondLst>
                      <p:childTnLst>
                        <p:par>
                          <p:cTn id="7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41" dur="1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Text Box 4"/>
          <p:cNvSpPr/>
          <p:nvPr/>
        </p:nvSpPr>
        <p:spPr>
          <a:xfrm>
            <a:off x="458280" y="380880"/>
            <a:ext cx="8183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When life goes either way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mphoteric (amphiprotic) substance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9" name="Text Box 5"/>
          <p:cNvSpPr/>
          <p:nvPr/>
        </p:nvSpPr>
        <p:spPr>
          <a:xfrm>
            <a:off x="3785760" y="2133720"/>
            <a:ext cx="152172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HC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0" name="Text Box 9"/>
          <p:cNvSpPr/>
          <p:nvPr/>
        </p:nvSpPr>
        <p:spPr>
          <a:xfrm>
            <a:off x="2019960" y="4800600"/>
            <a:ext cx="14698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1" name="Text Box 10"/>
          <p:cNvSpPr/>
          <p:nvPr/>
        </p:nvSpPr>
        <p:spPr>
          <a:xfrm>
            <a:off x="5920920" y="4800600"/>
            <a:ext cx="12168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-2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62" name="Group 17"/>
          <p:cNvGrpSpPr/>
          <p:nvPr/>
        </p:nvGrpSpPr>
        <p:grpSpPr>
          <a:xfrm>
            <a:off x="1753560" y="2819520"/>
            <a:ext cx="2055960" cy="1752480"/>
            <a:chOff x="1753560" y="2819520"/>
            <a:chExt cx="2055960" cy="1752480"/>
          </a:xfrm>
        </p:grpSpPr>
        <p:sp>
          <p:nvSpPr>
            <p:cNvPr id="463" name="Line 8"/>
            <p:cNvSpPr/>
            <p:nvPr/>
          </p:nvSpPr>
          <p:spPr>
            <a:xfrm flipH="1">
              <a:off x="2819160" y="2819520"/>
              <a:ext cx="990360" cy="17524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64" name="Text Box 11"/>
            <p:cNvSpPr/>
            <p:nvPr/>
          </p:nvSpPr>
          <p:spPr>
            <a:xfrm>
              <a:off x="1753560" y="3276720"/>
              <a:ext cx="1171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+  H</a:t>
              </a:r>
              <a:r>
                <a:rPr b="0" lang="en-US" sz="3600" spc="-1" strike="noStrike" baseline="30000">
                  <a:solidFill>
                    <a:srgbClr val="000000"/>
                  </a:solidFill>
                  <a:latin typeface="Comic Sans MS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465" name="Group 18"/>
          <p:cNvGrpSpPr/>
          <p:nvPr/>
        </p:nvGrpSpPr>
        <p:grpSpPr>
          <a:xfrm>
            <a:off x="5029200" y="2819520"/>
            <a:ext cx="2116080" cy="1676160"/>
            <a:chOff x="5029200" y="2819520"/>
            <a:chExt cx="2116080" cy="1676160"/>
          </a:xfrm>
        </p:grpSpPr>
        <p:sp>
          <p:nvSpPr>
            <p:cNvPr id="466" name="Line 7"/>
            <p:cNvSpPr/>
            <p:nvPr/>
          </p:nvSpPr>
          <p:spPr>
            <a:xfrm>
              <a:off x="5029200" y="2819520"/>
              <a:ext cx="1143000" cy="16761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67" name="Text Box 12"/>
            <p:cNvSpPr/>
            <p:nvPr/>
          </p:nvSpPr>
          <p:spPr>
            <a:xfrm>
              <a:off x="6207120" y="3200400"/>
              <a:ext cx="938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- H</a:t>
              </a:r>
              <a:r>
                <a:rPr b="0" lang="en-US" sz="3600" spc="-1" strike="noStrike" baseline="30000">
                  <a:solidFill>
                    <a:srgbClr val="000000"/>
                  </a:solidFill>
                  <a:latin typeface="Comic Sans MS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468" name="Text Box 13"/>
          <p:cNvSpPr/>
          <p:nvPr/>
        </p:nvSpPr>
        <p:spPr>
          <a:xfrm>
            <a:off x="1523880" y="1981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9" name="Text Box 14"/>
          <p:cNvSpPr/>
          <p:nvPr/>
        </p:nvSpPr>
        <p:spPr>
          <a:xfrm>
            <a:off x="801360" y="2057400"/>
            <a:ext cx="2257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Acting like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a </a:t>
            </a:r>
            <a:r>
              <a:rPr b="0" lang="en-US" sz="3200" spc="-1" strike="noStrike" u="sng">
                <a:solidFill>
                  <a:srgbClr val="0033cc"/>
                </a:solidFill>
                <a:uFillTx/>
                <a:latin typeface="Comic Sans MS"/>
              </a:rPr>
              <a:t>bas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0" name="Text Box 15"/>
          <p:cNvSpPr/>
          <p:nvPr/>
        </p:nvSpPr>
        <p:spPr>
          <a:xfrm>
            <a:off x="6019920" y="2057400"/>
            <a:ext cx="2225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99"/>
                </a:solidFill>
                <a:latin typeface="Comic Sans MS"/>
              </a:rPr>
              <a:t>Acting like an </a:t>
            </a:r>
            <a:r>
              <a:rPr b="0" lang="en-US" sz="3200" spc="-1" strike="noStrike" u="sng">
                <a:solidFill>
                  <a:srgbClr val="ff6699"/>
                </a:solidFill>
                <a:uFillTx/>
                <a:latin typeface="Comic Sans MS"/>
              </a:rPr>
              <a:t>aci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1" name="Text Box 19"/>
          <p:cNvSpPr/>
          <p:nvPr/>
        </p:nvSpPr>
        <p:spPr>
          <a:xfrm>
            <a:off x="1621080" y="5715000"/>
            <a:ext cx="191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accepts H</a:t>
            </a:r>
            <a:r>
              <a:rPr b="0" lang="en-US" sz="2800" spc="-1" strike="noStrike" baseline="30000">
                <a:solidFill>
                  <a:srgbClr val="0033cc"/>
                </a:solidFill>
                <a:latin typeface="Comic Sans MS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2" name="Text Box 20"/>
          <p:cNvSpPr/>
          <p:nvPr/>
        </p:nvSpPr>
        <p:spPr>
          <a:xfrm>
            <a:off x="5550840" y="5715000"/>
            <a:ext cx="200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99"/>
                </a:solidFill>
                <a:latin typeface="Comic Sans MS"/>
              </a:rPr>
              <a:t>donates H</a:t>
            </a:r>
            <a:r>
              <a:rPr b="0" lang="en-US" sz="2800" spc="-1" strike="noStrike" baseline="30000">
                <a:solidFill>
                  <a:srgbClr val="ff6699"/>
                </a:solidFill>
                <a:latin typeface="Comic Sans MS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2" dur="indefinite" restart="never" nodeType="tmRoot">
          <p:childTnLst>
            <p:seq>
              <p:cTn id="743" dur="indefinite" nodeType="mainSeq">
                <p:childTnLst>
                  <p:par>
                    <p:cTn id="744" nodeType="clickEffect" fill="hold">
                      <p:stCondLst>
                        <p:cond delay="indefinite"/>
                      </p:stCondLst>
                      <p:childTnLst>
                        <p:par>
                          <p:cTn id="7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8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0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nodeType="clickEffect" fill="hold">
                      <p:stCondLst>
                        <p:cond delay="indefinite"/>
                      </p:stCondLst>
                      <p:childTnLst>
                        <p:par>
                          <p:cTn id="7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5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nodeType="clickEffect" fill="hold">
                      <p:stCondLst>
                        <p:cond delay="indefinite"/>
                      </p:stCondLst>
                      <p:childTnLst>
                        <p:par>
                          <p:cTn id="7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0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6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4" dur="1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5" dur="1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9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nodeType="clickEffect" fill="hold">
                      <p:stCondLst>
                        <p:cond delay="indefinite"/>
                      </p:stCondLst>
                      <p:childTnLst>
                        <p:par>
                          <p:cTn id="7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2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4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nodeType="clickEffect" fill="hold">
                      <p:stCondLst>
                        <p:cond delay="indefinite"/>
                      </p:stCondLst>
                      <p:childTnLst>
                        <p:par>
                          <p:cTn id="7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9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nodeType="clickEffect" fill="hold">
                      <p:stCondLst>
                        <p:cond delay="indefinite"/>
                      </p:stCondLst>
                      <p:childTnLst>
                        <p:par>
                          <p:cTn id="7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4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8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8" dur="1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9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4"/>
          <p:cNvSpPr/>
          <p:nvPr/>
        </p:nvSpPr>
        <p:spPr>
          <a:xfrm>
            <a:off x="0" y="2362320"/>
            <a:ext cx="5486400" cy="1066680"/>
          </a:xfrm>
          <a:prstGeom prst="rect">
            <a:avLst/>
          </a:prstGeom>
          <a:gradFill rotWithShape="0">
            <a:gsLst>
              <a:gs pos="0">
                <a:srgbClr val="760000"/>
              </a:gs>
              <a:gs pos="100000">
                <a:srgbClr val="ff00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5" name="Rectangle 6"/>
          <p:cNvSpPr/>
          <p:nvPr/>
        </p:nvSpPr>
        <p:spPr>
          <a:xfrm>
            <a:off x="5486400" y="2362320"/>
            <a:ext cx="4648320" cy="10666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76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6" name="Text Box 10"/>
          <p:cNvSpPr/>
          <p:nvPr/>
        </p:nvSpPr>
        <p:spPr>
          <a:xfrm>
            <a:off x="4103280" y="228600"/>
            <a:ext cx="869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Comic Sans MS"/>
              </a:rPr>
              <a:t>pH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7" name="Text Box 11"/>
          <p:cNvSpPr/>
          <p:nvPr/>
        </p:nvSpPr>
        <p:spPr>
          <a:xfrm>
            <a:off x="-88560" y="19810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8" name="Text Box 12"/>
          <p:cNvSpPr/>
          <p:nvPr/>
        </p:nvSpPr>
        <p:spPr>
          <a:xfrm>
            <a:off x="767880" y="19810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9" name="Text Box 13"/>
          <p:cNvSpPr/>
          <p:nvPr/>
        </p:nvSpPr>
        <p:spPr>
          <a:xfrm>
            <a:off x="1682280" y="19810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0" name="Text Box 14"/>
          <p:cNvSpPr/>
          <p:nvPr/>
        </p:nvSpPr>
        <p:spPr>
          <a:xfrm>
            <a:off x="2596680" y="19810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1" name="Text Box 15"/>
          <p:cNvSpPr/>
          <p:nvPr/>
        </p:nvSpPr>
        <p:spPr>
          <a:xfrm>
            <a:off x="3511080" y="19810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2" name="Text Box 16"/>
          <p:cNvSpPr/>
          <p:nvPr/>
        </p:nvSpPr>
        <p:spPr>
          <a:xfrm>
            <a:off x="4425480" y="19810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3" name="Text Box 18"/>
          <p:cNvSpPr/>
          <p:nvPr/>
        </p:nvSpPr>
        <p:spPr>
          <a:xfrm>
            <a:off x="6254280" y="19810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4" name="Text Box 19"/>
          <p:cNvSpPr/>
          <p:nvPr/>
        </p:nvSpPr>
        <p:spPr>
          <a:xfrm>
            <a:off x="7092720" y="19810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5" name="Text Box 20"/>
          <p:cNvSpPr/>
          <p:nvPr/>
        </p:nvSpPr>
        <p:spPr>
          <a:xfrm>
            <a:off x="7993080" y="198108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6" name="Text Box 21"/>
          <p:cNvSpPr/>
          <p:nvPr/>
        </p:nvSpPr>
        <p:spPr>
          <a:xfrm>
            <a:off x="8767080" y="198108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7" name="Line 26"/>
          <p:cNvSpPr/>
          <p:nvPr/>
        </p:nvSpPr>
        <p:spPr>
          <a:xfrm>
            <a:off x="5486400" y="2362320"/>
            <a:ext cx="0" cy="1066680"/>
          </a:xfrm>
          <a:prstGeom prst="line">
            <a:avLst/>
          </a:prstGeom>
          <a:ln w="57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8" name="Text Box 31"/>
          <p:cNvSpPr/>
          <p:nvPr/>
        </p:nvSpPr>
        <p:spPr>
          <a:xfrm>
            <a:off x="1735920" y="914400"/>
            <a:ext cx="568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biological view in the human bod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9" name="Rectangle 35"/>
          <p:cNvSpPr/>
          <p:nvPr/>
        </p:nvSpPr>
        <p:spPr>
          <a:xfrm>
            <a:off x="304920" y="2362320"/>
            <a:ext cx="1523880" cy="10666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0" name="Text Box 36"/>
          <p:cNvSpPr/>
          <p:nvPr/>
        </p:nvSpPr>
        <p:spPr>
          <a:xfrm rot="3292200">
            <a:off x="576720" y="4257000"/>
            <a:ext cx="189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astric juic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1" name="Rectangle 37"/>
          <p:cNvSpPr/>
          <p:nvPr/>
        </p:nvSpPr>
        <p:spPr>
          <a:xfrm>
            <a:off x="2286000" y="2362320"/>
            <a:ext cx="914400" cy="10666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2" name="Text Box 38"/>
          <p:cNvSpPr/>
          <p:nvPr/>
        </p:nvSpPr>
        <p:spPr>
          <a:xfrm rot="2925600">
            <a:off x="2310480" y="4296600"/>
            <a:ext cx="193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aginal flui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3" name="Rectangle 39"/>
          <p:cNvSpPr/>
          <p:nvPr/>
        </p:nvSpPr>
        <p:spPr>
          <a:xfrm>
            <a:off x="3276720" y="2362320"/>
            <a:ext cx="3124080" cy="1066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4" name="Text Box 40"/>
          <p:cNvSpPr/>
          <p:nvPr/>
        </p:nvSpPr>
        <p:spPr>
          <a:xfrm rot="2899800">
            <a:off x="4331520" y="387936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rin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5" name="Rectangle 41"/>
          <p:cNvSpPr/>
          <p:nvPr/>
        </p:nvSpPr>
        <p:spPr>
          <a:xfrm>
            <a:off x="4800600" y="2362320"/>
            <a:ext cx="457200" cy="106668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6" name="Rectangle 46"/>
          <p:cNvSpPr/>
          <p:nvPr/>
        </p:nvSpPr>
        <p:spPr>
          <a:xfrm>
            <a:off x="5562720" y="2362320"/>
            <a:ext cx="990360" cy="106668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7" name="Rectangle 42"/>
          <p:cNvSpPr/>
          <p:nvPr/>
        </p:nvSpPr>
        <p:spPr>
          <a:xfrm>
            <a:off x="5638680" y="2362320"/>
            <a:ext cx="152640" cy="10666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8" name="Line 45"/>
          <p:cNvSpPr/>
          <p:nvPr/>
        </p:nvSpPr>
        <p:spPr>
          <a:xfrm>
            <a:off x="5715000" y="2362320"/>
            <a:ext cx="0" cy="1066680"/>
          </a:xfrm>
          <a:prstGeom prst="line">
            <a:avLst/>
          </a:prstGeom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9" name="Rectangle 48"/>
          <p:cNvSpPr/>
          <p:nvPr/>
        </p:nvSpPr>
        <p:spPr>
          <a:xfrm>
            <a:off x="6019920" y="2362320"/>
            <a:ext cx="914400" cy="106668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0" name="Rectangle 27"/>
          <p:cNvSpPr/>
          <p:nvPr/>
        </p:nvSpPr>
        <p:spPr>
          <a:xfrm>
            <a:off x="0" y="2362320"/>
            <a:ext cx="9144000" cy="10666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1" name="Text Box 49"/>
          <p:cNvSpPr/>
          <p:nvPr/>
        </p:nvSpPr>
        <p:spPr>
          <a:xfrm rot="2740800">
            <a:off x="4849920" y="3778560"/>
            <a:ext cx="98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aliv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2" name="Text Box 50"/>
          <p:cNvSpPr/>
          <p:nvPr/>
        </p:nvSpPr>
        <p:spPr>
          <a:xfrm rot="2986800">
            <a:off x="5186160" y="4480200"/>
            <a:ext cx="286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erebrospinal flui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3" name="Text Box 51"/>
          <p:cNvSpPr/>
          <p:nvPr/>
        </p:nvSpPr>
        <p:spPr>
          <a:xfrm rot="2823000">
            <a:off x="5898240" y="3750840"/>
            <a:ext cx="100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loo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4" name="Text Box 52"/>
          <p:cNvSpPr/>
          <p:nvPr/>
        </p:nvSpPr>
        <p:spPr>
          <a:xfrm rot="2922000">
            <a:off x="6102000" y="4275360"/>
            <a:ext cx="24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ancreatic juic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5" name="Text Box 53"/>
          <p:cNvSpPr/>
          <p:nvPr/>
        </p:nvSpPr>
        <p:spPr>
          <a:xfrm rot="2860800">
            <a:off x="6660000" y="4388400"/>
            <a:ext cx="69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i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6" name="Text Box 54"/>
          <p:cNvSpPr/>
          <p:nvPr/>
        </p:nvSpPr>
        <p:spPr>
          <a:xfrm>
            <a:off x="3893400" y="1523880"/>
            <a:ext cx="99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cidic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7" name="Text Box 55"/>
          <p:cNvSpPr/>
          <p:nvPr/>
        </p:nvSpPr>
        <p:spPr>
          <a:xfrm>
            <a:off x="6323400" y="1523880"/>
            <a:ext cx="212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asic/alkalin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8" name="Line 56"/>
          <p:cNvSpPr/>
          <p:nvPr/>
        </p:nvSpPr>
        <p:spPr>
          <a:xfrm>
            <a:off x="5486400" y="1523880"/>
            <a:ext cx="0" cy="2514600"/>
          </a:xfrm>
          <a:prstGeom prst="line">
            <a:avLst/>
          </a:prstGeom>
          <a:ln w="38160">
            <a:solidFill>
              <a:srgbClr val="33cc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9" name="Text Box 17"/>
          <p:cNvSpPr/>
          <p:nvPr/>
        </p:nvSpPr>
        <p:spPr>
          <a:xfrm>
            <a:off x="5339880" y="19810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0" name="Text Box 57"/>
          <p:cNvSpPr/>
          <p:nvPr/>
        </p:nvSpPr>
        <p:spPr>
          <a:xfrm>
            <a:off x="651240" y="6172200"/>
            <a:ext cx="789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ortora &amp; Grabowski, 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Prin. of Anatomy &amp; Physiology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, 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ed., Wiley (2003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2" dur="indefinite" restart="never" nodeType="tmRoot">
          <p:childTnLst>
            <p:seq>
              <p:cTn id="793" dur="indefinite" nodeType="mainSeq">
                <p:childTnLst>
                  <p:par>
                    <p:cTn id="794" nodeType="clickEffect" fill="hold">
                      <p:stCondLst>
                        <p:cond delay="indefinite"/>
                      </p:stCondLst>
                      <p:childTnLst>
                        <p:par>
                          <p:cTn id="7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8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1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nodeType="clickEffect" fill="hold">
                      <p:stCondLst>
                        <p:cond delay="indefinite"/>
                      </p:stCondLst>
                      <p:childTnLst>
                        <p:par>
                          <p:cTn id="8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6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9" dur="500"/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nodeType="clickEffect" fill="hold">
                      <p:stCondLst>
                        <p:cond delay="indefinite"/>
                      </p:stCondLst>
                      <p:childTnLst>
                        <p:par>
                          <p:cTn id="8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4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7" dur="500"/>
                                        <p:tgtEl>
                                          <p:spTgt spid="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nodeType="clickEffect" fill="hold">
                      <p:stCondLst>
                        <p:cond delay="indefinite"/>
                      </p:stCondLst>
                      <p:childTnLst>
                        <p:par>
                          <p:cTn id="8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5" dur="500"/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6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827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nodeType="clickEffect" fill="hold">
                      <p:stCondLst>
                        <p:cond delay="indefinite"/>
                      </p:stCondLst>
                      <p:childTnLst>
                        <p:par>
                          <p:cTn id="8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5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8" dur="500"/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nodeType="clickEffect" fill="hold">
                      <p:stCondLst>
                        <p:cond delay="indefinite"/>
                      </p:stCondLst>
                      <p:childTnLst>
                        <p:par>
                          <p:cTn id="8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3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6" dur="500"/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nodeType="clickEffect" fill="hold">
                      <p:stCondLst>
                        <p:cond delay="indefinite"/>
                      </p:stCondLst>
                      <p:childTnLst>
                        <p:par>
                          <p:cTn id="8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1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4" dur="500"/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5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856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8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859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nodeType="clickEffect" fill="hold">
                      <p:stCondLst>
                        <p:cond delay="indefinite"/>
                      </p:stCondLst>
                      <p:childTnLst>
                        <p:par>
                          <p:cTn id="8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9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2" dur="500"/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3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874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2" name="Picture 4" descr="Enzyme_pH"/>
          <p:cNvPicPr/>
          <p:nvPr/>
        </p:nvPicPr>
        <p:blipFill>
          <a:blip r:embed="rId1"/>
          <a:stretch/>
        </p:blipFill>
        <p:spPr>
          <a:xfrm>
            <a:off x="1523880" y="1752480"/>
            <a:ext cx="6172200" cy="3525840"/>
          </a:xfrm>
          <a:prstGeom prst="rect">
            <a:avLst/>
          </a:prstGeom>
          <a:ln w="0">
            <a:noFill/>
          </a:ln>
        </p:spPr>
      </p:pic>
      <p:sp>
        <p:nvSpPr>
          <p:cNvPr id="513" name="Text Box 5"/>
          <p:cNvSpPr/>
          <p:nvPr/>
        </p:nvSpPr>
        <p:spPr>
          <a:xfrm>
            <a:off x="1219320" y="380880"/>
            <a:ext cx="6705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oes the pH influence the activity of an enzyme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4" name="Text Box 6"/>
          <p:cNvSpPr/>
          <p:nvPr/>
        </p:nvSpPr>
        <p:spPr>
          <a:xfrm>
            <a:off x="878760" y="5562720"/>
            <a:ext cx="739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Trypsin is a digestive enzyme. Where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5" name="Rectangle 7"/>
          <p:cNvSpPr/>
          <p:nvPr/>
        </p:nvSpPr>
        <p:spPr>
          <a:xfrm>
            <a:off x="5334120" y="1981080"/>
            <a:ext cx="609480" cy="2133720"/>
          </a:xfrm>
          <a:prstGeom prst="rect">
            <a:avLst/>
          </a:prstGeom>
          <a:solidFill>
            <a:srgbClr val="ff99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6" name="Text Box 8"/>
          <p:cNvSpPr/>
          <p:nvPr/>
        </p:nvSpPr>
        <p:spPr>
          <a:xfrm>
            <a:off x="1892520" y="6019920"/>
            <a:ext cx="525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5050"/>
                </a:solidFill>
                <a:latin typeface="Comic Sans MS"/>
              </a:rPr>
              <a:t>Intestinal pH range 7.0-8.5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8" dur="indefinite" restart="never" nodeType="tmRoot">
          <p:childTnLst>
            <p:seq>
              <p:cTn id="879" dur="indefinite" nodeType="mainSeq">
                <p:childTnLst>
                  <p:par>
                    <p:cTn id="880" nodeType="clickEffect" fill="hold">
                      <p:stCondLst>
                        <p:cond delay="indefinite"/>
                      </p:stCondLst>
                      <p:childTnLst>
                        <p:par>
                          <p:cTn id="8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86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nodeType="clickEffect" fill="hold">
                      <p:stCondLst>
                        <p:cond delay="indefinite"/>
                      </p:stCondLst>
                      <p:childTnLst>
                        <p:par>
                          <p:cTn id="8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1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4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16"/>
          <p:cNvSpPr/>
          <p:nvPr/>
        </p:nvSpPr>
        <p:spPr>
          <a:xfrm>
            <a:off x="1676520" y="4495680"/>
            <a:ext cx="1218960" cy="10670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Comic Sans MS"/>
              </a:rPr>
              <a:t>General proper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4190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Comic Sans MS"/>
              </a:rPr>
              <a:t>ACID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aste sou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urn litmu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act with active metals – Fe, Z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act with bas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Comic Sans MS"/>
              </a:rPr>
              <a:t>BAS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aste bitt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urn litmu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eel soapy or slippery (react with fats to make soap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act with acid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Rectangle 7"/>
          <p:cNvSpPr/>
          <p:nvPr/>
        </p:nvSpPr>
        <p:spPr>
          <a:xfrm>
            <a:off x="3048120" y="2666880"/>
            <a:ext cx="1143000" cy="38124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Rectangle 8"/>
          <p:cNvSpPr/>
          <p:nvPr/>
        </p:nvSpPr>
        <p:spPr>
          <a:xfrm>
            <a:off x="7238880" y="2666880"/>
            <a:ext cx="1143000" cy="381240"/>
          </a:xfrm>
          <a:prstGeom prst="rect">
            <a:avLst/>
          </a:prstGeom>
          <a:solidFill>
            <a:srgbClr val="ff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57" name="Group 13"/>
          <p:cNvGrpSpPr/>
          <p:nvPr/>
        </p:nvGrpSpPr>
        <p:grpSpPr>
          <a:xfrm>
            <a:off x="1676520" y="4038480"/>
            <a:ext cx="1218960" cy="1523880"/>
            <a:chOff x="1676520" y="4038480"/>
            <a:chExt cx="1218960" cy="1523880"/>
          </a:xfrm>
        </p:grpSpPr>
        <p:sp>
          <p:nvSpPr>
            <p:cNvPr id="58" name="Line 10"/>
            <p:cNvSpPr/>
            <p:nvPr/>
          </p:nvSpPr>
          <p:spPr>
            <a:xfrm>
              <a:off x="1676520" y="4038480"/>
              <a:ext cx="0" cy="1523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" name="Line 11"/>
            <p:cNvSpPr/>
            <p:nvPr/>
          </p:nvSpPr>
          <p:spPr>
            <a:xfrm>
              <a:off x="1676520" y="5562360"/>
              <a:ext cx="1218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0" name="Line 12"/>
            <p:cNvSpPr/>
            <p:nvPr/>
          </p:nvSpPr>
          <p:spPr>
            <a:xfrm>
              <a:off x="2895480" y="4038480"/>
              <a:ext cx="0" cy="1523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61" name="AutoShape 14"/>
          <p:cNvSpPr/>
          <p:nvPr/>
        </p:nvSpPr>
        <p:spPr>
          <a:xfrm flipH="1" rot="21192600">
            <a:off x="1751760" y="4114440"/>
            <a:ext cx="457200" cy="1447920"/>
          </a:xfrm>
          <a:prstGeom prst="parallelogram">
            <a:avLst>
              <a:gd name="adj" fmla="val 25694"/>
            </a:avLst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Oval 17"/>
          <p:cNvSpPr/>
          <p:nvPr/>
        </p:nvSpPr>
        <p:spPr>
          <a:xfrm>
            <a:off x="1981080" y="5257800"/>
            <a:ext cx="76320" cy="763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Oval 18"/>
          <p:cNvSpPr/>
          <p:nvPr/>
        </p:nvSpPr>
        <p:spPr>
          <a:xfrm>
            <a:off x="2133720" y="5410080"/>
            <a:ext cx="75960" cy="763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Oval 19"/>
          <p:cNvSpPr/>
          <p:nvPr/>
        </p:nvSpPr>
        <p:spPr>
          <a:xfrm>
            <a:off x="1905120" y="4800600"/>
            <a:ext cx="75960" cy="763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Oval 20"/>
          <p:cNvSpPr/>
          <p:nvPr/>
        </p:nvSpPr>
        <p:spPr>
          <a:xfrm>
            <a:off x="1981080" y="5105520"/>
            <a:ext cx="76320" cy="759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Oval 21"/>
          <p:cNvSpPr/>
          <p:nvPr/>
        </p:nvSpPr>
        <p:spPr>
          <a:xfrm>
            <a:off x="2057400" y="5105520"/>
            <a:ext cx="76320" cy="759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AutoShape 23"/>
          <p:cNvSpPr/>
          <p:nvPr/>
        </p:nvSpPr>
        <p:spPr>
          <a:xfrm rot="19766400">
            <a:off x="1752480" y="495252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AutoShape 24"/>
          <p:cNvSpPr/>
          <p:nvPr/>
        </p:nvSpPr>
        <p:spPr>
          <a:xfrm>
            <a:off x="2133720" y="5029200"/>
            <a:ext cx="152280" cy="152280"/>
          </a:xfrm>
          <a:prstGeom prst="triangle">
            <a:avLst>
              <a:gd name="adj" fmla="val 50000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AutoShape 25"/>
          <p:cNvSpPr/>
          <p:nvPr/>
        </p:nvSpPr>
        <p:spPr>
          <a:xfrm rot="720600">
            <a:off x="2057400" y="472428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AutoShape 26"/>
          <p:cNvSpPr/>
          <p:nvPr/>
        </p:nvSpPr>
        <p:spPr>
          <a:xfrm>
            <a:off x="1905120" y="5334120"/>
            <a:ext cx="152280" cy="152280"/>
          </a:xfrm>
          <a:prstGeom prst="triangle">
            <a:avLst>
              <a:gd name="adj" fmla="val 50000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AutoShape 27"/>
          <p:cNvSpPr/>
          <p:nvPr/>
        </p:nvSpPr>
        <p:spPr>
          <a:xfrm>
            <a:off x="2209680" y="5334120"/>
            <a:ext cx="152640" cy="152280"/>
          </a:xfrm>
          <a:prstGeom prst="triangle">
            <a:avLst>
              <a:gd name="adj" fmla="val 50000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1752480" y="4572000"/>
            <a:ext cx="685800" cy="914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Line 29"/>
          <p:cNvSpPr/>
          <p:nvPr/>
        </p:nvSpPr>
        <p:spPr>
          <a:xfrm>
            <a:off x="609480" y="2286000"/>
            <a:ext cx="2133720" cy="2286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Line 30"/>
          <p:cNvSpPr/>
          <p:nvPr/>
        </p:nvSpPr>
        <p:spPr>
          <a:xfrm>
            <a:off x="5029200" y="2286000"/>
            <a:ext cx="2133720" cy="2286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Text Box 1024"/>
          <p:cNvSpPr/>
          <p:nvPr/>
        </p:nvSpPr>
        <p:spPr>
          <a:xfrm>
            <a:off x="1450080" y="6491160"/>
            <a:ext cx="135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lue to red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Text Box 1025"/>
          <p:cNvSpPr/>
          <p:nvPr/>
        </p:nvSpPr>
        <p:spPr>
          <a:xfrm>
            <a:off x="6098040" y="6491160"/>
            <a:ext cx="135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d to blu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" nodeType="afterEffect" fill="hold" presetClass="emph" presetID="1" presetSubtype="2">
                                  <p:stCondLst>
                                    <p:cond delay="500"/>
                                  </p:stCondLst>
                                  <p:childTnLst>
                                    <p:animClr clrSpc="rgb">
                                      <p:cBhvr>
                                        <p:cTn id="38" dur="5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99"/>
                                      </p:to>
                                    </p:animClr>
                                    <p:set>
                                      <p:cBhvr>
                                        <p:cTn id="39" dur="5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path" presetID="64" repeatCount="indefinite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5.55112E-017 3.14021E-006 L 5.55112E-017 -0.22248 E">
                                      <p:cBhvr>
                                        <p:cTn id="54" dur="3000" fill="hold"/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5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112E-017 3.14021E-006 L 5.55112E-017 -0.22248 E">
                                      <p:cBhvr>
                                        <p:cTn id="56" dur="200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" nodeType="withEffect" fill="hold" presetClass="path" presetID="64" repeatCount="indefinite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5.55112E-017 3.14021E-006 L 5.55112E-017 -0.22248 E">
                                      <p:cBhvr>
                                        <p:cTn id="58" dur="5000" fill="hold"/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25 -0.0723 L -0.00417 -0.32815 E">
                                      <p:cBhvr>
                                        <p:cTn id="60" dur="2000" fill="hold"/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917 -0.07786 L -0.025 -0.30591 E">
                                      <p:cBhvr>
                                        <p:cTn id="62" dur="3000" fill="hold"/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3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9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" nodeType="afterEffect" fill="hold" presetClass="emph" presetID="1" presetSubtype="2">
                                  <p:stCondLst>
                                    <p:cond delay="500"/>
                                  </p:stCondLst>
                                  <p:childTnLst>
                                    <p:animClr clrSpc="rgb">
                                      <p:cBhvr>
                                        <p:cTn id="115" dur="5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ffff"/>
                                      </p:to>
                                    </p:animClr>
                                    <p:set>
                                      <p:cBhvr>
                                        <p:cTn id="116" dur="5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8" name="Picture 4" descr=""/>
          <p:cNvPicPr/>
          <p:nvPr/>
        </p:nvPicPr>
        <p:blipFill>
          <a:blip r:embed="rId1"/>
          <a:srcRect l="32004" t="22157" r="33001" b="27733"/>
          <a:stretch/>
        </p:blipFill>
        <p:spPr>
          <a:xfrm>
            <a:off x="2209680" y="1600200"/>
            <a:ext cx="4724640" cy="3643200"/>
          </a:xfrm>
          <a:prstGeom prst="rect">
            <a:avLst/>
          </a:prstGeom>
          <a:ln w="0">
            <a:noFill/>
          </a:ln>
        </p:spPr>
      </p:pic>
      <p:sp>
        <p:nvSpPr>
          <p:cNvPr id="519" name="Rectangle 8"/>
          <p:cNvSpPr/>
          <p:nvPr/>
        </p:nvSpPr>
        <p:spPr>
          <a:xfrm rot="2097000">
            <a:off x="5955840" y="3384720"/>
            <a:ext cx="76212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0" name="Oval 6"/>
          <p:cNvSpPr/>
          <p:nvPr/>
        </p:nvSpPr>
        <p:spPr>
          <a:xfrm>
            <a:off x="6019920" y="3429000"/>
            <a:ext cx="609480" cy="609480"/>
          </a:xfrm>
          <a:prstGeom prst="ellipse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1" name="Oval 5"/>
          <p:cNvSpPr/>
          <p:nvPr/>
        </p:nvSpPr>
        <p:spPr>
          <a:xfrm>
            <a:off x="5791320" y="3276720"/>
            <a:ext cx="990360" cy="990360"/>
          </a:xfrm>
          <a:prstGeom prst="ellipse">
            <a:avLst/>
          </a:prstGeom>
          <a:noFill/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2" name="Rectangle 10"/>
          <p:cNvSpPr/>
          <p:nvPr/>
        </p:nvSpPr>
        <p:spPr>
          <a:xfrm rot="19866600">
            <a:off x="3124080" y="3657600"/>
            <a:ext cx="304920" cy="152280"/>
          </a:xfrm>
          <a:prstGeom prst="rect">
            <a:avLst/>
          </a:prstGeom>
          <a:solidFill>
            <a:srgbClr val="8f94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3" name="Oval 9"/>
          <p:cNvSpPr/>
          <p:nvPr/>
        </p:nvSpPr>
        <p:spPr>
          <a:xfrm>
            <a:off x="1066680" y="4267080"/>
            <a:ext cx="609840" cy="609840"/>
          </a:xfrm>
          <a:prstGeom prst="ellipse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4" name="Text Box 11"/>
          <p:cNvSpPr/>
          <p:nvPr/>
        </p:nvSpPr>
        <p:spPr>
          <a:xfrm>
            <a:off x="609480" y="30492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amino acid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glycin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- amphoteric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t’s an acid and a base!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5" name="Text Box 12"/>
          <p:cNvSpPr/>
          <p:nvPr/>
        </p:nvSpPr>
        <p:spPr>
          <a:xfrm>
            <a:off x="7048800" y="2895480"/>
            <a:ext cx="206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Loss of H</a:t>
            </a:r>
            <a:r>
              <a:rPr b="0" lang="en-US" sz="3200" spc="-1" strike="noStrike" baseline="30000">
                <a:solidFill>
                  <a:srgbClr val="0000ff"/>
                </a:solidFill>
                <a:latin typeface="Comic Sans MS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6" name="Text Box 13"/>
          <p:cNvSpPr/>
          <p:nvPr/>
        </p:nvSpPr>
        <p:spPr>
          <a:xfrm>
            <a:off x="3240" y="2895480"/>
            <a:ext cx="209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Gain of H</a:t>
            </a:r>
            <a:r>
              <a:rPr b="0" lang="en-US" sz="3200" spc="-1" strike="noStrike" baseline="30000">
                <a:solidFill>
                  <a:srgbClr val="0000ff"/>
                </a:solidFill>
                <a:latin typeface="Comic Sans MS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7" name="Text Box 15"/>
          <p:cNvSpPr/>
          <p:nvPr/>
        </p:nvSpPr>
        <p:spPr>
          <a:xfrm>
            <a:off x="3057480" y="5943600"/>
            <a:ext cx="30780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-C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-COOH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8" name="Text Box 16"/>
          <p:cNvSpPr/>
          <p:nvPr/>
        </p:nvSpPr>
        <p:spPr>
          <a:xfrm>
            <a:off x="82800" y="5257800"/>
            <a:ext cx="32122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-C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-COOH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9" name="Text Box 17"/>
          <p:cNvSpPr/>
          <p:nvPr/>
        </p:nvSpPr>
        <p:spPr>
          <a:xfrm>
            <a:off x="6193440" y="5257800"/>
            <a:ext cx="28526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-C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-COO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0" name="Text Box 18"/>
          <p:cNvSpPr/>
          <p:nvPr/>
        </p:nvSpPr>
        <p:spPr>
          <a:xfrm>
            <a:off x="7037640" y="6400800"/>
            <a:ext cx="210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hime structur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5" dur="indefinite" restart="never" nodeType="tmRoot">
          <p:childTnLst>
            <p:seq>
              <p:cTn id="896" dur="indefinite" nodeType="mainSeq">
                <p:childTnLst>
                  <p:par>
                    <p:cTn id="897" nodeType="clickEffect" fill="hold">
                      <p:stCondLst>
                        <p:cond delay="indefinite"/>
                      </p:stCondLst>
                      <p:childTnLst>
                        <p:par>
                          <p:cTn id="8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6.79612E-007 L 0.15 0.09986 E">
                                      <p:cBhvr>
                                        <p:cTn id="902" dur="2000" fill="hold"/>
                                        <p:tgtEl>
                                          <p:spTgt spid="5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6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2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nodeType="clickEffect" fill="hold">
                      <p:stCondLst>
                        <p:cond delay="indefinite"/>
                      </p:stCondLst>
                      <p:childTnLst>
                        <p:par>
                          <p:cTn id="9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7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556E-017 -2.02497E-006 L 0.175 -0.09986 E">
                                      <p:cBhvr>
                                        <p:cTn id="918" dur="2000" fill="hold"/>
                                        <p:tgtEl>
                                          <p:spTgt spid="5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1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1" dur="500"/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5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2" name="Picture 2" descr=""/>
          <p:cNvPicPr/>
          <p:nvPr/>
        </p:nvPicPr>
        <p:blipFill>
          <a:blip r:embed="rId1"/>
          <a:srcRect l="32004" t="22157" r="33001" b="27733"/>
          <a:stretch/>
        </p:blipFill>
        <p:spPr>
          <a:xfrm>
            <a:off x="2209680" y="1600200"/>
            <a:ext cx="4724640" cy="3643200"/>
          </a:xfrm>
          <a:prstGeom prst="rect">
            <a:avLst/>
          </a:prstGeom>
          <a:ln w="0">
            <a:noFill/>
          </a:ln>
        </p:spPr>
      </p:pic>
      <p:sp>
        <p:nvSpPr>
          <p:cNvPr id="533" name="Rectangle 3"/>
          <p:cNvSpPr/>
          <p:nvPr/>
        </p:nvSpPr>
        <p:spPr>
          <a:xfrm rot="2097000">
            <a:off x="5955840" y="3384720"/>
            <a:ext cx="76212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4" name="Rectangle 6"/>
          <p:cNvSpPr/>
          <p:nvPr/>
        </p:nvSpPr>
        <p:spPr>
          <a:xfrm rot="19866600">
            <a:off x="3124080" y="3657600"/>
            <a:ext cx="304920" cy="152280"/>
          </a:xfrm>
          <a:prstGeom prst="rect">
            <a:avLst/>
          </a:prstGeom>
          <a:solidFill>
            <a:srgbClr val="8f94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5" name="Text Box 8"/>
          <p:cNvSpPr/>
          <p:nvPr/>
        </p:nvSpPr>
        <p:spPr>
          <a:xfrm>
            <a:off x="0" y="2286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amino acid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glycin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- Zwitterion formation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6" name="Text Box 10"/>
          <p:cNvSpPr/>
          <p:nvPr/>
        </p:nvSpPr>
        <p:spPr>
          <a:xfrm>
            <a:off x="1371600" y="1066680"/>
            <a:ext cx="6400800" cy="10688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Transfer of H</a:t>
            </a:r>
            <a:r>
              <a:rPr b="0" lang="en-US" sz="3200" spc="-1" strike="noStrike" baseline="30000">
                <a:solidFill>
                  <a:srgbClr val="0000ff"/>
                </a:solidFill>
                <a:latin typeface="Comic Sans MS"/>
              </a:rPr>
              <a:t>+ 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 from carboxylic acid group to amine group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7" name="Text Box 11"/>
          <p:cNvSpPr/>
          <p:nvPr/>
        </p:nvSpPr>
        <p:spPr>
          <a:xfrm>
            <a:off x="3133800" y="5257800"/>
            <a:ext cx="30780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-C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-COOH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8" name="Text Box 14"/>
          <p:cNvSpPr/>
          <p:nvPr/>
        </p:nvSpPr>
        <p:spPr>
          <a:xfrm>
            <a:off x="3142800" y="5715000"/>
            <a:ext cx="29869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-C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-COO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9" name="Oval 4"/>
          <p:cNvSpPr/>
          <p:nvPr/>
        </p:nvSpPr>
        <p:spPr>
          <a:xfrm>
            <a:off x="6019920" y="3429000"/>
            <a:ext cx="609480" cy="609480"/>
          </a:xfrm>
          <a:prstGeom prst="ellipse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0" name="Oval 15"/>
          <p:cNvSpPr/>
          <p:nvPr/>
        </p:nvSpPr>
        <p:spPr>
          <a:xfrm>
            <a:off x="2590920" y="3581280"/>
            <a:ext cx="609480" cy="609840"/>
          </a:xfrm>
          <a:prstGeom prst="ellipse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1" name="Text Box 16"/>
          <p:cNvSpPr/>
          <p:nvPr/>
        </p:nvSpPr>
        <p:spPr>
          <a:xfrm>
            <a:off x="3429000" y="3124080"/>
            <a:ext cx="380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+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2" name="Text Box 17"/>
          <p:cNvSpPr/>
          <p:nvPr/>
        </p:nvSpPr>
        <p:spPr>
          <a:xfrm>
            <a:off x="5745240" y="2819520"/>
            <a:ext cx="377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-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3" name="Text Box 18"/>
          <p:cNvSpPr/>
          <p:nvPr/>
        </p:nvSpPr>
        <p:spPr>
          <a:xfrm>
            <a:off x="6994440" y="4495680"/>
            <a:ext cx="2149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dipolar ion form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4" name="Text Box 19"/>
          <p:cNvSpPr/>
          <p:nvPr/>
        </p:nvSpPr>
        <p:spPr>
          <a:xfrm>
            <a:off x="1295280" y="627840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tramolecular acid-base reac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5" name="Oval 5"/>
          <p:cNvSpPr/>
          <p:nvPr/>
        </p:nvSpPr>
        <p:spPr>
          <a:xfrm>
            <a:off x="5791320" y="3276720"/>
            <a:ext cx="990360" cy="990360"/>
          </a:xfrm>
          <a:prstGeom prst="ellipse">
            <a:avLst/>
          </a:prstGeom>
          <a:noFill/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6" name="Text Box 20"/>
          <p:cNvSpPr/>
          <p:nvPr/>
        </p:nvSpPr>
        <p:spPr>
          <a:xfrm>
            <a:off x="365040" y="535932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7" name="Text Box 21"/>
          <p:cNvSpPr/>
          <p:nvPr/>
        </p:nvSpPr>
        <p:spPr>
          <a:xfrm>
            <a:off x="360" y="5638680"/>
            <a:ext cx="210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hime structur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936" dur="indefinite" restart="never" nodeType="tmRoot">
          <p:childTnLst>
            <p:seq>
              <p:cTn id="937" dur="indefinite" nodeType="mainSeq">
                <p:childTnLst>
                  <p:par>
                    <p:cTn id="938" nodeType="clickEffect" fill="hold">
                      <p:stCondLst>
                        <p:cond delay="indefinite"/>
                      </p:stCondLst>
                      <p:childTnLst>
                        <p:par>
                          <p:cTn id="9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4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1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022E-016 2.8294E-006 L -0.37917 0.01664 E">
                                      <p:cBhvr>
                                        <p:cTn id="952" dur="1000" fill="hold"/>
                                        <p:tgtEl>
                                          <p:spTgt spid="5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6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nodeType="clickEffect" fill="hold">
                      <p:stCondLst>
                        <p:cond delay="indefinite"/>
                      </p:stCondLst>
                      <p:childTnLst>
                        <p:par>
                          <p:cTn id="9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63" dur="10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6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7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9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2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3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nodeType="clickEffect" fill="hold">
                      <p:stCondLst>
                        <p:cond delay="indefinite"/>
                      </p:stCondLst>
                      <p:childTnLst>
                        <p:par>
                          <p:cTn id="9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81" dur="10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Text Box 4"/>
          <p:cNvSpPr/>
          <p:nvPr/>
        </p:nvSpPr>
        <p:spPr>
          <a:xfrm>
            <a:off x="507240" y="457200"/>
            <a:ext cx="798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Comic Sans MS"/>
              </a:rPr>
              <a:t>Show how water can be amphoteric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0" name="Text Box 5"/>
          <p:cNvSpPr/>
          <p:nvPr/>
        </p:nvSpPr>
        <p:spPr>
          <a:xfrm>
            <a:off x="3915000" y="1981080"/>
            <a:ext cx="102816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551" name="Group 6"/>
          <p:cNvGrpSpPr/>
          <p:nvPr/>
        </p:nvGrpSpPr>
        <p:grpSpPr>
          <a:xfrm>
            <a:off x="1753560" y="2819520"/>
            <a:ext cx="2055960" cy="1752480"/>
            <a:chOff x="1753560" y="2819520"/>
            <a:chExt cx="2055960" cy="1752480"/>
          </a:xfrm>
        </p:grpSpPr>
        <p:sp>
          <p:nvSpPr>
            <p:cNvPr id="552" name="Line 7"/>
            <p:cNvSpPr/>
            <p:nvPr/>
          </p:nvSpPr>
          <p:spPr>
            <a:xfrm flipH="1">
              <a:off x="2819160" y="2819520"/>
              <a:ext cx="990360" cy="17524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53" name="Text Box 8"/>
            <p:cNvSpPr/>
            <p:nvPr/>
          </p:nvSpPr>
          <p:spPr>
            <a:xfrm>
              <a:off x="1753560" y="3276720"/>
              <a:ext cx="1171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+  H</a:t>
              </a:r>
              <a:r>
                <a:rPr b="0" lang="en-US" sz="3600" spc="-1" strike="noStrike" baseline="30000">
                  <a:solidFill>
                    <a:srgbClr val="000000"/>
                  </a:solidFill>
                  <a:latin typeface="Comic Sans MS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554" name="Group 9"/>
          <p:cNvGrpSpPr/>
          <p:nvPr/>
        </p:nvGrpSpPr>
        <p:grpSpPr>
          <a:xfrm>
            <a:off x="5029200" y="2819520"/>
            <a:ext cx="2116080" cy="1676160"/>
            <a:chOff x="5029200" y="2819520"/>
            <a:chExt cx="2116080" cy="1676160"/>
          </a:xfrm>
        </p:grpSpPr>
        <p:sp>
          <p:nvSpPr>
            <p:cNvPr id="555" name="Line 10"/>
            <p:cNvSpPr/>
            <p:nvPr/>
          </p:nvSpPr>
          <p:spPr>
            <a:xfrm>
              <a:off x="5029200" y="2819520"/>
              <a:ext cx="1143000" cy="16761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56" name="Text Box 11"/>
            <p:cNvSpPr/>
            <p:nvPr/>
          </p:nvSpPr>
          <p:spPr>
            <a:xfrm>
              <a:off x="6207120" y="3200400"/>
              <a:ext cx="938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- H</a:t>
              </a:r>
              <a:r>
                <a:rPr b="0" lang="en-US" sz="3600" spc="-1" strike="noStrike" baseline="30000">
                  <a:solidFill>
                    <a:srgbClr val="000000"/>
                  </a:solidFill>
                  <a:latin typeface="Comic Sans MS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5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2" dur="indefinite" restart="never" nodeType="tmRoot">
          <p:childTnLst>
            <p:seq>
              <p:cTn id="983" dur="indefinite" nodeType="mainSeq">
                <p:childTnLst>
                  <p:par>
                    <p:cTn id="984" nodeType="clickEffect" fill="hold">
                      <p:stCondLst>
                        <p:cond delay="indefinite"/>
                      </p:stCondLst>
                      <p:childTnLst>
                        <p:par>
                          <p:cTn id="9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8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9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0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nodeType="clickEffect" fill="hold">
                      <p:stCondLst>
                        <p:cond delay="indefinite"/>
                      </p:stCondLst>
                      <p:childTnLst>
                        <p:par>
                          <p:cTn id="9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5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6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7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AutoShape 4"/>
          <p:cNvSpPr/>
          <p:nvPr/>
        </p:nvSpPr>
        <p:spPr>
          <a:xfrm>
            <a:off x="1676520" y="4495680"/>
            <a:ext cx="1295280" cy="762120"/>
          </a:xfrm>
          <a:prstGeom prst="can">
            <a:avLst>
              <a:gd name="adj" fmla="val 35625"/>
            </a:avLst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9" name="Text Box 2"/>
          <p:cNvSpPr/>
          <p:nvPr/>
        </p:nvSpPr>
        <p:spPr>
          <a:xfrm>
            <a:off x="3474720" y="228600"/>
            <a:ext cx="2255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Dilu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0" name="AutoShape 5"/>
          <p:cNvSpPr/>
          <p:nvPr/>
        </p:nvSpPr>
        <p:spPr>
          <a:xfrm>
            <a:off x="1676520" y="4038480"/>
            <a:ext cx="1295280" cy="1219320"/>
          </a:xfrm>
          <a:prstGeom prst="can">
            <a:avLst>
              <a:gd name="adj" fmla="val 24347"/>
            </a:avLst>
          </a:prstGeom>
          <a:solidFill>
            <a:srgbClr val="b800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1" name="AutoShape 6"/>
          <p:cNvSpPr/>
          <p:nvPr/>
        </p:nvSpPr>
        <p:spPr>
          <a:xfrm>
            <a:off x="1676520" y="3581280"/>
            <a:ext cx="1295280" cy="1676520"/>
          </a:xfrm>
          <a:prstGeom prst="can">
            <a:avLst>
              <a:gd name="adj" fmla="val 17990"/>
            </a:avLst>
          </a:prstGeom>
          <a:solidFill>
            <a:srgbClr val="ea00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2" name="AutoShape 7"/>
          <p:cNvSpPr/>
          <p:nvPr/>
        </p:nvSpPr>
        <p:spPr>
          <a:xfrm>
            <a:off x="1676520" y="3124080"/>
            <a:ext cx="1295280" cy="2133720"/>
          </a:xfrm>
          <a:prstGeom prst="can">
            <a:avLst>
              <a:gd name="adj" fmla="val 14583"/>
            </a:avLst>
          </a:prstGeom>
          <a:solidFill>
            <a:srgbClr val="ff4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3" name="AutoShape 8"/>
          <p:cNvSpPr/>
          <p:nvPr/>
        </p:nvSpPr>
        <p:spPr>
          <a:xfrm>
            <a:off x="1676520" y="2666880"/>
            <a:ext cx="1295280" cy="2590920"/>
          </a:xfrm>
          <a:prstGeom prst="can">
            <a:avLst>
              <a:gd name="adj" fmla="val 10416"/>
            </a:avLst>
          </a:prstGeom>
          <a:solidFill>
            <a:srgbClr val="ff85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4" name="AutoShape 3"/>
          <p:cNvSpPr/>
          <p:nvPr/>
        </p:nvSpPr>
        <p:spPr>
          <a:xfrm>
            <a:off x="1676520" y="1523880"/>
            <a:ext cx="1295280" cy="3733920"/>
          </a:xfrm>
          <a:prstGeom prst="can">
            <a:avLst>
              <a:gd name="adj" fmla="val 8546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565" name="Group 198"/>
          <p:cNvGrpSpPr/>
          <p:nvPr/>
        </p:nvGrpSpPr>
        <p:grpSpPr>
          <a:xfrm>
            <a:off x="3838320" y="1422720"/>
            <a:ext cx="320040" cy="225360"/>
            <a:chOff x="3838320" y="1422720"/>
            <a:chExt cx="320040" cy="225360"/>
          </a:xfrm>
        </p:grpSpPr>
        <p:sp>
          <p:nvSpPr>
            <p:cNvPr id="566" name="Oval 199"/>
            <p:cNvSpPr/>
            <p:nvPr/>
          </p:nvSpPr>
          <p:spPr>
            <a:xfrm rot="7801800">
              <a:off x="3924720" y="1466280"/>
              <a:ext cx="154080" cy="1490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67" name="Oval 200"/>
            <p:cNvSpPr/>
            <p:nvPr/>
          </p:nvSpPr>
          <p:spPr>
            <a:xfrm rot="7801800">
              <a:off x="4066200" y="1438920"/>
              <a:ext cx="77400" cy="74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68" name="Oval 201"/>
            <p:cNvSpPr/>
            <p:nvPr/>
          </p:nvSpPr>
          <p:spPr>
            <a:xfrm rot="7801800">
              <a:off x="3853080" y="1461240"/>
              <a:ext cx="77400" cy="74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569" name="Group 229"/>
          <p:cNvGrpSpPr/>
          <p:nvPr/>
        </p:nvGrpSpPr>
        <p:grpSpPr>
          <a:xfrm>
            <a:off x="2133720" y="4495320"/>
            <a:ext cx="3581280" cy="1148040"/>
            <a:chOff x="2133720" y="4495320"/>
            <a:chExt cx="3581280" cy="1148040"/>
          </a:xfrm>
        </p:grpSpPr>
        <p:grpSp>
          <p:nvGrpSpPr>
            <p:cNvPr id="570" name="Group 15"/>
            <p:cNvGrpSpPr/>
            <p:nvPr/>
          </p:nvGrpSpPr>
          <p:grpSpPr>
            <a:xfrm>
              <a:off x="2133720" y="4495320"/>
              <a:ext cx="3581280" cy="1143360"/>
              <a:chOff x="2133720" y="4495320"/>
              <a:chExt cx="3581280" cy="1143360"/>
            </a:xfrm>
          </p:grpSpPr>
          <p:sp>
            <p:nvSpPr>
              <p:cNvPr id="571" name="Rectangle 11"/>
              <p:cNvSpPr/>
              <p:nvPr/>
            </p:nvSpPr>
            <p:spPr>
              <a:xfrm>
                <a:off x="3962520" y="4495680"/>
                <a:ext cx="1752480" cy="1143000"/>
              </a:xfrm>
              <a:prstGeom prst="rect">
                <a:avLst/>
              </a:prstGeom>
              <a:solidFill>
                <a:srgbClr val="c0c0c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72" name="Oval 12"/>
              <p:cNvSpPr/>
              <p:nvPr/>
            </p:nvSpPr>
            <p:spPr>
              <a:xfrm>
                <a:off x="2133720" y="4876920"/>
                <a:ext cx="304560" cy="30456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73" name="Line 13"/>
              <p:cNvSpPr/>
              <p:nvPr/>
            </p:nvSpPr>
            <p:spPr>
              <a:xfrm flipV="1">
                <a:off x="2286000" y="4495320"/>
                <a:ext cx="1676520" cy="381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74" name="Line 14"/>
              <p:cNvSpPr/>
              <p:nvPr/>
            </p:nvSpPr>
            <p:spPr>
              <a:xfrm>
                <a:off x="2286000" y="5181480"/>
                <a:ext cx="167652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575" name="Group 16"/>
            <p:cNvGrpSpPr/>
            <p:nvPr/>
          </p:nvGrpSpPr>
          <p:grpSpPr>
            <a:xfrm>
              <a:off x="4371480" y="4756680"/>
              <a:ext cx="1289880" cy="852120"/>
              <a:chOff x="4371480" y="4756680"/>
              <a:chExt cx="1289880" cy="852120"/>
            </a:xfrm>
          </p:grpSpPr>
          <p:grpSp>
            <p:nvGrpSpPr>
              <p:cNvPr id="576" name="Group 17"/>
              <p:cNvGrpSpPr/>
              <p:nvPr/>
            </p:nvGrpSpPr>
            <p:grpSpPr>
              <a:xfrm>
                <a:off x="4680360" y="5290920"/>
                <a:ext cx="236880" cy="317880"/>
                <a:chOff x="4680360" y="5290920"/>
                <a:chExt cx="236880" cy="317880"/>
              </a:xfrm>
            </p:grpSpPr>
            <p:sp>
              <p:nvSpPr>
                <p:cNvPr id="577" name="Oval 18"/>
                <p:cNvSpPr/>
                <p:nvPr/>
              </p:nvSpPr>
              <p:spPr>
                <a:xfrm rot="3591600">
                  <a:off x="4734000" y="5388120"/>
                  <a:ext cx="156240" cy="15228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78" name="Oval 19"/>
                <p:cNvSpPr/>
                <p:nvPr/>
              </p:nvSpPr>
              <p:spPr>
                <a:xfrm rot="3591600">
                  <a:off x="4746600" y="5305680"/>
                  <a:ext cx="78480" cy="763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79" name="Oval 20"/>
                <p:cNvSpPr/>
                <p:nvPr/>
              </p:nvSpPr>
              <p:spPr>
                <a:xfrm rot="3591600">
                  <a:off x="4693680" y="5517360"/>
                  <a:ext cx="78480" cy="763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580" name="Group 21"/>
              <p:cNvGrpSpPr/>
              <p:nvPr/>
            </p:nvGrpSpPr>
            <p:grpSpPr>
              <a:xfrm>
                <a:off x="5029560" y="4800600"/>
                <a:ext cx="226440" cy="232920"/>
                <a:chOff x="5029560" y="4800600"/>
                <a:chExt cx="226440" cy="232920"/>
              </a:xfrm>
            </p:grpSpPr>
            <p:sp>
              <p:nvSpPr>
                <p:cNvPr id="581" name="Oval 22"/>
                <p:cNvSpPr/>
                <p:nvPr/>
              </p:nvSpPr>
              <p:spPr>
                <a:xfrm>
                  <a:off x="5105160" y="4800600"/>
                  <a:ext cx="150840" cy="15516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82" name="Oval 23"/>
                <p:cNvSpPr/>
                <p:nvPr/>
              </p:nvSpPr>
              <p:spPr>
                <a:xfrm>
                  <a:off x="5029560" y="4800600"/>
                  <a:ext cx="75600" cy="777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640" bIns="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83" name="Oval 24"/>
                <p:cNvSpPr/>
                <p:nvPr/>
              </p:nvSpPr>
              <p:spPr>
                <a:xfrm>
                  <a:off x="5180400" y="4955760"/>
                  <a:ext cx="75600" cy="777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640" bIns="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584" name="Group 25"/>
              <p:cNvGrpSpPr/>
              <p:nvPr/>
            </p:nvGrpSpPr>
            <p:grpSpPr>
              <a:xfrm>
                <a:off x="4371840" y="4928040"/>
                <a:ext cx="320040" cy="225360"/>
                <a:chOff x="4371840" y="4928040"/>
                <a:chExt cx="320040" cy="225360"/>
              </a:xfrm>
            </p:grpSpPr>
            <p:sp>
              <p:nvSpPr>
                <p:cNvPr id="585" name="Oval 26"/>
                <p:cNvSpPr/>
                <p:nvPr/>
              </p:nvSpPr>
              <p:spPr>
                <a:xfrm rot="7801800">
                  <a:off x="4458240" y="4971600"/>
                  <a:ext cx="154080" cy="14904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86" name="Oval 27"/>
                <p:cNvSpPr/>
                <p:nvPr/>
              </p:nvSpPr>
              <p:spPr>
                <a:xfrm rot="7801800">
                  <a:off x="4599720" y="4944240"/>
                  <a:ext cx="77400" cy="745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120" bIns="61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87" name="Oval 28"/>
                <p:cNvSpPr/>
                <p:nvPr/>
              </p:nvSpPr>
              <p:spPr>
                <a:xfrm rot="7801800">
                  <a:off x="4386600" y="4966560"/>
                  <a:ext cx="77400" cy="745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120" bIns="61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588" name="Group 29"/>
              <p:cNvGrpSpPr/>
              <p:nvPr/>
            </p:nvGrpSpPr>
            <p:grpSpPr>
              <a:xfrm>
                <a:off x="5208840" y="4756680"/>
                <a:ext cx="222480" cy="320400"/>
                <a:chOff x="5208840" y="4756680"/>
                <a:chExt cx="222480" cy="320400"/>
              </a:xfrm>
            </p:grpSpPr>
            <p:sp>
              <p:nvSpPr>
                <p:cNvPr id="589" name="Oval 30"/>
                <p:cNvSpPr/>
                <p:nvPr/>
              </p:nvSpPr>
              <p:spPr>
                <a:xfrm rot="13130400">
                  <a:off x="5240160" y="4846320"/>
                  <a:ext cx="149040" cy="15408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90" name="Oval 31"/>
                <p:cNvSpPr/>
                <p:nvPr/>
              </p:nvSpPr>
              <p:spPr>
                <a:xfrm rot="13130400">
                  <a:off x="5340600" y="4984560"/>
                  <a:ext cx="74520" cy="774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280" bIns="8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91" name="Oval 32"/>
                <p:cNvSpPr/>
                <p:nvPr/>
              </p:nvSpPr>
              <p:spPr>
                <a:xfrm rot="13130400">
                  <a:off x="5321160" y="4771080"/>
                  <a:ext cx="74520" cy="774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280" bIns="8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592" name="Group 33"/>
              <p:cNvGrpSpPr/>
              <p:nvPr/>
            </p:nvGrpSpPr>
            <p:grpSpPr>
              <a:xfrm>
                <a:off x="5438520" y="4908960"/>
                <a:ext cx="222840" cy="320040"/>
                <a:chOff x="5438520" y="4908960"/>
                <a:chExt cx="222840" cy="320040"/>
              </a:xfrm>
            </p:grpSpPr>
            <p:sp>
              <p:nvSpPr>
                <p:cNvPr id="593" name="Oval 34"/>
                <p:cNvSpPr/>
                <p:nvPr/>
              </p:nvSpPr>
              <p:spPr>
                <a:xfrm rot="13130400">
                  <a:off x="5470200" y="4998240"/>
                  <a:ext cx="148680" cy="15408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94" name="Oval 35"/>
                <p:cNvSpPr/>
                <p:nvPr/>
              </p:nvSpPr>
              <p:spPr>
                <a:xfrm rot="13130400">
                  <a:off x="5570640" y="5136480"/>
                  <a:ext cx="74520" cy="774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280" bIns="8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95" name="Oval 36"/>
                <p:cNvSpPr/>
                <p:nvPr/>
              </p:nvSpPr>
              <p:spPr>
                <a:xfrm rot="13130400">
                  <a:off x="5551200" y="4923360"/>
                  <a:ext cx="74520" cy="774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280" bIns="8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596" name="Group 37"/>
              <p:cNvGrpSpPr/>
              <p:nvPr/>
            </p:nvGrpSpPr>
            <p:grpSpPr>
              <a:xfrm>
                <a:off x="5057640" y="5308920"/>
                <a:ext cx="320040" cy="225360"/>
                <a:chOff x="5057640" y="5308920"/>
                <a:chExt cx="320040" cy="225360"/>
              </a:xfrm>
            </p:grpSpPr>
            <p:sp>
              <p:nvSpPr>
                <p:cNvPr id="597" name="Oval 38"/>
                <p:cNvSpPr/>
                <p:nvPr/>
              </p:nvSpPr>
              <p:spPr>
                <a:xfrm rot="7801800">
                  <a:off x="5144040" y="5352480"/>
                  <a:ext cx="154080" cy="14904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98" name="Oval 39"/>
                <p:cNvSpPr/>
                <p:nvPr/>
              </p:nvSpPr>
              <p:spPr>
                <a:xfrm rot="7801800">
                  <a:off x="5285520" y="5325120"/>
                  <a:ext cx="77400" cy="745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120" bIns="61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99" name="Oval 40"/>
                <p:cNvSpPr/>
                <p:nvPr/>
              </p:nvSpPr>
              <p:spPr>
                <a:xfrm rot="7801800">
                  <a:off x="5072400" y="5347440"/>
                  <a:ext cx="77400" cy="745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120" bIns="61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600" name="Group 41"/>
              <p:cNvGrpSpPr/>
              <p:nvPr/>
            </p:nvGrpSpPr>
            <p:grpSpPr>
              <a:xfrm>
                <a:off x="4601160" y="5085000"/>
                <a:ext cx="322200" cy="223920"/>
                <a:chOff x="4601160" y="5085000"/>
                <a:chExt cx="322200" cy="223920"/>
              </a:xfrm>
            </p:grpSpPr>
            <p:sp>
              <p:nvSpPr>
                <p:cNvPr id="601" name="Oval 42"/>
                <p:cNvSpPr/>
                <p:nvPr/>
              </p:nvSpPr>
              <p:spPr>
                <a:xfrm rot="7801800">
                  <a:off x="4690440" y="5125320"/>
                  <a:ext cx="152280" cy="15228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02" name="Oval 43"/>
                <p:cNvSpPr/>
                <p:nvPr/>
              </p:nvSpPr>
              <p:spPr>
                <a:xfrm rot="7801800">
                  <a:off x="4831200" y="5100120"/>
                  <a:ext cx="76320" cy="763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03" name="Oval 44"/>
                <p:cNvSpPr/>
                <p:nvPr/>
              </p:nvSpPr>
              <p:spPr>
                <a:xfrm rot="7801800">
                  <a:off x="4616640" y="5118840"/>
                  <a:ext cx="76320" cy="763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604" name="Group 45"/>
              <p:cNvGrpSpPr/>
              <p:nvPr/>
            </p:nvGrpSpPr>
            <p:grpSpPr>
              <a:xfrm>
                <a:off x="5362200" y="4984560"/>
                <a:ext cx="219960" cy="321480"/>
                <a:chOff x="5362200" y="4984560"/>
                <a:chExt cx="219960" cy="321480"/>
              </a:xfrm>
            </p:grpSpPr>
            <p:sp>
              <p:nvSpPr>
                <p:cNvPr id="605" name="Oval 46"/>
                <p:cNvSpPr/>
                <p:nvPr/>
              </p:nvSpPr>
              <p:spPr>
                <a:xfrm rot="13249200">
                  <a:off x="5394240" y="5073120"/>
                  <a:ext cx="149040" cy="15408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06" name="Oval 47"/>
                <p:cNvSpPr/>
                <p:nvPr/>
              </p:nvSpPr>
              <p:spPr>
                <a:xfrm rot="13249200">
                  <a:off x="5491080" y="5213520"/>
                  <a:ext cx="74520" cy="774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280" bIns="8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07" name="Oval 48"/>
                <p:cNvSpPr/>
                <p:nvPr/>
              </p:nvSpPr>
              <p:spPr>
                <a:xfrm rot="13249200">
                  <a:off x="5478840" y="4999320"/>
                  <a:ext cx="74520" cy="774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280" bIns="8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608" name="Group 49"/>
              <p:cNvGrpSpPr/>
              <p:nvPr/>
            </p:nvGrpSpPr>
            <p:grpSpPr>
              <a:xfrm>
                <a:off x="4371480" y="5060880"/>
                <a:ext cx="219960" cy="321480"/>
                <a:chOff x="4371480" y="5060880"/>
                <a:chExt cx="219960" cy="321480"/>
              </a:xfrm>
            </p:grpSpPr>
            <p:sp>
              <p:nvSpPr>
                <p:cNvPr id="609" name="Oval 50"/>
                <p:cNvSpPr/>
                <p:nvPr/>
              </p:nvSpPr>
              <p:spPr>
                <a:xfrm rot="13249200">
                  <a:off x="4403520" y="5149440"/>
                  <a:ext cx="149040" cy="15408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10" name="Oval 51"/>
                <p:cNvSpPr/>
                <p:nvPr/>
              </p:nvSpPr>
              <p:spPr>
                <a:xfrm rot="13249200">
                  <a:off x="4500360" y="5289840"/>
                  <a:ext cx="74520" cy="774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280" bIns="8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11" name="Oval 52"/>
                <p:cNvSpPr/>
                <p:nvPr/>
              </p:nvSpPr>
              <p:spPr>
                <a:xfrm rot="13249200">
                  <a:off x="4488120" y="5075640"/>
                  <a:ext cx="74520" cy="774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280" bIns="8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grpSp>
          <p:nvGrpSpPr>
            <p:cNvPr id="612" name="Group 53"/>
            <p:cNvGrpSpPr/>
            <p:nvPr/>
          </p:nvGrpSpPr>
          <p:grpSpPr>
            <a:xfrm>
              <a:off x="4012920" y="4511520"/>
              <a:ext cx="1296360" cy="887040"/>
              <a:chOff x="4012920" y="4511520"/>
              <a:chExt cx="1296360" cy="887040"/>
            </a:xfrm>
          </p:grpSpPr>
          <p:grpSp>
            <p:nvGrpSpPr>
              <p:cNvPr id="613" name="Group 54"/>
              <p:cNvGrpSpPr/>
              <p:nvPr/>
            </p:nvGrpSpPr>
            <p:grpSpPr>
              <a:xfrm>
                <a:off x="4737240" y="4511520"/>
                <a:ext cx="234000" cy="321840"/>
                <a:chOff x="4737240" y="4511520"/>
                <a:chExt cx="234000" cy="321840"/>
              </a:xfrm>
            </p:grpSpPr>
            <p:sp>
              <p:nvSpPr>
                <p:cNvPr id="614" name="Oval 55"/>
                <p:cNvSpPr/>
                <p:nvPr/>
              </p:nvSpPr>
              <p:spPr>
                <a:xfrm rot="14194800">
                  <a:off x="4765680" y="4584600"/>
                  <a:ext cx="156240" cy="15228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15" name="Oval 56"/>
                <p:cNvSpPr/>
                <p:nvPr/>
              </p:nvSpPr>
              <p:spPr>
                <a:xfrm rot="14194800">
                  <a:off x="4837680" y="4741200"/>
                  <a:ext cx="78480" cy="763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16" name="Oval 57"/>
                <p:cNvSpPr/>
                <p:nvPr/>
              </p:nvSpPr>
              <p:spPr>
                <a:xfrm rot="14194800">
                  <a:off x="4878360" y="4527000"/>
                  <a:ext cx="78480" cy="763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617" name="Group 58"/>
              <p:cNvGrpSpPr/>
              <p:nvPr/>
            </p:nvGrpSpPr>
            <p:grpSpPr>
              <a:xfrm>
                <a:off x="4425480" y="5112000"/>
                <a:ext cx="239400" cy="237240"/>
                <a:chOff x="4425480" y="5112000"/>
                <a:chExt cx="239400" cy="237240"/>
              </a:xfrm>
            </p:grpSpPr>
            <p:sp>
              <p:nvSpPr>
                <p:cNvPr id="618" name="Oval 59"/>
                <p:cNvSpPr/>
                <p:nvPr/>
              </p:nvSpPr>
              <p:spPr>
                <a:xfrm rot="10603200">
                  <a:off x="4434120" y="5189760"/>
                  <a:ext cx="150840" cy="15516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19" name="Oval 60"/>
                <p:cNvSpPr/>
                <p:nvPr/>
              </p:nvSpPr>
              <p:spPr>
                <a:xfrm rot="10603200">
                  <a:off x="4586760" y="5260680"/>
                  <a:ext cx="75600" cy="777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640" bIns="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20" name="Oval 61"/>
                <p:cNvSpPr/>
                <p:nvPr/>
              </p:nvSpPr>
              <p:spPr>
                <a:xfrm rot="10603200">
                  <a:off x="4427280" y="5114160"/>
                  <a:ext cx="75600" cy="777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640" bIns="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621" name="Group 62"/>
              <p:cNvGrpSpPr/>
              <p:nvPr/>
            </p:nvGrpSpPr>
            <p:grpSpPr>
              <a:xfrm>
                <a:off x="4991760" y="4956120"/>
                <a:ext cx="317520" cy="230400"/>
                <a:chOff x="4991760" y="4956120"/>
                <a:chExt cx="317520" cy="230400"/>
              </a:xfrm>
            </p:grpSpPr>
            <p:sp>
              <p:nvSpPr>
                <p:cNvPr id="622" name="Oval 63"/>
                <p:cNvSpPr/>
                <p:nvPr/>
              </p:nvSpPr>
              <p:spPr>
                <a:xfrm rot="18405000">
                  <a:off x="5066640" y="4987800"/>
                  <a:ext cx="154080" cy="14904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23" name="Oval 64"/>
                <p:cNvSpPr/>
                <p:nvPr/>
              </p:nvSpPr>
              <p:spPr>
                <a:xfrm rot="18405000">
                  <a:off x="5005800" y="5095800"/>
                  <a:ext cx="77400" cy="745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120" bIns="61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24" name="Oval 65"/>
                <p:cNvSpPr/>
                <p:nvPr/>
              </p:nvSpPr>
              <p:spPr>
                <a:xfrm rot="18405000">
                  <a:off x="5217480" y="5061240"/>
                  <a:ext cx="77400" cy="745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120" bIns="61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625" name="Group 66"/>
              <p:cNvGrpSpPr/>
              <p:nvPr/>
            </p:nvGrpSpPr>
            <p:grpSpPr>
              <a:xfrm>
                <a:off x="4251240" y="5080320"/>
                <a:ext cx="227160" cy="318240"/>
                <a:chOff x="4251240" y="5080320"/>
                <a:chExt cx="227160" cy="318240"/>
              </a:xfrm>
            </p:grpSpPr>
            <p:sp>
              <p:nvSpPr>
                <p:cNvPr id="626" name="Oval 67"/>
                <p:cNvSpPr/>
                <p:nvPr/>
              </p:nvSpPr>
              <p:spPr>
                <a:xfrm rot="2133600">
                  <a:off x="4298040" y="5152680"/>
                  <a:ext cx="149040" cy="15408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27" name="Oval 68"/>
                <p:cNvSpPr/>
                <p:nvPr/>
              </p:nvSpPr>
              <p:spPr>
                <a:xfrm rot="2133600">
                  <a:off x="4266720" y="5094720"/>
                  <a:ext cx="74520" cy="774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280" bIns="8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28" name="Oval 69"/>
                <p:cNvSpPr/>
                <p:nvPr/>
              </p:nvSpPr>
              <p:spPr>
                <a:xfrm rot="2133600">
                  <a:off x="4298400" y="5306760"/>
                  <a:ext cx="74520" cy="774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280" bIns="8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629" name="Group 70"/>
              <p:cNvGrpSpPr/>
              <p:nvPr/>
            </p:nvGrpSpPr>
            <p:grpSpPr>
              <a:xfrm>
                <a:off x="4012920" y="4941720"/>
                <a:ext cx="227160" cy="317880"/>
                <a:chOff x="4012920" y="4941720"/>
                <a:chExt cx="227160" cy="317880"/>
              </a:xfrm>
            </p:grpSpPr>
            <p:sp>
              <p:nvSpPr>
                <p:cNvPr id="630" name="Oval 71"/>
                <p:cNvSpPr/>
                <p:nvPr/>
              </p:nvSpPr>
              <p:spPr>
                <a:xfrm rot="2133600">
                  <a:off x="4060440" y="5014080"/>
                  <a:ext cx="148680" cy="15408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31" name="Oval 72"/>
                <p:cNvSpPr/>
                <p:nvPr/>
              </p:nvSpPr>
              <p:spPr>
                <a:xfrm rot="2133600">
                  <a:off x="4028400" y="4956120"/>
                  <a:ext cx="74520" cy="774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280" bIns="8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32" name="Oval 73"/>
                <p:cNvSpPr/>
                <p:nvPr/>
              </p:nvSpPr>
              <p:spPr>
                <a:xfrm rot="2133600">
                  <a:off x="4060080" y="5167800"/>
                  <a:ext cx="74520" cy="774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280" bIns="8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633" name="Group 74"/>
              <p:cNvGrpSpPr/>
              <p:nvPr/>
            </p:nvGrpSpPr>
            <p:grpSpPr>
              <a:xfrm>
                <a:off x="4285440" y="4615200"/>
                <a:ext cx="317160" cy="230400"/>
                <a:chOff x="4285440" y="4615200"/>
                <a:chExt cx="317160" cy="230400"/>
              </a:xfrm>
            </p:grpSpPr>
            <p:sp>
              <p:nvSpPr>
                <p:cNvPr id="634" name="Oval 75"/>
                <p:cNvSpPr/>
                <p:nvPr/>
              </p:nvSpPr>
              <p:spPr>
                <a:xfrm rot="18405000">
                  <a:off x="4359960" y="4646880"/>
                  <a:ext cx="154080" cy="14904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35" name="Oval 76"/>
                <p:cNvSpPr/>
                <p:nvPr/>
              </p:nvSpPr>
              <p:spPr>
                <a:xfrm rot="18405000">
                  <a:off x="4299480" y="4754880"/>
                  <a:ext cx="77400" cy="745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120" bIns="61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36" name="Oval 77"/>
                <p:cNvSpPr/>
                <p:nvPr/>
              </p:nvSpPr>
              <p:spPr>
                <a:xfrm rot="18405000">
                  <a:off x="4510800" y="4720320"/>
                  <a:ext cx="77400" cy="745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120" bIns="61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637" name="Group 78"/>
              <p:cNvGrpSpPr/>
              <p:nvPr/>
            </p:nvGrpSpPr>
            <p:grpSpPr>
              <a:xfrm>
                <a:off x="4751640" y="4814280"/>
                <a:ext cx="320040" cy="228600"/>
                <a:chOff x="4751640" y="4814280"/>
                <a:chExt cx="320040" cy="228600"/>
              </a:xfrm>
            </p:grpSpPr>
            <p:sp>
              <p:nvSpPr>
                <p:cNvPr id="638" name="Oval 79"/>
                <p:cNvSpPr/>
                <p:nvPr/>
              </p:nvSpPr>
              <p:spPr>
                <a:xfrm rot="18405000">
                  <a:off x="4827960" y="4844520"/>
                  <a:ext cx="152280" cy="15228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39" name="Oval 80"/>
                <p:cNvSpPr/>
                <p:nvPr/>
              </p:nvSpPr>
              <p:spPr>
                <a:xfrm rot="18405000">
                  <a:off x="4766760" y="4951080"/>
                  <a:ext cx="76320" cy="763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40" name="Oval 81"/>
                <p:cNvSpPr/>
                <p:nvPr/>
              </p:nvSpPr>
              <p:spPr>
                <a:xfrm rot="18405000">
                  <a:off x="4979880" y="4920120"/>
                  <a:ext cx="76320" cy="763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641" name="Group 82"/>
              <p:cNvGrpSpPr/>
              <p:nvPr/>
            </p:nvGrpSpPr>
            <p:grpSpPr>
              <a:xfrm>
                <a:off x="4087800" y="4860360"/>
                <a:ext cx="224280" cy="320040"/>
                <a:chOff x="4087800" y="4860360"/>
                <a:chExt cx="224280" cy="320040"/>
              </a:xfrm>
            </p:grpSpPr>
            <p:sp>
              <p:nvSpPr>
                <p:cNvPr id="642" name="Oval 83"/>
                <p:cNvSpPr/>
                <p:nvPr/>
              </p:nvSpPr>
              <p:spPr>
                <a:xfrm rot="2252400">
                  <a:off x="4131360" y="4934880"/>
                  <a:ext cx="149040" cy="15408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43" name="Oval 84"/>
                <p:cNvSpPr/>
                <p:nvPr/>
              </p:nvSpPr>
              <p:spPr>
                <a:xfrm rot="2252400">
                  <a:off x="4103640" y="4874760"/>
                  <a:ext cx="74520" cy="774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280" bIns="8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44" name="Oval 85"/>
                <p:cNvSpPr/>
                <p:nvPr/>
              </p:nvSpPr>
              <p:spPr>
                <a:xfrm rot="2252400">
                  <a:off x="4128120" y="5087880"/>
                  <a:ext cx="74520" cy="774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280" bIns="8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645" name="Group 86"/>
              <p:cNvGrpSpPr/>
              <p:nvPr/>
            </p:nvGrpSpPr>
            <p:grpSpPr>
              <a:xfrm>
                <a:off x="5072400" y="4727520"/>
                <a:ext cx="224640" cy="320040"/>
                <a:chOff x="5072400" y="4727520"/>
                <a:chExt cx="224640" cy="320040"/>
              </a:xfrm>
            </p:grpSpPr>
            <p:sp>
              <p:nvSpPr>
                <p:cNvPr id="646" name="Oval 87"/>
                <p:cNvSpPr/>
                <p:nvPr/>
              </p:nvSpPr>
              <p:spPr>
                <a:xfrm rot="2252400">
                  <a:off x="5116320" y="4801680"/>
                  <a:ext cx="149040" cy="15408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47" name="Oval 88"/>
                <p:cNvSpPr/>
                <p:nvPr/>
              </p:nvSpPr>
              <p:spPr>
                <a:xfrm rot="2252400">
                  <a:off x="5088240" y="4741920"/>
                  <a:ext cx="74520" cy="774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280" bIns="8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48" name="Oval 89"/>
                <p:cNvSpPr/>
                <p:nvPr/>
              </p:nvSpPr>
              <p:spPr>
                <a:xfrm rot="2252400">
                  <a:off x="5112720" y="4955040"/>
                  <a:ext cx="74520" cy="774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280" bIns="8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649" name="Oval 90"/>
            <p:cNvSpPr/>
            <p:nvPr/>
          </p:nvSpPr>
          <p:spPr>
            <a:xfrm>
              <a:off x="4114800" y="5181480"/>
              <a:ext cx="152280" cy="15264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650" name="Group 176"/>
            <p:cNvGrpSpPr/>
            <p:nvPr/>
          </p:nvGrpSpPr>
          <p:grpSpPr>
            <a:xfrm>
              <a:off x="5362200" y="4546800"/>
              <a:ext cx="320040" cy="225360"/>
              <a:chOff x="5362200" y="4546800"/>
              <a:chExt cx="320040" cy="225360"/>
            </a:xfrm>
          </p:grpSpPr>
          <p:sp>
            <p:nvSpPr>
              <p:cNvPr id="651" name="Oval 177"/>
              <p:cNvSpPr/>
              <p:nvPr/>
            </p:nvSpPr>
            <p:spPr>
              <a:xfrm rot="7801800">
                <a:off x="5448600" y="4590360"/>
                <a:ext cx="154080" cy="1490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52" name="Oval 178"/>
              <p:cNvSpPr/>
              <p:nvPr/>
            </p:nvSpPr>
            <p:spPr>
              <a:xfrm rot="7801800">
                <a:off x="5590080" y="4563000"/>
                <a:ext cx="7740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53" name="Oval 179"/>
              <p:cNvSpPr/>
              <p:nvPr/>
            </p:nvSpPr>
            <p:spPr>
              <a:xfrm rot="7801800">
                <a:off x="5376960" y="4585320"/>
                <a:ext cx="7740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654" name="Group 188"/>
            <p:cNvGrpSpPr/>
            <p:nvPr/>
          </p:nvGrpSpPr>
          <p:grpSpPr>
            <a:xfrm>
              <a:off x="4066560" y="4527360"/>
              <a:ext cx="219960" cy="321480"/>
              <a:chOff x="4066560" y="4527360"/>
              <a:chExt cx="219960" cy="321480"/>
            </a:xfrm>
          </p:grpSpPr>
          <p:sp>
            <p:nvSpPr>
              <p:cNvPr id="655" name="Oval 189"/>
              <p:cNvSpPr/>
              <p:nvPr/>
            </p:nvSpPr>
            <p:spPr>
              <a:xfrm rot="13249200">
                <a:off x="4098600" y="4615920"/>
                <a:ext cx="149040" cy="1540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56" name="Oval 190"/>
              <p:cNvSpPr/>
              <p:nvPr/>
            </p:nvSpPr>
            <p:spPr>
              <a:xfrm rot="13249200">
                <a:off x="4195440" y="4756320"/>
                <a:ext cx="74520" cy="774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280" bIns="8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57" name="Oval 191"/>
              <p:cNvSpPr/>
              <p:nvPr/>
            </p:nvSpPr>
            <p:spPr>
              <a:xfrm rot="13249200">
                <a:off x="4183200" y="4542120"/>
                <a:ext cx="74520" cy="774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280" bIns="8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658" name="Group 194"/>
            <p:cNvGrpSpPr/>
            <p:nvPr/>
          </p:nvGrpSpPr>
          <p:grpSpPr>
            <a:xfrm>
              <a:off x="4038480" y="5410080"/>
              <a:ext cx="226800" cy="233280"/>
              <a:chOff x="4038480" y="5410080"/>
              <a:chExt cx="226800" cy="233280"/>
            </a:xfrm>
          </p:grpSpPr>
          <p:sp>
            <p:nvSpPr>
              <p:cNvPr id="659" name="Oval 195"/>
              <p:cNvSpPr/>
              <p:nvPr/>
            </p:nvSpPr>
            <p:spPr>
              <a:xfrm>
                <a:off x="4114080" y="5410080"/>
                <a:ext cx="151200" cy="1555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60" name="Oval 196"/>
              <p:cNvSpPr/>
              <p:nvPr/>
            </p:nvSpPr>
            <p:spPr>
              <a:xfrm>
                <a:off x="4038480" y="5410080"/>
                <a:ext cx="75600" cy="777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61" name="Oval 197"/>
              <p:cNvSpPr/>
              <p:nvPr/>
            </p:nvSpPr>
            <p:spPr>
              <a:xfrm>
                <a:off x="4189680" y="5565600"/>
                <a:ext cx="75600" cy="777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662" name="Group 206"/>
            <p:cNvGrpSpPr/>
            <p:nvPr/>
          </p:nvGrpSpPr>
          <p:grpSpPr>
            <a:xfrm>
              <a:off x="5393160" y="5316480"/>
              <a:ext cx="265320" cy="232920"/>
              <a:chOff x="5393160" y="5316480"/>
              <a:chExt cx="265320" cy="232920"/>
            </a:xfrm>
          </p:grpSpPr>
          <p:sp>
            <p:nvSpPr>
              <p:cNvPr id="663" name="Oval 207"/>
              <p:cNvSpPr/>
              <p:nvPr/>
            </p:nvSpPr>
            <p:spPr>
              <a:xfrm rot="16770000">
                <a:off x="5419080" y="5325120"/>
                <a:ext cx="148680" cy="1540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64" name="Oval 208"/>
              <p:cNvSpPr/>
              <p:nvPr/>
            </p:nvSpPr>
            <p:spPr>
              <a:xfrm rot="16770000">
                <a:off x="5400000" y="5467680"/>
                <a:ext cx="74520" cy="774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280" bIns="8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65" name="Oval 209"/>
              <p:cNvSpPr/>
              <p:nvPr/>
            </p:nvSpPr>
            <p:spPr>
              <a:xfrm rot="16770000">
                <a:off x="5576760" y="5346360"/>
                <a:ext cx="74520" cy="774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280" bIns="8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666" name="Oval 214"/>
            <p:cNvSpPr/>
            <p:nvPr/>
          </p:nvSpPr>
          <p:spPr>
            <a:xfrm>
              <a:off x="4876920" y="5181480"/>
              <a:ext cx="152280" cy="15264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67" name="Oval 215"/>
            <p:cNvSpPr/>
            <p:nvPr/>
          </p:nvSpPr>
          <p:spPr>
            <a:xfrm>
              <a:off x="4343400" y="4800600"/>
              <a:ext cx="152280" cy="15228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68" name="Oval 216"/>
            <p:cNvSpPr/>
            <p:nvPr/>
          </p:nvSpPr>
          <p:spPr>
            <a:xfrm>
              <a:off x="4572000" y="4724280"/>
              <a:ext cx="152280" cy="15264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69" name="Oval 217"/>
            <p:cNvSpPr/>
            <p:nvPr/>
          </p:nvSpPr>
          <p:spPr>
            <a:xfrm>
              <a:off x="5486400" y="4724280"/>
              <a:ext cx="152280" cy="15264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70" name="Oval 218"/>
            <p:cNvSpPr/>
            <p:nvPr/>
          </p:nvSpPr>
          <p:spPr>
            <a:xfrm>
              <a:off x="5181480" y="4572000"/>
              <a:ext cx="152640" cy="15228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71" name="Oval 219"/>
            <p:cNvSpPr/>
            <p:nvPr/>
          </p:nvSpPr>
          <p:spPr>
            <a:xfrm>
              <a:off x="4419720" y="5410080"/>
              <a:ext cx="152280" cy="15264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72" name="Oval 220"/>
            <p:cNvSpPr/>
            <p:nvPr/>
          </p:nvSpPr>
          <p:spPr>
            <a:xfrm>
              <a:off x="4952880" y="5486400"/>
              <a:ext cx="152640" cy="15228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73" name="Oval 221"/>
            <p:cNvSpPr/>
            <p:nvPr/>
          </p:nvSpPr>
          <p:spPr>
            <a:xfrm>
              <a:off x="5181480" y="5181480"/>
              <a:ext cx="152640" cy="15264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74" name="Oval 222"/>
            <p:cNvSpPr/>
            <p:nvPr/>
          </p:nvSpPr>
          <p:spPr>
            <a:xfrm>
              <a:off x="4572000" y="4495680"/>
              <a:ext cx="152280" cy="15264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675" name="Group 230"/>
          <p:cNvGrpSpPr/>
          <p:nvPr/>
        </p:nvGrpSpPr>
        <p:grpSpPr>
          <a:xfrm>
            <a:off x="2133720" y="2729520"/>
            <a:ext cx="3594240" cy="1161000"/>
            <a:chOff x="2133720" y="2729520"/>
            <a:chExt cx="3594240" cy="1161000"/>
          </a:xfrm>
        </p:grpSpPr>
        <p:grpSp>
          <p:nvGrpSpPr>
            <p:cNvPr id="676" name="Group 91"/>
            <p:cNvGrpSpPr/>
            <p:nvPr/>
          </p:nvGrpSpPr>
          <p:grpSpPr>
            <a:xfrm>
              <a:off x="2133720" y="2742840"/>
              <a:ext cx="3581280" cy="1143360"/>
              <a:chOff x="2133720" y="2742840"/>
              <a:chExt cx="3581280" cy="1143360"/>
            </a:xfrm>
          </p:grpSpPr>
          <p:sp>
            <p:nvSpPr>
              <p:cNvPr id="677" name="Rectangle 92"/>
              <p:cNvSpPr/>
              <p:nvPr/>
            </p:nvSpPr>
            <p:spPr>
              <a:xfrm>
                <a:off x="3962520" y="2743200"/>
                <a:ext cx="1752480" cy="1143000"/>
              </a:xfrm>
              <a:prstGeom prst="rect">
                <a:avLst/>
              </a:prstGeom>
              <a:solidFill>
                <a:srgbClr val="c0c0c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78" name="Oval 93"/>
              <p:cNvSpPr/>
              <p:nvPr/>
            </p:nvSpPr>
            <p:spPr>
              <a:xfrm>
                <a:off x="2133720" y="3124440"/>
                <a:ext cx="304560" cy="30456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79" name="Line 94"/>
              <p:cNvSpPr/>
              <p:nvPr/>
            </p:nvSpPr>
            <p:spPr>
              <a:xfrm flipV="1">
                <a:off x="2286000" y="2742840"/>
                <a:ext cx="1676520" cy="381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80" name="Line 95"/>
              <p:cNvSpPr/>
              <p:nvPr/>
            </p:nvSpPr>
            <p:spPr>
              <a:xfrm>
                <a:off x="2286000" y="3429000"/>
                <a:ext cx="167652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681" name="Group 225"/>
            <p:cNvGrpSpPr/>
            <p:nvPr/>
          </p:nvGrpSpPr>
          <p:grpSpPr>
            <a:xfrm>
              <a:off x="4552920" y="2805840"/>
              <a:ext cx="1175040" cy="991080"/>
              <a:chOff x="4552920" y="2805840"/>
              <a:chExt cx="1175040" cy="991080"/>
            </a:xfrm>
          </p:grpSpPr>
          <p:grpSp>
            <p:nvGrpSpPr>
              <p:cNvPr id="682" name="Group 97"/>
              <p:cNvGrpSpPr/>
              <p:nvPr/>
            </p:nvGrpSpPr>
            <p:grpSpPr>
              <a:xfrm>
                <a:off x="4552920" y="3105720"/>
                <a:ext cx="266400" cy="244800"/>
                <a:chOff x="4552920" y="3105720"/>
                <a:chExt cx="266400" cy="244800"/>
              </a:xfrm>
            </p:grpSpPr>
            <p:sp>
              <p:nvSpPr>
                <p:cNvPr id="683" name="Oval 98"/>
                <p:cNvSpPr/>
                <p:nvPr/>
              </p:nvSpPr>
              <p:spPr>
                <a:xfrm flipV="1" rot="15587400">
                  <a:off x="4638240" y="3119760"/>
                  <a:ext cx="156240" cy="15228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84" name="Oval 99"/>
                <p:cNvSpPr/>
                <p:nvPr/>
              </p:nvSpPr>
              <p:spPr>
                <a:xfrm flipV="1" rot="15587400">
                  <a:off x="4735440" y="3266640"/>
                  <a:ext cx="78840" cy="759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85" name="Oval 100"/>
                <p:cNvSpPr/>
                <p:nvPr/>
              </p:nvSpPr>
              <p:spPr>
                <a:xfrm flipV="1" rot="15587400">
                  <a:off x="4557960" y="3139560"/>
                  <a:ext cx="78840" cy="759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686" name="Group 101"/>
              <p:cNvGrpSpPr/>
              <p:nvPr/>
            </p:nvGrpSpPr>
            <p:grpSpPr>
              <a:xfrm>
                <a:off x="5311440" y="3192840"/>
                <a:ext cx="223200" cy="324720"/>
                <a:chOff x="5311440" y="3192840"/>
                <a:chExt cx="223200" cy="324720"/>
              </a:xfrm>
            </p:grpSpPr>
            <p:sp>
              <p:nvSpPr>
                <p:cNvPr id="687" name="Oval 102"/>
                <p:cNvSpPr/>
                <p:nvPr/>
              </p:nvSpPr>
              <p:spPr>
                <a:xfrm flipV="1" rot="19178400">
                  <a:off x="5351040" y="3282840"/>
                  <a:ext cx="151200" cy="15516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88" name="Oval 103"/>
                <p:cNvSpPr/>
                <p:nvPr/>
              </p:nvSpPr>
              <p:spPr>
                <a:xfrm flipV="1" rot="19178400">
                  <a:off x="5327640" y="3423960"/>
                  <a:ext cx="75600" cy="777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640" bIns="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89" name="Oval 104"/>
                <p:cNvSpPr/>
                <p:nvPr/>
              </p:nvSpPr>
              <p:spPr>
                <a:xfrm flipV="1" rot="19178400">
                  <a:off x="5342400" y="3207600"/>
                  <a:ext cx="75600" cy="777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640" bIns="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690" name="Group 105"/>
              <p:cNvGrpSpPr/>
              <p:nvPr/>
            </p:nvGrpSpPr>
            <p:grpSpPr>
              <a:xfrm>
                <a:off x="4725000" y="3563640"/>
                <a:ext cx="265680" cy="233280"/>
                <a:chOff x="4725000" y="3563640"/>
                <a:chExt cx="265680" cy="233280"/>
              </a:xfrm>
            </p:grpSpPr>
            <p:sp>
              <p:nvSpPr>
                <p:cNvPr id="691" name="Oval 106"/>
                <p:cNvSpPr/>
                <p:nvPr/>
              </p:nvSpPr>
              <p:spPr>
                <a:xfrm flipV="1" rot="11376600">
                  <a:off x="4748760" y="3574800"/>
                  <a:ext cx="154080" cy="14904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92" name="Oval 107"/>
                <p:cNvSpPr/>
                <p:nvPr/>
              </p:nvSpPr>
              <p:spPr>
                <a:xfrm flipV="1" rot="11376600">
                  <a:off x="4907520" y="3594960"/>
                  <a:ext cx="77400" cy="745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120" bIns="61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93" name="Oval 108"/>
                <p:cNvSpPr/>
                <p:nvPr/>
              </p:nvSpPr>
              <p:spPr>
                <a:xfrm flipV="1" rot="11376600">
                  <a:off x="4730760" y="3716280"/>
                  <a:ext cx="77400" cy="745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120" bIns="61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694" name="Group 109"/>
              <p:cNvGrpSpPr/>
              <p:nvPr/>
            </p:nvGrpSpPr>
            <p:grpSpPr>
              <a:xfrm>
                <a:off x="5410080" y="3077280"/>
                <a:ext cx="241560" cy="263160"/>
                <a:chOff x="5410080" y="3077280"/>
                <a:chExt cx="241560" cy="263160"/>
              </a:xfrm>
            </p:grpSpPr>
            <p:sp>
              <p:nvSpPr>
                <p:cNvPr id="695" name="Oval 110"/>
                <p:cNvSpPr/>
                <p:nvPr/>
              </p:nvSpPr>
              <p:spPr>
                <a:xfrm flipV="1" rot="6048000">
                  <a:off x="5425200" y="3161160"/>
                  <a:ext cx="149040" cy="15444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96" name="Oval 111"/>
                <p:cNvSpPr/>
                <p:nvPr/>
              </p:nvSpPr>
              <p:spPr>
                <a:xfrm flipV="1" rot="6048000">
                  <a:off x="5445720" y="3082320"/>
                  <a:ext cx="74520" cy="774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280" bIns="8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97" name="Oval 112"/>
                <p:cNvSpPr/>
                <p:nvPr/>
              </p:nvSpPr>
              <p:spPr>
                <a:xfrm flipV="1" rot="6048000">
                  <a:off x="5569200" y="3257640"/>
                  <a:ext cx="74520" cy="774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280" bIns="8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698" name="Group 113"/>
              <p:cNvGrpSpPr/>
              <p:nvPr/>
            </p:nvGrpSpPr>
            <p:grpSpPr>
              <a:xfrm>
                <a:off x="5486400" y="2812320"/>
                <a:ext cx="241560" cy="263160"/>
                <a:chOff x="5486400" y="2812320"/>
                <a:chExt cx="241560" cy="263160"/>
              </a:xfrm>
            </p:grpSpPr>
            <p:sp>
              <p:nvSpPr>
                <p:cNvPr id="699" name="Oval 114"/>
                <p:cNvSpPr/>
                <p:nvPr/>
              </p:nvSpPr>
              <p:spPr>
                <a:xfrm flipV="1" rot="6048000">
                  <a:off x="5501520" y="2896200"/>
                  <a:ext cx="149040" cy="15444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00" name="Oval 115"/>
                <p:cNvSpPr/>
                <p:nvPr/>
              </p:nvSpPr>
              <p:spPr>
                <a:xfrm flipV="1" rot="6048000">
                  <a:off x="5522040" y="2817360"/>
                  <a:ext cx="74520" cy="774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280" bIns="8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01" name="Oval 116"/>
                <p:cNvSpPr/>
                <p:nvPr/>
              </p:nvSpPr>
              <p:spPr>
                <a:xfrm flipV="1" rot="6048000">
                  <a:off x="5645520" y="2992680"/>
                  <a:ext cx="74520" cy="774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280" bIns="8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702" name="Group 117"/>
              <p:cNvGrpSpPr/>
              <p:nvPr/>
            </p:nvGrpSpPr>
            <p:grpSpPr>
              <a:xfrm>
                <a:off x="5001120" y="2828880"/>
                <a:ext cx="265680" cy="232920"/>
                <a:chOff x="5001120" y="2828880"/>
                <a:chExt cx="265680" cy="232920"/>
              </a:xfrm>
            </p:grpSpPr>
            <p:sp>
              <p:nvSpPr>
                <p:cNvPr id="703" name="Oval 118"/>
                <p:cNvSpPr/>
                <p:nvPr/>
              </p:nvSpPr>
              <p:spPr>
                <a:xfrm flipV="1" rot="11376600">
                  <a:off x="5024880" y="2840400"/>
                  <a:ext cx="154080" cy="14868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04" name="Oval 119"/>
                <p:cNvSpPr/>
                <p:nvPr/>
              </p:nvSpPr>
              <p:spPr>
                <a:xfrm flipV="1" rot="11376600">
                  <a:off x="5183640" y="2860200"/>
                  <a:ext cx="77400" cy="745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120" bIns="61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05" name="Oval 120"/>
                <p:cNvSpPr/>
                <p:nvPr/>
              </p:nvSpPr>
              <p:spPr>
                <a:xfrm flipV="1" rot="11376600">
                  <a:off x="5006880" y="2981160"/>
                  <a:ext cx="77400" cy="745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120" bIns="61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706" name="Group 121"/>
              <p:cNvGrpSpPr/>
              <p:nvPr/>
            </p:nvGrpSpPr>
            <p:grpSpPr>
              <a:xfrm>
                <a:off x="4800600" y="3294000"/>
                <a:ext cx="263160" cy="238320"/>
                <a:chOff x="4800600" y="3294000"/>
                <a:chExt cx="263160" cy="238320"/>
              </a:xfrm>
            </p:grpSpPr>
            <p:sp>
              <p:nvSpPr>
                <p:cNvPr id="707" name="Oval 122"/>
                <p:cNvSpPr/>
                <p:nvPr/>
              </p:nvSpPr>
              <p:spPr>
                <a:xfrm flipV="1" rot="11376600">
                  <a:off x="4824360" y="3305520"/>
                  <a:ext cx="152280" cy="15228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08" name="Oval 123"/>
                <p:cNvSpPr/>
                <p:nvPr/>
              </p:nvSpPr>
              <p:spPr>
                <a:xfrm flipV="1" rot="11376600">
                  <a:off x="4981320" y="3324960"/>
                  <a:ext cx="76320" cy="763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09" name="Oval 124"/>
                <p:cNvSpPr/>
                <p:nvPr/>
              </p:nvSpPr>
              <p:spPr>
                <a:xfrm flipV="1" rot="11376600">
                  <a:off x="4806000" y="3449880"/>
                  <a:ext cx="76320" cy="763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710" name="Group 125"/>
              <p:cNvGrpSpPr/>
              <p:nvPr/>
            </p:nvGrpSpPr>
            <p:grpSpPr>
              <a:xfrm>
                <a:off x="5382000" y="2805840"/>
                <a:ext cx="240120" cy="256680"/>
                <a:chOff x="5382000" y="2805840"/>
                <a:chExt cx="240120" cy="256680"/>
              </a:xfrm>
            </p:grpSpPr>
            <p:sp>
              <p:nvSpPr>
                <p:cNvPr id="711" name="Oval 126"/>
                <p:cNvSpPr/>
                <p:nvPr/>
              </p:nvSpPr>
              <p:spPr>
                <a:xfrm flipV="1" rot="5929200">
                  <a:off x="5394600" y="2887920"/>
                  <a:ext cx="149040" cy="15372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12" name="Oval 127"/>
                <p:cNvSpPr/>
                <p:nvPr/>
              </p:nvSpPr>
              <p:spPr>
                <a:xfrm flipV="1" rot="5929200">
                  <a:off x="5411160" y="2809800"/>
                  <a:ext cx="74520" cy="777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640" bIns="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13" name="Oval 128"/>
                <p:cNvSpPr/>
                <p:nvPr/>
              </p:nvSpPr>
              <p:spPr>
                <a:xfrm flipV="1" rot="5929200">
                  <a:off x="5540760" y="2980800"/>
                  <a:ext cx="74520" cy="777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640" bIns="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714" name="Group 129"/>
              <p:cNvGrpSpPr/>
              <p:nvPr/>
            </p:nvGrpSpPr>
            <p:grpSpPr>
              <a:xfrm>
                <a:off x="4578840" y="3390120"/>
                <a:ext cx="240120" cy="256680"/>
                <a:chOff x="4578840" y="3390120"/>
                <a:chExt cx="240120" cy="256680"/>
              </a:xfrm>
            </p:grpSpPr>
            <p:sp>
              <p:nvSpPr>
                <p:cNvPr id="715" name="Oval 130"/>
                <p:cNvSpPr/>
                <p:nvPr/>
              </p:nvSpPr>
              <p:spPr>
                <a:xfrm flipV="1" rot="5929200">
                  <a:off x="4591440" y="3472200"/>
                  <a:ext cx="149040" cy="15372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16" name="Oval 131"/>
                <p:cNvSpPr/>
                <p:nvPr/>
              </p:nvSpPr>
              <p:spPr>
                <a:xfrm flipV="1" rot="5929200">
                  <a:off x="4608000" y="3394080"/>
                  <a:ext cx="74520" cy="777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640" bIns="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17" name="Oval 132"/>
                <p:cNvSpPr/>
                <p:nvPr/>
              </p:nvSpPr>
              <p:spPr>
                <a:xfrm flipV="1" rot="5929200">
                  <a:off x="4737600" y="3565080"/>
                  <a:ext cx="74520" cy="777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640" bIns="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grpSp>
          <p:nvGrpSpPr>
            <p:cNvPr id="718" name="Group 133"/>
            <p:cNvGrpSpPr/>
            <p:nvPr/>
          </p:nvGrpSpPr>
          <p:grpSpPr>
            <a:xfrm>
              <a:off x="4012920" y="2835720"/>
              <a:ext cx="1296360" cy="887040"/>
              <a:chOff x="4012920" y="2835720"/>
              <a:chExt cx="1296360" cy="887040"/>
            </a:xfrm>
          </p:grpSpPr>
          <p:grpSp>
            <p:nvGrpSpPr>
              <p:cNvPr id="719" name="Group 134"/>
              <p:cNvGrpSpPr/>
              <p:nvPr/>
            </p:nvGrpSpPr>
            <p:grpSpPr>
              <a:xfrm>
                <a:off x="4737240" y="3400920"/>
                <a:ext cx="234000" cy="321840"/>
                <a:chOff x="4737240" y="3400920"/>
                <a:chExt cx="234000" cy="321840"/>
              </a:xfrm>
            </p:grpSpPr>
            <p:sp>
              <p:nvSpPr>
                <p:cNvPr id="720" name="Oval 135"/>
                <p:cNvSpPr/>
                <p:nvPr/>
              </p:nvSpPr>
              <p:spPr>
                <a:xfrm flipV="1" rot="7405200">
                  <a:off x="4765320" y="3496320"/>
                  <a:ext cx="156240" cy="15228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21" name="Oval 136"/>
                <p:cNvSpPr/>
                <p:nvPr/>
              </p:nvSpPr>
              <p:spPr>
                <a:xfrm flipV="1" rot="7405200">
                  <a:off x="4837680" y="3416040"/>
                  <a:ext cx="78480" cy="763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22" name="Oval 137"/>
                <p:cNvSpPr/>
                <p:nvPr/>
              </p:nvSpPr>
              <p:spPr>
                <a:xfrm flipV="1" rot="7405200">
                  <a:off x="4878360" y="3630240"/>
                  <a:ext cx="78480" cy="763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723" name="Group 138"/>
              <p:cNvGrpSpPr/>
              <p:nvPr/>
            </p:nvGrpSpPr>
            <p:grpSpPr>
              <a:xfrm>
                <a:off x="4425480" y="2885040"/>
                <a:ext cx="239400" cy="237240"/>
                <a:chOff x="4425480" y="2885040"/>
                <a:chExt cx="239400" cy="237240"/>
              </a:xfrm>
            </p:grpSpPr>
            <p:sp>
              <p:nvSpPr>
                <p:cNvPr id="724" name="Oval 139"/>
                <p:cNvSpPr/>
                <p:nvPr/>
              </p:nvSpPr>
              <p:spPr>
                <a:xfrm flipV="1" rot="10996800">
                  <a:off x="4433760" y="2889000"/>
                  <a:ext cx="150840" cy="15516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25" name="Oval 140"/>
                <p:cNvSpPr/>
                <p:nvPr/>
              </p:nvSpPr>
              <p:spPr>
                <a:xfrm flipV="1" rot="10996800">
                  <a:off x="4587120" y="2895840"/>
                  <a:ext cx="75600" cy="777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640" bIns="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26" name="Oval 141"/>
                <p:cNvSpPr/>
                <p:nvPr/>
              </p:nvSpPr>
              <p:spPr>
                <a:xfrm flipV="1" rot="10996800">
                  <a:off x="4427640" y="3042360"/>
                  <a:ext cx="75600" cy="777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640" bIns="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727" name="Group 142"/>
              <p:cNvGrpSpPr/>
              <p:nvPr/>
            </p:nvGrpSpPr>
            <p:grpSpPr>
              <a:xfrm>
                <a:off x="4991760" y="3047760"/>
                <a:ext cx="317520" cy="230400"/>
                <a:chOff x="4991760" y="3047760"/>
                <a:chExt cx="317520" cy="230400"/>
              </a:xfrm>
            </p:grpSpPr>
            <p:sp>
              <p:nvSpPr>
                <p:cNvPr id="728" name="Oval 143"/>
                <p:cNvSpPr/>
                <p:nvPr/>
              </p:nvSpPr>
              <p:spPr>
                <a:xfrm flipV="1" rot="3195000">
                  <a:off x="5066640" y="3096720"/>
                  <a:ext cx="154080" cy="14904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29" name="Oval 144"/>
                <p:cNvSpPr/>
                <p:nvPr/>
              </p:nvSpPr>
              <p:spPr>
                <a:xfrm flipV="1" rot="3195000">
                  <a:off x="5005800" y="3063600"/>
                  <a:ext cx="77400" cy="741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30" name="Oval 145"/>
                <p:cNvSpPr/>
                <p:nvPr/>
              </p:nvSpPr>
              <p:spPr>
                <a:xfrm flipV="1" rot="3195000">
                  <a:off x="5217480" y="3098160"/>
                  <a:ext cx="77400" cy="741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731" name="Group 146"/>
              <p:cNvGrpSpPr/>
              <p:nvPr/>
            </p:nvGrpSpPr>
            <p:grpSpPr>
              <a:xfrm>
                <a:off x="4251240" y="2835720"/>
                <a:ext cx="227160" cy="318240"/>
                <a:chOff x="4251240" y="2835720"/>
                <a:chExt cx="227160" cy="318240"/>
              </a:xfrm>
            </p:grpSpPr>
            <p:sp>
              <p:nvSpPr>
                <p:cNvPr id="732" name="Oval 147"/>
                <p:cNvSpPr/>
                <p:nvPr/>
              </p:nvSpPr>
              <p:spPr>
                <a:xfrm flipV="1" rot="19466400">
                  <a:off x="4298040" y="2926800"/>
                  <a:ext cx="149040" cy="15408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33" name="Oval 148"/>
                <p:cNvSpPr/>
                <p:nvPr/>
              </p:nvSpPr>
              <p:spPr>
                <a:xfrm flipV="1" rot="19466400">
                  <a:off x="4266720" y="3061440"/>
                  <a:ext cx="74160" cy="774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280" bIns="8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34" name="Oval 149"/>
                <p:cNvSpPr/>
                <p:nvPr/>
              </p:nvSpPr>
              <p:spPr>
                <a:xfrm flipV="1" rot="19466400">
                  <a:off x="4298400" y="2849400"/>
                  <a:ext cx="74160" cy="774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280" bIns="8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735" name="Group 150"/>
              <p:cNvGrpSpPr/>
              <p:nvPr/>
            </p:nvGrpSpPr>
            <p:grpSpPr>
              <a:xfrm>
                <a:off x="4012920" y="2974680"/>
                <a:ext cx="227160" cy="317880"/>
                <a:chOff x="4012920" y="2974680"/>
                <a:chExt cx="227160" cy="317880"/>
              </a:xfrm>
            </p:grpSpPr>
            <p:sp>
              <p:nvSpPr>
                <p:cNvPr id="736" name="Oval 151"/>
                <p:cNvSpPr/>
                <p:nvPr/>
              </p:nvSpPr>
              <p:spPr>
                <a:xfrm flipV="1" rot="19466400">
                  <a:off x="4060440" y="3066120"/>
                  <a:ext cx="148680" cy="15408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37" name="Oval 152"/>
                <p:cNvSpPr/>
                <p:nvPr/>
              </p:nvSpPr>
              <p:spPr>
                <a:xfrm flipV="1" rot="19466400">
                  <a:off x="4028400" y="3200040"/>
                  <a:ext cx="74160" cy="774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280" bIns="8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38" name="Oval 153"/>
                <p:cNvSpPr/>
                <p:nvPr/>
              </p:nvSpPr>
              <p:spPr>
                <a:xfrm flipV="1" rot="19466400">
                  <a:off x="4060080" y="2988360"/>
                  <a:ext cx="74160" cy="774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280" bIns="8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739" name="Group 154"/>
              <p:cNvGrpSpPr/>
              <p:nvPr/>
            </p:nvGrpSpPr>
            <p:grpSpPr>
              <a:xfrm>
                <a:off x="4285440" y="3388680"/>
                <a:ext cx="317160" cy="230400"/>
                <a:chOff x="4285440" y="3388680"/>
                <a:chExt cx="317160" cy="230400"/>
              </a:xfrm>
            </p:grpSpPr>
            <p:sp>
              <p:nvSpPr>
                <p:cNvPr id="740" name="Oval 155"/>
                <p:cNvSpPr/>
                <p:nvPr/>
              </p:nvSpPr>
              <p:spPr>
                <a:xfrm flipV="1" rot="3195000">
                  <a:off x="4359960" y="3437640"/>
                  <a:ext cx="154080" cy="14904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41" name="Oval 156"/>
                <p:cNvSpPr/>
                <p:nvPr/>
              </p:nvSpPr>
              <p:spPr>
                <a:xfrm flipV="1" rot="3195000">
                  <a:off x="4299480" y="3404520"/>
                  <a:ext cx="77400" cy="741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42" name="Oval 157"/>
                <p:cNvSpPr/>
                <p:nvPr/>
              </p:nvSpPr>
              <p:spPr>
                <a:xfrm flipV="1" rot="3195000">
                  <a:off x="4510800" y="3439080"/>
                  <a:ext cx="77400" cy="741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743" name="Group 158"/>
              <p:cNvGrpSpPr/>
              <p:nvPr/>
            </p:nvGrpSpPr>
            <p:grpSpPr>
              <a:xfrm>
                <a:off x="4751640" y="3191400"/>
                <a:ext cx="320040" cy="228600"/>
                <a:chOff x="4751640" y="3191400"/>
                <a:chExt cx="320040" cy="228600"/>
              </a:xfrm>
            </p:grpSpPr>
            <p:sp>
              <p:nvSpPr>
                <p:cNvPr id="744" name="Oval 159"/>
                <p:cNvSpPr/>
                <p:nvPr/>
              </p:nvSpPr>
              <p:spPr>
                <a:xfrm flipV="1" rot="3195000">
                  <a:off x="4827960" y="3237120"/>
                  <a:ext cx="152280" cy="15228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45" name="Oval 160"/>
                <p:cNvSpPr/>
                <p:nvPr/>
              </p:nvSpPr>
              <p:spPr>
                <a:xfrm flipV="1" rot="3195000">
                  <a:off x="4766760" y="3206160"/>
                  <a:ext cx="76320" cy="763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46" name="Oval 161"/>
                <p:cNvSpPr/>
                <p:nvPr/>
              </p:nvSpPr>
              <p:spPr>
                <a:xfrm flipV="1" rot="3195000">
                  <a:off x="4979880" y="3237120"/>
                  <a:ext cx="76320" cy="763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747" name="Group 162"/>
              <p:cNvGrpSpPr/>
              <p:nvPr/>
            </p:nvGrpSpPr>
            <p:grpSpPr>
              <a:xfrm>
                <a:off x="4087800" y="3053880"/>
                <a:ext cx="224280" cy="320040"/>
                <a:chOff x="4087800" y="3053880"/>
                <a:chExt cx="224280" cy="320040"/>
              </a:xfrm>
            </p:grpSpPr>
            <p:sp>
              <p:nvSpPr>
                <p:cNvPr id="748" name="Oval 163"/>
                <p:cNvSpPr/>
                <p:nvPr/>
              </p:nvSpPr>
              <p:spPr>
                <a:xfrm flipV="1" rot="19347600">
                  <a:off x="4131360" y="3144600"/>
                  <a:ext cx="149040" cy="15444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49" name="Oval 164"/>
                <p:cNvSpPr/>
                <p:nvPr/>
              </p:nvSpPr>
              <p:spPr>
                <a:xfrm flipV="1" rot="19347600">
                  <a:off x="4103640" y="3281040"/>
                  <a:ext cx="74520" cy="774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280" bIns="8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50" name="Oval 165"/>
                <p:cNvSpPr/>
                <p:nvPr/>
              </p:nvSpPr>
              <p:spPr>
                <a:xfrm flipV="1" rot="19347600">
                  <a:off x="4128120" y="3067920"/>
                  <a:ext cx="74520" cy="774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280" bIns="8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751" name="Group 166"/>
              <p:cNvGrpSpPr/>
              <p:nvPr/>
            </p:nvGrpSpPr>
            <p:grpSpPr>
              <a:xfrm>
                <a:off x="5072400" y="3186720"/>
                <a:ext cx="224640" cy="320040"/>
                <a:chOff x="5072400" y="3186720"/>
                <a:chExt cx="224640" cy="320040"/>
              </a:xfrm>
            </p:grpSpPr>
            <p:sp>
              <p:nvSpPr>
                <p:cNvPr id="752" name="Oval 167"/>
                <p:cNvSpPr/>
                <p:nvPr/>
              </p:nvSpPr>
              <p:spPr>
                <a:xfrm flipV="1" rot="19347600">
                  <a:off x="5116320" y="3277800"/>
                  <a:ext cx="149040" cy="15444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53" name="Oval 168"/>
                <p:cNvSpPr/>
                <p:nvPr/>
              </p:nvSpPr>
              <p:spPr>
                <a:xfrm flipV="1" rot="19347600">
                  <a:off x="5088240" y="3413880"/>
                  <a:ext cx="74520" cy="774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280" bIns="8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54" name="Oval 169"/>
                <p:cNvSpPr/>
                <p:nvPr/>
              </p:nvSpPr>
              <p:spPr>
                <a:xfrm flipV="1" rot="19347600">
                  <a:off x="5112720" y="3200760"/>
                  <a:ext cx="74520" cy="774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280" bIns="8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grpSp>
          <p:nvGrpSpPr>
            <p:cNvPr id="755" name="Group 172"/>
            <p:cNvGrpSpPr/>
            <p:nvPr/>
          </p:nvGrpSpPr>
          <p:grpSpPr>
            <a:xfrm>
              <a:off x="4038480" y="3657600"/>
              <a:ext cx="226800" cy="232920"/>
              <a:chOff x="4038480" y="3657600"/>
              <a:chExt cx="226800" cy="232920"/>
            </a:xfrm>
          </p:grpSpPr>
          <p:sp>
            <p:nvSpPr>
              <p:cNvPr id="756" name="Oval 173"/>
              <p:cNvSpPr/>
              <p:nvPr/>
            </p:nvSpPr>
            <p:spPr>
              <a:xfrm>
                <a:off x="4114080" y="3657600"/>
                <a:ext cx="151200" cy="1551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57" name="Oval 174"/>
              <p:cNvSpPr/>
              <p:nvPr/>
            </p:nvSpPr>
            <p:spPr>
              <a:xfrm>
                <a:off x="4038480" y="3657600"/>
                <a:ext cx="75600" cy="777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58" name="Oval 175"/>
              <p:cNvSpPr/>
              <p:nvPr/>
            </p:nvSpPr>
            <p:spPr>
              <a:xfrm>
                <a:off x="4189680" y="3812760"/>
                <a:ext cx="75600" cy="777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759" name="Group 180"/>
            <p:cNvGrpSpPr/>
            <p:nvPr/>
          </p:nvGrpSpPr>
          <p:grpSpPr>
            <a:xfrm>
              <a:off x="5416200" y="3491640"/>
              <a:ext cx="238680" cy="250920"/>
              <a:chOff x="5416200" y="3491640"/>
              <a:chExt cx="238680" cy="250920"/>
            </a:xfrm>
          </p:grpSpPr>
          <p:sp>
            <p:nvSpPr>
              <p:cNvPr id="760" name="Oval 181"/>
              <p:cNvSpPr/>
              <p:nvPr/>
            </p:nvSpPr>
            <p:spPr>
              <a:xfrm rot="4964400">
                <a:off x="5494680" y="3571560"/>
                <a:ext cx="148680" cy="1540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61" name="Oval 182"/>
              <p:cNvSpPr/>
              <p:nvPr/>
            </p:nvSpPr>
            <p:spPr>
              <a:xfrm rot="4964400">
                <a:off x="5555520" y="3494520"/>
                <a:ext cx="74520" cy="774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280" bIns="8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62" name="Oval 183"/>
              <p:cNvSpPr/>
              <p:nvPr/>
            </p:nvSpPr>
            <p:spPr>
              <a:xfrm rot="4964400">
                <a:off x="5421600" y="3661560"/>
                <a:ext cx="74520" cy="774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280" bIns="8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763" name="Group 184"/>
            <p:cNvGrpSpPr/>
            <p:nvPr/>
          </p:nvGrpSpPr>
          <p:grpSpPr>
            <a:xfrm>
              <a:off x="5088600" y="3640680"/>
              <a:ext cx="264960" cy="232920"/>
              <a:chOff x="5088600" y="3640680"/>
              <a:chExt cx="264960" cy="232920"/>
            </a:xfrm>
          </p:grpSpPr>
          <p:sp>
            <p:nvSpPr>
              <p:cNvPr id="764" name="Oval 185"/>
              <p:cNvSpPr/>
              <p:nvPr/>
            </p:nvSpPr>
            <p:spPr>
              <a:xfrm rot="16770000">
                <a:off x="5114520" y="3649680"/>
                <a:ext cx="149040" cy="1540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65" name="Oval 186"/>
              <p:cNvSpPr/>
              <p:nvPr/>
            </p:nvSpPr>
            <p:spPr>
              <a:xfrm rot="16770000">
                <a:off x="5095440" y="3791880"/>
                <a:ext cx="74520" cy="770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920" bIns="7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66" name="Oval 187"/>
              <p:cNvSpPr/>
              <p:nvPr/>
            </p:nvSpPr>
            <p:spPr>
              <a:xfrm rot="16770000">
                <a:off x="5272200" y="3670200"/>
                <a:ext cx="74520" cy="770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920" bIns="7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767" name="Group 202"/>
            <p:cNvGrpSpPr/>
            <p:nvPr/>
          </p:nvGrpSpPr>
          <p:grpSpPr>
            <a:xfrm>
              <a:off x="4654080" y="2729520"/>
              <a:ext cx="238320" cy="250920"/>
              <a:chOff x="4654080" y="2729520"/>
              <a:chExt cx="238320" cy="250920"/>
            </a:xfrm>
          </p:grpSpPr>
          <p:sp>
            <p:nvSpPr>
              <p:cNvPr id="768" name="Oval 203"/>
              <p:cNvSpPr/>
              <p:nvPr/>
            </p:nvSpPr>
            <p:spPr>
              <a:xfrm rot="4964400">
                <a:off x="4731840" y="2809800"/>
                <a:ext cx="149040" cy="1540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69" name="Oval 204"/>
              <p:cNvSpPr/>
              <p:nvPr/>
            </p:nvSpPr>
            <p:spPr>
              <a:xfrm rot="4964400">
                <a:off x="4793400" y="2732760"/>
                <a:ext cx="74520" cy="770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920" bIns="7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70" name="Oval 205"/>
              <p:cNvSpPr/>
              <p:nvPr/>
            </p:nvSpPr>
            <p:spPr>
              <a:xfrm rot="4964400">
                <a:off x="4659480" y="2900160"/>
                <a:ext cx="74520" cy="770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920" bIns="7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771" name="Group 210"/>
            <p:cNvGrpSpPr/>
            <p:nvPr/>
          </p:nvGrpSpPr>
          <p:grpSpPr>
            <a:xfrm>
              <a:off x="4295160" y="3155760"/>
              <a:ext cx="219960" cy="321480"/>
              <a:chOff x="4295160" y="3155760"/>
              <a:chExt cx="219960" cy="321480"/>
            </a:xfrm>
          </p:grpSpPr>
          <p:sp>
            <p:nvSpPr>
              <p:cNvPr id="772" name="Oval 211"/>
              <p:cNvSpPr/>
              <p:nvPr/>
            </p:nvSpPr>
            <p:spPr>
              <a:xfrm rot="13249200">
                <a:off x="4327200" y="3244320"/>
                <a:ext cx="149040" cy="1540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73" name="Oval 212"/>
              <p:cNvSpPr/>
              <p:nvPr/>
            </p:nvSpPr>
            <p:spPr>
              <a:xfrm rot="13249200">
                <a:off x="4424040" y="3384720"/>
                <a:ext cx="74520" cy="774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280" bIns="8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74" name="Oval 213"/>
              <p:cNvSpPr/>
              <p:nvPr/>
            </p:nvSpPr>
            <p:spPr>
              <a:xfrm rot="13249200">
                <a:off x="4411800" y="3170520"/>
                <a:ext cx="74520" cy="774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280" bIns="8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775" name="Oval 223"/>
            <p:cNvSpPr/>
            <p:nvPr/>
          </p:nvSpPr>
          <p:spPr>
            <a:xfrm>
              <a:off x="4800600" y="2971800"/>
              <a:ext cx="152280" cy="15228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76" name="Oval 224"/>
            <p:cNvSpPr/>
            <p:nvPr/>
          </p:nvSpPr>
          <p:spPr>
            <a:xfrm>
              <a:off x="4343400" y="3657600"/>
              <a:ext cx="152280" cy="15228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777" name="Oval 226"/>
          <p:cNvSpPr/>
          <p:nvPr/>
        </p:nvSpPr>
        <p:spPr>
          <a:xfrm>
            <a:off x="7086600" y="1447920"/>
            <a:ext cx="152280" cy="15228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8" name="Text Box 227"/>
          <p:cNvSpPr/>
          <p:nvPr/>
        </p:nvSpPr>
        <p:spPr>
          <a:xfrm>
            <a:off x="4281120" y="1295280"/>
            <a:ext cx="229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ater (solvent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9" name="Text Box 228"/>
          <p:cNvSpPr/>
          <p:nvPr/>
        </p:nvSpPr>
        <p:spPr>
          <a:xfrm>
            <a:off x="7382880" y="1295280"/>
            <a:ext cx="106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olu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0" name="Text Box 231"/>
          <p:cNvSpPr/>
          <p:nvPr/>
        </p:nvSpPr>
        <p:spPr>
          <a:xfrm>
            <a:off x="5907240" y="4876920"/>
            <a:ext cx="2977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centrated,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initia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1" name="Text Box 232"/>
          <p:cNvSpPr/>
          <p:nvPr/>
        </p:nvSpPr>
        <p:spPr>
          <a:xfrm>
            <a:off x="6054120" y="3124080"/>
            <a:ext cx="1983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luted,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fina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2" name="Text Box 233"/>
          <p:cNvSpPr/>
          <p:nvPr/>
        </p:nvSpPr>
        <p:spPr>
          <a:xfrm>
            <a:off x="1245600" y="5791320"/>
            <a:ext cx="669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dding water lowers the solute concentra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3" name="Text Box 234"/>
          <p:cNvSpPr/>
          <p:nvPr/>
        </p:nvSpPr>
        <p:spPr>
          <a:xfrm>
            <a:off x="3603960" y="1981080"/>
            <a:ext cx="480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les of solute remain constan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4" name="Text Box 235"/>
          <p:cNvSpPr/>
          <p:nvPr/>
        </p:nvSpPr>
        <p:spPr>
          <a:xfrm>
            <a:off x="429120" y="4648320"/>
            <a:ext cx="819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initia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5" name="Text Box 236"/>
          <p:cNvSpPr/>
          <p:nvPr/>
        </p:nvSpPr>
        <p:spPr>
          <a:xfrm>
            <a:off x="423360" y="3220920"/>
            <a:ext cx="724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fina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6" name="Text Box 237"/>
          <p:cNvSpPr/>
          <p:nvPr/>
        </p:nvSpPr>
        <p:spPr>
          <a:xfrm>
            <a:off x="5724360" y="3962520"/>
            <a:ext cx="314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le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initial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=  mole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fina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7" name="Text Box 238"/>
          <p:cNvSpPr/>
          <p:nvPr/>
        </p:nvSpPr>
        <p:spPr>
          <a:xfrm>
            <a:off x="2209680" y="6248520"/>
            <a:ext cx="4876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M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Comic Sans MS"/>
              </a:rPr>
              <a:t>final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 x V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Comic Sans MS"/>
              </a:rPr>
              <a:t>final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 = M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Comic Sans MS"/>
              </a:rPr>
              <a:t>initial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 x V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Comic Sans MS"/>
              </a:rPr>
              <a:t>initia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8" dur="indefinite" restart="never" nodeType="tmRoot">
          <p:childTnLst>
            <p:seq>
              <p:cTn id="999" dur="indefinite" nodeType="mainSeq">
                <p:childTnLst>
                  <p:par>
                    <p:cTn id="1000" nodeType="clickEffect" fill="hold">
                      <p:stCondLst>
                        <p:cond delay="indefinite"/>
                      </p:stCondLst>
                      <p:childTnLst>
                        <p:par>
                          <p:cTn id="10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4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8" dur="5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nodeType="clickEffect" fill="hold">
                      <p:stCondLst>
                        <p:cond delay="indefinite"/>
                      </p:stCondLst>
                      <p:childTnLst>
                        <p:par>
                          <p:cTn id="10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12" dur="10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6" dur="20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7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01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6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28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32" dur="10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3" nodeType="clickEffect" fill="hold">
                      <p:stCondLst>
                        <p:cond delay="indefinite"/>
                      </p:stCondLst>
                      <p:childTnLst>
                        <p:par>
                          <p:cTn id="10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7" dur="20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9" dur="10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nodeType="clickEffect" fill="hold">
                      <p:stCondLst>
                        <p:cond delay="indefinite"/>
                      </p:stCondLst>
                      <p:childTnLst>
                        <p:par>
                          <p:cTn id="10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5" dur="20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47" dur="10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nodeType="clickEffect" fill="hold">
                      <p:stCondLst>
                        <p:cond delay="indefinite"/>
                      </p:stCondLst>
                      <p:childTnLst>
                        <p:par>
                          <p:cTn id="10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3" dur="20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5" dur="10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0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6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64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8" dur="5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nodeType="clickEffect" fill="hold">
                      <p:stCondLst>
                        <p:cond delay="indefinite"/>
                      </p:stCondLst>
                      <p:childTnLst>
                        <p:par>
                          <p:cTn id="10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75" dur="10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6" nodeType="clickEffect" fill="hold">
                      <p:stCondLst>
                        <p:cond delay="indefinite"/>
                      </p:stCondLst>
                      <p:childTnLst>
                        <p:par>
                          <p:cTn id="10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82" dur="10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2"/>
          <p:cNvSpPr/>
          <p:nvPr/>
        </p:nvSpPr>
        <p:spPr>
          <a:xfrm>
            <a:off x="1846440" y="228600"/>
            <a:ext cx="547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omic Sans MS"/>
              </a:rPr>
              <a:t>Titration Calcul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0" name="Text Box 3"/>
          <p:cNvSpPr/>
          <p:nvPr/>
        </p:nvSpPr>
        <p:spPr>
          <a:xfrm>
            <a:off x="940680" y="1219320"/>
            <a:ext cx="722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Cl   +   NaOH     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NaCl   +   HOH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1" name="Text Box 4"/>
          <p:cNvSpPr/>
          <p:nvPr/>
        </p:nvSpPr>
        <p:spPr>
          <a:xfrm>
            <a:off x="1187640" y="2895480"/>
            <a:ext cx="67280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t equivalence point: mole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Comic Sans MS"/>
              </a:rPr>
              <a:t>HCl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 = mole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Comic Sans MS"/>
              </a:rPr>
              <a:t>NaOH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2" name="Text Box 5"/>
          <p:cNvSpPr/>
          <p:nvPr/>
        </p:nvSpPr>
        <p:spPr>
          <a:xfrm>
            <a:off x="3052440" y="3733920"/>
            <a:ext cx="29437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oles = M x 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3" name="Text Box 6"/>
          <p:cNvSpPr/>
          <p:nvPr/>
        </p:nvSpPr>
        <p:spPr>
          <a:xfrm>
            <a:off x="1789560" y="4724280"/>
            <a:ext cx="54961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M</a:t>
            </a:r>
            <a:r>
              <a:rPr b="0" lang="en-US" sz="3200" spc="-1" strike="noStrike" baseline="-25000">
                <a:solidFill>
                  <a:srgbClr val="0000ff"/>
                </a:solidFill>
                <a:latin typeface="Comic Sans MS"/>
              </a:rPr>
              <a:t>acid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 x V</a:t>
            </a:r>
            <a:r>
              <a:rPr b="0" lang="en-US" sz="3200" spc="-1" strike="noStrike" baseline="-25000">
                <a:solidFill>
                  <a:srgbClr val="0000ff"/>
                </a:solidFill>
                <a:latin typeface="Comic Sans MS"/>
              </a:rPr>
              <a:t>initial acid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 = M</a:t>
            </a:r>
            <a:r>
              <a:rPr b="0" lang="en-US" sz="3200" spc="-1" strike="noStrike" baseline="-25000">
                <a:solidFill>
                  <a:srgbClr val="0000ff"/>
                </a:solidFill>
                <a:latin typeface="Comic Sans MS"/>
              </a:rPr>
              <a:t>base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 x V</a:t>
            </a:r>
            <a:r>
              <a:rPr b="0" lang="en-US" sz="3200" spc="-1" strike="noStrike" baseline="-25000">
                <a:solidFill>
                  <a:srgbClr val="0000ff"/>
                </a:solidFill>
                <a:latin typeface="Comic Sans MS"/>
              </a:rPr>
              <a:t>buret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4" name="Text Box 7"/>
          <p:cNvSpPr/>
          <p:nvPr/>
        </p:nvSpPr>
        <p:spPr>
          <a:xfrm>
            <a:off x="1866600" y="2057400"/>
            <a:ext cx="530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00"/>
                </a:solidFill>
                <a:latin typeface="Comic Sans MS"/>
              </a:rPr>
              <a:t>A way to analyze solutions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5" name="Text Box 8"/>
          <p:cNvSpPr/>
          <p:nvPr/>
        </p:nvSpPr>
        <p:spPr>
          <a:xfrm>
            <a:off x="3963960" y="990720"/>
            <a:ext cx="113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ndicato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3" dur="indefinite" restart="never" nodeType="tmRoot">
          <p:childTnLst>
            <p:seq>
              <p:cTn id="1084" dur="indefinite" nodeType="mainSeq">
                <p:childTnLst>
                  <p:par>
                    <p:cTn id="1085" nodeType="clickEffect" fill="hold">
                      <p:stCondLst>
                        <p:cond delay="indefinite"/>
                      </p:stCondLst>
                      <p:childTnLst>
                        <p:par>
                          <p:cTn id="10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91" dur="10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nodeType="clickEffect" fill="hold">
                      <p:stCondLst>
                        <p:cond delay="indefinite"/>
                      </p:stCondLst>
                      <p:childTnLst>
                        <p:par>
                          <p:cTn id="10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98" dur="10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nodeType="clickEffect" fill="hold">
                      <p:stCondLst>
                        <p:cond delay="indefinite"/>
                      </p:stCondLst>
                      <p:childTnLst>
                        <p:par>
                          <p:cTn id="1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3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4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5" dur="5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6" nodeType="clickEffect" fill="hold">
                      <p:stCondLst>
                        <p:cond delay="indefinite"/>
                      </p:stCondLst>
                      <p:childTnLst>
                        <p:par>
                          <p:cTn id="1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0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1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2" dur="5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fini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657600" y="1600200"/>
            <a:ext cx="5105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cids – produce 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ases - produce O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cids – donate 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ases – accept 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cids – accept e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pai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ases – donate e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pair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Text Box 4"/>
          <p:cNvSpPr/>
          <p:nvPr/>
        </p:nvSpPr>
        <p:spPr>
          <a:xfrm>
            <a:off x="607680" y="1828800"/>
            <a:ext cx="229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Arreheniu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Text Box 5"/>
          <p:cNvSpPr/>
          <p:nvPr/>
        </p:nvSpPr>
        <p:spPr>
          <a:xfrm>
            <a:off x="297720" y="3429000"/>
            <a:ext cx="321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Bronsted-Lowr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Text Box 6"/>
          <p:cNvSpPr/>
          <p:nvPr/>
        </p:nvSpPr>
        <p:spPr>
          <a:xfrm>
            <a:off x="1359720" y="5029200"/>
            <a:ext cx="124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Lewi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228600" y="2971800"/>
            <a:ext cx="8686800" cy="167652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Text Box 9"/>
          <p:cNvSpPr/>
          <p:nvPr/>
        </p:nvSpPr>
        <p:spPr>
          <a:xfrm>
            <a:off x="802440" y="2332080"/>
            <a:ext cx="203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nly in wat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Text Box 10"/>
          <p:cNvSpPr/>
          <p:nvPr/>
        </p:nvSpPr>
        <p:spPr>
          <a:xfrm>
            <a:off x="720000" y="4008600"/>
            <a:ext cx="181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ny solven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Text Box 11"/>
          <p:cNvSpPr/>
          <p:nvPr/>
        </p:nvSpPr>
        <p:spPr>
          <a:xfrm>
            <a:off x="128160" y="5638680"/>
            <a:ext cx="396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sed in organic chemistr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ider range of substanc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52480" y="2133360"/>
            <a:ext cx="5562720" cy="65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99"/>
                </a:solidFill>
                <a:latin typeface="Comic Sans MS"/>
              </a:rPr>
              <a:t>Example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916200" y="3095640"/>
            <a:ext cx="206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Arrheniu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450000" y="4390920"/>
            <a:ext cx="321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Bronsted-Lowr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Text Box 6"/>
          <p:cNvSpPr/>
          <p:nvPr/>
        </p:nvSpPr>
        <p:spPr>
          <a:xfrm>
            <a:off x="1512000" y="5610240"/>
            <a:ext cx="124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Lewi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Text Box 13"/>
          <p:cNvSpPr/>
          <p:nvPr/>
        </p:nvSpPr>
        <p:spPr>
          <a:xfrm>
            <a:off x="3890160" y="3095640"/>
            <a:ext cx="75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C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Text Box 14"/>
          <p:cNvSpPr/>
          <p:nvPr/>
        </p:nvSpPr>
        <p:spPr>
          <a:xfrm>
            <a:off x="6104160" y="3127320"/>
            <a:ext cx="119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aOH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Text Box 15"/>
          <p:cNvSpPr/>
          <p:nvPr/>
        </p:nvSpPr>
        <p:spPr>
          <a:xfrm>
            <a:off x="4271400" y="4390920"/>
            <a:ext cx="75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C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Text Box 16"/>
          <p:cNvSpPr/>
          <p:nvPr/>
        </p:nvSpPr>
        <p:spPr>
          <a:xfrm>
            <a:off x="7724880" y="4390920"/>
            <a:ext cx="831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Text Box 17"/>
          <p:cNvSpPr/>
          <p:nvPr/>
        </p:nvSpPr>
        <p:spPr>
          <a:xfrm>
            <a:off x="6207480" y="5562720"/>
            <a:ext cx="10357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:N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Text Box 18"/>
          <p:cNvSpPr/>
          <p:nvPr/>
        </p:nvSpPr>
        <p:spPr>
          <a:xfrm>
            <a:off x="4220640" y="5610240"/>
            <a:ext cx="712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Text Box 19"/>
          <p:cNvSpPr/>
          <p:nvPr/>
        </p:nvSpPr>
        <p:spPr>
          <a:xfrm>
            <a:off x="5799960" y="4390920"/>
            <a:ext cx="93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C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" name="Text Box 20"/>
          <p:cNvSpPr/>
          <p:nvPr/>
        </p:nvSpPr>
        <p:spPr>
          <a:xfrm>
            <a:off x="914400" y="15228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Text Box 21"/>
          <p:cNvSpPr/>
          <p:nvPr/>
        </p:nvSpPr>
        <p:spPr>
          <a:xfrm>
            <a:off x="971280" y="457200"/>
            <a:ext cx="743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The hydrogen ion in aqueous solu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Text Box 22"/>
          <p:cNvSpPr/>
          <p:nvPr/>
        </p:nvSpPr>
        <p:spPr>
          <a:xfrm>
            <a:off x="1457280" y="1143000"/>
            <a:ext cx="74707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+  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  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+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hydronium ion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Line 23"/>
          <p:cNvSpPr/>
          <p:nvPr/>
        </p:nvSpPr>
        <p:spPr>
          <a:xfrm>
            <a:off x="609480" y="1981080"/>
            <a:ext cx="8001000" cy="0"/>
          </a:xfrm>
          <a:prstGeom prst="line">
            <a:avLst/>
          </a:prstGeom>
          <a:ln w="572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Rectangle 24"/>
          <p:cNvSpPr/>
          <p:nvPr/>
        </p:nvSpPr>
        <p:spPr>
          <a:xfrm>
            <a:off x="4572000" y="1143000"/>
            <a:ext cx="45720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9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Comic Sans MS"/>
              </a:rPr>
              <a:t>The Bronsted-Lowry Concep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2702160" y="1676520"/>
            <a:ext cx="357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onjugate pair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Text Box 6"/>
          <p:cNvSpPr/>
          <p:nvPr/>
        </p:nvSpPr>
        <p:spPr>
          <a:xfrm>
            <a:off x="1126800" y="2819520"/>
            <a:ext cx="181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99"/>
                </a:solidFill>
                <a:latin typeface="Comic Sans MS"/>
              </a:rPr>
              <a:t>HCl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0099ff"/>
                </a:solidFill>
                <a:latin typeface="Comic Sans MS"/>
              </a:rPr>
              <a:t>Cl</a:t>
            </a:r>
            <a:r>
              <a:rPr b="0" lang="en-US" sz="3200" spc="-1" strike="noStrike" baseline="30000">
                <a:solidFill>
                  <a:srgbClr val="0099ff"/>
                </a:solidFill>
                <a:latin typeface="Comic Sans MS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Text Box 7"/>
          <p:cNvSpPr/>
          <p:nvPr/>
        </p:nvSpPr>
        <p:spPr>
          <a:xfrm>
            <a:off x="4731480" y="2771640"/>
            <a:ext cx="41558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99"/>
                </a:solidFill>
                <a:latin typeface="Comic Sans MS"/>
              </a:rPr>
              <a:t>CH</a:t>
            </a:r>
            <a:r>
              <a:rPr b="0" lang="en-US" sz="3200" spc="-1" strike="noStrike" baseline="-25000">
                <a:solidFill>
                  <a:srgbClr val="ff6699"/>
                </a:solidFill>
                <a:latin typeface="Comic Sans MS"/>
              </a:rPr>
              <a:t>3</a:t>
            </a:r>
            <a:r>
              <a:rPr b="0" lang="en-US" sz="3200" spc="-1" strike="noStrike">
                <a:solidFill>
                  <a:srgbClr val="ff6699"/>
                </a:solidFill>
                <a:latin typeface="Comic Sans MS"/>
              </a:rPr>
              <a:t>COOH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3200" spc="-1" strike="noStrike">
                <a:solidFill>
                  <a:srgbClr val="0099ff"/>
                </a:solidFill>
                <a:latin typeface="Comic Sans MS"/>
              </a:rPr>
              <a:t>CH</a:t>
            </a:r>
            <a:r>
              <a:rPr b="0" lang="en-US" sz="3200" spc="-1" strike="noStrike" baseline="-25000">
                <a:solidFill>
                  <a:srgbClr val="0099ff"/>
                </a:solidFill>
                <a:latin typeface="Comic Sans MS"/>
              </a:rPr>
              <a:t>3</a:t>
            </a:r>
            <a:r>
              <a:rPr b="0" lang="en-US" sz="3200" spc="-1" strike="noStrike">
                <a:solidFill>
                  <a:srgbClr val="0099ff"/>
                </a:solidFill>
                <a:latin typeface="Comic Sans MS"/>
              </a:rPr>
              <a:t>COO</a:t>
            </a:r>
            <a:r>
              <a:rPr b="0" lang="en-US" sz="3200" spc="-1" strike="noStrike" baseline="30000">
                <a:solidFill>
                  <a:srgbClr val="0099ff"/>
                </a:solidFill>
                <a:latin typeface="Comic Sans MS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Text Box 8"/>
          <p:cNvSpPr/>
          <p:nvPr/>
        </p:nvSpPr>
        <p:spPr>
          <a:xfrm>
            <a:off x="1251000" y="4371840"/>
            <a:ext cx="22161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99"/>
                </a:solidFill>
                <a:latin typeface="Comic Sans MS"/>
              </a:rPr>
              <a:t>NH</a:t>
            </a:r>
            <a:r>
              <a:rPr b="0" lang="en-US" sz="3200" spc="-1" strike="noStrike" baseline="-25000">
                <a:solidFill>
                  <a:srgbClr val="ff6699"/>
                </a:solidFill>
                <a:latin typeface="Comic Sans MS"/>
              </a:rPr>
              <a:t>4</a:t>
            </a:r>
            <a:r>
              <a:rPr b="0" lang="en-US" sz="3200" spc="-1" strike="noStrike" baseline="30000">
                <a:solidFill>
                  <a:srgbClr val="ff6699"/>
                </a:solidFill>
                <a:latin typeface="Comic Sans MS"/>
              </a:rPr>
              <a:t>+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3200" spc="-1" strike="noStrike">
                <a:solidFill>
                  <a:srgbClr val="0099ff"/>
                </a:solidFill>
                <a:latin typeface="Comic Sans MS"/>
              </a:rPr>
              <a:t>NH</a:t>
            </a:r>
            <a:r>
              <a:rPr b="0" lang="en-US" sz="3200" spc="-1" strike="noStrike" baseline="-25000">
                <a:solidFill>
                  <a:srgbClr val="0099ff"/>
                </a:solidFill>
                <a:latin typeface="Comic Sans MS"/>
              </a:rPr>
              <a:t>3</a:t>
            </a:r>
            <a:r>
              <a:rPr b="0" lang="en-US" sz="3200" spc="-1" strike="noStrike">
                <a:solidFill>
                  <a:srgbClr val="0099ff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Text Box 9"/>
          <p:cNvSpPr/>
          <p:nvPr/>
        </p:nvSpPr>
        <p:spPr>
          <a:xfrm>
            <a:off x="4976280" y="4371840"/>
            <a:ext cx="2398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99"/>
                </a:solidFill>
                <a:latin typeface="Comic Sans MS"/>
              </a:rPr>
              <a:t>HNO</a:t>
            </a:r>
            <a:r>
              <a:rPr b="0" lang="en-US" sz="3200" spc="-1" strike="noStrike" baseline="-25000">
                <a:solidFill>
                  <a:srgbClr val="ff6699"/>
                </a:solidFill>
                <a:latin typeface="Comic Sans MS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3200" spc="-1" strike="noStrike">
                <a:solidFill>
                  <a:srgbClr val="0099ff"/>
                </a:solidFill>
                <a:latin typeface="Comic Sans MS"/>
              </a:rPr>
              <a:t>NO</a:t>
            </a:r>
            <a:r>
              <a:rPr b="0" lang="en-US" sz="3200" spc="-1" strike="noStrike" baseline="-25000">
                <a:solidFill>
                  <a:srgbClr val="0099ff"/>
                </a:solidFill>
                <a:latin typeface="Comic Sans MS"/>
              </a:rPr>
              <a:t>3</a:t>
            </a:r>
            <a:r>
              <a:rPr b="0" lang="en-US" sz="3200" spc="-1" strike="noStrike" baseline="30000">
                <a:solidFill>
                  <a:srgbClr val="0099ff"/>
                </a:solidFill>
                <a:latin typeface="Comic Sans MS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Text Box 10"/>
          <p:cNvSpPr/>
          <p:nvPr/>
        </p:nvSpPr>
        <p:spPr>
          <a:xfrm>
            <a:off x="1639080" y="5562720"/>
            <a:ext cx="577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How does a conjugate pair differ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Text Box 0"/>
          <p:cNvSpPr/>
          <p:nvPr/>
        </p:nvSpPr>
        <p:spPr>
          <a:xfrm>
            <a:off x="3417120" y="6019920"/>
            <a:ext cx="224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Comic Sans MS"/>
              </a:rPr>
              <a:t>H</a:t>
            </a:r>
            <a:r>
              <a:rPr b="0" lang="en-US" sz="3200" spc="-1" strike="noStrike" baseline="30000">
                <a:solidFill>
                  <a:srgbClr val="009900"/>
                </a:solidFill>
                <a:latin typeface="Comic Sans MS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9900"/>
                </a:solidFill>
                <a:latin typeface="Comic Sans MS"/>
              </a:rPr>
              <a:t>transf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5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26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99"/>
                </a:solidFill>
                <a:latin typeface="Comic Sans MS"/>
              </a:rPr>
              <a:t>Neutraliz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791640" y="1600200"/>
            <a:ext cx="754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 general:  Acid   +   Base  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Salt   +  Wat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Text Box 6"/>
          <p:cNvSpPr/>
          <p:nvPr/>
        </p:nvSpPr>
        <p:spPr>
          <a:xfrm>
            <a:off x="-21600" y="2514600"/>
            <a:ext cx="912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l neutralization reactions ar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double displacemen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reaction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Text Box 7"/>
          <p:cNvSpPr/>
          <p:nvPr/>
        </p:nvSpPr>
        <p:spPr>
          <a:xfrm>
            <a:off x="1195560" y="3378240"/>
            <a:ext cx="680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H</a:t>
            </a: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Cl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+   </a:t>
            </a:r>
            <a:r>
              <a:rPr b="0" lang="en-US" sz="3200" spc="-1" strike="noStrike">
                <a:solidFill>
                  <a:srgbClr val="33cc33"/>
                </a:solidFill>
                <a:latin typeface="Comic Sans MS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H   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3200" spc="-1" strike="noStrike">
                <a:solidFill>
                  <a:srgbClr val="33cc33"/>
                </a:solidFill>
                <a:latin typeface="Comic Sans MS"/>
              </a:rPr>
              <a:t>Na</a:t>
            </a: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Cl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+  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H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AutoShape 9"/>
          <p:cNvSpPr/>
          <p:nvPr/>
        </p:nvSpPr>
        <p:spPr>
          <a:xfrm>
            <a:off x="1143000" y="2666880"/>
            <a:ext cx="2209680" cy="685800"/>
          </a:xfrm>
          <a:custGeom>
            <a:avLst/>
            <a:gdLst>
              <a:gd name="textAreaLeft" fmla="*/ 420480 w 2209680"/>
              <a:gd name="textAreaRight" fmla="*/ 1553040 w 2209680"/>
              <a:gd name="textAreaTop" fmla="*/ 91800 h 685800"/>
              <a:gd name="textAreaBottom" fmla="*/ 594000 h 6858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220" hR="21600" stAng="10800000" swAng="5400000"/>
                <a:lnTo>
                  <a:pt x="11070" y="0"/>
                </a:lnTo>
                <a:arcTo wR="8220" hR="21600" stAng="-5400000" swAng="2695522"/>
                <a:lnTo>
                  <a:pt x="21060" y="13900"/>
                </a:lnTo>
                <a:lnTo>
                  <a:pt x="17865" y="21600"/>
                </a:lnTo>
                <a:lnTo>
                  <a:pt x="13590" y="13900"/>
                </a:lnTo>
                <a:lnTo>
                  <a:pt x="15900" y="13900"/>
                </a:lnTo>
                <a:arcTo wR="8220" hR="21600" stAng="-2704478" swAng="-2465583"/>
                <a:lnTo>
                  <a:pt x="9645" y="327"/>
                </a:lnTo>
                <a:arcTo wR="8220" hR="21600" stAng="-5629939" swAng="-5170061"/>
                <a:close/>
              </a:path>
              <a:path fill="darkenLess" w="21600" h="21600">
                <a:moveTo>
                  <a:pt x="0" y="21600"/>
                </a:moveTo>
                <a:arcTo wR="8220" hR="21600" stAng="10800000" swAng="5400000"/>
                <a:lnTo>
                  <a:pt x="8220" y="0"/>
                </a:lnTo>
                <a:arcTo wR="8220" hR="21600" stAng="-5400000" swAng="229939"/>
                <a:lnTo>
                  <a:pt x="9645" y="327"/>
                </a:lnTo>
                <a:arcTo wR="8220" hR="21600" stAng="-5629939" swAng="-5170061"/>
                <a:close/>
              </a:path>
            </a:pathLst>
          </a:cu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AutoShape 10"/>
          <p:cNvSpPr/>
          <p:nvPr/>
        </p:nvSpPr>
        <p:spPr>
          <a:xfrm flipH="1" flipV="1">
            <a:off x="914400" y="3961800"/>
            <a:ext cx="2209680" cy="685800"/>
          </a:xfrm>
          <a:custGeom>
            <a:avLst/>
            <a:gdLst>
              <a:gd name="textAreaLeft" fmla="*/ 420480 w 2209680"/>
              <a:gd name="textAreaRight" fmla="*/ 1553040 w 2209680"/>
              <a:gd name="textAreaTop" fmla="*/ 91800 h 685800"/>
              <a:gd name="textAreaBottom" fmla="*/ 594000 h 6858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220" hR="21600" stAng="10800000" swAng="5400000"/>
                <a:lnTo>
                  <a:pt x="11070" y="0"/>
                </a:lnTo>
                <a:arcTo wR="8220" hR="21600" stAng="-5400000" swAng="2695522"/>
                <a:lnTo>
                  <a:pt x="21060" y="13900"/>
                </a:lnTo>
                <a:lnTo>
                  <a:pt x="17865" y="21600"/>
                </a:lnTo>
                <a:lnTo>
                  <a:pt x="13590" y="13900"/>
                </a:lnTo>
                <a:lnTo>
                  <a:pt x="15900" y="13900"/>
                </a:lnTo>
                <a:arcTo wR="8220" hR="21600" stAng="-2704478" swAng="-2465583"/>
                <a:lnTo>
                  <a:pt x="9645" y="327"/>
                </a:lnTo>
                <a:arcTo wR="8220" hR="21600" stAng="-5629939" swAng="-5170061"/>
                <a:close/>
              </a:path>
              <a:path fill="darkenLess" w="21600" h="21600">
                <a:moveTo>
                  <a:pt x="0" y="21600"/>
                </a:moveTo>
                <a:arcTo wR="8220" hR="21600" stAng="10800000" swAng="5400000"/>
                <a:lnTo>
                  <a:pt x="8220" y="0"/>
                </a:lnTo>
                <a:arcTo wR="8220" hR="21600" stAng="-5400000" swAng="229939"/>
                <a:lnTo>
                  <a:pt x="9645" y="327"/>
                </a:lnTo>
                <a:arcTo wR="8220" hR="21600" stAng="-5629939" swAng="-5170061"/>
                <a:close/>
              </a:path>
            </a:pathLst>
          </a:cu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Text Box 11"/>
          <p:cNvSpPr/>
          <p:nvPr/>
        </p:nvSpPr>
        <p:spPr>
          <a:xfrm>
            <a:off x="1093320" y="4753080"/>
            <a:ext cx="42588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Cl   +   Mg(OH)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Text Box 12"/>
          <p:cNvSpPr/>
          <p:nvPr/>
        </p:nvSpPr>
        <p:spPr>
          <a:xfrm>
            <a:off x="1134360" y="5715000"/>
            <a:ext cx="45349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+   NaH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2"/>
          <p:cNvSpPr/>
          <p:nvPr/>
        </p:nvSpPr>
        <p:spPr>
          <a:xfrm flipH="1">
            <a:off x="2369520" y="1905120"/>
            <a:ext cx="43700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O   </a:t>
            </a:r>
            <a:r>
              <a:rPr b="0" lang="en-US" sz="3600" spc="-1" strike="noStrike">
                <a:solidFill>
                  <a:srgbClr val="000000"/>
                </a:solidFill>
                <a:latin typeface="Wingdings 3"/>
                <a:ea typeface="Wingdings 3"/>
              </a:rPr>
              <a:t>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  H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  +   OH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354960" y="380880"/>
            <a:ext cx="849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Does pure water conduct electrical current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2928240" y="2895480"/>
            <a:ext cx="34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H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)(OH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) = 10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-14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Text Box 5"/>
          <p:cNvSpPr/>
          <p:nvPr/>
        </p:nvSpPr>
        <p:spPr>
          <a:xfrm>
            <a:off x="554400" y="3886200"/>
            <a:ext cx="807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For pure water:  (H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)  =  (OH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)  = 10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-7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M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Text Box 6"/>
          <p:cNvSpPr/>
          <p:nvPr/>
        </p:nvSpPr>
        <p:spPr>
          <a:xfrm>
            <a:off x="2133720" y="4800600"/>
            <a:ext cx="4800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is is </a:t>
            </a: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neutrality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and at 25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 is a pH = 7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Text Box 7"/>
          <p:cNvSpPr/>
          <p:nvPr/>
        </p:nvSpPr>
        <p:spPr>
          <a:xfrm>
            <a:off x="390600" y="1066680"/>
            <a:ext cx="836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Water is a very, very, very weak electrolyt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AutoShape 8"/>
          <p:cNvSpPr/>
          <p:nvPr/>
        </p:nvSpPr>
        <p:spPr>
          <a:xfrm>
            <a:off x="762120" y="2438280"/>
            <a:ext cx="7086600" cy="533520"/>
          </a:xfrm>
          <a:prstGeom prst="wedgeEllipseCallout">
            <a:avLst>
              <a:gd name="adj1" fmla="val -8333"/>
              <a:gd name="adj2" fmla="val 69643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w are (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 and (O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 related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Text Box 9"/>
          <p:cNvSpPr/>
          <p:nvPr/>
        </p:nvSpPr>
        <p:spPr>
          <a:xfrm>
            <a:off x="7698240" y="617220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at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60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84" dur="5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9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AutoShape 2"/>
          <p:cNvSpPr/>
          <p:nvPr/>
        </p:nvSpPr>
        <p:spPr>
          <a:xfrm>
            <a:off x="2743200" y="1295280"/>
            <a:ext cx="3657600" cy="4876920"/>
          </a:xfrm>
          <a:prstGeom prst="can">
            <a:avLst>
              <a:gd name="adj" fmla="val 11263"/>
            </a:avLst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33" name="Group 3"/>
          <p:cNvGrpSpPr/>
          <p:nvPr/>
        </p:nvGrpSpPr>
        <p:grpSpPr>
          <a:xfrm>
            <a:off x="3646800" y="2943000"/>
            <a:ext cx="604440" cy="537120"/>
            <a:chOff x="3646800" y="2943000"/>
            <a:chExt cx="604440" cy="537120"/>
          </a:xfrm>
        </p:grpSpPr>
        <p:sp>
          <p:nvSpPr>
            <p:cNvPr id="134" name="Oval 4"/>
            <p:cNvSpPr/>
            <p:nvPr/>
          </p:nvSpPr>
          <p:spPr>
            <a:xfrm rot="2418000">
              <a:off x="3791880" y="3020760"/>
              <a:ext cx="381240" cy="3808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5" name="Oval 5"/>
            <p:cNvSpPr/>
            <p:nvPr/>
          </p:nvSpPr>
          <p:spPr>
            <a:xfrm rot="2418000">
              <a:off x="3677760" y="2991600"/>
              <a:ext cx="152280" cy="152640"/>
            </a:xfrm>
            <a:prstGeom prst="ellipse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36" name="Group 6"/>
          <p:cNvGrpSpPr/>
          <p:nvPr/>
        </p:nvGrpSpPr>
        <p:grpSpPr>
          <a:xfrm>
            <a:off x="4332240" y="3552120"/>
            <a:ext cx="604800" cy="536760"/>
            <a:chOff x="4332240" y="3552120"/>
            <a:chExt cx="604800" cy="536760"/>
          </a:xfrm>
        </p:grpSpPr>
        <p:sp>
          <p:nvSpPr>
            <p:cNvPr id="137" name="Oval 7"/>
            <p:cNvSpPr/>
            <p:nvPr/>
          </p:nvSpPr>
          <p:spPr>
            <a:xfrm rot="2395200">
              <a:off x="4478040" y="3629880"/>
              <a:ext cx="381240" cy="3808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8" name="Oval 8"/>
            <p:cNvSpPr/>
            <p:nvPr/>
          </p:nvSpPr>
          <p:spPr>
            <a:xfrm rot="2395200">
              <a:off x="4363200" y="3602160"/>
              <a:ext cx="152280" cy="152640"/>
            </a:xfrm>
            <a:prstGeom prst="ellipse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39" name="Group 9"/>
          <p:cNvGrpSpPr/>
          <p:nvPr/>
        </p:nvGrpSpPr>
        <p:grpSpPr>
          <a:xfrm>
            <a:off x="2821680" y="3276360"/>
            <a:ext cx="578160" cy="483840"/>
            <a:chOff x="2821680" y="3276360"/>
            <a:chExt cx="578160" cy="483840"/>
          </a:xfrm>
        </p:grpSpPr>
        <p:sp>
          <p:nvSpPr>
            <p:cNvPr id="140" name="Oval 10"/>
            <p:cNvSpPr/>
            <p:nvPr/>
          </p:nvSpPr>
          <p:spPr>
            <a:xfrm rot="20466600">
              <a:off x="2967120" y="3327840"/>
              <a:ext cx="380880" cy="3808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1" name="Oval 11"/>
            <p:cNvSpPr/>
            <p:nvPr/>
          </p:nvSpPr>
          <p:spPr>
            <a:xfrm rot="20466600">
              <a:off x="2842200" y="3564360"/>
              <a:ext cx="151920" cy="152640"/>
            </a:xfrm>
            <a:prstGeom prst="ellipse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42" name="Group 12"/>
          <p:cNvGrpSpPr/>
          <p:nvPr/>
        </p:nvGrpSpPr>
        <p:grpSpPr>
          <a:xfrm>
            <a:off x="3872880" y="2033640"/>
            <a:ext cx="500040" cy="610560"/>
            <a:chOff x="3872880" y="2033640"/>
            <a:chExt cx="500040" cy="610560"/>
          </a:xfrm>
        </p:grpSpPr>
        <p:sp>
          <p:nvSpPr>
            <p:cNvPr id="143" name="Oval 13"/>
            <p:cNvSpPr/>
            <p:nvPr/>
          </p:nvSpPr>
          <p:spPr>
            <a:xfrm rot="6787800">
              <a:off x="3932280" y="2203560"/>
              <a:ext cx="381240" cy="3808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4" name="Oval 14"/>
            <p:cNvSpPr/>
            <p:nvPr/>
          </p:nvSpPr>
          <p:spPr>
            <a:xfrm rot="6787800">
              <a:off x="4116600" y="2057400"/>
              <a:ext cx="152280" cy="152640"/>
            </a:xfrm>
            <a:prstGeom prst="ellipse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45" name="Group 15"/>
          <p:cNvGrpSpPr/>
          <p:nvPr/>
        </p:nvGrpSpPr>
        <p:grpSpPr>
          <a:xfrm>
            <a:off x="5081400" y="3482640"/>
            <a:ext cx="512280" cy="613080"/>
            <a:chOff x="5081400" y="3482640"/>
            <a:chExt cx="512280" cy="613080"/>
          </a:xfrm>
        </p:grpSpPr>
        <p:sp>
          <p:nvSpPr>
            <p:cNvPr id="146" name="Oval 16"/>
            <p:cNvSpPr/>
            <p:nvPr/>
          </p:nvSpPr>
          <p:spPr>
            <a:xfrm rot="7019400">
              <a:off x="5146920" y="3648960"/>
              <a:ext cx="380880" cy="3808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7" name="Oval 17"/>
            <p:cNvSpPr/>
            <p:nvPr/>
          </p:nvSpPr>
          <p:spPr>
            <a:xfrm rot="7019400">
              <a:off x="5348160" y="3508200"/>
              <a:ext cx="151920" cy="152640"/>
            </a:xfrm>
            <a:prstGeom prst="ellipse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48" name="Group 18"/>
          <p:cNvGrpSpPr/>
          <p:nvPr/>
        </p:nvGrpSpPr>
        <p:grpSpPr>
          <a:xfrm>
            <a:off x="3750120" y="5435280"/>
            <a:ext cx="603720" cy="537120"/>
            <a:chOff x="3750120" y="5435280"/>
            <a:chExt cx="603720" cy="537120"/>
          </a:xfrm>
        </p:grpSpPr>
        <p:sp>
          <p:nvSpPr>
            <p:cNvPr id="149" name="Oval 19"/>
            <p:cNvSpPr/>
            <p:nvPr/>
          </p:nvSpPr>
          <p:spPr>
            <a:xfrm rot="13236000">
              <a:off x="3827880" y="5513040"/>
              <a:ext cx="381240" cy="3808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0" name="Oval 20"/>
            <p:cNvSpPr/>
            <p:nvPr/>
          </p:nvSpPr>
          <p:spPr>
            <a:xfrm rot="13236000">
              <a:off x="4169880" y="5771880"/>
              <a:ext cx="152280" cy="152640"/>
            </a:xfrm>
            <a:prstGeom prst="ellipse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51" name="Group 21"/>
          <p:cNvGrpSpPr/>
          <p:nvPr/>
        </p:nvGrpSpPr>
        <p:grpSpPr>
          <a:xfrm>
            <a:off x="5226120" y="4892400"/>
            <a:ext cx="525240" cy="613800"/>
            <a:chOff x="5226120" y="4892400"/>
            <a:chExt cx="525240" cy="613800"/>
          </a:xfrm>
        </p:grpSpPr>
        <p:sp>
          <p:nvSpPr>
            <p:cNvPr id="152" name="Oval 22"/>
            <p:cNvSpPr/>
            <p:nvPr/>
          </p:nvSpPr>
          <p:spPr>
            <a:xfrm rot="18126000">
              <a:off x="5298120" y="4964400"/>
              <a:ext cx="381240" cy="3808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3" name="Oval 23"/>
            <p:cNvSpPr/>
            <p:nvPr/>
          </p:nvSpPr>
          <p:spPr>
            <a:xfrm rot="18126000">
              <a:off x="5302800" y="5324760"/>
              <a:ext cx="152280" cy="152640"/>
            </a:xfrm>
            <a:prstGeom prst="ellipse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54" name="Group 24"/>
          <p:cNvGrpSpPr/>
          <p:nvPr/>
        </p:nvGrpSpPr>
        <p:grpSpPr>
          <a:xfrm>
            <a:off x="3156480" y="4970520"/>
            <a:ext cx="534240" cy="575640"/>
            <a:chOff x="3156480" y="4970520"/>
            <a:chExt cx="534240" cy="575640"/>
          </a:xfrm>
        </p:grpSpPr>
        <p:sp>
          <p:nvSpPr>
            <p:cNvPr id="155" name="Oval 25"/>
            <p:cNvSpPr/>
            <p:nvPr/>
          </p:nvSpPr>
          <p:spPr>
            <a:xfrm rot="3561600">
              <a:off x="3238920" y="5094720"/>
              <a:ext cx="381240" cy="3808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6" name="Oval 26"/>
            <p:cNvSpPr/>
            <p:nvPr/>
          </p:nvSpPr>
          <p:spPr>
            <a:xfrm rot="3561600">
              <a:off x="3184560" y="4998600"/>
              <a:ext cx="152280" cy="152640"/>
            </a:xfrm>
            <a:prstGeom prst="ellipse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57" name="Group 27"/>
          <p:cNvGrpSpPr/>
          <p:nvPr/>
        </p:nvGrpSpPr>
        <p:grpSpPr>
          <a:xfrm>
            <a:off x="5302440" y="2302560"/>
            <a:ext cx="521280" cy="613800"/>
            <a:chOff x="5302440" y="2302560"/>
            <a:chExt cx="521280" cy="613800"/>
          </a:xfrm>
        </p:grpSpPr>
        <p:sp>
          <p:nvSpPr>
            <p:cNvPr id="158" name="Oval 28"/>
            <p:cNvSpPr/>
            <p:nvPr/>
          </p:nvSpPr>
          <p:spPr>
            <a:xfrm rot="18023400">
              <a:off x="5372280" y="2372760"/>
              <a:ext cx="380880" cy="3808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9" name="Oval 29"/>
            <p:cNvSpPr/>
            <p:nvPr/>
          </p:nvSpPr>
          <p:spPr>
            <a:xfrm rot="18023400">
              <a:off x="5384880" y="2736000"/>
              <a:ext cx="151920" cy="152640"/>
            </a:xfrm>
            <a:prstGeom prst="ellipse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60" name="Group 30"/>
          <p:cNvGrpSpPr/>
          <p:nvPr/>
        </p:nvGrpSpPr>
        <p:grpSpPr>
          <a:xfrm>
            <a:off x="4343400" y="5181480"/>
            <a:ext cx="533520" cy="380880"/>
            <a:chOff x="4343400" y="5181480"/>
            <a:chExt cx="533520" cy="380880"/>
          </a:xfrm>
        </p:grpSpPr>
        <p:sp>
          <p:nvSpPr>
            <p:cNvPr id="161" name="Oval 31"/>
            <p:cNvSpPr/>
            <p:nvPr/>
          </p:nvSpPr>
          <p:spPr>
            <a:xfrm>
              <a:off x="4495680" y="5181480"/>
              <a:ext cx="381240" cy="3808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2" name="Oval 32"/>
            <p:cNvSpPr/>
            <p:nvPr/>
          </p:nvSpPr>
          <p:spPr>
            <a:xfrm>
              <a:off x="4343400" y="5333760"/>
              <a:ext cx="152280" cy="152640"/>
            </a:xfrm>
            <a:prstGeom prst="ellipse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63" name="Group 33"/>
          <p:cNvGrpSpPr/>
          <p:nvPr/>
        </p:nvGrpSpPr>
        <p:grpSpPr>
          <a:xfrm>
            <a:off x="4476240" y="2872080"/>
            <a:ext cx="507240" cy="612720"/>
            <a:chOff x="4476240" y="2872080"/>
            <a:chExt cx="507240" cy="612720"/>
          </a:xfrm>
        </p:grpSpPr>
        <p:sp>
          <p:nvSpPr>
            <p:cNvPr id="164" name="Oval 34"/>
            <p:cNvSpPr/>
            <p:nvPr/>
          </p:nvSpPr>
          <p:spPr>
            <a:xfrm rot="6916200">
              <a:off x="4539240" y="3040560"/>
              <a:ext cx="381240" cy="3808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5" name="Oval 35"/>
            <p:cNvSpPr/>
            <p:nvPr/>
          </p:nvSpPr>
          <p:spPr>
            <a:xfrm rot="6916200">
              <a:off x="4732920" y="2896920"/>
              <a:ext cx="152280" cy="152640"/>
            </a:xfrm>
            <a:prstGeom prst="ellipse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66" name="Group 36"/>
          <p:cNvGrpSpPr/>
          <p:nvPr/>
        </p:nvGrpSpPr>
        <p:grpSpPr>
          <a:xfrm>
            <a:off x="3066120" y="4005360"/>
            <a:ext cx="574920" cy="534600"/>
            <a:chOff x="3066120" y="4005360"/>
            <a:chExt cx="574920" cy="534600"/>
          </a:xfrm>
        </p:grpSpPr>
        <p:sp>
          <p:nvSpPr>
            <p:cNvPr id="167" name="Oval 37"/>
            <p:cNvSpPr/>
            <p:nvPr/>
          </p:nvSpPr>
          <p:spPr>
            <a:xfrm rot="19751400">
              <a:off x="3189240" y="4075920"/>
              <a:ext cx="380880" cy="3808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8" name="Oval 38"/>
            <p:cNvSpPr/>
            <p:nvPr/>
          </p:nvSpPr>
          <p:spPr>
            <a:xfrm rot="19751400">
              <a:off x="3094200" y="4359240"/>
              <a:ext cx="151920" cy="152640"/>
            </a:xfrm>
            <a:prstGeom prst="ellipse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69" name="Group 39"/>
          <p:cNvGrpSpPr/>
          <p:nvPr/>
        </p:nvGrpSpPr>
        <p:grpSpPr>
          <a:xfrm>
            <a:off x="5044680" y="4221360"/>
            <a:ext cx="563400" cy="563400"/>
            <a:chOff x="5044680" y="4221360"/>
            <a:chExt cx="563400" cy="563400"/>
          </a:xfrm>
        </p:grpSpPr>
        <p:sp>
          <p:nvSpPr>
            <p:cNvPr id="170" name="Oval 40"/>
            <p:cNvSpPr/>
            <p:nvPr/>
          </p:nvSpPr>
          <p:spPr>
            <a:xfrm rot="3187800">
              <a:off x="5150880" y="4327560"/>
              <a:ext cx="380880" cy="3808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1" name="Oval 41"/>
            <p:cNvSpPr/>
            <p:nvPr/>
          </p:nvSpPr>
          <p:spPr>
            <a:xfrm rot="3187800">
              <a:off x="5075280" y="4251600"/>
              <a:ext cx="151920" cy="152640"/>
            </a:xfrm>
            <a:prstGeom prst="ellipse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72" name="Group 42"/>
          <p:cNvGrpSpPr/>
          <p:nvPr/>
        </p:nvGrpSpPr>
        <p:grpSpPr>
          <a:xfrm>
            <a:off x="3862800" y="4244040"/>
            <a:ext cx="511920" cy="613440"/>
            <a:chOff x="3862800" y="4244040"/>
            <a:chExt cx="511920" cy="613440"/>
          </a:xfrm>
        </p:grpSpPr>
        <p:sp>
          <p:nvSpPr>
            <p:cNvPr id="173" name="Oval 43"/>
            <p:cNvSpPr/>
            <p:nvPr/>
          </p:nvSpPr>
          <p:spPr>
            <a:xfrm rot="7006200">
              <a:off x="3927960" y="4411080"/>
              <a:ext cx="381240" cy="3808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4" name="Oval 44"/>
            <p:cNvSpPr/>
            <p:nvPr/>
          </p:nvSpPr>
          <p:spPr>
            <a:xfrm rot="7006200">
              <a:off x="4128120" y="4269960"/>
              <a:ext cx="152280" cy="152640"/>
            </a:xfrm>
            <a:prstGeom prst="ellipse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75" name="Group 45"/>
          <p:cNvGrpSpPr/>
          <p:nvPr/>
        </p:nvGrpSpPr>
        <p:grpSpPr>
          <a:xfrm>
            <a:off x="533520" y="1905120"/>
            <a:ext cx="532800" cy="380880"/>
            <a:chOff x="533520" y="1905120"/>
            <a:chExt cx="532800" cy="380880"/>
          </a:xfrm>
        </p:grpSpPr>
        <p:sp>
          <p:nvSpPr>
            <p:cNvPr id="176" name="Oval 46"/>
            <p:cNvSpPr/>
            <p:nvPr/>
          </p:nvSpPr>
          <p:spPr>
            <a:xfrm>
              <a:off x="685440" y="1905120"/>
              <a:ext cx="380880" cy="3808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7" name="Oval 47"/>
            <p:cNvSpPr/>
            <p:nvPr/>
          </p:nvSpPr>
          <p:spPr>
            <a:xfrm>
              <a:off x="533520" y="2057400"/>
              <a:ext cx="151920" cy="152640"/>
            </a:xfrm>
            <a:prstGeom prst="ellipse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78" name="Text Box 48"/>
          <p:cNvSpPr/>
          <p:nvPr/>
        </p:nvSpPr>
        <p:spPr>
          <a:xfrm>
            <a:off x="1244520" y="1828800"/>
            <a:ext cx="74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79" name="Group 49"/>
          <p:cNvGrpSpPr/>
          <p:nvPr/>
        </p:nvGrpSpPr>
        <p:grpSpPr>
          <a:xfrm>
            <a:off x="5715000" y="3809880"/>
            <a:ext cx="533520" cy="380880"/>
            <a:chOff x="5715000" y="3809880"/>
            <a:chExt cx="533520" cy="380880"/>
          </a:xfrm>
        </p:grpSpPr>
        <p:sp>
          <p:nvSpPr>
            <p:cNvPr id="180" name="Oval 50"/>
            <p:cNvSpPr/>
            <p:nvPr/>
          </p:nvSpPr>
          <p:spPr>
            <a:xfrm>
              <a:off x="5867280" y="3809880"/>
              <a:ext cx="381240" cy="3808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1" name="Oval 51"/>
            <p:cNvSpPr/>
            <p:nvPr/>
          </p:nvSpPr>
          <p:spPr>
            <a:xfrm>
              <a:off x="5715000" y="3962160"/>
              <a:ext cx="152280" cy="152640"/>
            </a:xfrm>
            <a:prstGeom prst="ellipse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82" name="Group 52"/>
          <p:cNvGrpSpPr/>
          <p:nvPr/>
        </p:nvGrpSpPr>
        <p:grpSpPr>
          <a:xfrm>
            <a:off x="3026520" y="2337840"/>
            <a:ext cx="597600" cy="473400"/>
            <a:chOff x="3026520" y="2337840"/>
            <a:chExt cx="597600" cy="473400"/>
          </a:xfrm>
        </p:grpSpPr>
        <p:sp>
          <p:nvSpPr>
            <p:cNvPr id="183" name="Oval 53"/>
            <p:cNvSpPr/>
            <p:nvPr/>
          </p:nvSpPr>
          <p:spPr>
            <a:xfrm rot="988200">
              <a:off x="3196800" y="2383920"/>
              <a:ext cx="380880" cy="3808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4" name="Oval 54"/>
            <p:cNvSpPr/>
            <p:nvPr/>
          </p:nvSpPr>
          <p:spPr>
            <a:xfrm rot="988200">
              <a:off x="3044880" y="2459160"/>
              <a:ext cx="151920" cy="152640"/>
            </a:xfrm>
            <a:prstGeom prst="ellipse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85" name="Group 55"/>
          <p:cNvGrpSpPr/>
          <p:nvPr/>
        </p:nvGrpSpPr>
        <p:grpSpPr>
          <a:xfrm>
            <a:off x="4495680" y="4504680"/>
            <a:ext cx="576360" cy="472680"/>
            <a:chOff x="4495680" y="4504680"/>
            <a:chExt cx="576360" cy="472680"/>
          </a:xfrm>
        </p:grpSpPr>
        <p:sp>
          <p:nvSpPr>
            <p:cNvPr id="186" name="Oval 56"/>
            <p:cNvSpPr/>
            <p:nvPr/>
          </p:nvSpPr>
          <p:spPr>
            <a:xfrm rot="20619600">
              <a:off x="4644720" y="4550400"/>
              <a:ext cx="381240" cy="3808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7" name="Oval 57"/>
            <p:cNvSpPr/>
            <p:nvPr/>
          </p:nvSpPr>
          <p:spPr>
            <a:xfrm rot="20619600">
              <a:off x="4514040" y="4776120"/>
              <a:ext cx="152280" cy="152640"/>
            </a:xfrm>
            <a:prstGeom prst="ellipse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88" name="Group 58"/>
          <p:cNvGrpSpPr/>
          <p:nvPr/>
        </p:nvGrpSpPr>
        <p:grpSpPr>
          <a:xfrm>
            <a:off x="5365440" y="2946240"/>
            <a:ext cx="577440" cy="478080"/>
            <a:chOff x="5365440" y="2946240"/>
            <a:chExt cx="577440" cy="478080"/>
          </a:xfrm>
        </p:grpSpPr>
        <p:sp>
          <p:nvSpPr>
            <p:cNvPr id="189" name="Oval 59"/>
            <p:cNvSpPr/>
            <p:nvPr/>
          </p:nvSpPr>
          <p:spPr>
            <a:xfrm rot="9748200">
              <a:off x="5413680" y="2994840"/>
              <a:ext cx="381240" cy="3808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0" name="Oval 60"/>
            <p:cNvSpPr/>
            <p:nvPr/>
          </p:nvSpPr>
          <p:spPr>
            <a:xfrm rot="9748200">
              <a:off x="5770800" y="2991960"/>
              <a:ext cx="152280" cy="152640"/>
            </a:xfrm>
            <a:prstGeom prst="ellipse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91" name="Group 61"/>
          <p:cNvGrpSpPr/>
          <p:nvPr/>
        </p:nvGrpSpPr>
        <p:grpSpPr>
          <a:xfrm>
            <a:off x="5541120" y="5538240"/>
            <a:ext cx="597600" cy="473400"/>
            <a:chOff x="5541120" y="5538240"/>
            <a:chExt cx="597600" cy="473400"/>
          </a:xfrm>
        </p:grpSpPr>
        <p:sp>
          <p:nvSpPr>
            <p:cNvPr id="192" name="Oval 62"/>
            <p:cNvSpPr/>
            <p:nvPr/>
          </p:nvSpPr>
          <p:spPr>
            <a:xfrm rot="988200">
              <a:off x="5711400" y="5584320"/>
              <a:ext cx="380880" cy="3808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3" name="Oval 63"/>
            <p:cNvSpPr/>
            <p:nvPr/>
          </p:nvSpPr>
          <p:spPr>
            <a:xfrm rot="988200">
              <a:off x="5559480" y="5659560"/>
              <a:ext cx="151920" cy="152640"/>
            </a:xfrm>
            <a:prstGeom prst="ellipse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94" name="Text Box 64"/>
          <p:cNvSpPr/>
          <p:nvPr/>
        </p:nvSpPr>
        <p:spPr>
          <a:xfrm>
            <a:off x="685800" y="0"/>
            <a:ext cx="77724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omic Sans MS"/>
              </a:rPr>
              <a:t>Let’s examine the behavior of an acid, HA, in aqueous solution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Text Box 65"/>
          <p:cNvSpPr/>
          <p:nvPr/>
        </p:nvSpPr>
        <p:spPr>
          <a:xfrm>
            <a:off x="3600" y="6278400"/>
            <a:ext cx="918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What happens to the HA molecules in solution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8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AutoShape 2"/>
          <p:cNvSpPr/>
          <p:nvPr/>
        </p:nvSpPr>
        <p:spPr>
          <a:xfrm>
            <a:off x="2743200" y="1295280"/>
            <a:ext cx="3657600" cy="4876920"/>
          </a:xfrm>
          <a:prstGeom prst="can">
            <a:avLst>
              <a:gd name="adj" fmla="val 11263"/>
            </a:avLst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Oval 3"/>
          <p:cNvSpPr/>
          <p:nvPr/>
        </p:nvSpPr>
        <p:spPr>
          <a:xfrm rot="2418000">
            <a:off x="3733920" y="3352320"/>
            <a:ext cx="380880" cy="3812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Oval 4"/>
          <p:cNvSpPr/>
          <p:nvPr/>
        </p:nvSpPr>
        <p:spPr>
          <a:xfrm rot="2418000">
            <a:off x="3676320" y="2990880"/>
            <a:ext cx="152280" cy="15228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Oval 5"/>
          <p:cNvSpPr/>
          <p:nvPr/>
        </p:nvSpPr>
        <p:spPr>
          <a:xfrm rot="2395200">
            <a:off x="4648320" y="3657600"/>
            <a:ext cx="38088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Oval 6"/>
          <p:cNvSpPr/>
          <p:nvPr/>
        </p:nvSpPr>
        <p:spPr>
          <a:xfrm rot="2395200">
            <a:off x="4362120" y="3602160"/>
            <a:ext cx="152280" cy="15228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Oval 7"/>
          <p:cNvSpPr/>
          <p:nvPr/>
        </p:nvSpPr>
        <p:spPr>
          <a:xfrm rot="20466600">
            <a:off x="2819160" y="2743200"/>
            <a:ext cx="38088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Oval 8"/>
          <p:cNvSpPr/>
          <p:nvPr/>
        </p:nvSpPr>
        <p:spPr>
          <a:xfrm rot="20466600">
            <a:off x="2841480" y="3563640"/>
            <a:ext cx="152640" cy="15228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Oval 9"/>
          <p:cNvSpPr/>
          <p:nvPr/>
        </p:nvSpPr>
        <p:spPr>
          <a:xfrm rot="6787800">
            <a:off x="4190760" y="2285640"/>
            <a:ext cx="38088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Oval 10"/>
          <p:cNvSpPr/>
          <p:nvPr/>
        </p:nvSpPr>
        <p:spPr>
          <a:xfrm rot="6787800">
            <a:off x="4116240" y="2057040"/>
            <a:ext cx="152280" cy="15264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Oval 11"/>
          <p:cNvSpPr/>
          <p:nvPr/>
        </p:nvSpPr>
        <p:spPr>
          <a:xfrm rot="7019400">
            <a:off x="5638320" y="3428640"/>
            <a:ext cx="380880" cy="3812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Oval 12"/>
          <p:cNvSpPr/>
          <p:nvPr/>
        </p:nvSpPr>
        <p:spPr>
          <a:xfrm rot="7019400">
            <a:off x="5347800" y="3507840"/>
            <a:ext cx="152640" cy="15264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Oval 13"/>
          <p:cNvSpPr/>
          <p:nvPr/>
        </p:nvSpPr>
        <p:spPr>
          <a:xfrm rot="13236000">
            <a:off x="3504960" y="5562720"/>
            <a:ext cx="38088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Oval 14"/>
          <p:cNvSpPr/>
          <p:nvPr/>
        </p:nvSpPr>
        <p:spPr>
          <a:xfrm rot="13236000">
            <a:off x="4168080" y="5770080"/>
            <a:ext cx="152280" cy="15264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Oval 15"/>
          <p:cNvSpPr/>
          <p:nvPr/>
        </p:nvSpPr>
        <p:spPr>
          <a:xfrm rot="18126000">
            <a:off x="5638680" y="5028840"/>
            <a:ext cx="380880" cy="3812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Oval 16"/>
          <p:cNvSpPr/>
          <p:nvPr/>
        </p:nvSpPr>
        <p:spPr>
          <a:xfrm rot="18126000">
            <a:off x="5302080" y="5324400"/>
            <a:ext cx="152640" cy="15264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Oval 17"/>
          <p:cNvSpPr/>
          <p:nvPr/>
        </p:nvSpPr>
        <p:spPr>
          <a:xfrm rot="3561600">
            <a:off x="4114800" y="5105160"/>
            <a:ext cx="38088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Oval 18"/>
          <p:cNvSpPr/>
          <p:nvPr/>
        </p:nvSpPr>
        <p:spPr>
          <a:xfrm rot="3561600">
            <a:off x="3184200" y="4997520"/>
            <a:ext cx="152280" cy="15228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Oval 19"/>
          <p:cNvSpPr/>
          <p:nvPr/>
        </p:nvSpPr>
        <p:spPr>
          <a:xfrm rot="18023400">
            <a:off x="5486040" y="2057400"/>
            <a:ext cx="38088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Oval 20"/>
          <p:cNvSpPr/>
          <p:nvPr/>
        </p:nvSpPr>
        <p:spPr>
          <a:xfrm rot="18023400">
            <a:off x="5383080" y="2734560"/>
            <a:ext cx="152280" cy="15264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Oval 21"/>
          <p:cNvSpPr/>
          <p:nvPr/>
        </p:nvSpPr>
        <p:spPr>
          <a:xfrm>
            <a:off x="4648320" y="5486400"/>
            <a:ext cx="38088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Oval 22"/>
          <p:cNvSpPr/>
          <p:nvPr/>
        </p:nvSpPr>
        <p:spPr>
          <a:xfrm>
            <a:off x="3124080" y="5638680"/>
            <a:ext cx="152640" cy="15264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Oval 23"/>
          <p:cNvSpPr/>
          <p:nvPr/>
        </p:nvSpPr>
        <p:spPr>
          <a:xfrm rot="6916200">
            <a:off x="4190760" y="2895480"/>
            <a:ext cx="38124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Oval 24"/>
          <p:cNvSpPr/>
          <p:nvPr/>
        </p:nvSpPr>
        <p:spPr>
          <a:xfrm rot="6916200">
            <a:off x="4732200" y="2896920"/>
            <a:ext cx="152280" cy="15264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Oval 25"/>
          <p:cNvSpPr/>
          <p:nvPr/>
        </p:nvSpPr>
        <p:spPr>
          <a:xfrm rot="19751400">
            <a:off x="3200400" y="3809880"/>
            <a:ext cx="380880" cy="3812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Oval 26"/>
          <p:cNvSpPr/>
          <p:nvPr/>
        </p:nvSpPr>
        <p:spPr>
          <a:xfrm rot="19751400">
            <a:off x="3094200" y="4358880"/>
            <a:ext cx="152280" cy="15228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Oval 27"/>
          <p:cNvSpPr/>
          <p:nvPr/>
        </p:nvSpPr>
        <p:spPr>
          <a:xfrm rot="3187800">
            <a:off x="5257800" y="4419360"/>
            <a:ext cx="38088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Oval 28"/>
          <p:cNvSpPr/>
          <p:nvPr/>
        </p:nvSpPr>
        <p:spPr>
          <a:xfrm rot="3187800">
            <a:off x="5073120" y="4250880"/>
            <a:ext cx="152640" cy="15264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Oval 29"/>
          <p:cNvSpPr/>
          <p:nvPr/>
        </p:nvSpPr>
        <p:spPr>
          <a:xfrm rot="7006200">
            <a:off x="3657240" y="4495680"/>
            <a:ext cx="38124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Oval 30"/>
          <p:cNvSpPr/>
          <p:nvPr/>
        </p:nvSpPr>
        <p:spPr>
          <a:xfrm rot="7006200">
            <a:off x="4127040" y="4269960"/>
            <a:ext cx="152280" cy="15264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26" name="Group 31"/>
          <p:cNvGrpSpPr/>
          <p:nvPr/>
        </p:nvGrpSpPr>
        <p:grpSpPr>
          <a:xfrm>
            <a:off x="533520" y="1905120"/>
            <a:ext cx="532800" cy="380880"/>
            <a:chOff x="533520" y="1905120"/>
            <a:chExt cx="532800" cy="380880"/>
          </a:xfrm>
        </p:grpSpPr>
        <p:sp>
          <p:nvSpPr>
            <p:cNvPr id="227" name="Oval 32"/>
            <p:cNvSpPr/>
            <p:nvPr/>
          </p:nvSpPr>
          <p:spPr>
            <a:xfrm>
              <a:off x="685440" y="1905120"/>
              <a:ext cx="380880" cy="3808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8" name="Oval 33"/>
            <p:cNvSpPr/>
            <p:nvPr/>
          </p:nvSpPr>
          <p:spPr>
            <a:xfrm>
              <a:off x="533520" y="2057400"/>
              <a:ext cx="151920" cy="152640"/>
            </a:xfrm>
            <a:prstGeom prst="ellipse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29" name="Text Box 34"/>
          <p:cNvSpPr/>
          <p:nvPr/>
        </p:nvSpPr>
        <p:spPr>
          <a:xfrm>
            <a:off x="1244520" y="1828800"/>
            <a:ext cx="74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Oval 35"/>
          <p:cNvSpPr/>
          <p:nvPr/>
        </p:nvSpPr>
        <p:spPr>
          <a:xfrm>
            <a:off x="5791320" y="4343400"/>
            <a:ext cx="38088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Oval 36"/>
          <p:cNvSpPr/>
          <p:nvPr/>
        </p:nvSpPr>
        <p:spPr>
          <a:xfrm>
            <a:off x="5715000" y="3962520"/>
            <a:ext cx="152280" cy="15228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Oval 37"/>
          <p:cNvSpPr/>
          <p:nvPr/>
        </p:nvSpPr>
        <p:spPr>
          <a:xfrm rot="988200">
            <a:off x="3276720" y="1981080"/>
            <a:ext cx="380880" cy="3812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Oval 38"/>
          <p:cNvSpPr/>
          <p:nvPr/>
        </p:nvSpPr>
        <p:spPr>
          <a:xfrm rot="988200">
            <a:off x="3044880" y="2457360"/>
            <a:ext cx="152280" cy="15264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Oval 39"/>
          <p:cNvSpPr/>
          <p:nvPr/>
        </p:nvSpPr>
        <p:spPr>
          <a:xfrm rot="20619600">
            <a:off x="4572000" y="4266720"/>
            <a:ext cx="380880" cy="3812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Oval 40"/>
          <p:cNvSpPr/>
          <p:nvPr/>
        </p:nvSpPr>
        <p:spPr>
          <a:xfrm rot="20619600">
            <a:off x="4513320" y="4774680"/>
            <a:ext cx="152280" cy="15264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Oval 41"/>
          <p:cNvSpPr/>
          <p:nvPr/>
        </p:nvSpPr>
        <p:spPr>
          <a:xfrm rot="9748200">
            <a:off x="5181120" y="2971800"/>
            <a:ext cx="38124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Oval 42"/>
          <p:cNvSpPr/>
          <p:nvPr/>
        </p:nvSpPr>
        <p:spPr>
          <a:xfrm rot="9748200">
            <a:off x="5770440" y="2990160"/>
            <a:ext cx="152640" cy="15228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" name="Oval 43"/>
          <p:cNvSpPr/>
          <p:nvPr/>
        </p:nvSpPr>
        <p:spPr>
          <a:xfrm rot="988200">
            <a:off x="5943600" y="5562720"/>
            <a:ext cx="38088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Oval 44"/>
          <p:cNvSpPr/>
          <p:nvPr/>
        </p:nvSpPr>
        <p:spPr>
          <a:xfrm rot="988200">
            <a:off x="5559480" y="5657760"/>
            <a:ext cx="152280" cy="15264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Oval 45"/>
          <p:cNvSpPr/>
          <p:nvPr/>
        </p:nvSpPr>
        <p:spPr>
          <a:xfrm>
            <a:off x="685800" y="3657600"/>
            <a:ext cx="38088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" name="Oval 46"/>
          <p:cNvSpPr/>
          <p:nvPr/>
        </p:nvSpPr>
        <p:spPr>
          <a:xfrm>
            <a:off x="762120" y="2895480"/>
            <a:ext cx="152280" cy="15264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Text Box 47"/>
          <p:cNvSpPr/>
          <p:nvPr/>
        </p:nvSpPr>
        <p:spPr>
          <a:xfrm>
            <a:off x="1223640" y="2666880"/>
            <a:ext cx="61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" name="Text Box 48"/>
          <p:cNvSpPr/>
          <p:nvPr/>
        </p:nvSpPr>
        <p:spPr>
          <a:xfrm>
            <a:off x="1256400" y="3581280"/>
            <a:ext cx="517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" name="Text Box 49"/>
          <p:cNvSpPr/>
          <p:nvPr/>
        </p:nvSpPr>
        <p:spPr>
          <a:xfrm>
            <a:off x="6448320" y="2895480"/>
            <a:ext cx="238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trong Aci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" name="Text Box 50"/>
          <p:cNvSpPr/>
          <p:nvPr/>
        </p:nvSpPr>
        <p:spPr>
          <a:xfrm>
            <a:off x="2167200" y="304920"/>
            <a:ext cx="475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100% dissociation of H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" name="Text Box 51"/>
          <p:cNvSpPr/>
          <p:nvPr/>
        </p:nvSpPr>
        <p:spPr>
          <a:xfrm>
            <a:off x="6553080" y="4191120"/>
            <a:ext cx="2362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Would the solution be conductive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17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2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23:10:20Z</dcterms:created>
  <dc:creator>Physical Sciences</dc:creator>
  <dc:description/>
  <dc:language>en-US</dc:language>
  <cp:lastModifiedBy>LEGION</cp:lastModifiedBy>
  <dcterms:modified xsi:type="dcterms:W3CDTF">2017-01-26T09:08:44Z</dcterms:modified>
  <cp:revision>55</cp:revision>
  <dc:subject/>
  <dc:title>Acids and Bases</dc:title>
</cp:coreProperties>
</file>