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M 1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42DE-157A-43C4-9570-46547E3797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2BA-776A-494B-9649-B2C42B23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876-5FF8-42CE-BD10-717006BF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7EA-E9D6-4EE3-AC92-C6E14DD0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24E-8977-455B-9599-547A6053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5DB-C5A2-4B79-904A-3C0EA046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3C7-1739-4DD6-A005-FD38433E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3AE-60C5-4C2C-9CDD-D5127C08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FDF-98F8-43B7-8894-A66BAA2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DA9-327A-4813-80B1-1EA3064C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042-ACCE-44DB-B6E3-4563AC0F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1DD-EE8E-459C-B05C-CDDACCCF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500-5482-4B02-B9B0-5599DF91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6B57-2285-4E55-B757-3F508D7BD2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Acids and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3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5"/>
          <p:cNvSpPr/>
          <p:nvPr/>
        </p:nvSpPr>
        <p:spPr>
          <a:xfrm rot="2395200">
            <a:off x="4419720" y="388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7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9"/>
          <p:cNvSpPr/>
          <p:nvPr/>
        </p:nvSpPr>
        <p:spPr>
          <a:xfrm rot="6787800">
            <a:off x="4114440" y="236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11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13"/>
          <p:cNvSpPr/>
          <p:nvPr/>
        </p:nvSpPr>
        <p:spPr>
          <a:xfrm rot="13236000">
            <a:off x="3827160" y="551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5"/>
          <p:cNvSpPr/>
          <p:nvPr/>
        </p:nvSpPr>
        <p:spPr>
          <a:xfrm rot="18126000">
            <a:off x="5297400" y="49636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17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19"/>
          <p:cNvSpPr/>
          <p:nvPr/>
        </p:nvSpPr>
        <p:spPr>
          <a:xfrm rot="18023400">
            <a:off x="5371920" y="2371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3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5"/>
          <p:cNvSpPr/>
          <p:nvPr/>
        </p:nvSpPr>
        <p:spPr>
          <a:xfrm rot="19751400">
            <a:off x="3352680" y="38862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27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29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78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35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37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39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41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3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2109960" y="3049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tial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04920" y="5029200"/>
            <a:ext cx="220968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 rot="2395200">
            <a:off x="4476600" y="36291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 rot="6787800">
            <a:off x="3931920" y="220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2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3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14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15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Oval 16"/>
          <p:cNvSpPr/>
          <p:nvPr/>
        </p:nvSpPr>
        <p:spPr>
          <a:xfrm rot="18126000">
            <a:off x="5715000" y="48002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Oval 17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8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9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20"/>
          <p:cNvSpPr/>
          <p:nvPr/>
        </p:nvSpPr>
        <p:spPr>
          <a:xfrm rot="18023400">
            <a:off x="5638680" y="205740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Oval 21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24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25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26"/>
          <p:cNvSpPr/>
          <p:nvPr/>
        </p:nvSpPr>
        <p:spPr>
          <a:xfrm rot="19751400">
            <a:off x="3189240" y="4075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27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28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29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30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31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330" name="Oval 33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38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39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40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41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42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Oval 43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44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5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6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47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1905120" y="609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3035880" y="4572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53"/>
          <p:cNvSpPr/>
          <p:nvPr/>
        </p:nvSpPr>
        <p:spPr>
          <a:xfrm>
            <a:off x="2971800" y="304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4724280" y="10666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55"/>
          <p:cNvSpPr/>
          <p:nvPr/>
        </p:nvSpPr>
        <p:spPr>
          <a:xfrm>
            <a:off x="1752480" y="533412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56"/>
          <p:cNvSpPr/>
          <p:nvPr/>
        </p:nvSpPr>
        <p:spPr>
          <a:xfrm>
            <a:off x="609480" y="54864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t any one time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only a fraction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he molecule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sociate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8058E-006 L -0.05417 -0.00554 E">
                                      <p:cBhvr>
                                        <p:cTn id="49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6963E-006 L 0.05833 3.86963E-006 E">
                                      <p:cBhvr>
                                        <p:cTn id="4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rong and Weak Acids/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0200" y="1371600"/>
            <a:ext cx="8215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ong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100% dissociation into 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Cl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a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9480" y="4267080"/>
            <a:ext cx="82296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eak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artial dissociation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3"/>
          <p:cNvSpPr/>
          <p:nvPr/>
        </p:nvSpPr>
        <p:spPr>
          <a:xfrm flipH="1" flipV="1">
            <a:off x="3657240" y="61722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 flipV="1">
            <a:off x="1371600" y="3580920"/>
            <a:ext cx="18288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"/>
          <p:cNvSpPr/>
          <p:nvPr/>
        </p:nvSpPr>
        <p:spPr>
          <a:xfrm flipH="1" flipV="1">
            <a:off x="3505320" y="3581280"/>
            <a:ext cx="8380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743200" y="2362320"/>
            <a:ext cx="914400" cy="1066680"/>
          </a:xfrm>
          <a:prstGeom prst="rect">
            <a:avLst/>
          </a:prstGeom>
          <a:gradFill rotWithShape="0">
            <a:gsLst>
              <a:gs pos="0">
                <a:srgbClr val="eb6247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114800" y="2362320"/>
            <a:ext cx="1828800" cy="10666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124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981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103280" y="4572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-7020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0786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7975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878544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3412080" y="396252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tral @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1265760" y="3962520"/>
            <a:ext cx="17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g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6082200" y="39625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l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5"/>
          <p:cNvSpPr/>
          <p:nvPr/>
        </p:nvSpPr>
        <p:spPr>
          <a:xfrm flipV="1">
            <a:off x="4572000" y="3580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45720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64008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369360" y="5334120"/>
            <a:ext cx="2652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rain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0" y="0"/>
            <a:ext cx="3124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 rai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2568600" y="12952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76720" y="5334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905120" y="1143000"/>
            <a:ext cx="15228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257800" y="3581280"/>
            <a:ext cx="12952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hlab"/>
          <p:cNvPicPr/>
          <p:nvPr/>
        </p:nvPicPr>
        <p:blipFill>
          <a:blip r:embed="rId1"/>
          <a:srcRect l="0" t="10632" r="0" b="0"/>
          <a:stretch/>
        </p:blipFill>
        <p:spPr>
          <a:xfrm>
            <a:off x="1219320" y="1295280"/>
            <a:ext cx="6696000" cy="4324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7696080" y="1752480"/>
            <a:ext cx="1447920" cy="1600200"/>
          </a:xfrm>
          <a:prstGeom prst="wedgeEllipseCallout">
            <a:avLst>
              <a:gd name="adj1" fmla="val -102083"/>
              <a:gd name="adj2" fmla="val 2906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406600" y="6461280"/>
            <a:ext cx="43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462400" y="255600"/>
            <a:ext cx="421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H of Rainw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ross United States in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9" name="Group 12"/>
          <p:cNvGrpSpPr/>
          <p:nvPr/>
        </p:nvGrpSpPr>
        <p:grpSpPr>
          <a:xfrm>
            <a:off x="7999560" y="3440520"/>
            <a:ext cx="468000" cy="2279520"/>
            <a:chOff x="7999560" y="3440520"/>
            <a:chExt cx="468000" cy="2279520"/>
          </a:xfrm>
        </p:grpSpPr>
        <p:sp>
          <p:nvSpPr>
            <p:cNvPr id="400" name="Line 9"/>
            <p:cNvSpPr/>
            <p:nvPr/>
          </p:nvSpPr>
          <p:spPr>
            <a:xfrm flipH="1">
              <a:off x="7999560" y="3503520"/>
              <a:ext cx="28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 rot="5404200">
              <a:off x="7126920" y="438048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Increasing acidit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2" name="Rectangle 13"/>
          <p:cNvSpPr/>
          <p:nvPr/>
        </p:nvSpPr>
        <p:spPr>
          <a:xfrm>
            <a:off x="1219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78240" y="571500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Why is the eastern US more acidic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-2666880" y="2590920"/>
            <a:ext cx="2666880" cy="838080"/>
          </a:xfrm>
          <a:custGeom>
            <a:avLst/>
            <a:gdLst>
              <a:gd name="textAreaLeft" fmla="*/ 371880 w 2666880"/>
              <a:gd name="textAreaRight" fmla="*/ 2295000 w 2666880"/>
              <a:gd name="textAreaTop" fmla="*/ 191880 h 838080"/>
              <a:gd name="textAreaBottom" fmla="*/ 64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4950"/>
                </a:moveTo>
                <a:lnTo>
                  <a:pt x="16038" y="4950"/>
                </a:ln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16038" y="16650"/>
                </a:lnTo>
                <a:lnTo>
                  <a:pt x="0" y="16650"/>
                </a:lnTo>
                <a:lnTo>
                  <a:pt x="3013" y="10800"/>
                </a:lnTo>
                <a:lnTo>
                  <a:pt x="0" y="495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00556 L 1.3125 -0.00556 E">
                                      <p:cBhvr>
                                        <p:cTn id="636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 acid 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30000" y="2286000"/>
            <a:ext cx="78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)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41640" y="15238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9960" y="33526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35680" y="4191120"/>
            <a:ext cx="582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…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98760" y="5181480"/>
            <a:ext cx="573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…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777720" y="4191120"/>
            <a:ext cx="154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o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ro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533520" y="3200400"/>
            <a:ext cx="7848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637440" y="59436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H &lt; 5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80880" y="1066680"/>
            <a:ext cx="8391600" cy="5151240"/>
            <a:chOff x="380880" y="1066680"/>
            <a:chExt cx="8391600" cy="5151240"/>
          </a:xfrm>
        </p:grpSpPr>
        <p:pic>
          <p:nvPicPr>
            <p:cNvPr id="417" name="Picture 3" descr="periodic_table"/>
            <p:cNvPicPr/>
            <p:nvPr/>
          </p:nvPicPr>
          <p:blipFill>
            <a:blip r:embed="rId1"/>
            <a:srcRect l="0" t="7546" r="0" b="0"/>
            <a:stretch/>
          </p:blipFill>
          <p:spPr>
            <a:xfrm>
              <a:off x="380880" y="1066680"/>
              <a:ext cx="839160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4"/>
            <p:cNvSpPr/>
            <p:nvPr/>
          </p:nvSpPr>
          <p:spPr>
            <a:xfrm>
              <a:off x="24429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3573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"/>
          <p:cNvSpPr/>
          <p:nvPr/>
        </p:nvSpPr>
        <p:spPr>
          <a:xfrm>
            <a:off x="507600" y="3808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havior of oxides in water– Group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09480" y="2514600"/>
            <a:ext cx="990720" cy="2362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7391520" y="1981080"/>
            <a:ext cx="914400" cy="23623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09480" y="19810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1143000" y="1981080"/>
            <a:ext cx="4572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6019920" y="251460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477120" y="2971800"/>
            <a:ext cx="9144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001000" y="563868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0400" y="1066680"/>
            <a:ext cx="53352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2210040" y="1066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3781800" y="1066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6484320" y="10666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6019920" y="1981080"/>
            <a:ext cx="1828800" cy="2362320"/>
            <a:chOff x="6019920" y="1981080"/>
            <a:chExt cx="1828800" cy="2362320"/>
          </a:xfrm>
        </p:grpSpPr>
        <p:sp>
          <p:nvSpPr>
            <p:cNvPr id="436" name="Line 12"/>
            <p:cNvSpPr/>
            <p:nvPr/>
          </p:nvSpPr>
          <p:spPr>
            <a:xfrm>
              <a:off x="60199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019920" y="243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6477120" y="243828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6477120" y="2971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6934320" y="29718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6934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73915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739152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7848720" y="3886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Rectangle 40"/>
          <p:cNvSpPr/>
          <p:nvPr/>
        </p:nvSpPr>
        <p:spPr>
          <a:xfrm>
            <a:off x="5943600" y="1600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601992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685800" y="12193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1143000" y="16765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44"/>
          <p:cNvSpPr/>
          <p:nvPr/>
        </p:nvSpPr>
        <p:spPr>
          <a:xfrm>
            <a:off x="8381880" y="114300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5"/>
          <p:cNvSpPr/>
          <p:nvPr/>
        </p:nvSpPr>
        <p:spPr>
          <a:xfrm>
            <a:off x="1600200" y="2590920"/>
            <a:ext cx="4343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867280" y="1066680"/>
            <a:ext cx="53352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228600" y="48769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48"/>
          <p:cNvSpPr/>
          <p:nvPr/>
        </p:nvSpPr>
        <p:spPr>
          <a:xfrm>
            <a:off x="1472040" y="5029200"/>
            <a:ext cx="6302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ic:   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+ 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Na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O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1607040" y="6172200"/>
            <a:ext cx="588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acidic:  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1024"/>
          <p:cNvSpPr/>
          <p:nvPr/>
        </p:nvSpPr>
        <p:spPr>
          <a:xfrm>
            <a:off x="6019920" y="2971800"/>
            <a:ext cx="457200" cy="914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1025"/>
          <p:cNvSpPr/>
          <p:nvPr/>
        </p:nvSpPr>
        <p:spPr>
          <a:xfrm>
            <a:off x="6019920" y="3886200"/>
            <a:ext cx="45720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58280" y="380880"/>
            <a:ext cx="81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785760" y="2133720"/>
            <a:ext cx="152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019960" y="4800600"/>
            <a:ext cx="146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5920920" y="4800600"/>
            <a:ext cx="121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463" name="Line 8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Text Box 11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466" name="Line 7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Text Box 13"/>
          <p:cNvSpPr/>
          <p:nvPr/>
        </p:nvSpPr>
        <p:spPr>
          <a:xfrm>
            <a:off x="1523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801360" y="2057400"/>
            <a:ext cx="22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cting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Comic Sans MS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019920" y="205740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cting like an </a:t>
            </a:r>
            <a:r>
              <a:rPr b="0" lang="en-US" sz="3200" spc="-1" strike="noStrike" u="sng">
                <a:solidFill>
                  <a:srgbClr val="ff6699"/>
                </a:solidFill>
                <a:uFillTx/>
                <a:latin typeface="Comic Sans MS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21080" y="571500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ccepts H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5550840" y="5715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donates H</a:t>
            </a:r>
            <a:r>
              <a:rPr b="0" lang="en-US" sz="28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362320"/>
            <a:ext cx="54864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86400" y="2362320"/>
            <a:ext cx="464832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103280" y="2286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-885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709272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7993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8767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54864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1735920" y="914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5"/>
          <p:cNvSpPr/>
          <p:nvPr/>
        </p:nvSpPr>
        <p:spPr>
          <a:xfrm>
            <a:off x="304920" y="2362320"/>
            <a:ext cx="152388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6"/>
          <p:cNvSpPr/>
          <p:nvPr/>
        </p:nvSpPr>
        <p:spPr>
          <a:xfrm rot="3292200">
            <a:off x="576720" y="425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2286000" y="2362320"/>
            <a:ext cx="9144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38"/>
          <p:cNvSpPr/>
          <p:nvPr/>
        </p:nvSpPr>
        <p:spPr>
          <a:xfrm rot="2925600">
            <a:off x="2310480" y="4296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9"/>
          <p:cNvSpPr/>
          <p:nvPr/>
        </p:nvSpPr>
        <p:spPr>
          <a:xfrm>
            <a:off x="3276720" y="2362320"/>
            <a:ext cx="3124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0"/>
          <p:cNvSpPr/>
          <p:nvPr/>
        </p:nvSpPr>
        <p:spPr>
          <a:xfrm rot="2899800">
            <a:off x="4331520" y="387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41"/>
          <p:cNvSpPr/>
          <p:nvPr/>
        </p:nvSpPr>
        <p:spPr>
          <a:xfrm>
            <a:off x="4800600" y="2362320"/>
            <a:ext cx="457200" cy="1066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5562720" y="2362320"/>
            <a:ext cx="990360" cy="1066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5638680" y="2362320"/>
            <a:ext cx="15264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5715000" y="2362320"/>
            <a:ext cx="0" cy="1066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48"/>
          <p:cNvSpPr/>
          <p:nvPr/>
        </p:nvSpPr>
        <p:spPr>
          <a:xfrm>
            <a:off x="6019920" y="2362320"/>
            <a:ext cx="914400" cy="1066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9"/>
          <p:cNvSpPr/>
          <p:nvPr/>
        </p:nvSpPr>
        <p:spPr>
          <a:xfrm rot="2740800">
            <a:off x="4849920" y="377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0"/>
          <p:cNvSpPr/>
          <p:nvPr/>
        </p:nvSpPr>
        <p:spPr>
          <a:xfrm rot="2986800">
            <a:off x="5186160" y="44802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1"/>
          <p:cNvSpPr/>
          <p:nvPr/>
        </p:nvSpPr>
        <p:spPr>
          <a:xfrm rot="2823000">
            <a:off x="5898240" y="37508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52"/>
          <p:cNvSpPr/>
          <p:nvPr/>
        </p:nvSpPr>
        <p:spPr>
          <a:xfrm rot="2922000">
            <a:off x="6102000" y="4275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53"/>
          <p:cNvSpPr/>
          <p:nvPr/>
        </p:nvSpPr>
        <p:spPr>
          <a:xfrm rot="2860800">
            <a:off x="6660000" y="43884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4"/>
          <p:cNvSpPr/>
          <p:nvPr/>
        </p:nvSpPr>
        <p:spPr>
          <a:xfrm>
            <a:off x="3893400" y="15238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63234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5486400" y="1523880"/>
            <a:ext cx="0" cy="251460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651240" y="6172200"/>
            <a:ext cx="78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rtora &amp; Grabowski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n. of Anatomy &amp; Phys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d., Wiley (200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nzyme_pH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3525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1219320" y="380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78760" y="55627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ypsin is a digestive enzyme. 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5334120" y="1981080"/>
            <a:ext cx="609480" cy="2133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892520" y="60199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Intestinal pH range 7.0-8.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1676520" y="4495680"/>
            <a:ext cx="1218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General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2666880"/>
            <a:ext cx="1143000" cy="38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238880" y="2666880"/>
            <a:ext cx="1143000" cy="38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676520" y="4038480"/>
            <a:ext cx="1218960" cy="1523880"/>
            <a:chOff x="1676520" y="4038480"/>
            <a:chExt cx="1218960" cy="1523880"/>
          </a:xfrm>
        </p:grpSpPr>
        <p:sp>
          <p:nvSpPr>
            <p:cNvPr id="58" name="Line 10"/>
            <p:cNvSpPr/>
            <p:nvPr/>
          </p:nvSpPr>
          <p:spPr>
            <a:xfrm>
              <a:off x="167652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76520" y="5562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289548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AutoShape 14"/>
          <p:cNvSpPr/>
          <p:nvPr/>
        </p:nvSpPr>
        <p:spPr>
          <a:xfrm flipH="1" rot="21192600">
            <a:off x="1751760" y="4114440"/>
            <a:ext cx="457200" cy="1447920"/>
          </a:xfrm>
          <a:prstGeom prst="parallelogram">
            <a:avLst>
              <a:gd name="adj" fmla="val 256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981080" y="5257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3"/>
          <p:cNvSpPr/>
          <p:nvPr/>
        </p:nvSpPr>
        <p:spPr>
          <a:xfrm rot="19766400">
            <a:off x="1752480" y="49525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213372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25"/>
          <p:cNvSpPr/>
          <p:nvPr/>
        </p:nvSpPr>
        <p:spPr>
          <a:xfrm rot="720600">
            <a:off x="20574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90512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2209680" y="53341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1752480" y="4572000"/>
            <a:ext cx="685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60948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02920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24"/>
          <p:cNvSpPr/>
          <p:nvPr/>
        </p:nvSpPr>
        <p:spPr>
          <a:xfrm>
            <a:off x="145008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25"/>
          <p:cNvSpPr/>
          <p:nvPr/>
        </p:nvSpPr>
        <p:spPr>
          <a:xfrm>
            <a:off x="609804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723 L -0.00417 -0.32815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-0.07786 L -0.025 -0.30591 E">
                                      <p:cBhvr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10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1066680" y="4267080"/>
            <a:ext cx="60984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amphoter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048800" y="28954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ss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240" y="289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in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3057480" y="59436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82800" y="5257800"/>
            <a:ext cx="321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193440" y="5257800"/>
            <a:ext cx="285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7037640" y="6400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79612E-007 L 0.15 0.09986 E">
                                      <p:cBhvr>
                                        <p:cTn id="90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497E-006 L 0.175 -0.09986 E">
                                      <p:cBhvr>
                                        <p:cTn id="9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6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Zwitterion form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371600" y="1066680"/>
            <a:ext cx="6400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er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from carboxylic acid group to amine gro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133800" y="52578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3142800" y="5715000"/>
            <a:ext cx="29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2590920" y="3581280"/>
            <a:ext cx="60948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29000" y="312408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5745240" y="281952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6994440" y="4495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1295280" y="6278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365040" y="5359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60" y="56386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294E-006 L -0.37917 0.01664 E">
                                      <p:cBhvr>
                                        <p:cTn id="952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07240" y="45720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how how water can be amphoteri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915000" y="1981080"/>
            <a:ext cx="1028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552" name="Line 7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8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555" name="Line 10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1676520" y="4495680"/>
            <a:ext cx="1295280" cy="762120"/>
          </a:xfrm>
          <a:prstGeom prst="can">
            <a:avLst>
              <a:gd name="adj" fmla="val 35625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474720" y="22860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1676520" y="4038480"/>
            <a:ext cx="1295280" cy="1219320"/>
          </a:xfrm>
          <a:prstGeom prst="can">
            <a:avLst>
              <a:gd name="adj" fmla="val 24347"/>
            </a:avLst>
          </a:prstGeom>
          <a:solidFill>
            <a:srgbClr val="b80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676520" y="3581280"/>
            <a:ext cx="1295280" cy="1676520"/>
          </a:xfrm>
          <a:prstGeom prst="can">
            <a:avLst>
              <a:gd name="adj" fmla="val 17990"/>
            </a:avLst>
          </a:prstGeom>
          <a:solidFill>
            <a:srgbClr val="ea0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676520" y="3124080"/>
            <a:ext cx="1295280" cy="2133720"/>
          </a:xfrm>
          <a:prstGeom prst="can">
            <a:avLst>
              <a:gd name="adj" fmla="val 14583"/>
            </a:avLst>
          </a:prstGeom>
          <a:solidFill>
            <a:srgbClr val="ff4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1676520" y="2666880"/>
            <a:ext cx="1295280" cy="2590920"/>
          </a:xfrm>
          <a:prstGeom prst="can">
            <a:avLst>
              <a:gd name="adj" fmla="val 10416"/>
            </a:avLst>
          </a:prstGeom>
          <a:solidFill>
            <a:srgbClr val="ff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676520" y="1523880"/>
            <a:ext cx="1295280" cy="3733920"/>
          </a:xfrm>
          <a:prstGeom prst="can">
            <a:avLst>
              <a:gd name="adj" fmla="val 854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198"/>
          <p:cNvGrpSpPr/>
          <p:nvPr/>
        </p:nvGrpSpPr>
        <p:grpSpPr>
          <a:xfrm>
            <a:off x="3838320" y="1422720"/>
            <a:ext cx="320040" cy="225360"/>
            <a:chOff x="3838320" y="1422720"/>
            <a:chExt cx="320040" cy="225360"/>
          </a:xfrm>
        </p:grpSpPr>
        <p:sp>
          <p:nvSpPr>
            <p:cNvPr id="566" name="Oval 199"/>
            <p:cNvSpPr/>
            <p:nvPr/>
          </p:nvSpPr>
          <p:spPr>
            <a:xfrm rot="7801800">
              <a:off x="3924720" y="1466280"/>
              <a:ext cx="154080" cy="14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200"/>
            <p:cNvSpPr/>
            <p:nvPr/>
          </p:nvSpPr>
          <p:spPr>
            <a:xfrm rot="7801800">
              <a:off x="4066200" y="143892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201"/>
            <p:cNvSpPr/>
            <p:nvPr/>
          </p:nvSpPr>
          <p:spPr>
            <a:xfrm rot="7801800">
              <a:off x="3853080" y="146124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9" name="Group 229"/>
          <p:cNvGrpSpPr/>
          <p:nvPr/>
        </p:nvGrpSpPr>
        <p:grpSpPr>
          <a:xfrm>
            <a:off x="2133720" y="4495320"/>
            <a:ext cx="3581280" cy="1148040"/>
            <a:chOff x="2133720" y="4495320"/>
            <a:chExt cx="3581280" cy="1148040"/>
          </a:xfrm>
        </p:grpSpPr>
        <p:grpSp>
          <p:nvGrpSpPr>
            <p:cNvPr id="570" name="Group 15"/>
            <p:cNvGrpSpPr/>
            <p:nvPr/>
          </p:nvGrpSpPr>
          <p:grpSpPr>
            <a:xfrm>
              <a:off x="2133720" y="4495320"/>
              <a:ext cx="3581280" cy="1143360"/>
              <a:chOff x="2133720" y="4495320"/>
              <a:chExt cx="3581280" cy="1143360"/>
            </a:xfrm>
          </p:grpSpPr>
          <p:sp>
            <p:nvSpPr>
              <p:cNvPr id="571" name="Rectangle 11"/>
              <p:cNvSpPr/>
              <p:nvPr/>
            </p:nvSpPr>
            <p:spPr>
              <a:xfrm>
                <a:off x="3962520" y="449568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>
                <a:off x="2133720" y="48769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13"/>
              <p:cNvSpPr/>
              <p:nvPr/>
            </p:nvSpPr>
            <p:spPr>
              <a:xfrm flipV="1">
                <a:off x="2286000" y="449532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"/>
              <p:cNvSpPr/>
              <p:nvPr/>
            </p:nvSpPr>
            <p:spPr>
              <a:xfrm>
                <a:off x="2286000" y="518148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5" name="Group 16"/>
            <p:cNvGrpSpPr/>
            <p:nvPr/>
          </p:nvGrpSpPr>
          <p:grpSpPr>
            <a:xfrm>
              <a:off x="4371480" y="4756680"/>
              <a:ext cx="1289880" cy="852120"/>
              <a:chOff x="4371480" y="4756680"/>
              <a:chExt cx="1289880" cy="852120"/>
            </a:xfrm>
          </p:grpSpPr>
          <p:grpSp>
            <p:nvGrpSpPr>
              <p:cNvPr id="576" name="Group 17"/>
              <p:cNvGrpSpPr/>
              <p:nvPr/>
            </p:nvGrpSpPr>
            <p:grpSpPr>
              <a:xfrm>
                <a:off x="4680360" y="5290920"/>
                <a:ext cx="236880" cy="317880"/>
                <a:chOff x="4680360" y="5290920"/>
                <a:chExt cx="236880" cy="317880"/>
              </a:xfrm>
            </p:grpSpPr>
            <p:sp>
              <p:nvSpPr>
                <p:cNvPr id="577" name="Oval 18"/>
                <p:cNvSpPr/>
                <p:nvPr/>
              </p:nvSpPr>
              <p:spPr>
                <a:xfrm rot="3591600">
                  <a:off x="4734000" y="53881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 rot="3591600">
                  <a:off x="4746600" y="530568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 rot="3591600">
                  <a:off x="4693680" y="551736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5029560" y="4800600"/>
                <a:ext cx="226440" cy="232920"/>
                <a:chOff x="5029560" y="4800600"/>
                <a:chExt cx="226440" cy="232920"/>
              </a:xfrm>
            </p:grpSpPr>
            <p:sp>
              <p:nvSpPr>
                <p:cNvPr id="581" name="Oval 22"/>
                <p:cNvSpPr/>
                <p:nvPr/>
              </p:nvSpPr>
              <p:spPr>
                <a:xfrm>
                  <a:off x="5105160" y="48006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Oval 23"/>
                <p:cNvSpPr/>
                <p:nvPr/>
              </p:nvSpPr>
              <p:spPr>
                <a:xfrm>
                  <a:off x="5029560" y="4800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Oval 24"/>
                <p:cNvSpPr/>
                <p:nvPr/>
              </p:nvSpPr>
              <p:spPr>
                <a:xfrm>
                  <a:off x="5180400" y="49557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5"/>
              <p:cNvGrpSpPr/>
              <p:nvPr/>
            </p:nvGrpSpPr>
            <p:grpSpPr>
              <a:xfrm>
                <a:off x="4371840" y="4928040"/>
                <a:ext cx="320040" cy="225360"/>
                <a:chOff x="4371840" y="4928040"/>
                <a:chExt cx="320040" cy="225360"/>
              </a:xfrm>
            </p:grpSpPr>
            <p:sp>
              <p:nvSpPr>
                <p:cNvPr id="585" name="Oval 26"/>
                <p:cNvSpPr/>
                <p:nvPr/>
              </p:nvSpPr>
              <p:spPr>
                <a:xfrm rot="7801800">
                  <a:off x="4458240" y="49716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Oval 27"/>
                <p:cNvSpPr/>
                <p:nvPr/>
              </p:nvSpPr>
              <p:spPr>
                <a:xfrm rot="7801800">
                  <a:off x="4599720" y="4944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Oval 28"/>
                <p:cNvSpPr/>
                <p:nvPr/>
              </p:nvSpPr>
              <p:spPr>
                <a:xfrm rot="7801800">
                  <a:off x="4386600" y="49665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29"/>
              <p:cNvGrpSpPr/>
              <p:nvPr/>
            </p:nvGrpSpPr>
            <p:grpSpPr>
              <a:xfrm>
                <a:off x="5208840" y="4756680"/>
                <a:ext cx="222480" cy="320400"/>
                <a:chOff x="5208840" y="4756680"/>
                <a:chExt cx="222480" cy="320400"/>
              </a:xfrm>
            </p:grpSpPr>
            <p:sp>
              <p:nvSpPr>
                <p:cNvPr id="589" name="Oval 30"/>
                <p:cNvSpPr/>
                <p:nvPr/>
              </p:nvSpPr>
              <p:spPr>
                <a:xfrm rot="13130400">
                  <a:off x="5240160" y="48463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 rot="13130400">
                  <a:off x="5340600" y="49845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 rot="13130400">
                  <a:off x="5321160" y="47710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5438520" y="4908960"/>
                <a:ext cx="222840" cy="320040"/>
                <a:chOff x="5438520" y="4908960"/>
                <a:chExt cx="222840" cy="320040"/>
              </a:xfrm>
            </p:grpSpPr>
            <p:sp>
              <p:nvSpPr>
                <p:cNvPr id="593" name="Oval 34"/>
                <p:cNvSpPr/>
                <p:nvPr/>
              </p:nvSpPr>
              <p:spPr>
                <a:xfrm rot="13130400">
                  <a:off x="5470200" y="499824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" name="Oval 35"/>
                <p:cNvSpPr/>
                <p:nvPr/>
              </p:nvSpPr>
              <p:spPr>
                <a:xfrm rot="13130400">
                  <a:off x="5570640" y="51364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5" name="Oval 36"/>
                <p:cNvSpPr/>
                <p:nvPr/>
              </p:nvSpPr>
              <p:spPr>
                <a:xfrm rot="13130400">
                  <a:off x="5551200" y="4923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6" name="Group 37"/>
              <p:cNvGrpSpPr/>
              <p:nvPr/>
            </p:nvGrpSpPr>
            <p:grpSpPr>
              <a:xfrm>
                <a:off x="5057640" y="5308920"/>
                <a:ext cx="320040" cy="225360"/>
                <a:chOff x="5057640" y="5308920"/>
                <a:chExt cx="320040" cy="225360"/>
              </a:xfrm>
            </p:grpSpPr>
            <p:sp>
              <p:nvSpPr>
                <p:cNvPr id="597" name="Oval 38"/>
                <p:cNvSpPr/>
                <p:nvPr/>
              </p:nvSpPr>
              <p:spPr>
                <a:xfrm rot="7801800">
                  <a:off x="5144040" y="53524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Oval 39"/>
                <p:cNvSpPr/>
                <p:nvPr/>
              </p:nvSpPr>
              <p:spPr>
                <a:xfrm rot="7801800">
                  <a:off x="5285520" y="53251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9" name="Oval 40"/>
                <p:cNvSpPr/>
                <p:nvPr/>
              </p:nvSpPr>
              <p:spPr>
                <a:xfrm rot="7801800">
                  <a:off x="5072400" y="53474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" name="Group 41"/>
              <p:cNvGrpSpPr/>
              <p:nvPr/>
            </p:nvGrpSpPr>
            <p:grpSpPr>
              <a:xfrm>
                <a:off x="4601160" y="5085000"/>
                <a:ext cx="322200" cy="223920"/>
                <a:chOff x="4601160" y="5085000"/>
                <a:chExt cx="322200" cy="223920"/>
              </a:xfrm>
            </p:grpSpPr>
            <p:sp>
              <p:nvSpPr>
                <p:cNvPr id="601" name="Oval 42"/>
                <p:cNvSpPr/>
                <p:nvPr/>
              </p:nvSpPr>
              <p:spPr>
                <a:xfrm rot="7801800">
                  <a:off x="4690440" y="51253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Oval 43"/>
                <p:cNvSpPr/>
                <p:nvPr/>
              </p:nvSpPr>
              <p:spPr>
                <a:xfrm rot="7801800">
                  <a:off x="4831200" y="510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44"/>
                <p:cNvSpPr/>
                <p:nvPr/>
              </p:nvSpPr>
              <p:spPr>
                <a:xfrm rot="7801800">
                  <a:off x="4616640" y="511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5"/>
              <p:cNvGrpSpPr/>
              <p:nvPr/>
            </p:nvGrpSpPr>
            <p:grpSpPr>
              <a:xfrm>
                <a:off x="5362200" y="4984560"/>
                <a:ext cx="219960" cy="321480"/>
                <a:chOff x="5362200" y="4984560"/>
                <a:chExt cx="219960" cy="321480"/>
              </a:xfrm>
            </p:grpSpPr>
            <p:sp>
              <p:nvSpPr>
                <p:cNvPr id="605" name="Oval 46"/>
                <p:cNvSpPr/>
                <p:nvPr/>
              </p:nvSpPr>
              <p:spPr>
                <a:xfrm rot="13249200">
                  <a:off x="5394240" y="50731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 rot="13249200">
                  <a:off x="5491080" y="52135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Oval 48"/>
                <p:cNvSpPr/>
                <p:nvPr/>
              </p:nvSpPr>
              <p:spPr>
                <a:xfrm rot="13249200">
                  <a:off x="5478840" y="4999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Group 49"/>
              <p:cNvGrpSpPr/>
              <p:nvPr/>
            </p:nvGrpSpPr>
            <p:grpSpPr>
              <a:xfrm>
                <a:off x="4371480" y="5060880"/>
                <a:ext cx="219960" cy="321480"/>
                <a:chOff x="4371480" y="5060880"/>
                <a:chExt cx="219960" cy="321480"/>
              </a:xfrm>
            </p:grpSpPr>
            <p:sp>
              <p:nvSpPr>
                <p:cNvPr id="609" name="Oval 50"/>
                <p:cNvSpPr/>
                <p:nvPr/>
              </p:nvSpPr>
              <p:spPr>
                <a:xfrm rot="13249200">
                  <a:off x="4403520" y="514944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Oval 51"/>
                <p:cNvSpPr/>
                <p:nvPr/>
              </p:nvSpPr>
              <p:spPr>
                <a:xfrm rot="13249200">
                  <a:off x="4500360" y="52898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Oval 52"/>
                <p:cNvSpPr/>
                <p:nvPr/>
              </p:nvSpPr>
              <p:spPr>
                <a:xfrm rot="13249200">
                  <a:off x="4488120" y="5075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2" name="Group 53"/>
            <p:cNvGrpSpPr/>
            <p:nvPr/>
          </p:nvGrpSpPr>
          <p:grpSpPr>
            <a:xfrm>
              <a:off x="4012920" y="4511520"/>
              <a:ext cx="1296360" cy="887040"/>
              <a:chOff x="4012920" y="4511520"/>
              <a:chExt cx="1296360" cy="887040"/>
            </a:xfrm>
          </p:grpSpPr>
          <p:grpSp>
            <p:nvGrpSpPr>
              <p:cNvPr id="613" name="Group 54"/>
              <p:cNvGrpSpPr/>
              <p:nvPr/>
            </p:nvGrpSpPr>
            <p:grpSpPr>
              <a:xfrm>
                <a:off x="4737240" y="4511520"/>
                <a:ext cx="234000" cy="321840"/>
                <a:chOff x="4737240" y="4511520"/>
                <a:chExt cx="234000" cy="321840"/>
              </a:xfrm>
            </p:grpSpPr>
            <p:sp>
              <p:nvSpPr>
                <p:cNvPr id="614" name="Oval 55"/>
                <p:cNvSpPr/>
                <p:nvPr/>
              </p:nvSpPr>
              <p:spPr>
                <a:xfrm rot="14194800">
                  <a:off x="4765680" y="458460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Oval 56"/>
                <p:cNvSpPr/>
                <p:nvPr/>
              </p:nvSpPr>
              <p:spPr>
                <a:xfrm rot="14194800">
                  <a:off x="4837680" y="47412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Oval 57"/>
                <p:cNvSpPr/>
                <p:nvPr/>
              </p:nvSpPr>
              <p:spPr>
                <a:xfrm rot="14194800">
                  <a:off x="4878360" y="45270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7" name="Group 58"/>
              <p:cNvGrpSpPr/>
              <p:nvPr/>
            </p:nvGrpSpPr>
            <p:grpSpPr>
              <a:xfrm>
                <a:off x="4425480" y="5112000"/>
                <a:ext cx="239400" cy="237240"/>
                <a:chOff x="4425480" y="5112000"/>
                <a:chExt cx="239400" cy="237240"/>
              </a:xfrm>
            </p:grpSpPr>
            <p:sp>
              <p:nvSpPr>
                <p:cNvPr id="618" name="Oval 59"/>
                <p:cNvSpPr/>
                <p:nvPr/>
              </p:nvSpPr>
              <p:spPr>
                <a:xfrm rot="10603200">
                  <a:off x="4434120" y="518976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 rot="10603200">
                  <a:off x="4586760" y="526068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 rot="10603200">
                  <a:off x="4427280" y="51141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1" name="Group 62"/>
              <p:cNvGrpSpPr/>
              <p:nvPr/>
            </p:nvGrpSpPr>
            <p:grpSpPr>
              <a:xfrm>
                <a:off x="4991760" y="4956120"/>
                <a:ext cx="317520" cy="230400"/>
                <a:chOff x="4991760" y="4956120"/>
                <a:chExt cx="317520" cy="230400"/>
              </a:xfrm>
            </p:grpSpPr>
            <p:sp>
              <p:nvSpPr>
                <p:cNvPr id="622" name="Oval 63"/>
                <p:cNvSpPr/>
                <p:nvPr/>
              </p:nvSpPr>
              <p:spPr>
                <a:xfrm rot="18405000">
                  <a:off x="5066640" y="4987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Oval 64"/>
                <p:cNvSpPr/>
                <p:nvPr/>
              </p:nvSpPr>
              <p:spPr>
                <a:xfrm rot="18405000">
                  <a:off x="5005800" y="50958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Oval 65"/>
                <p:cNvSpPr/>
                <p:nvPr/>
              </p:nvSpPr>
              <p:spPr>
                <a:xfrm rot="18405000">
                  <a:off x="5217480" y="5061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66"/>
              <p:cNvGrpSpPr/>
              <p:nvPr/>
            </p:nvGrpSpPr>
            <p:grpSpPr>
              <a:xfrm>
                <a:off x="4251240" y="5080320"/>
                <a:ext cx="227160" cy="318240"/>
                <a:chOff x="4251240" y="5080320"/>
                <a:chExt cx="227160" cy="318240"/>
              </a:xfrm>
            </p:grpSpPr>
            <p:sp>
              <p:nvSpPr>
                <p:cNvPr id="626" name="Oval 67"/>
                <p:cNvSpPr/>
                <p:nvPr/>
              </p:nvSpPr>
              <p:spPr>
                <a:xfrm rot="2133600">
                  <a:off x="4298040" y="5152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Oval 68"/>
                <p:cNvSpPr/>
                <p:nvPr/>
              </p:nvSpPr>
              <p:spPr>
                <a:xfrm rot="2133600">
                  <a:off x="4266720" y="50947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Oval 69"/>
                <p:cNvSpPr/>
                <p:nvPr/>
              </p:nvSpPr>
              <p:spPr>
                <a:xfrm rot="2133600">
                  <a:off x="4298400" y="5306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9" name="Group 70"/>
              <p:cNvGrpSpPr/>
              <p:nvPr/>
            </p:nvGrpSpPr>
            <p:grpSpPr>
              <a:xfrm>
                <a:off x="4012920" y="4941720"/>
                <a:ext cx="227160" cy="317880"/>
                <a:chOff x="4012920" y="4941720"/>
                <a:chExt cx="227160" cy="317880"/>
              </a:xfrm>
            </p:grpSpPr>
            <p:sp>
              <p:nvSpPr>
                <p:cNvPr id="630" name="Oval 71"/>
                <p:cNvSpPr/>
                <p:nvPr/>
              </p:nvSpPr>
              <p:spPr>
                <a:xfrm rot="2133600">
                  <a:off x="4060440" y="501408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Oval 72"/>
                <p:cNvSpPr/>
                <p:nvPr/>
              </p:nvSpPr>
              <p:spPr>
                <a:xfrm rot="2133600">
                  <a:off x="4028400" y="49561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Oval 73"/>
                <p:cNvSpPr/>
                <p:nvPr/>
              </p:nvSpPr>
              <p:spPr>
                <a:xfrm rot="2133600">
                  <a:off x="4060080" y="516780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3" name="Group 74"/>
              <p:cNvGrpSpPr/>
              <p:nvPr/>
            </p:nvGrpSpPr>
            <p:grpSpPr>
              <a:xfrm>
                <a:off x="4285440" y="4615200"/>
                <a:ext cx="317160" cy="230400"/>
                <a:chOff x="4285440" y="4615200"/>
                <a:chExt cx="317160" cy="230400"/>
              </a:xfrm>
            </p:grpSpPr>
            <p:sp>
              <p:nvSpPr>
                <p:cNvPr id="634" name="Oval 75"/>
                <p:cNvSpPr/>
                <p:nvPr/>
              </p:nvSpPr>
              <p:spPr>
                <a:xfrm rot="18405000">
                  <a:off x="4359960" y="46468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Oval 76"/>
                <p:cNvSpPr/>
                <p:nvPr/>
              </p:nvSpPr>
              <p:spPr>
                <a:xfrm rot="18405000">
                  <a:off x="4299480" y="47548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Oval 77"/>
                <p:cNvSpPr/>
                <p:nvPr/>
              </p:nvSpPr>
              <p:spPr>
                <a:xfrm rot="18405000">
                  <a:off x="4510800" y="47203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7" name="Group 78"/>
              <p:cNvGrpSpPr/>
              <p:nvPr/>
            </p:nvGrpSpPr>
            <p:grpSpPr>
              <a:xfrm>
                <a:off x="4751640" y="4814280"/>
                <a:ext cx="320040" cy="228600"/>
                <a:chOff x="4751640" y="4814280"/>
                <a:chExt cx="320040" cy="228600"/>
              </a:xfrm>
            </p:grpSpPr>
            <p:sp>
              <p:nvSpPr>
                <p:cNvPr id="638" name="Oval 79"/>
                <p:cNvSpPr/>
                <p:nvPr/>
              </p:nvSpPr>
              <p:spPr>
                <a:xfrm rot="18405000">
                  <a:off x="4827960" y="4844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9" name="Oval 80"/>
                <p:cNvSpPr/>
                <p:nvPr/>
              </p:nvSpPr>
              <p:spPr>
                <a:xfrm rot="18405000">
                  <a:off x="4766760" y="49510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0" name="Oval 81"/>
                <p:cNvSpPr/>
                <p:nvPr/>
              </p:nvSpPr>
              <p:spPr>
                <a:xfrm rot="18405000">
                  <a:off x="4979880" y="492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1" name="Group 82"/>
              <p:cNvGrpSpPr/>
              <p:nvPr/>
            </p:nvGrpSpPr>
            <p:grpSpPr>
              <a:xfrm>
                <a:off x="4087800" y="4860360"/>
                <a:ext cx="224280" cy="320040"/>
                <a:chOff x="4087800" y="4860360"/>
                <a:chExt cx="224280" cy="320040"/>
              </a:xfrm>
            </p:grpSpPr>
            <p:sp>
              <p:nvSpPr>
                <p:cNvPr id="642" name="Oval 83"/>
                <p:cNvSpPr/>
                <p:nvPr/>
              </p:nvSpPr>
              <p:spPr>
                <a:xfrm rot="2252400">
                  <a:off x="4131360" y="49348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Oval 84"/>
                <p:cNvSpPr/>
                <p:nvPr/>
              </p:nvSpPr>
              <p:spPr>
                <a:xfrm rot="2252400">
                  <a:off x="4103640" y="4874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Oval 85"/>
                <p:cNvSpPr/>
                <p:nvPr/>
              </p:nvSpPr>
              <p:spPr>
                <a:xfrm rot="2252400">
                  <a:off x="4128120" y="5087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5" name="Group 86"/>
              <p:cNvGrpSpPr/>
              <p:nvPr/>
            </p:nvGrpSpPr>
            <p:grpSpPr>
              <a:xfrm>
                <a:off x="5072400" y="4727520"/>
                <a:ext cx="224640" cy="320040"/>
                <a:chOff x="5072400" y="4727520"/>
                <a:chExt cx="224640" cy="320040"/>
              </a:xfrm>
            </p:grpSpPr>
            <p:sp>
              <p:nvSpPr>
                <p:cNvPr id="646" name="Oval 87"/>
                <p:cNvSpPr/>
                <p:nvPr/>
              </p:nvSpPr>
              <p:spPr>
                <a:xfrm rot="2252400">
                  <a:off x="5116320" y="4801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 rot="2252400">
                  <a:off x="5088240" y="4741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 rot="2252400">
                  <a:off x="5112720" y="4955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49" name="Oval 90"/>
            <p:cNvSpPr/>
            <p:nvPr/>
          </p:nvSpPr>
          <p:spPr>
            <a:xfrm>
              <a:off x="4114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0" name="Group 176"/>
            <p:cNvGrpSpPr/>
            <p:nvPr/>
          </p:nvGrpSpPr>
          <p:grpSpPr>
            <a:xfrm>
              <a:off x="5362200" y="4546800"/>
              <a:ext cx="320040" cy="225360"/>
              <a:chOff x="5362200" y="4546800"/>
              <a:chExt cx="320040" cy="225360"/>
            </a:xfrm>
          </p:grpSpPr>
          <p:sp>
            <p:nvSpPr>
              <p:cNvPr id="651" name="Oval 177"/>
              <p:cNvSpPr/>
              <p:nvPr/>
            </p:nvSpPr>
            <p:spPr>
              <a:xfrm rot="7801800">
                <a:off x="5448600" y="4590360"/>
                <a:ext cx="154080" cy="14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78"/>
              <p:cNvSpPr/>
              <p:nvPr/>
            </p:nvSpPr>
            <p:spPr>
              <a:xfrm rot="7801800">
                <a:off x="5590080" y="456300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Oval 179"/>
              <p:cNvSpPr/>
              <p:nvPr/>
            </p:nvSpPr>
            <p:spPr>
              <a:xfrm rot="7801800">
                <a:off x="5376960" y="458532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4" name="Group 188"/>
            <p:cNvGrpSpPr/>
            <p:nvPr/>
          </p:nvGrpSpPr>
          <p:grpSpPr>
            <a:xfrm>
              <a:off x="4066560" y="4527360"/>
              <a:ext cx="219960" cy="321480"/>
              <a:chOff x="4066560" y="4527360"/>
              <a:chExt cx="219960" cy="321480"/>
            </a:xfrm>
          </p:grpSpPr>
          <p:sp>
            <p:nvSpPr>
              <p:cNvPr id="655" name="Oval 189"/>
              <p:cNvSpPr/>
              <p:nvPr/>
            </p:nvSpPr>
            <p:spPr>
              <a:xfrm rot="13249200">
                <a:off x="4098600" y="46159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Oval 190"/>
              <p:cNvSpPr/>
              <p:nvPr/>
            </p:nvSpPr>
            <p:spPr>
              <a:xfrm rot="13249200">
                <a:off x="4195440" y="47563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Oval 191"/>
              <p:cNvSpPr/>
              <p:nvPr/>
            </p:nvSpPr>
            <p:spPr>
              <a:xfrm rot="13249200">
                <a:off x="4183200" y="45421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8" name="Group 194"/>
            <p:cNvGrpSpPr/>
            <p:nvPr/>
          </p:nvGrpSpPr>
          <p:grpSpPr>
            <a:xfrm>
              <a:off x="4038480" y="5410080"/>
              <a:ext cx="226800" cy="233280"/>
              <a:chOff x="4038480" y="5410080"/>
              <a:chExt cx="226800" cy="233280"/>
            </a:xfrm>
          </p:grpSpPr>
          <p:sp>
            <p:nvSpPr>
              <p:cNvPr id="659" name="Oval 195"/>
              <p:cNvSpPr/>
              <p:nvPr/>
            </p:nvSpPr>
            <p:spPr>
              <a:xfrm>
                <a:off x="4114080" y="5410080"/>
                <a:ext cx="151200" cy="155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Oval 196"/>
              <p:cNvSpPr/>
              <p:nvPr/>
            </p:nvSpPr>
            <p:spPr>
              <a:xfrm>
                <a:off x="4038480" y="541008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Oval 197"/>
              <p:cNvSpPr/>
              <p:nvPr/>
            </p:nvSpPr>
            <p:spPr>
              <a:xfrm>
                <a:off x="4189680" y="5565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2" name="Group 206"/>
            <p:cNvGrpSpPr/>
            <p:nvPr/>
          </p:nvGrpSpPr>
          <p:grpSpPr>
            <a:xfrm>
              <a:off x="5393160" y="5316480"/>
              <a:ext cx="265320" cy="232920"/>
              <a:chOff x="5393160" y="5316480"/>
              <a:chExt cx="265320" cy="232920"/>
            </a:xfrm>
          </p:grpSpPr>
          <p:sp>
            <p:nvSpPr>
              <p:cNvPr id="663" name="Oval 207"/>
              <p:cNvSpPr/>
              <p:nvPr/>
            </p:nvSpPr>
            <p:spPr>
              <a:xfrm rot="16770000">
                <a:off x="5419080" y="532512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Oval 208"/>
              <p:cNvSpPr/>
              <p:nvPr/>
            </p:nvSpPr>
            <p:spPr>
              <a:xfrm rot="16770000">
                <a:off x="5400000" y="546768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Oval 209"/>
              <p:cNvSpPr/>
              <p:nvPr/>
            </p:nvSpPr>
            <p:spPr>
              <a:xfrm rot="16770000">
                <a:off x="5576760" y="53463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Oval 214"/>
            <p:cNvSpPr/>
            <p:nvPr/>
          </p:nvSpPr>
          <p:spPr>
            <a:xfrm>
              <a:off x="48769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215"/>
            <p:cNvSpPr/>
            <p:nvPr/>
          </p:nvSpPr>
          <p:spPr>
            <a:xfrm>
              <a:off x="4343400" y="4800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216"/>
            <p:cNvSpPr/>
            <p:nvPr/>
          </p:nvSpPr>
          <p:spPr>
            <a:xfrm>
              <a:off x="45720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217"/>
            <p:cNvSpPr/>
            <p:nvPr/>
          </p:nvSpPr>
          <p:spPr>
            <a:xfrm>
              <a:off x="5486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5181480" y="45720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219"/>
            <p:cNvSpPr/>
            <p:nvPr/>
          </p:nvSpPr>
          <p:spPr>
            <a:xfrm>
              <a:off x="441972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220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2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222"/>
            <p:cNvSpPr/>
            <p:nvPr/>
          </p:nvSpPr>
          <p:spPr>
            <a:xfrm>
              <a:off x="4572000" y="44956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230"/>
          <p:cNvGrpSpPr/>
          <p:nvPr/>
        </p:nvGrpSpPr>
        <p:grpSpPr>
          <a:xfrm>
            <a:off x="2133720" y="2729520"/>
            <a:ext cx="3594240" cy="1161000"/>
            <a:chOff x="2133720" y="2729520"/>
            <a:chExt cx="3594240" cy="1161000"/>
          </a:xfrm>
        </p:grpSpPr>
        <p:grpSp>
          <p:nvGrpSpPr>
            <p:cNvPr id="676" name="Group 91"/>
            <p:cNvGrpSpPr/>
            <p:nvPr/>
          </p:nvGrpSpPr>
          <p:grpSpPr>
            <a:xfrm>
              <a:off x="2133720" y="2742840"/>
              <a:ext cx="3581280" cy="1143360"/>
              <a:chOff x="2133720" y="2742840"/>
              <a:chExt cx="3581280" cy="1143360"/>
            </a:xfrm>
          </p:grpSpPr>
          <p:sp>
            <p:nvSpPr>
              <p:cNvPr id="677" name="Rectangle 92"/>
              <p:cNvSpPr/>
              <p:nvPr/>
            </p:nvSpPr>
            <p:spPr>
              <a:xfrm>
                <a:off x="3962520" y="274320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Oval 93"/>
              <p:cNvSpPr/>
              <p:nvPr/>
            </p:nvSpPr>
            <p:spPr>
              <a:xfrm>
                <a:off x="2133720" y="31244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94"/>
              <p:cNvSpPr/>
              <p:nvPr/>
            </p:nvSpPr>
            <p:spPr>
              <a:xfrm flipV="1">
                <a:off x="2286000" y="274284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95"/>
              <p:cNvSpPr/>
              <p:nvPr/>
            </p:nvSpPr>
            <p:spPr>
              <a:xfrm>
                <a:off x="2286000" y="342900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225"/>
            <p:cNvGrpSpPr/>
            <p:nvPr/>
          </p:nvGrpSpPr>
          <p:grpSpPr>
            <a:xfrm>
              <a:off x="4552920" y="2805840"/>
              <a:ext cx="1175040" cy="991080"/>
              <a:chOff x="4552920" y="2805840"/>
              <a:chExt cx="1175040" cy="991080"/>
            </a:xfrm>
          </p:grpSpPr>
          <p:grpSp>
            <p:nvGrpSpPr>
              <p:cNvPr id="682" name="Group 97"/>
              <p:cNvGrpSpPr/>
              <p:nvPr/>
            </p:nvGrpSpPr>
            <p:grpSpPr>
              <a:xfrm>
                <a:off x="4552920" y="3105720"/>
                <a:ext cx="266400" cy="244800"/>
                <a:chOff x="4552920" y="3105720"/>
                <a:chExt cx="266400" cy="244800"/>
              </a:xfrm>
            </p:grpSpPr>
            <p:sp>
              <p:nvSpPr>
                <p:cNvPr id="683" name="Oval 98"/>
                <p:cNvSpPr/>
                <p:nvPr/>
              </p:nvSpPr>
              <p:spPr>
                <a:xfrm flipV="1" rot="15587400">
                  <a:off x="4638240" y="311976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Oval 99"/>
                <p:cNvSpPr/>
                <p:nvPr/>
              </p:nvSpPr>
              <p:spPr>
                <a:xfrm flipV="1" rot="15587400">
                  <a:off x="4735440" y="326664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Oval 100"/>
                <p:cNvSpPr/>
                <p:nvPr/>
              </p:nvSpPr>
              <p:spPr>
                <a:xfrm flipV="1" rot="15587400">
                  <a:off x="4557960" y="313956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6" name="Group 101"/>
              <p:cNvGrpSpPr/>
              <p:nvPr/>
            </p:nvGrpSpPr>
            <p:grpSpPr>
              <a:xfrm>
                <a:off x="5311440" y="3192840"/>
                <a:ext cx="223200" cy="324720"/>
                <a:chOff x="5311440" y="3192840"/>
                <a:chExt cx="223200" cy="324720"/>
              </a:xfrm>
            </p:grpSpPr>
            <p:sp>
              <p:nvSpPr>
                <p:cNvPr id="687" name="Oval 102"/>
                <p:cNvSpPr/>
                <p:nvPr/>
              </p:nvSpPr>
              <p:spPr>
                <a:xfrm flipV="1" rot="19178400">
                  <a:off x="5351040" y="3282840"/>
                  <a:ext cx="15120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8" name="Oval 103"/>
                <p:cNvSpPr/>
                <p:nvPr/>
              </p:nvSpPr>
              <p:spPr>
                <a:xfrm flipV="1" rot="19178400">
                  <a:off x="5327640" y="34239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Oval 104"/>
                <p:cNvSpPr/>
                <p:nvPr/>
              </p:nvSpPr>
              <p:spPr>
                <a:xfrm flipV="1" rot="19178400">
                  <a:off x="5342400" y="3207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0" name="Group 105"/>
              <p:cNvGrpSpPr/>
              <p:nvPr/>
            </p:nvGrpSpPr>
            <p:grpSpPr>
              <a:xfrm>
                <a:off x="4725000" y="3563640"/>
                <a:ext cx="265680" cy="233280"/>
                <a:chOff x="4725000" y="3563640"/>
                <a:chExt cx="265680" cy="233280"/>
              </a:xfrm>
            </p:grpSpPr>
            <p:sp>
              <p:nvSpPr>
                <p:cNvPr id="691" name="Oval 106"/>
                <p:cNvSpPr/>
                <p:nvPr/>
              </p:nvSpPr>
              <p:spPr>
                <a:xfrm flipV="1" rot="11376600">
                  <a:off x="4748760" y="3574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2" name="Oval 107"/>
                <p:cNvSpPr/>
                <p:nvPr/>
              </p:nvSpPr>
              <p:spPr>
                <a:xfrm flipV="1" rot="11376600">
                  <a:off x="4907520" y="35949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Oval 108"/>
                <p:cNvSpPr/>
                <p:nvPr/>
              </p:nvSpPr>
              <p:spPr>
                <a:xfrm flipV="1" rot="11376600">
                  <a:off x="4730760" y="37162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109"/>
              <p:cNvGrpSpPr/>
              <p:nvPr/>
            </p:nvGrpSpPr>
            <p:grpSpPr>
              <a:xfrm>
                <a:off x="5410080" y="3077280"/>
                <a:ext cx="241560" cy="263160"/>
                <a:chOff x="5410080" y="3077280"/>
                <a:chExt cx="241560" cy="263160"/>
              </a:xfrm>
            </p:grpSpPr>
            <p:sp>
              <p:nvSpPr>
                <p:cNvPr id="695" name="Oval 110"/>
                <p:cNvSpPr/>
                <p:nvPr/>
              </p:nvSpPr>
              <p:spPr>
                <a:xfrm flipV="1" rot="6048000">
                  <a:off x="5425200" y="316116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Oval 111"/>
                <p:cNvSpPr/>
                <p:nvPr/>
              </p:nvSpPr>
              <p:spPr>
                <a:xfrm flipV="1" rot="6048000">
                  <a:off x="5445720" y="3082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Oval 112"/>
                <p:cNvSpPr/>
                <p:nvPr/>
              </p:nvSpPr>
              <p:spPr>
                <a:xfrm flipV="1" rot="6048000">
                  <a:off x="5569200" y="3257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8" name="Group 113"/>
              <p:cNvGrpSpPr/>
              <p:nvPr/>
            </p:nvGrpSpPr>
            <p:grpSpPr>
              <a:xfrm>
                <a:off x="5486400" y="2812320"/>
                <a:ext cx="241560" cy="263160"/>
                <a:chOff x="5486400" y="2812320"/>
                <a:chExt cx="241560" cy="263160"/>
              </a:xfrm>
            </p:grpSpPr>
            <p:sp>
              <p:nvSpPr>
                <p:cNvPr id="699" name="Oval 114"/>
                <p:cNvSpPr/>
                <p:nvPr/>
              </p:nvSpPr>
              <p:spPr>
                <a:xfrm flipV="1" rot="6048000">
                  <a:off x="5501520" y="28962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Oval 115"/>
                <p:cNvSpPr/>
                <p:nvPr/>
              </p:nvSpPr>
              <p:spPr>
                <a:xfrm flipV="1" rot="6048000">
                  <a:off x="5522040" y="2817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Oval 116"/>
                <p:cNvSpPr/>
                <p:nvPr/>
              </p:nvSpPr>
              <p:spPr>
                <a:xfrm flipV="1" rot="6048000">
                  <a:off x="5645520" y="29926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2" name="Group 117"/>
              <p:cNvGrpSpPr/>
              <p:nvPr/>
            </p:nvGrpSpPr>
            <p:grpSpPr>
              <a:xfrm>
                <a:off x="5001120" y="2828880"/>
                <a:ext cx="265680" cy="232920"/>
                <a:chOff x="5001120" y="2828880"/>
                <a:chExt cx="265680" cy="232920"/>
              </a:xfrm>
            </p:grpSpPr>
            <p:sp>
              <p:nvSpPr>
                <p:cNvPr id="703" name="Oval 118"/>
                <p:cNvSpPr/>
                <p:nvPr/>
              </p:nvSpPr>
              <p:spPr>
                <a:xfrm flipV="1" rot="11376600">
                  <a:off x="5024880" y="2840400"/>
                  <a:ext cx="15408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Oval 119"/>
                <p:cNvSpPr/>
                <p:nvPr/>
              </p:nvSpPr>
              <p:spPr>
                <a:xfrm flipV="1" rot="11376600">
                  <a:off x="5183640" y="28602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Oval 120"/>
                <p:cNvSpPr/>
                <p:nvPr/>
              </p:nvSpPr>
              <p:spPr>
                <a:xfrm flipV="1" rot="11376600">
                  <a:off x="5006880" y="29811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6" name="Group 121"/>
              <p:cNvGrpSpPr/>
              <p:nvPr/>
            </p:nvGrpSpPr>
            <p:grpSpPr>
              <a:xfrm>
                <a:off x="4800600" y="3294000"/>
                <a:ext cx="263160" cy="238320"/>
                <a:chOff x="4800600" y="3294000"/>
                <a:chExt cx="263160" cy="238320"/>
              </a:xfrm>
            </p:grpSpPr>
            <p:sp>
              <p:nvSpPr>
                <p:cNvPr id="707" name="Oval 122"/>
                <p:cNvSpPr/>
                <p:nvPr/>
              </p:nvSpPr>
              <p:spPr>
                <a:xfrm flipV="1" rot="11376600">
                  <a:off x="4824360" y="33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Oval 123"/>
                <p:cNvSpPr/>
                <p:nvPr/>
              </p:nvSpPr>
              <p:spPr>
                <a:xfrm flipV="1" rot="11376600">
                  <a:off x="4981320" y="33249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Oval 124"/>
                <p:cNvSpPr/>
                <p:nvPr/>
              </p:nvSpPr>
              <p:spPr>
                <a:xfrm flipV="1" rot="11376600">
                  <a:off x="4806000" y="3449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0" name="Group 125"/>
              <p:cNvGrpSpPr/>
              <p:nvPr/>
            </p:nvGrpSpPr>
            <p:grpSpPr>
              <a:xfrm>
                <a:off x="5382000" y="2805840"/>
                <a:ext cx="240120" cy="256680"/>
                <a:chOff x="5382000" y="2805840"/>
                <a:chExt cx="240120" cy="256680"/>
              </a:xfrm>
            </p:grpSpPr>
            <p:sp>
              <p:nvSpPr>
                <p:cNvPr id="711" name="Oval 126"/>
                <p:cNvSpPr/>
                <p:nvPr/>
              </p:nvSpPr>
              <p:spPr>
                <a:xfrm flipV="1" rot="5929200">
                  <a:off x="5394600" y="288792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Oval 127"/>
                <p:cNvSpPr/>
                <p:nvPr/>
              </p:nvSpPr>
              <p:spPr>
                <a:xfrm flipV="1" rot="5929200">
                  <a:off x="5411160" y="2809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Oval 128"/>
                <p:cNvSpPr/>
                <p:nvPr/>
              </p:nvSpPr>
              <p:spPr>
                <a:xfrm flipV="1" rot="5929200">
                  <a:off x="5540760" y="2980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4" name="Group 129"/>
              <p:cNvGrpSpPr/>
              <p:nvPr/>
            </p:nvGrpSpPr>
            <p:grpSpPr>
              <a:xfrm>
                <a:off x="4578840" y="3390120"/>
                <a:ext cx="240120" cy="256680"/>
                <a:chOff x="4578840" y="3390120"/>
                <a:chExt cx="240120" cy="256680"/>
              </a:xfrm>
            </p:grpSpPr>
            <p:sp>
              <p:nvSpPr>
                <p:cNvPr id="715" name="Oval 130"/>
                <p:cNvSpPr/>
                <p:nvPr/>
              </p:nvSpPr>
              <p:spPr>
                <a:xfrm flipV="1" rot="5929200">
                  <a:off x="4591440" y="347220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Oval 131"/>
                <p:cNvSpPr/>
                <p:nvPr/>
              </p:nvSpPr>
              <p:spPr>
                <a:xfrm flipV="1" rot="5929200">
                  <a:off x="4608000" y="3394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Oval 132"/>
                <p:cNvSpPr/>
                <p:nvPr/>
              </p:nvSpPr>
              <p:spPr>
                <a:xfrm flipV="1" rot="5929200">
                  <a:off x="4737600" y="3565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18" name="Group 133"/>
            <p:cNvGrpSpPr/>
            <p:nvPr/>
          </p:nvGrpSpPr>
          <p:grpSpPr>
            <a:xfrm>
              <a:off x="4012920" y="2835720"/>
              <a:ext cx="1296360" cy="887040"/>
              <a:chOff x="4012920" y="2835720"/>
              <a:chExt cx="1296360" cy="887040"/>
            </a:xfrm>
          </p:grpSpPr>
          <p:grpSp>
            <p:nvGrpSpPr>
              <p:cNvPr id="719" name="Group 134"/>
              <p:cNvGrpSpPr/>
              <p:nvPr/>
            </p:nvGrpSpPr>
            <p:grpSpPr>
              <a:xfrm>
                <a:off x="4737240" y="3400920"/>
                <a:ext cx="234000" cy="321840"/>
                <a:chOff x="4737240" y="3400920"/>
                <a:chExt cx="234000" cy="321840"/>
              </a:xfrm>
            </p:grpSpPr>
            <p:sp>
              <p:nvSpPr>
                <p:cNvPr id="720" name="Oval 135"/>
                <p:cNvSpPr/>
                <p:nvPr/>
              </p:nvSpPr>
              <p:spPr>
                <a:xfrm flipV="1" rot="7405200">
                  <a:off x="4765320" y="34963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Oval 136"/>
                <p:cNvSpPr/>
                <p:nvPr/>
              </p:nvSpPr>
              <p:spPr>
                <a:xfrm flipV="1" rot="7405200">
                  <a:off x="4837680" y="34160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Oval 137"/>
                <p:cNvSpPr/>
                <p:nvPr/>
              </p:nvSpPr>
              <p:spPr>
                <a:xfrm flipV="1" rot="7405200">
                  <a:off x="4878360" y="36302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3" name="Group 138"/>
              <p:cNvGrpSpPr/>
              <p:nvPr/>
            </p:nvGrpSpPr>
            <p:grpSpPr>
              <a:xfrm>
                <a:off x="4425480" y="2885040"/>
                <a:ext cx="239400" cy="237240"/>
                <a:chOff x="4425480" y="2885040"/>
                <a:chExt cx="239400" cy="237240"/>
              </a:xfrm>
            </p:grpSpPr>
            <p:sp>
              <p:nvSpPr>
                <p:cNvPr id="724" name="Oval 139"/>
                <p:cNvSpPr/>
                <p:nvPr/>
              </p:nvSpPr>
              <p:spPr>
                <a:xfrm flipV="1" rot="10996800">
                  <a:off x="4433760" y="28890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Oval 140"/>
                <p:cNvSpPr/>
                <p:nvPr/>
              </p:nvSpPr>
              <p:spPr>
                <a:xfrm flipV="1" rot="10996800">
                  <a:off x="4587120" y="289584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Oval 141"/>
                <p:cNvSpPr/>
                <p:nvPr/>
              </p:nvSpPr>
              <p:spPr>
                <a:xfrm flipV="1" rot="10996800">
                  <a:off x="4427640" y="30423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7" name="Group 142"/>
              <p:cNvGrpSpPr/>
              <p:nvPr/>
            </p:nvGrpSpPr>
            <p:grpSpPr>
              <a:xfrm>
                <a:off x="4991760" y="3047760"/>
                <a:ext cx="317520" cy="230400"/>
                <a:chOff x="4991760" y="3047760"/>
                <a:chExt cx="317520" cy="230400"/>
              </a:xfrm>
            </p:grpSpPr>
            <p:sp>
              <p:nvSpPr>
                <p:cNvPr id="728" name="Oval 143"/>
                <p:cNvSpPr/>
                <p:nvPr/>
              </p:nvSpPr>
              <p:spPr>
                <a:xfrm flipV="1" rot="3195000">
                  <a:off x="5066640" y="309672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144"/>
                <p:cNvSpPr/>
                <p:nvPr/>
              </p:nvSpPr>
              <p:spPr>
                <a:xfrm flipV="1" rot="3195000">
                  <a:off x="5005800" y="306360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145"/>
                <p:cNvSpPr/>
                <p:nvPr/>
              </p:nvSpPr>
              <p:spPr>
                <a:xfrm flipV="1" rot="3195000">
                  <a:off x="5217480" y="309816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1" name="Group 146"/>
              <p:cNvGrpSpPr/>
              <p:nvPr/>
            </p:nvGrpSpPr>
            <p:grpSpPr>
              <a:xfrm>
                <a:off x="4251240" y="2835720"/>
                <a:ext cx="227160" cy="318240"/>
                <a:chOff x="4251240" y="2835720"/>
                <a:chExt cx="227160" cy="318240"/>
              </a:xfrm>
            </p:grpSpPr>
            <p:sp>
              <p:nvSpPr>
                <p:cNvPr id="732" name="Oval 147"/>
                <p:cNvSpPr/>
                <p:nvPr/>
              </p:nvSpPr>
              <p:spPr>
                <a:xfrm flipV="1" rot="19466400">
                  <a:off x="4298040" y="292680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Oval 148"/>
                <p:cNvSpPr/>
                <p:nvPr/>
              </p:nvSpPr>
              <p:spPr>
                <a:xfrm flipV="1" rot="19466400">
                  <a:off x="4266720" y="30614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Oval 149"/>
                <p:cNvSpPr/>
                <p:nvPr/>
              </p:nvSpPr>
              <p:spPr>
                <a:xfrm flipV="1" rot="19466400">
                  <a:off x="4298400" y="284940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150"/>
              <p:cNvGrpSpPr/>
              <p:nvPr/>
            </p:nvGrpSpPr>
            <p:grpSpPr>
              <a:xfrm>
                <a:off x="4012920" y="2974680"/>
                <a:ext cx="227160" cy="317880"/>
                <a:chOff x="4012920" y="2974680"/>
                <a:chExt cx="227160" cy="317880"/>
              </a:xfrm>
            </p:grpSpPr>
            <p:sp>
              <p:nvSpPr>
                <p:cNvPr id="736" name="Oval 151"/>
                <p:cNvSpPr/>
                <p:nvPr/>
              </p:nvSpPr>
              <p:spPr>
                <a:xfrm flipV="1" rot="19466400">
                  <a:off x="4060440" y="306612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Oval 152"/>
                <p:cNvSpPr/>
                <p:nvPr/>
              </p:nvSpPr>
              <p:spPr>
                <a:xfrm flipV="1" rot="19466400">
                  <a:off x="4028400" y="32000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Oval 153"/>
                <p:cNvSpPr/>
                <p:nvPr/>
              </p:nvSpPr>
              <p:spPr>
                <a:xfrm flipV="1" rot="19466400">
                  <a:off x="4060080" y="298836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154"/>
              <p:cNvGrpSpPr/>
              <p:nvPr/>
            </p:nvGrpSpPr>
            <p:grpSpPr>
              <a:xfrm>
                <a:off x="4285440" y="3388680"/>
                <a:ext cx="317160" cy="230400"/>
                <a:chOff x="4285440" y="3388680"/>
                <a:chExt cx="317160" cy="230400"/>
              </a:xfrm>
            </p:grpSpPr>
            <p:sp>
              <p:nvSpPr>
                <p:cNvPr id="740" name="Oval 155"/>
                <p:cNvSpPr/>
                <p:nvPr/>
              </p:nvSpPr>
              <p:spPr>
                <a:xfrm flipV="1" rot="3195000">
                  <a:off x="4359960" y="343764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Oval 156"/>
                <p:cNvSpPr/>
                <p:nvPr/>
              </p:nvSpPr>
              <p:spPr>
                <a:xfrm flipV="1" rot="3195000">
                  <a:off x="4299480" y="340452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Oval 157"/>
                <p:cNvSpPr/>
                <p:nvPr/>
              </p:nvSpPr>
              <p:spPr>
                <a:xfrm flipV="1" rot="3195000">
                  <a:off x="4510800" y="343908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3" name="Group 158"/>
              <p:cNvGrpSpPr/>
              <p:nvPr/>
            </p:nvGrpSpPr>
            <p:grpSpPr>
              <a:xfrm>
                <a:off x="4751640" y="3191400"/>
                <a:ext cx="320040" cy="228600"/>
                <a:chOff x="4751640" y="3191400"/>
                <a:chExt cx="320040" cy="228600"/>
              </a:xfrm>
            </p:grpSpPr>
            <p:sp>
              <p:nvSpPr>
                <p:cNvPr id="744" name="Oval 159"/>
                <p:cNvSpPr/>
                <p:nvPr/>
              </p:nvSpPr>
              <p:spPr>
                <a:xfrm flipV="1" rot="3195000">
                  <a:off x="4827960" y="32371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5" name="Oval 160"/>
                <p:cNvSpPr/>
                <p:nvPr/>
              </p:nvSpPr>
              <p:spPr>
                <a:xfrm flipV="1" rot="3195000">
                  <a:off x="4766760" y="32061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6" name="Oval 161"/>
                <p:cNvSpPr/>
                <p:nvPr/>
              </p:nvSpPr>
              <p:spPr>
                <a:xfrm flipV="1" rot="3195000">
                  <a:off x="4979880" y="3237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7" name="Group 162"/>
              <p:cNvGrpSpPr/>
              <p:nvPr/>
            </p:nvGrpSpPr>
            <p:grpSpPr>
              <a:xfrm>
                <a:off x="4087800" y="3053880"/>
                <a:ext cx="224280" cy="320040"/>
                <a:chOff x="4087800" y="3053880"/>
                <a:chExt cx="224280" cy="320040"/>
              </a:xfrm>
            </p:grpSpPr>
            <p:sp>
              <p:nvSpPr>
                <p:cNvPr id="748" name="Oval 163"/>
                <p:cNvSpPr/>
                <p:nvPr/>
              </p:nvSpPr>
              <p:spPr>
                <a:xfrm flipV="1" rot="19347600">
                  <a:off x="4131360" y="31446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9" name="Oval 164"/>
                <p:cNvSpPr/>
                <p:nvPr/>
              </p:nvSpPr>
              <p:spPr>
                <a:xfrm flipV="1" rot="19347600">
                  <a:off x="4103640" y="3281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Oval 165"/>
                <p:cNvSpPr/>
                <p:nvPr/>
              </p:nvSpPr>
              <p:spPr>
                <a:xfrm flipV="1" rot="19347600">
                  <a:off x="4128120" y="3067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1" name="Group 166"/>
              <p:cNvGrpSpPr/>
              <p:nvPr/>
            </p:nvGrpSpPr>
            <p:grpSpPr>
              <a:xfrm>
                <a:off x="5072400" y="3186720"/>
                <a:ext cx="224640" cy="320040"/>
                <a:chOff x="5072400" y="3186720"/>
                <a:chExt cx="224640" cy="320040"/>
              </a:xfrm>
            </p:grpSpPr>
            <p:sp>
              <p:nvSpPr>
                <p:cNvPr id="752" name="Oval 167"/>
                <p:cNvSpPr/>
                <p:nvPr/>
              </p:nvSpPr>
              <p:spPr>
                <a:xfrm flipV="1" rot="19347600">
                  <a:off x="5116320" y="32778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3" name="Oval 168"/>
                <p:cNvSpPr/>
                <p:nvPr/>
              </p:nvSpPr>
              <p:spPr>
                <a:xfrm flipV="1" rot="19347600">
                  <a:off x="5088240" y="3413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4" name="Oval 169"/>
                <p:cNvSpPr/>
                <p:nvPr/>
              </p:nvSpPr>
              <p:spPr>
                <a:xfrm flipV="1" rot="19347600">
                  <a:off x="5112720" y="3200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55" name="Group 172"/>
            <p:cNvGrpSpPr/>
            <p:nvPr/>
          </p:nvGrpSpPr>
          <p:grpSpPr>
            <a:xfrm>
              <a:off x="4038480" y="3657600"/>
              <a:ext cx="226800" cy="232920"/>
              <a:chOff x="4038480" y="3657600"/>
              <a:chExt cx="226800" cy="232920"/>
            </a:xfrm>
          </p:grpSpPr>
          <p:sp>
            <p:nvSpPr>
              <p:cNvPr id="756" name="Oval 173"/>
              <p:cNvSpPr/>
              <p:nvPr/>
            </p:nvSpPr>
            <p:spPr>
              <a:xfrm>
                <a:off x="4114080" y="3657600"/>
                <a:ext cx="151200" cy="15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Oval 174"/>
              <p:cNvSpPr/>
              <p:nvPr/>
            </p:nvSpPr>
            <p:spPr>
              <a:xfrm>
                <a:off x="4038480" y="3657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Oval 175"/>
              <p:cNvSpPr/>
              <p:nvPr/>
            </p:nvSpPr>
            <p:spPr>
              <a:xfrm>
                <a:off x="4189680" y="381276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Group 180"/>
            <p:cNvGrpSpPr/>
            <p:nvPr/>
          </p:nvGrpSpPr>
          <p:grpSpPr>
            <a:xfrm>
              <a:off x="5416200" y="3491640"/>
              <a:ext cx="238680" cy="250920"/>
              <a:chOff x="5416200" y="3491640"/>
              <a:chExt cx="238680" cy="250920"/>
            </a:xfrm>
          </p:grpSpPr>
          <p:sp>
            <p:nvSpPr>
              <p:cNvPr id="760" name="Oval 181"/>
              <p:cNvSpPr/>
              <p:nvPr/>
            </p:nvSpPr>
            <p:spPr>
              <a:xfrm rot="4964400">
                <a:off x="5494680" y="357156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Oval 182"/>
              <p:cNvSpPr/>
              <p:nvPr/>
            </p:nvSpPr>
            <p:spPr>
              <a:xfrm rot="4964400">
                <a:off x="5555520" y="3494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Oval 183"/>
              <p:cNvSpPr/>
              <p:nvPr/>
            </p:nvSpPr>
            <p:spPr>
              <a:xfrm rot="4964400">
                <a:off x="5421600" y="36615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3" name="Group 184"/>
            <p:cNvGrpSpPr/>
            <p:nvPr/>
          </p:nvGrpSpPr>
          <p:grpSpPr>
            <a:xfrm>
              <a:off x="5088600" y="3640680"/>
              <a:ext cx="264960" cy="232920"/>
              <a:chOff x="5088600" y="3640680"/>
              <a:chExt cx="264960" cy="232920"/>
            </a:xfrm>
          </p:grpSpPr>
          <p:sp>
            <p:nvSpPr>
              <p:cNvPr id="764" name="Oval 185"/>
              <p:cNvSpPr/>
              <p:nvPr/>
            </p:nvSpPr>
            <p:spPr>
              <a:xfrm rot="16770000">
                <a:off x="5114520" y="364968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Oval 186"/>
              <p:cNvSpPr/>
              <p:nvPr/>
            </p:nvSpPr>
            <p:spPr>
              <a:xfrm rot="16770000">
                <a:off x="5095440" y="379188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Oval 187"/>
              <p:cNvSpPr/>
              <p:nvPr/>
            </p:nvSpPr>
            <p:spPr>
              <a:xfrm rot="16770000">
                <a:off x="5272200" y="367020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7" name="Group 202"/>
            <p:cNvGrpSpPr/>
            <p:nvPr/>
          </p:nvGrpSpPr>
          <p:grpSpPr>
            <a:xfrm>
              <a:off x="4654080" y="2729520"/>
              <a:ext cx="238320" cy="250920"/>
              <a:chOff x="4654080" y="2729520"/>
              <a:chExt cx="238320" cy="250920"/>
            </a:xfrm>
          </p:grpSpPr>
          <p:sp>
            <p:nvSpPr>
              <p:cNvPr id="768" name="Oval 203"/>
              <p:cNvSpPr/>
              <p:nvPr/>
            </p:nvSpPr>
            <p:spPr>
              <a:xfrm rot="4964400">
                <a:off x="4731840" y="280980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 rot="4964400">
                <a:off x="4793400" y="27327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 rot="4964400">
                <a:off x="4659480" y="29001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Group 210"/>
            <p:cNvGrpSpPr/>
            <p:nvPr/>
          </p:nvGrpSpPr>
          <p:grpSpPr>
            <a:xfrm>
              <a:off x="4295160" y="3155760"/>
              <a:ext cx="219960" cy="321480"/>
              <a:chOff x="4295160" y="3155760"/>
              <a:chExt cx="219960" cy="321480"/>
            </a:xfrm>
          </p:grpSpPr>
          <p:sp>
            <p:nvSpPr>
              <p:cNvPr id="772" name="Oval 211"/>
              <p:cNvSpPr/>
              <p:nvPr/>
            </p:nvSpPr>
            <p:spPr>
              <a:xfrm rot="13249200">
                <a:off x="4327200" y="32443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2"/>
              <p:cNvSpPr/>
              <p:nvPr/>
            </p:nvSpPr>
            <p:spPr>
              <a:xfrm rot="13249200">
                <a:off x="4424040" y="33847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Oval 213"/>
              <p:cNvSpPr/>
              <p:nvPr/>
            </p:nvSpPr>
            <p:spPr>
              <a:xfrm rot="13249200">
                <a:off x="4411800" y="3170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5" name="Oval 223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224"/>
            <p:cNvSpPr/>
            <p:nvPr/>
          </p:nvSpPr>
          <p:spPr>
            <a:xfrm>
              <a:off x="4343400" y="3657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7" name="Oval 226"/>
          <p:cNvSpPr/>
          <p:nvPr/>
        </p:nvSpPr>
        <p:spPr>
          <a:xfrm>
            <a:off x="7086600" y="144792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27"/>
          <p:cNvSpPr/>
          <p:nvPr/>
        </p:nvSpPr>
        <p:spPr>
          <a:xfrm>
            <a:off x="4281120" y="1295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28"/>
          <p:cNvSpPr/>
          <p:nvPr/>
        </p:nvSpPr>
        <p:spPr>
          <a:xfrm>
            <a:off x="7382880" y="1295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31"/>
          <p:cNvSpPr/>
          <p:nvPr/>
        </p:nvSpPr>
        <p:spPr>
          <a:xfrm>
            <a:off x="5907240" y="4876920"/>
            <a:ext cx="29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ntra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32"/>
          <p:cNvSpPr/>
          <p:nvPr/>
        </p:nvSpPr>
        <p:spPr>
          <a:xfrm>
            <a:off x="6054120" y="3124080"/>
            <a:ext cx="19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lu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33"/>
          <p:cNvSpPr/>
          <p:nvPr/>
        </p:nvSpPr>
        <p:spPr>
          <a:xfrm>
            <a:off x="1245600" y="579132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34"/>
          <p:cNvSpPr/>
          <p:nvPr/>
        </p:nvSpPr>
        <p:spPr>
          <a:xfrm>
            <a:off x="3603960" y="1981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235"/>
          <p:cNvSpPr/>
          <p:nvPr/>
        </p:nvSpPr>
        <p:spPr>
          <a:xfrm>
            <a:off x="429120" y="4648320"/>
            <a:ext cx="8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236"/>
          <p:cNvSpPr/>
          <p:nvPr/>
        </p:nvSpPr>
        <p:spPr>
          <a:xfrm>
            <a:off x="423360" y="322092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237"/>
          <p:cNvSpPr/>
          <p:nvPr/>
        </p:nvSpPr>
        <p:spPr>
          <a:xfrm>
            <a:off x="5724360" y="396252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238"/>
          <p:cNvSpPr/>
          <p:nvPr/>
        </p:nvSpPr>
        <p:spPr>
          <a:xfrm>
            <a:off x="2209680" y="62485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846440" y="2286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itration Calc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940680" y="12193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NaOH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NaCl   +   H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187640" y="2895480"/>
            <a:ext cx="67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equivalence point: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HC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2440" y="3733920"/>
            <a:ext cx="294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es = M x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789560" y="4724280"/>
            <a:ext cx="54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initial 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= 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as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uret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66600" y="205740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way to analyze solutio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63960" y="99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-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donat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accep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accept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donat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7680" y="182880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e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720" y="342900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59720" y="50292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28600" y="2971800"/>
            <a:ext cx="8686800" cy="167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2440" y="23320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20000" y="4008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160" y="5638680"/>
            <a:ext cx="39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13336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6200" y="30956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0000" y="43909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12000" y="56102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890160" y="3095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104160" y="31273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71400" y="4390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24880" y="439092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207480" y="5562720"/>
            <a:ext cx="103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220640" y="5610240"/>
            <a:ext cx="7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799960" y="4390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914400" y="15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971280" y="457200"/>
            <a:ext cx="74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hydrogen ion in aqueous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457280" y="1143000"/>
            <a:ext cx="747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ydronium 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609480" y="1981080"/>
            <a:ext cx="8001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572000" y="11430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he Bronsted-Lowry Conce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2160" y="16765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0" y="281952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Cl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l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31480" y="2771640"/>
            <a:ext cx="41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OO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1000" y="4371840"/>
            <a:ext cx="22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76280" y="4371840"/>
            <a:ext cx="23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39080" y="5562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does a conjugate pair diff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0"/>
          <p:cNvSpPr/>
          <p:nvPr/>
        </p:nvSpPr>
        <p:spPr>
          <a:xfrm>
            <a:off x="3417120" y="601992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Neutral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1640" y="1600200"/>
            <a:ext cx="75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:  Acid   +   Base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alt   + 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21600" y="251460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neutralization reaction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95560" y="3378240"/>
            <a:ext cx="68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143000" y="266688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0"/>
          <p:cNvSpPr/>
          <p:nvPr/>
        </p:nvSpPr>
        <p:spPr>
          <a:xfrm flipH="1" flipV="1">
            <a:off x="914400" y="396180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93320" y="4753080"/>
            <a:ext cx="425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34360" y="5715000"/>
            <a:ext cx="453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flipH="1">
            <a:off x="2369520" y="1905120"/>
            <a:ext cx="437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54960" y="380880"/>
            <a:ext cx="84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es pure water conduct electrical curr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28240" y="28954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54400" y="3886200"/>
            <a:ext cx="80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pure water: 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3372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utral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at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is a pH = 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0600" y="106668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er is a very, very, very weak electroly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62120" y="2438280"/>
            <a:ext cx="7086600" cy="533520"/>
          </a:xfrm>
          <a:prstGeom prst="wedgeEllipseCallout">
            <a:avLst>
              <a:gd name="adj1" fmla="val -8333"/>
              <a:gd name="adj2" fmla="val 6964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rel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698240" y="61722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646800" y="2943000"/>
            <a:ext cx="604440" cy="537120"/>
            <a:chOff x="3646800" y="2943000"/>
            <a:chExt cx="604440" cy="537120"/>
          </a:xfrm>
        </p:grpSpPr>
        <p:sp>
          <p:nvSpPr>
            <p:cNvPr id="134" name="Oval 4"/>
            <p:cNvSpPr/>
            <p:nvPr/>
          </p:nvSpPr>
          <p:spPr>
            <a:xfrm rot="2418000">
              <a:off x="3791880" y="30207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rot="2418000">
              <a:off x="3677760" y="2991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4332240" y="3552120"/>
            <a:ext cx="604800" cy="536760"/>
            <a:chOff x="4332240" y="3552120"/>
            <a:chExt cx="604800" cy="536760"/>
          </a:xfrm>
        </p:grpSpPr>
        <p:sp>
          <p:nvSpPr>
            <p:cNvPr id="137" name="Oval 7"/>
            <p:cNvSpPr/>
            <p:nvPr/>
          </p:nvSpPr>
          <p:spPr>
            <a:xfrm rot="2395200">
              <a:off x="4478040" y="362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rot="2395200">
              <a:off x="4363200" y="360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2821680" y="3276360"/>
            <a:ext cx="578160" cy="483840"/>
            <a:chOff x="2821680" y="3276360"/>
            <a:chExt cx="578160" cy="483840"/>
          </a:xfrm>
        </p:grpSpPr>
        <p:sp>
          <p:nvSpPr>
            <p:cNvPr id="140" name="Oval 10"/>
            <p:cNvSpPr/>
            <p:nvPr/>
          </p:nvSpPr>
          <p:spPr>
            <a:xfrm rot="20466600">
              <a:off x="2967120" y="33278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20466600">
              <a:off x="2842200" y="35643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3872880" y="2033640"/>
            <a:ext cx="500040" cy="610560"/>
            <a:chOff x="3872880" y="2033640"/>
            <a:chExt cx="500040" cy="610560"/>
          </a:xfrm>
        </p:grpSpPr>
        <p:sp>
          <p:nvSpPr>
            <p:cNvPr id="143" name="Oval 13"/>
            <p:cNvSpPr/>
            <p:nvPr/>
          </p:nvSpPr>
          <p:spPr>
            <a:xfrm rot="6787800">
              <a:off x="3932280" y="2203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 rot="6787800">
              <a:off x="4116600" y="20574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15"/>
          <p:cNvGrpSpPr/>
          <p:nvPr/>
        </p:nvGrpSpPr>
        <p:grpSpPr>
          <a:xfrm>
            <a:off x="5081400" y="3482640"/>
            <a:ext cx="512280" cy="613080"/>
            <a:chOff x="5081400" y="3482640"/>
            <a:chExt cx="512280" cy="613080"/>
          </a:xfrm>
        </p:grpSpPr>
        <p:sp>
          <p:nvSpPr>
            <p:cNvPr id="146" name="Oval 16"/>
            <p:cNvSpPr/>
            <p:nvPr/>
          </p:nvSpPr>
          <p:spPr>
            <a:xfrm rot="7019400">
              <a:off x="5146920" y="36489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 rot="7019400">
              <a:off x="5348160" y="35082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750120" y="5435280"/>
            <a:ext cx="603720" cy="537120"/>
            <a:chOff x="3750120" y="5435280"/>
            <a:chExt cx="603720" cy="537120"/>
          </a:xfrm>
        </p:grpSpPr>
        <p:sp>
          <p:nvSpPr>
            <p:cNvPr id="149" name="Oval 19"/>
            <p:cNvSpPr/>
            <p:nvPr/>
          </p:nvSpPr>
          <p:spPr>
            <a:xfrm rot="13236000">
              <a:off x="3827880" y="55130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20"/>
            <p:cNvSpPr/>
            <p:nvPr/>
          </p:nvSpPr>
          <p:spPr>
            <a:xfrm rot="13236000">
              <a:off x="4169880" y="577188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21"/>
          <p:cNvGrpSpPr/>
          <p:nvPr/>
        </p:nvGrpSpPr>
        <p:grpSpPr>
          <a:xfrm>
            <a:off x="5226120" y="4892400"/>
            <a:ext cx="525240" cy="613800"/>
            <a:chOff x="5226120" y="4892400"/>
            <a:chExt cx="525240" cy="613800"/>
          </a:xfrm>
        </p:grpSpPr>
        <p:sp>
          <p:nvSpPr>
            <p:cNvPr id="152" name="Oval 22"/>
            <p:cNvSpPr/>
            <p:nvPr/>
          </p:nvSpPr>
          <p:spPr>
            <a:xfrm rot="18126000">
              <a:off x="5298120" y="4964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18126000">
              <a:off x="5302800" y="5324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3156480" y="4970520"/>
            <a:ext cx="534240" cy="575640"/>
            <a:chOff x="3156480" y="4970520"/>
            <a:chExt cx="534240" cy="575640"/>
          </a:xfrm>
        </p:grpSpPr>
        <p:sp>
          <p:nvSpPr>
            <p:cNvPr id="155" name="Oval 25"/>
            <p:cNvSpPr/>
            <p:nvPr/>
          </p:nvSpPr>
          <p:spPr>
            <a:xfrm rot="3561600">
              <a:off x="3238920" y="50947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rot="3561600">
              <a:off x="3184560" y="4998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302440" y="2302560"/>
            <a:ext cx="521280" cy="613800"/>
            <a:chOff x="5302440" y="2302560"/>
            <a:chExt cx="521280" cy="613800"/>
          </a:xfrm>
        </p:grpSpPr>
        <p:sp>
          <p:nvSpPr>
            <p:cNvPr id="158" name="Oval 28"/>
            <p:cNvSpPr/>
            <p:nvPr/>
          </p:nvSpPr>
          <p:spPr>
            <a:xfrm rot="18023400">
              <a:off x="5372280" y="23727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 rot="18023400">
              <a:off x="5384880" y="27360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4343400" y="5181480"/>
            <a:ext cx="533520" cy="380880"/>
            <a:chOff x="4343400" y="5181480"/>
            <a:chExt cx="533520" cy="380880"/>
          </a:xfrm>
        </p:grpSpPr>
        <p:sp>
          <p:nvSpPr>
            <p:cNvPr id="161" name="Oval 31"/>
            <p:cNvSpPr/>
            <p:nvPr/>
          </p:nvSpPr>
          <p:spPr>
            <a:xfrm>
              <a:off x="4495680" y="51814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4343400" y="5333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4476240" y="2872080"/>
            <a:ext cx="507240" cy="612720"/>
            <a:chOff x="4476240" y="2872080"/>
            <a:chExt cx="507240" cy="612720"/>
          </a:xfrm>
        </p:grpSpPr>
        <p:sp>
          <p:nvSpPr>
            <p:cNvPr id="164" name="Oval 34"/>
            <p:cNvSpPr/>
            <p:nvPr/>
          </p:nvSpPr>
          <p:spPr>
            <a:xfrm rot="6916200">
              <a:off x="4539240" y="3040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5"/>
            <p:cNvSpPr/>
            <p:nvPr/>
          </p:nvSpPr>
          <p:spPr>
            <a:xfrm rot="6916200">
              <a:off x="4732920" y="28969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3066120" y="4005360"/>
            <a:ext cx="574920" cy="534600"/>
            <a:chOff x="3066120" y="4005360"/>
            <a:chExt cx="574920" cy="534600"/>
          </a:xfrm>
        </p:grpSpPr>
        <p:sp>
          <p:nvSpPr>
            <p:cNvPr id="167" name="Oval 37"/>
            <p:cNvSpPr/>
            <p:nvPr/>
          </p:nvSpPr>
          <p:spPr>
            <a:xfrm rot="19751400">
              <a:off x="3189240" y="4075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 rot="19751400">
              <a:off x="3094200" y="435924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5044680" y="4221360"/>
            <a:ext cx="563400" cy="563400"/>
            <a:chOff x="5044680" y="4221360"/>
            <a:chExt cx="563400" cy="563400"/>
          </a:xfrm>
        </p:grpSpPr>
        <p:sp>
          <p:nvSpPr>
            <p:cNvPr id="170" name="Oval 40"/>
            <p:cNvSpPr/>
            <p:nvPr/>
          </p:nvSpPr>
          <p:spPr>
            <a:xfrm rot="3187800">
              <a:off x="5150880" y="43275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 rot="3187800">
              <a:off x="5075280" y="42516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862800" y="4244040"/>
            <a:ext cx="511920" cy="613440"/>
            <a:chOff x="3862800" y="4244040"/>
            <a:chExt cx="511920" cy="613440"/>
          </a:xfrm>
        </p:grpSpPr>
        <p:sp>
          <p:nvSpPr>
            <p:cNvPr id="173" name="Oval 43"/>
            <p:cNvSpPr/>
            <p:nvPr/>
          </p:nvSpPr>
          <p:spPr>
            <a:xfrm rot="7006200">
              <a:off x="3927960" y="44110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 rot="7006200">
              <a:off x="4128120" y="4269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176" name="Oval 46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5715000" y="3809880"/>
            <a:ext cx="533520" cy="380880"/>
            <a:chOff x="5715000" y="3809880"/>
            <a:chExt cx="533520" cy="380880"/>
          </a:xfrm>
        </p:grpSpPr>
        <p:sp>
          <p:nvSpPr>
            <p:cNvPr id="180" name="Oval 50"/>
            <p:cNvSpPr/>
            <p:nvPr/>
          </p:nvSpPr>
          <p:spPr>
            <a:xfrm>
              <a:off x="5867280" y="380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51"/>
            <p:cNvSpPr/>
            <p:nvPr/>
          </p:nvSpPr>
          <p:spPr>
            <a:xfrm>
              <a:off x="5715000" y="396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3026520" y="2337840"/>
            <a:ext cx="597600" cy="473400"/>
            <a:chOff x="3026520" y="2337840"/>
            <a:chExt cx="597600" cy="473400"/>
          </a:xfrm>
        </p:grpSpPr>
        <p:sp>
          <p:nvSpPr>
            <p:cNvPr id="183" name="Oval 53"/>
            <p:cNvSpPr/>
            <p:nvPr/>
          </p:nvSpPr>
          <p:spPr>
            <a:xfrm rot="988200">
              <a:off x="3196800" y="2383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 rot="988200">
              <a:off x="3044880" y="24591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Group 55"/>
          <p:cNvGrpSpPr/>
          <p:nvPr/>
        </p:nvGrpSpPr>
        <p:grpSpPr>
          <a:xfrm>
            <a:off x="4495680" y="4504680"/>
            <a:ext cx="576360" cy="472680"/>
            <a:chOff x="4495680" y="4504680"/>
            <a:chExt cx="576360" cy="472680"/>
          </a:xfrm>
        </p:grpSpPr>
        <p:sp>
          <p:nvSpPr>
            <p:cNvPr id="186" name="Oval 56"/>
            <p:cNvSpPr/>
            <p:nvPr/>
          </p:nvSpPr>
          <p:spPr>
            <a:xfrm rot="20619600">
              <a:off x="4644720" y="4550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 rot="20619600">
              <a:off x="4514040" y="47761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58"/>
          <p:cNvGrpSpPr/>
          <p:nvPr/>
        </p:nvGrpSpPr>
        <p:grpSpPr>
          <a:xfrm>
            <a:off x="5365440" y="2946240"/>
            <a:ext cx="577440" cy="478080"/>
            <a:chOff x="5365440" y="2946240"/>
            <a:chExt cx="577440" cy="478080"/>
          </a:xfrm>
        </p:grpSpPr>
        <p:sp>
          <p:nvSpPr>
            <p:cNvPr id="189" name="Oval 59"/>
            <p:cNvSpPr/>
            <p:nvPr/>
          </p:nvSpPr>
          <p:spPr>
            <a:xfrm rot="9748200">
              <a:off x="5413680" y="29948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60"/>
            <p:cNvSpPr/>
            <p:nvPr/>
          </p:nvSpPr>
          <p:spPr>
            <a:xfrm rot="9748200">
              <a:off x="5770800" y="2991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61"/>
          <p:cNvGrpSpPr/>
          <p:nvPr/>
        </p:nvGrpSpPr>
        <p:grpSpPr>
          <a:xfrm>
            <a:off x="5541120" y="5538240"/>
            <a:ext cx="597600" cy="473400"/>
            <a:chOff x="5541120" y="5538240"/>
            <a:chExt cx="597600" cy="473400"/>
          </a:xfrm>
        </p:grpSpPr>
        <p:sp>
          <p:nvSpPr>
            <p:cNvPr id="192" name="Oval 62"/>
            <p:cNvSpPr/>
            <p:nvPr/>
          </p:nvSpPr>
          <p:spPr>
            <a:xfrm rot="988200">
              <a:off x="5711400" y="5584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63"/>
            <p:cNvSpPr/>
            <p:nvPr/>
          </p:nvSpPr>
          <p:spPr>
            <a:xfrm rot="988200">
              <a:off x="5559480" y="56595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Text Box 64"/>
          <p:cNvSpPr/>
          <p:nvPr/>
        </p:nvSpPr>
        <p:spPr>
          <a:xfrm>
            <a:off x="685800" y="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t’s examine the behavior of an acid, HA, in aqueous soluti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5"/>
          <p:cNvSpPr/>
          <p:nvPr/>
        </p:nvSpPr>
        <p:spPr>
          <a:xfrm>
            <a:off x="3600" y="6278400"/>
            <a:ext cx="91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happens to the HA molecules in solu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 rot="2418000">
            <a:off x="3733920" y="3352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 rot="2395200">
            <a:off x="464832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/>
          <p:cNvSpPr/>
          <p:nvPr/>
        </p:nvSpPr>
        <p:spPr>
          <a:xfrm rot="20466600">
            <a:off x="2819160" y="274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/>
          <p:cNvSpPr/>
          <p:nvPr/>
        </p:nvSpPr>
        <p:spPr>
          <a:xfrm rot="6787800">
            <a:off x="4190760" y="22856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1"/>
          <p:cNvSpPr/>
          <p:nvPr/>
        </p:nvSpPr>
        <p:spPr>
          <a:xfrm rot="7019400">
            <a:off x="5638320" y="34286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3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5"/>
          <p:cNvSpPr/>
          <p:nvPr/>
        </p:nvSpPr>
        <p:spPr>
          <a:xfrm rot="18126000">
            <a:off x="5638680" y="50288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7"/>
          <p:cNvSpPr/>
          <p:nvPr/>
        </p:nvSpPr>
        <p:spPr>
          <a:xfrm rot="3561600">
            <a:off x="4114800" y="51051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9"/>
          <p:cNvSpPr/>
          <p:nvPr/>
        </p:nvSpPr>
        <p:spPr>
          <a:xfrm rot="18023400">
            <a:off x="5486040" y="2057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4648320" y="5486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124080" y="56386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23"/>
          <p:cNvSpPr/>
          <p:nvPr/>
        </p:nvSpPr>
        <p:spPr>
          <a:xfrm rot="6916200">
            <a:off x="4190760" y="28954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5"/>
          <p:cNvSpPr/>
          <p:nvPr/>
        </p:nvSpPr>
        <p:spPr>
          <a:xfrm rot="19751400">
            <a:off x="3200400" y="3809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27"/>
          <p:cNvSpPr/>
          <p:nvPr/>
        </p:nvSpPr>
        <p:spPr>
          <a:xfrm rot="3187800">
            <a:off x="5257800" y="4419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29"/>
          <p:cNvSpPr/>
          <p:nvPr/>
        </p:nvSpPr>
        <p:spPr>
          <a:xfrm rot="7006200">
            <a:off x="3657240" y="44956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27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5791320" y="434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37"/>
          <p:cNvSpPr/>
          <p:nvPr/>
        </p:nvSpPr>
        <p:spPr>
          <a:xfrm rot="988200">
            <a:off x="3276720" y="19810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39"/>
          <p:cNvSpPr/>
          <p:nvPr/>
        </p:nvSpPr>
        <p:spPr>
          <a:xfrm rot="20619600">
            <a:off x="4572000" y="42667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41"/>
          <p:cNvSpPr/>
          <p:nvPr/>
        </p:nvSpPr>
        <p:spPr>
          <a:xfrm rot="9748200">
            <a:off x="5181120" y="29718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3"/>
          <p:cNvSpPr/>
          <p:nvPr/>
        </p:nvSpPr>
        <p:spPr>
          <a:xfrm rot="988200">
            <a:off x="594360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6448320" y="289548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2167200" y="30492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0%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10:20Z</dcterms:created>
  <dc:creator>Physical Sciences</dc:creator>
  <dc:description/>
  <dc:language>en-US</dc:language>
  <cp:lastModifiedBy>LEGION</cp:lastModifiedBy>
  <dcterms:modified xsi:type="dcterms:W3CDTF">2017-01-26T09:08:44Z</dcterms:modified>
  <cp:revision>55</cp:revision>
  <dc:subject/>
  <dc:title>Acids and Bases</dc:title>
</cp:coreProperties>
</file>