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04E4-4745-486A-82B4-FA76591908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6EA-67AE-44FC-9615-0F7A66F7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15E-DE75-429E-B860-1B8B6619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924-E241-49AA-B750-53C0468B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365-9984-4CFA-94F6-81F4665D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E20C-FF02-436D-AE25-C10E4BF2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D072-A856-4960-A7E2-ADCC34F1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0846-0C3F-4A72-A65E-32C64F4A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56CC-F420-4153-B09F-40E6D974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E755-3058-4C5E-974B-DBA4F4DB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685B-4AA9-4BDC-AAAB-3504A164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84E4-A88F-4424-BB92-9256EA2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C21-92F2-4A84-AC9C-FC2427B8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B2F8-FF07-4CCD-96F3-2C845734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1399-0881-4811-A8D5-D9F9D0DB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6DAE-4BA4-4043-8544-8802862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1AF3-EEFA-4C29-B629-8C5656DF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57AE-7414-4924-A7E2-BA93A13C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CBC-B5FD-4622-818C-4673622D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9C6-4211-44AF-99B0-B3F95702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527-FD57-44F2-ACD9-5724FCC1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AD6-52DF-483E-B66D-97D2F882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AE4-EC45-4E60-87CA-A50920EB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F3C-DE9D-4A92-93D7-68C0AC4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B9D-51DD-4575-BE7A-0B967245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9954-DABF-4F8F-99DB-E2C72C4B8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411B-1879-41A6-82AF-487D492ED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cids &amp; Base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earn about Acids &amp; Ba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ur Goals for toda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pH scale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measures how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id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hscale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38862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Acids and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7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s of Acids and Bas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124080" y="20574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0" y="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334120" y="4038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105520" y="54100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we Miss something?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Your Knowled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Acid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5:23:08Z</dcterms:created>
  <dc:creator>Polytechnic University</dc:creator>
  <dc:description/>
  <cp:keywords/>
  <dc:language>en-US</dc:language>
  <cp:lastModifiedBy>LEGION</cp:lastModifiedBy>
  <dcterms:modified xsi:type="dcterms:W3CDTF">2017-01-26T09:10:26Z</dcterms:modified>
  <cp:revision>8</cp:revision>
  <dc:subject/>
  <dc:title>Acids &amp;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