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C8D5-C0B7-4B0B-90D8-D60E2B20531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 &amp;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Robert McG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Robert McG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of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se is characteriz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itter taste. (Milk of Magnesi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feels slippery.  (Soapy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urns Red Litmus B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e is characteriz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tter taste. (Milk of Magnes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feels slippery.  (Soapy Wa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urns Red Litmus B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Learn about Acids &amp; Bas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think is the pH level of NYC tap wa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of a swimming pool must be checked periodically.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important for Lakes &amp; Rivers to maintain a certain 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Learn about Acids &amp; Bas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is the pH level of NYC tap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of a swimming pool must be checked periodically.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t important for Lakes &amp; Rivers to maintain a certain 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’s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the pH of Pepsi, tap water, and drain clea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LUCK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’s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the pH of Pepsi, tap water, and drain clea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Goals for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determine the difference between Acids &amp;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 the importance of studying Acids &amp;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orm an experiment dealing with Acids &amp;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Goals for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the difference between 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he importance of studying 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an experiment dealing with 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pH sca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 measures how acidic or basic a solution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H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 measures how acidic or basic a solution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 is the concentration of hydrogen ions in a given sub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 is the concentration of hydrogen ions in a given sub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 have a ph from 0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pH value indicates a stronger ac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s have a pH from 7-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 pH value indicates a stronger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have a ph from 0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pH value indicates a stronger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 have a pH from 7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pH value indicates a stronger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 of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cid is a substance that breaks into         ions in an aqueous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se (alkaline) is a substance that breaks into           ions in an aqueous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aqueous solution is any solution where           is the solv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 of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cid is a substance that breaks into         ions in an aqueous s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e (alkaline) is a substance that breaks into           ions in an aqueous s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queous solution is any solution where           is the solv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we Miss something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when the pH of a substance is 7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: A pH level of 7 indicates a Neutral Substance i.e: Wat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we Miss something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the pH of a substance is 7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: A pH level of 7 indicates a Neutral Substance i.e: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Your Knowle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 of an ACID on the pH sca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: 0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 of a BASE and what is another name for a BA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: 7-14, Alka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Your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nge of an ACID on the pH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: 0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nge of a BASE and what is another name for a BA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: 7-14, Alka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Of Ac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 can be characteriz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our tas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urns blue litmus paper 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stes sour. Try drinking lemon juice (citric aci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Ac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can be characteriz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ur ta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urns blue litmus paper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stes sour. Try drinking lemon juice (citric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664A-780A-4CA3-B4F0-D8AA5715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E16B-46DD-47AB-AFE2-0A80C250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7BE0-CD2B-4551-BFCB-EA66B32D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11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79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11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0A3C-2633-47F7-A9D4-C959AF5A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3150-6E93-43CB-80F9-4CCBD900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11D3-06B9-4220-B9B1-62348D7C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2873-DBAB-45DD-B47F-312DA494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AADD-CECA-4958-852D-AE1CE04F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BC6D-3755-44D7-AF48-7951F166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380880"/>
            <a:ext cx="723888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137F-F362-4DE6-BFE4-31DBA31E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89C4-BAA4-49AD-92AE-53F2AD4A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39C9-0C10-4C0C-9B45-AA3B43FD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60AF-BC90-4B74-9EFD-7F55901D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3092-5F7D-4AED-B7F3-1CA51640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1D32-BA28-45BB-8E46-8BD6BD4C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B3E3-1F4C-4861-B852-A8CFBA36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11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979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11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98F9-7A4E-4F8A-AB93-D0AD2887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E795-A2A3-4025-8ACF-2F43C142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9C37-D9E0-47D4-8315-A94F0ACE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748A-FA34-43F8-B859-6F6E68D3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380880"/>
            <a:ext cx="723888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AE6C-1132-4259-801B-C8290A88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06D0-7361-4788-87A9-424B1227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255D-EA76-4032-B41A-2FFDDB3F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35FF-AE8B-463C-98B8-62BBDB87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7931-2635-4C15-A753-B3504B6CC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C910-295B-4DB7-B2FC-A8CDF60A08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95480" y="1752480"/>
            <a:ext cx="5639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Acids &amp; Bases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57600" y="46479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Robert McG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haracteristics of Bas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Base is characterized b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itter taste. (Milk of Magnes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feels slippery.  (Soapy W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urns Red Litmus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98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98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Learn about Acids &amp; Base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is the pH level of NYC tap wa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 of a swimming pool must be checked periodically.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important for Lakes &amp; Rivers to maintain a certain p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Today’s Experi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the pH of Pepsi, tap water, and drain clea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LUCK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Our Goals for toda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the difference between Acids &amp;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importance of studying Acids &amp;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an experiment dealing with Acids &amp;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he pH scale?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2895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 scale measures how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cidi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sic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lution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phscale"/>
          <p:cNvPicPr/>
          <p:nvPr/>
        </p:nvPicPr>
        <p:blipFill>
          <a:blip r:embed="rId1"/>
          <a:stretch/>
        </p:blipFill>
        <p:spPr>
          <a:xfrm>
            <a:off x="4572000" y="1295280"/>
            <a:ext cx="4419720" cy="55627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pH scale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 scale is the concentration of hydrogen ions in a given sub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4"/>
              <p:cNvSpPr txBox="1"/>
              <p:nvPr/>
            </p:nvSpPr>
            <p:spPr>
              <a:xfrm>
                <a:off x="2895480" y="3886200"/>
                <a:ext cx="3886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Identifying Acids and Bas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5120" y="1676520"/>
            <a:ext cx="7238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cid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ave a ph from 0-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wer pH value indicates a stronger aci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as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ave a pH from 7-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er pH value indicates a stronger b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9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98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efinitions of Acids and Bas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05120" y="15998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cid is a substance that breaks into         ions in an aqueous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se (alkaline) is a substance that breaks into           ions in an aqueous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aqueous solution is any solution where           is the solv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3124080" y="2057400"/>
                <a:ext cx="685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6"/>
              <p:cNvSpPr txBox="1"/>
              <p:nvPr/>
            </p:nvSpPr>
            <p:spPr>
              <a:xfrm>
                <a:off x="0" y="0"/>
                <a:ext cx="428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3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8"/>
              <p:cNvSpPr txBox="1"/>
              <p:nvPr/>
            </p:nvSpPr>
            <p:spPr>
              <a:xfrm>
                <a:off x="5334120" y="4038480"/>
                <a:ext cx="914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Rectangle 1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0"/>
              <p:cNvSpPr txBox="1"/>
              <p:nvPr/>
            </p:nvSpPr>
            <p:spPr>
              <a:xfrm>
                <a:off x="5105520" y="5410080"/>
                <a:ext cx="838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id we Miss something??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when the pH of a substance is 7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: A pH level of 7 indicates a Neutral Substance i.e: Wa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st Your Knowledge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ange of an ACID on the pH sca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: 0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ange of a BASE and what is another name for a B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: 7-14, Alka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haracteristics Of Acid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ids can be characterized b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ur ta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urns blue litmus paper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stes sour. Try drinking lemon juice (citric ac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15:23:08Z</dcterms:created>
  <dc:creator>Polytechnic University</dc:creator>
  <dc:description/>
  <cp:keywords/>
  <dc:language>en-US</dc:language>
  <cp:lastModifiedBy>LEGION</cp:lastModifiedBy>
  <dcterms:modified xsi:type="dcterms:W3CDTF">2017-01-26T09:10:26Z</dcterms:modified>
  <cp:revision>8</cp:revision>
  <dc:subject/>
  <dc:title>Acids &amp; 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31071033</vt:lpwstr>
  </property>
</Properties>
</file>